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08FB-394E-4687-B044-529FC8C13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ведение элементов символов (формы, величины, действия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ведение отриц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четание символов, чтение цепочки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ворческое создание детьми опорны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15A6-59D2-43A8-92F5-9B06A4704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060-5B40-49AE-ACFC-A2940535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7B3-BD49-49CC-8CE1-C9F1CD06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31B-766A-4E96-80E5-525A3071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C8F-01A7-482E-8776-DA023C62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828-F637-454B-B99F-D4EC8F1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606-B87C-48EC-8EF2-BE855303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2A2-8A35-4323-BDAB-85768D3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BE9-D8E0-48C4-A2DE-A9D1766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7D5-1C65-4EC7-BDB1-14B39AD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6FF-C377-4D53-826B-E7F6FAA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F3C-AB9F-4C95-B9E3-21DD81A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586-CAA9-46B8-A8A5-EA6BAC6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6F0-BEC6-436F-B13B-652A742D4C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" descr=""/>
          <p:cNvPicPr/>
          <p:nvPr/>
        </p:nvPicPr>
        <p:blipFill>
          <a:blip r:embed="rId1"/>
          <a:stretch/>
        </p:blipFill>
        <p:spPr>
          <a:xfrm>
            <a:off x="4730760" y="4005360"/>
            <a:ext cx="4121280" cy="2633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2"/>
          <a:stretch/>
        </p:blipFill>
        <p:spPr>
          <a:xfrm>
            <a:off x="244440" y="1122480"/>
            <a:ext cx="3925800" cy="2558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3"/>
          <a:stretch/>
        </p:blipFill>
        <p:spPr>
          <a:xfrm>
            <a:off x="4565520" y="1073160"/>
            <a:ext cx="42865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Объект 4" descr=""/>
          <p:cNvPicPr/>
          <p:nvPr/>
        </p:nvPicPr>
        <p:blipFill>
          <a:blip r:embed="rId4"/>
          <a:stretch/>
        </p:blipFill>
        <p:spPr>
          <a:xfrm>
            <a:off x="244440" y="3638520"/>
            <a:ext cx="4168800" cy="2890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работы с мнемотаблиц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ё</cp:lastModifiedBy>
  <dcterms:modified xsi:type="dcterms:W3CDTF">2015-10-20T11:28:30Z</dcterms:modified>
  <cp:revision>756</cp:revision>
  <dc:subject/>
  <dc:title>Diapositiva 1</dc:title>
</cp:coreProperties>
</file>