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E0E2-3F50-4074-A269-31A23DB5A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хемы служат своеобразным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зрительным планом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для создания монологов, помогают детям выстра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563c1"/>
                </a:solidFill>
                <a:latin typeface="Calibri"/>
              </a:rPr>
              <a:t>- строение расска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563c1"/>
                </a:solidFill>
                <a:latin typeface="Calibri"/>
              </a:rPr>
              <a:t>- последовательность расска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563c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563c1"/>
                </a:solidFill>
                <a:latin typeface="Calibri"/>
              </a:rPr>
              <a:t>лексико-грамматическую наполняемость расск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21E6-649D-41EB-8758-F97D10377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4546a"/>
                </a:solidFill>
                <a:uFillTx/>
                <a:latin typeface="Calibri"/>
              </a:rPr>
              <a:t>Суть мнемосхем</a:t>
            </a:r>
            <a:r>
              <a:rPr b="0" lang="ru-RU" sz="12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44546a"/>
                </a:solidFill>
                <a:latin typeface="Calibri"/>
              </a:rPr>
              <a:t>заключается в следующем: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каждое слово или маленькое словосочетание придумывается картинка (изображ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таким образом, весь текст зарисовывается схема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Глядя на схемы – рисунки ребёнок легко воспроизводит текстов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968B-F888-412F-82DE-2870D34E4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Использование метода мнемотехники позволяет значительно повысить уровень развития речи у детей и одновременно решает задачи, направленные на развитие основных психических процессов, а это в свою очередь позволяет в достаточной степени подготовить детей к обучению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8C0F-AEE3-4549-8130-DA3F7E5AC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 педагогам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Где можно использовать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563c1"/>
                </a:solidFill>
                <a:latin typeface="Times New Roman"/>
                <a:ea typeface="Times New Roman"/>
              </a:rPr>
              <a:t>карточки- схе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обогащения словарного запас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обучении составлению рассказов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пересказах художественной литературы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отгадывании и загадывании загадок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заучивании стих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8B67-6024-4471-9F1E-364F159C4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16A-E00B-4C9E-B602-EB8A9254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79A-977C-45E8-9137-9162D785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E02-D973-4619-B1FE-EB3D0943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8BE-EAF7-4F06-A6C5-1117CE17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9D1-F194-4913-BA2D-713870C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2BC-7ECD-4C9B-9189-312AFAA5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011-6C7C-4A97-93A9-DA1C48ED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534-92C2-4532-B0DE-51E54A9C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A06-39F3-4DF9-A331-E7453389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5BD-E938-427B-95ED-1EE8FC5C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3CD-ED93-4628-9506-A5EA7216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287-4E51-4693-B802-5893CD9E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B05-106F-4EDE-86E5-32E238CAC5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4157640" y="3444840"/>
            <a:ext cx="5315040" cy="3260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2"/>
          <a:stretch/>
        </p:blipFill>
        <p:spPr>
          <a:xfrm>
            <a:off x="-49320" y="3444840"/>
            <a:ext cx="4687920" cy="3316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952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схемы для составления описательных расск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3"/>
          <a:stretch/>
        </p:blipFill>
        <p:spPr>
          <a:xfrm>
            <a:off x="1633680" y="993600"/>
            <a:ext cx="5632200" cy="298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-52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емотабл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схематичное изображение основных этапов сказки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русской народной сказке «Курочка Ряб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1" descr="C:\Users\нина\Pictures\Kurochka_Ryaba.jpg"/>
          <p:cNvPicPr/>
          <p:nvPr/>
        </p:nvPicPr>
        <p:blipFill>
          <a:blip r:embed="rId1"/>
          <a:stretch/>
        </p:blipFill>
        <p:spPr>
          <a:xfrm>
            <a:off x="2050920" y="206064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426960"/>
            <a:ext cx="93963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наглядного моделир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дошкольникам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ние стихотворени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говорок, пословиц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лны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 скорей раскрылись поч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 берез и топо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ы клейкие ли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явились поскор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 сочней была тр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рче неба сине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етит солнышко вокруг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ш горячий добрый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4683240" y="2205000"/>
            <a:ext cx="4403520" cy="359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схемы для составл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 предмет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груш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749160" y="2054160"/>
            <a:ext cx="80773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ё</cp:lastModifiedBy>
  <dcterms:modified xsi:type="dcterms:W3CDTF">2015-10-20T11:32:12Z</dcterms:modified>
  <cp:revision>753</cp:revision>
  <dc:subject/>
  <dc:title>Diapositiva 1</dc:title>
</cp:coreProperties>
</file>