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CE4A-6A37-4E0F-A5CF-01CBA4EB4A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лементами модели становятся символы – заместители качественных характеристик объекта: принадлежность; величина; форма; цвет; составляющие детали; качество поверхности;  материал, из которого изготовлен объект (для неживых предметов); как он используется (польза); за что нравится? (не нравитс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E7EF-FF4F-43A0-B201-CCA6252545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Таким образом хочу сказать, что спомощью мнемоаб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у детей увеличивается круг знаний об окружающем мир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является желание пересказывать тексты, придумывать интересные истор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является интерес к заучиванию стихов и потешек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словарный запас выходит на более высокий урове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дети преодолевают робость, застенчивость, учатся свободно держаться перед аудитор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4249-AF99-481C-A401-165C821E2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09B-DB1D-49C5-8C0A-E66E1A49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C3E-7A1A-4994-914F-BF8E4CB3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AF0-06B0-4134-BBD1-A24AB3D8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ED0-40A5-4A92-8843-F0238CFE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729-A5DC-4BBC-8A7C-4377164E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600-3312-46EA-AFC5-D156D16E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CEC-B838-45D6-AAD8-F43BEEBB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020-FD75-4210-A5B6-66A3AC21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B78-A3CB-402E-A283-164CB517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B0C-C7C9-4799-A486-ED79B162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382-2BBC-43C6-976A-162AA637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815-6596-42BE-BBAF-57FA9A9F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5FC5-4354-499F-8443-EA3FC1AC74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я предметов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вощей, фруктов, ягод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Изображение 001"/>
          <p:cNvPicPr/>
          <p:nvPr/>
        </p:nvPicPr>
        <p:blipFill>
          <a:blip r:embed="rId1"/>
          <a:stretch/>
        </p:blipFill>
        <p:spPr>
          <a:xfrm>
            <a:off x="1206360" y="1755720"/>
            <a:ext cx="7089840" cy="47847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1566720" y="2376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схемы для составл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1182600" y="162072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07640" y="1122120"/>
            <a:ext cx="9288360" cy="10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144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ва, Т.В. Учимся по сказке. Развитие мышления дошкольников с помощью мнемотехники. СПб.,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злова С. А., Куликова Т. А. К 59 Дошкольная педагогика: Учеб. пособие для студ. сред. пед. учеб. заведений. - 3-е изд., исправ. и доп. - М.: Издательский центр «Академия», 2001. - 416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yshared.ru/slide/890069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ё</cp:lastModifiedBy>
  <dcterms:modified xsi:type="dcterms:W3CDTF">2015-10-20T11:33:19Z</dcterms:modified>
  <cp:revision>750</cp:revision>
  <dc:subject/>
  <dc:title>Diapositiva 1</dc:title>
</cp:coreProperties>
</file>