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D8334-6416-4A25-897F-CD998F71F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E68A5-136C-4006-8F74-A6ACA0C6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EB2A2-4099-4FA8-A4A8-B08D0558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0FBE9-868C-411D-9548-AC679A0BA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D04D-5220-4D72-BD7F-D59F4600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B981-72A8-4966-B66B-16C545E5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5EF8-454C-4586-B55A-AA315487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13C7-BA3F-44D8-9F5E-51B2D466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76D8-0EE0-4C1E-9B96-EB099EA9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F4AC-F3C8-430F-95B5-685DF923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0E11-A291-4AA2-9AA3-F1BC63C5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55D59-C013-4E59-B296-0F952DAA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C5D8-447D-49A4-8CB8-0189CACB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FB40-24D9-45E9-A34E-596029FF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9DA2-CD17-4FF9-B0F6-A867A097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4DFB-F87D-4848-9C34-6FFE0B514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97AE-57DC-46DD-85DA-E1C9E179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4FE3C-D48C-4BA1-9764-6D03063B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33707-C462-4596-9561-F3973BF0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89DD1-989D-48CF-A60B-AD86F266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7562E-824B-47FF-8A1C-3EEDD37E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E6427-175A-4BB6-B685-FE20D564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1A5C1-58FA-4AC4-91D9-C4A39D1C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7A93E-4231-442A-80D2-5F9D57A7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48A2-245C-459D-BE4D-9B619521CF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28D3-4436-4984-87BC-DA4F41FBA0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Garamond"/>
              </a:rPr>
              <a:t>«Курская битва»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1" name="Picture 62" descr="143"/>
          <p:cNvPicPr/>
          <p:nvPr/>
        </p:nvPicPr>
        <p:blipFill>
          <a:blip r:embed="rId1"/>
          <a:stretch/>
        </p:blipFill>
        <p:spPr>
          <a:xfrm>
            <a:off x="4211640" y="3457440"/>
            <a:ext cx="4932360" cy="3400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7" descr="1269727010_bode-kurduga-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742788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ланом наступления 48 тк определялось, что село Черкасское должно было быть захвачено к 10:00 5 июля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085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16720" y="404640"/>
            <a:ext cx="21700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«Тигры»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375444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12 июля в районе Прохоровки произошёл один из крупнейших в истории встречный танковый бой.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836640"/>
            <a:ext cx="404316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Орловская наступательная операц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(операция «Кутузов») 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280" y="3473280"/>
            <a:ext cx="338292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5 августа в 05-45 советские войска полностью освободили Орёл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1" name="Picture 4" descr="орел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харьков"/>
          <p:cNvPicPr/>
          <p:nvPr/>
        </p:nvPicPr>
        <p:blipFill>
          <a:blip r:embed="rId1"/>
          <a:stretch/>
        </p:blipFill>
        <p:spPr>
          <a:xfrm>
            <a:off x="2916360" y="1824120"/>
            <a:ext cx="6227640" cy="50338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Блгородско-Харьковская наступательная операц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(операция «Румянцев») 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407988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5 августа примерно в 18-00 был освобождён Белгород,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7 августа — Богодухов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23 августа овладели Харьковом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5 августа в Москве был дан первый за всю войну салют — в честь освобождения Орла и Белгорода.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Потери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33228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Вермахт за июль-август 1943 г. на всём Восточном фронте потерял 537 533 человек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9" name="Picture 4" descr="пленные"/>
          <p:cNvPicPr/>
          <p:nvPr/>
        </p:nvPicPr>
        <p:blipFill>
          <a:blip r:embed="rId1"/>
          <a:stretch/>
        </p:blipFill>
        <p:spPr>
          <a:xfrm>
            <a:off x="3348000" y="2844720"/>
            <a:ext cx="5796000" cy="37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Итоги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932360" y="1268280"/>
            <a:ext cx="4211640" cy="55897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4"/>
          <p:cNvSpPr/>
          <p:nvPr/>
        </p:nvSpPr>
        <p:spPr>
          <a:xfrm>
            <a:off x="0" y="1648800"/>
            <a:ext cx="4356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на была последней попыткой сохранить нашу инициативу на Востоке. С её неудачей, равнозначной провалу, инициатива окончательно перешла к советской стороне. Поэтому операция «Цитадель» является решающим, поворотным пунктом в войне на Восточном фронте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анштейн Э. Утерянные победы. Пер. с нем. — М., 1957. — С. 423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План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ланы и силы сторон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оль разведк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урская оборонительная операция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5 июля. Оборона Черкасского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6 июля. Первые контрудары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2 июля. Сражение под Прохоровкой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рловская наступательная операция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елгородско-Харьковская наступательная операция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тер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тог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Курская битва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урская битва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(5 июля 1943 — 23 августа 1943, также известна как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итва на Курской дуге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немецкая наступательная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перация «Цитадель»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. Является одним из ключевых сражений Великой Отечественной войны. Курская битва продолжалась сорок девять дней — с 5 июля по 23 августа 1943 года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Планы и силы сторон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Германское командование приняло решение провести крупную стратегическую операцию на курском выступе летом 1943 г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Операция получила условное название «Цитадель»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0" name="Picture 4" descr="нем"/>
          <p:cNvPicPr/>
          <p:nvPr/>
        </p:nvPicPr>
        <p:blipFill>
          <a:blip r:embed="rId1"/>
          <a:stretch/>
        </p:blipFill>
        <p:spPr>
          <a:xfrm>
            <a:off x="250920" y="2646360"/>
            <a:ext cx="849780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Руководство войсками осуществляли :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393372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генерал-фельдмаршал Гюнтер Ханс фон Клюге (группа армий «Центр»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3" name="Picture 9" descr="250px-Bundesarchiv_Bild_183-2004-0524-500,_Hans_Günther_v"/>
          <p:cNvPicPr/>
          <p:nvPr/>
        </p:nvPicPr>
        <p:blipFill>
          <a:blip r:embed="rId1"/>
          <a:stretch/>
        </p:blipFill>
        <p:spPr>
          <a:xfrm>
            <a:off x="250920" y="1052640"/>
            <a:ext cx="2054160" cy="29415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0"/>
          <p:cNvSpPr/>
          <p:nvPr/>
        </p:nvSpPr>
        <p:spPr>
          <a:xfrm>
            <a:off x="2411280" y="486864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генерал-фельдмаршал Фриц Эрих фон Манштейн (группа армий «Юг»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5" name="Picture 12" descr="300px-Bundesarchiv_Bild_183-H01758,_Erich_v"/>
          <p:cNvPicPr/>
          <p:nvPr/>
        </p:nvPicPr>
        <p:blipFill>
          <a:blip r:embed="rId2"/>
          <a:stretch/>
        </p:blipFill>
        <p:spPr>
          <a:xfrm>
            <a:off x="2627280" y="1773360"/>
            <a:ext cx="2249640" cy="2923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250px-Bundesarchiv_Bild_183-J28036,_Deutschland,_Model_bei_Hitlerjugend"/>
          <p:cNvPicPr/>
          <p:nvPr/>
        </p:nvPicPr>
        <p:blipFill>
          <a:blip r:embed="rId3"/>
          <a:stretch/>
        </p:blipFill>
        <p:spPr>
          <a:xfrm>
            <a:off x="5076720" y="2708280"/>
            <a:ext cx="387036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 flipV="1" rot="10800000">
            <a:off x="3347640" y="3933360"/>
            <a:ext cx="2297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ойска Центрального фронта, командующий — генерал армии Константин Рокоссовский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324000" y="4220640"/>
            <a:ext cx="21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омандующий генерал-полковник Иван Конев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7308720" y="3933720"/>
            <a:ext cx="14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генерал армии Николай Ватутин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0" name="Picture 7" descr="RokossovskyKK"/>
          <p:cNvPicPr/>
          <p:nvPr/>
        </p:nvPicPr>
        <p:blipFill>
          <a:blip r:embed="rId1"/>
          <a:stretch/>
        </p:blipFill>
        <p:spPr>
          <a:xfrm>
            <a:off x="3203640" y="0"/>
            <a:ext cx="2857320" cy="3619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Konev_ivan1"/>
          <p:cNvPicPr/>
          <p:nvPr/>
        </p:nvPicPr>
        <p:blipFill>
          <a:blip r:embed="rId2"/>
          <a:stretch/>
        </p:blipFill>
        <p:spPr>
          <a:xfrm>
            <a:off x="395280" y="404640"/>
            <a:ext cx="2286000" cy="3117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Vatutin_nf"/>
          <p:cNvPicPr/>
          <p:nvPr/>
        </p:nvPicPr>
        <p:blipFill>
          <a:blip r:embed="rId3"/>
          <a:stretch/>
        </p:blipFill>
        <p:spPr>
          <a:xfrm>
            <a:off x="6659640" y="549360"/>
            <a:ext cx="19954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5" descr="02"/>
          <p:cNvPicPr/>
          <p:nvPr/>
        </p:nvPicPr>
        <p:blipFill>
          <a:blip r:embed="rId1"/>
          <a:stretch/>
        </p:blipFill>
        <p:spPr>
          <a:xfrm>
            <a:off x="3132000" y="0"/>
            <a:ext cx="6012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6"/>
          <p:cNvSpPr/>
          <p:nvPr/>
        </p:nvSpPr>
        <p:spPr>
          <a:xfrm flipV="1" rot="10809600">
            <a:off x="1257480" y="2724840"/>
            <a:ext cx="151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Обстановка к началу битвы под Курском.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Роль разведки 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5796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12 апреля 1943 года на стол Сталина лёг переведённый с немецкого точный текст директивы № 6 «О плане операции „Цитадель“» немецкого верховного командования, завизированный всеми службами вермахта, но ещё не подписанный Гитлером, который подпишет его только через три дня 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5546880" y="1268280"/>
            <a:ext cx="35971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539640" y="1316160"/>
            <a:ext cx="8196480" cy="5541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Курская оборонительная операция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21844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Германское наступление началось утром 5 июля 1943 года. Советскому командованию было точно известно время начала операции — 3 часа ночи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05:11:15Z</dcterms:created>
  <dc:creator>Reader</dc:creator>
  <dc:description/>
  <dc:language>en-US</dc:language>
  <cp:lastModifiedBy>COMP</cp:lastModifiedBy>
  <dcterms:modified xsi:type="dcterms:W3CDTF">2011-10-10T09:10:38Z</dcterms:modified>
  <cp:revision>6</cp:revision>
  <dc:subject/>
  <dc:title>Презентация на тему: «Курская битва»</dc:title>
</cp:coreProperties>
</file>