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5CC0A-871B-4A3A-8356-ACFC275D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71970-8361-43F0-8980-EDD87A58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C0620-499A-443F-B7B3-3D49BC0F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44EB3-2AA5-4391-837D-181EE305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A526-788E-45AB-9E8B-52861525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5C10-23CE-4FD9-AFFC-79A3F836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4C66-C53C-4303-867B-538B5EE3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3FE3-D636-456B-9CAC-A0E878BD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B352-F73B-4F71-92D0-7E73DF52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8B18-355B-4062-91B3-C6AF2A2A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A781-3C0A-4171-BBE6-1BE90843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A0E68-D8CE-47C6-B17B-38E8C8AE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9378-6567-49D2-832B-0DFC9CC4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B0AF-1521-40B5-8E1F-079F5A75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70D3-45B9-4ED1-BA63-DA31692A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4760-9EC3-4209-8684-33B80DE3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11EF-BC89-4ABD-9A91-63AFBFB3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60B80-F4C3-49C3-8849-80E8067E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C7179-A654-416B-B551-501DCD78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C2ABD-37BB-456E-9C67-1BC8D08E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3DF7D-A9D6-4B51-B6A1-E2B6AABC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FE2E-CC78-48CA-8D13-00A96E91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35EF8-0892-49D6-A0FA-C5EB5D42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DFE4B-7F7F-40A1-B208-4B86C663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75F8-7EDE-4AD7-A9F8-559760F374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6920-58DB-4537-82CF-551C7F4D41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«Курская битва»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1" name="Picture 62" descr="143"/>
          <p:cNvPicPr/>
          <p:nvPr/>
        </p:nvPicPr>
        <p:blipFill>
          <a:blip r:embed="rId1"/>
          <a:stretch/>
        </p:blipFill>
        <p:spPr>
          <a:xfrm>
            <a:off x="4211640" y="3457440"/>
            <a:ext cx="4932360" cy="340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1269727010_bode-kurduga-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4278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ланом наступления 48 тк определялось, что село Черкасское должно было быть захвачено к 10:00 5 июля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08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16720" y="404640"/>
            <a:ext cx="21700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«Тигры»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375444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2 июля в районе Прохоровки произошёл один из крупнейших в истории встречный танковый бой.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836640"/>
            <a:ext cx="404316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Орловская наступательная операц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(операция «Кутузов»)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3473280"/>
            <a:ext cx="33829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5 августа в 05-45 советские войска полностью освободили Орёл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1" name="Picture 4" descr="орел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харьков"/>
          <p:cNvPicPr/>
          <p:nvPr/>
        </p:nvPicPr>
        <p:blipFill>
          <a:blip r:embed="rId1"/>
          <a:stretch/>
        </p:blipFill>
        <p:spPr>
          <a:xfrm>
            <a:off x="2916360" y="1824120"/>
            <a:ext cx="6227640" cy="50338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Блгородско-Харьковская наступательная операц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(операция «Румянцев»)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407988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5 августа примерно в 18-00 был освобождён Белгород,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7 августа — Богодухов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23 августа овладели Харьковом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5 августа в Москве был дан первый за всю войну салют — в честь освобождения Орла и Белгорода.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Потери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33228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ермахт за июль-август 1943 г. на всём Восточном фронте потерял 537 533 человек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9" name="Picture 4" descr="пленные"/>
          <p:cNvPicPr/>
          <p:nvPr/>
        </p:nvPicPr>
        <p:blipFill>
          <a:blip r:embed="rId1"/>
          <a:stretch/>
        </p:blipFill>
        <p:spPr>
          <a:xfrm>
            <a:off x="3348000" y="2844720"/>
            <a:ext cx="579600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Итоги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4211640" cy="55897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0" y="1648800"/>
            <a:ext cx="435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на была последней попыткой сохранить нашу инициативу на Востоке. С её неудачей, равнозначной провалу, инициатива окончательно перешла к советской стороне. Поэтому операция «Цитадель» является решающим, поворотным пунктом в войне на Восточном фронт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нштейн Э. Утерянные победы. Пер. с нем. — М., 1957. — С. 423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лан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ланы и силы сторон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оль разведк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урская оборонительная операция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 июля. Оборона Черкасского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6 июля. Первые контрудары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2 июля. Сражение под Прохоровкой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рловская наступательная операци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лгородско-Харьковская наступательная операци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тер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тог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Курская битва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урская битв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(5 июля 1943 — 23 августа 1943, также известна как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итва на Курской дуге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немецкая наступательная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перация «Цитадель»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. Является одним из ключевых сражений Великой Отечественной войны. Курская битва продолжалась сорок девять дней — с 5 июля по 23 августа 1943 года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Планы и силы сторон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Германское командование приняло решение провести крупную стратегическую операцию на курском выступе летом 1943 г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Операция получила условное название «Цитадель»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0" name="Picture 4" descr="нем"/>
          <p:cNvPicPr/>
          <p:nvPr/>
        </p:nvPicPr>
        <p:blipFill>
          <a:blip r:embed="rId1"/>
          <a:stretch/>
        </p:blipFill>
        <p:spPr>
          <a:xfrm>
            <a:off x="250920" y="2646360"/>
            <a:ext cx="84978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Руководство войсками осуществляли :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393372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енерал-фельдмаршал Гюнтер Ханс фон Клюге (группа армий «Центр»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3" name="Picture 9" descr="250px-Bundesarchiv_Bild_183-2004-0524-500,_Hans_Günther_v"/>
          <p:cNvPicPr/>
          <p:nvPr/>
        </p:nvPicPr>
        <p:blipFill>
          <a:blip r:embed="rId1"/>
          <a:stretch/>
        </p:blipFill>
        <p:spPr>
          <a:xfrm>
            <a:off x="250920" y="1052640"/>
            <a:ext cx="2054160" cy="29415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"/>
          <p:cNvSpPr/>
          <p:nvPr/>
        </p:nvSpPr>
        <p:spPr>
          <a:xfrm>
            <a:off x="2411280" y="4868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енерал-фельдмаршал Фриц Эрих фон Манштейн (группа армий «Юг»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5" name="Picture 12" descr="300px-Bundesarchiv_Bild_183-H01758,_Erich_v"/>
          <p:cNvPicPr/>
          <p:nvPr/>
        </p:nvPicPr>
        <p:blipFill>
          <a:blip r:embed="rId2"/>
          <a:stretch/>
        </p:blipFill>
        <p:spPr>
          <a:xfrm>
            <a:off x="2627280" y="1773360"/>
            <a:ext cx="2249640" cy="2923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250px-Bundesarchiv_Bild_183-J28036,_Deutschland,_Model_bei_Hitlerjugend"/>
          <p:cNvPicPr/>
          <p:nvPr/>
        </p:nvPicPr>
        <p:blipFill>
          <a:blip r:embed="rId3"/>
          <a:stretch/>
        </p:blipFill>
        <p:spPr>
          <a:xfrm>
            <a:off x="5076720" y="2708280"/>
            <a:ext cx="387036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 flipV="1" rot="10800000">
            <a:off x="3347640" y="3933360"/>
            <a:ext cx="2297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ойска Центрального фронта, командующий — генерал армии Константин Рокоссовский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24000" y="4220640"/>
            <a:ext cx="21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мандующий генерал-полковник Иван Конев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308720" y="393372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енерал армии Николай Ватутин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0" name="Picture 7" descr="RokossovskyKK"/>
          <p:cNvPicPr/>
          <p:nvPr/>
        </p:nvPicPr>
        <p:blipFill>
          <a:blip r:embed="rId1"/>
          <a:stretch/>
        </p:blipFill>
        <p:spPr>
          <a:xfrm>
            <a:off x="3203640" y="0"/>
            <a:ext cx="2857320" cy="3619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Konev_ivan1"/>
          <p:cNvPicPr/>
          <p:nvPr/>
        </p:nvPicPr>
        <p:blipFill>
          <a:blip r:embed="rId2"/>
          <a:stretch/>
        </p:blipFill>
        <p:spPr>
          <a:xfrm>
            <a:off x="395280" y="404640"/>
            <a:ext cx="2286000" cy="3117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Vatutin_nf"/>
          <p:cNvPicPr/>
          <p:nvPr/>
        </p:nvPicPr>
        <p:blipFill>
          <a:blip r:embed="rId3"/>
          <a:stretch/>
        </p:blipFill>
        <p:spPr>
          <a:xfrm>
            <a:off x="6659640" y="549360"/>
            <a:ext cx="1995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5" descr="02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6"/>
          <p:cNvSpPr/>
          <p:nvPr/>
        </p:nvSpPr>
        <p:spPr>
          <a:xfrm flipV="1" rot="10809600">
            <a:off x="1257480" y="272484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Обстановка к началу битвы под Курском.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Роль разведки 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5796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12 апреля 1943 года на стол Сталина лёг переведённый с немецкого точный текст директивы № 6 «О плане операции „Цитадель“» немецкого верховного командования, завизированный всеми службами вермахта, но ещё не подписанный Гитлером, который подпишет его только через три дня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546880" y="1268280"/>
            <a:ext cx="35971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539640" y="1316160"/>
            <a:ext cx="8196480" cy="5541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Курская оборонительная операция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2184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Германское наступление началось утром 5 июля 1943 года. Советскому командованию было точно известно время начала операции — 3 часа ноч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5:11:15Z</dcterms:created>
  <dc:creator>Reader</dc:creator>
  <dc:description/>
  <dc:language>en-US</dc:language>
  <cp:lastModifiedBy>COMP</cp:lastModifiedBy>
  <dcterms:modified xsi:type="dcterms:W3CDTF">2011-10-10T09:10:38Z</dcterms:modified>
  <cp:revision>6</cp:revision>
  <dc:subject/>
  <dc:title>Презентация на тему: «Курская битва»</dc:title>
</cp:coreProperties>
</file>