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gif" ContentType="image/gif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5A0A-4AF8-4E4E-8D9C-D71649D35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5112-EAD3-4D30-98B3-38D7F7CCE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67C6-BFEA-4F0D-841C-96D7B828D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42BD-FAB8-451E-A10F-012A53B21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0FDDEF-917C-4AFD-AFD6-6A85874D1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6DE91B-B728-4F8B-8036-721B611DB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5CD642-3803-483D-8829-2A64C651B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77AC67-5294-4EB3-B6C5-EF04717A1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2F9024-1B1F-48B8-A138-4FD3DC819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48708E-325D-4B20-BFBC-BD140337B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67A17F-D6F8-4EA2-8CB8-22583878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7AA7-C1EA-4D67-BBB4-1A0F68F31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1D9085-0FE4-4B09-8474-4BD5A8D89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841C99-436F-4182-AB92-3C1309405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B71D70-8F01-4A9C-A9D3-2CCEDA4CB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ABFAB3-9A2F-404B-AC0E-A4E96BE4F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73EDB6-B943-4428-92AD-5A5BFCE68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126A-02E8-4DED-B63E-112155B57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6028-6F59-48D6-9FAB-2696C4607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5C8E-88CE-4114-8011-F471C111B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E56A-0B6F-4F81-96B8-4CAE48F93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1E0A-493F-44DF-84D2-6B893F347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3D83-29CC-400B-8C4E-2B70290DC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AACE-EFE6-42B4-B4D1-5D20970E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C9E03-5363-4800-B432-CFC950602C4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AC6C9-9A70-4E23-A467-CC1E247BE08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-44280"/>
            <a:ext cx="8964720" cy="58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1" lang="ru-RU" sz="3200" spc="-1" strike="noStrike">
                <a:solidFill>
                  <a:srgbClr val="ff0066"/>
                </a:solidFill>
                <a:latin typeface="Tahoma"/>
              </a:rPr>
              <a:t>МОУ Виткуловская СО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Занят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в группе продленного дн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ff33"/>
                </a:solidFill>
                <a:latin typeface="Tahoma"/>
              </a:rPr>
              <a:t>«Путешествие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ff33"/>
                </a:solidFill>
                <a:latin typeface="Tahoma"/>
              </a:rPr>
              <a:t>              </a:t>
            </a:r>
            <a:r>
              <a:rPr b="1" lang="ru-RU" sz="5400" spc="-1" strike="noStrike">
                <a:solidFill>
                  <a:srgbClr val="66ff33"/>
                </a:solidFill>
                <a:latin typeface="Tahoma"/>
              </a:rPr>
              <a:t>в страну               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ff33"/>
                </a:solidFill>
                <a:latin typeface="Tahoma"/>
              </a:rPr>
              <a:t>                       </a:t>
            </a:r>
            <a:r>
              <a:rPr b="1" lang="ru-RU" sz="5400" spc="-1" strike="noStrike">
                <a:solidFill>
                  <a:srgbClr val="66ff33"/>
                </a:solidFill>
                <a:latin typeface="Tahoma"/>
              </a:rPr>
              <a:t>здоровья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спитатель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ткова Нина Николае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79280" y="347760"/>
            <a:ext cx="878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ff66"/>
                </a:solidFill>
                <a:latin typeface="Tahoma"/>
              </a:rPr>
              <a:t>«Режим дня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971640" y="1341360"/>
            <a:ext cx="684036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-115920"/>
            <a:ext cx="9144000" cy="77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Режим дня</a:t>
            </a:r>
            <a:r>
              <a:rPr b="0" lang="en-US" sz="1800" spc="-1" strike="noStrike">
                <a:solidFill>
                  <a:srgbClr val="ccff33"/>
                </a:solidFill>
                <a:latin typeface="Tahoma"/>
              </a:rPr>
              <a:t>      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33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ccff33"/>
                </a:solidFill>
                <a:latin typeface="Tahoma"/>
              </a:rPr>
              <a:t>7.00 – подъе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ccff33"/>
                </a:solidFill>
                <a:latin typeface="Tahoma"/>
              </a:rPr>
              <a:t>7.00 – 7.10 – утренняя гимнастик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ccff33"/>
                </a:solidFill>
                <a:latin typeface="Tahoma"/>
              </a:rPr>
              <a:t>7.10 – 7.25 – утренний туал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ccff33"/>
                </a:solidFill>
                <a:latin typeface="Tahoma"/>
              </a:rPr>
              <a:t>7.25 – 7.40 – завтрак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ccff33"/>
                </a:solidFill>
                <a:latin typeface="Tahoma"/>
              </a:rPr>
              <a:t>7.40 – 8.00 – дорога в школ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ccff33"/>
                </a:solidFill>
                <a:latin typeface="Tahoma"/>
              </a:rPr>
              <a:t>8.00 – 8.15 – подготовка к урока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ccff33"/>
                </a:solidFill>
                <a:latin typeface="Tahoma"/>
              </a:rPr>
              <a:t>8.15 – 12.00 – занятия в школ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Tahoma"/>
              </a:rPr>
              <a:t>12.00 – 17.00 – группа продленного дн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Tahoma"/>
              </a:rPr>
              <a:t>17.00 – 17.20 – дорога дом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Tahoma"/>
              </a:rPr>
              <a:t>17.20 – 18.20 – отдых, прогул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Tahoma"/>
              </a:rPr>
              <a:t>18.20 – 18.50 – уж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Tahoma"/>
              </a:rPr>
              <a:t>18.50 – 21.00 – личное врем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Tahoma"/>
              </a:rPr>
              <a:t>21.00 – 21.30 – вечерний туалет, подготовка ко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Tahoma"/>
              </a:rPr>
              <a:t>                                                                         </a:t>
            </a:r>
            <a:r>
              <a:rPr b="1" lang="en-US" sz="2800" spc="-1" strike="noStrike">
                <a:solidFill>
                  <a:srgbClr val="ccff33"/>
                </a:solidFill>
                <a:latin typeface="Tahoma"/>
              </a:rPr>
              <a:t>сн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Tahoma"/>
              </a:rPr>
              <a:t>21.30 – отбой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89000"/>
            <a:ext cx="8964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7000" spc="-1" strike="noStrike">
                <a:solidFill>
                  <a:srgbClr val="99ff66"/>
                </a:solidFill>
                <a:latin typeface="Tahoma"/>
              </a:rPr>
              <a:t>«Спортивная»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135800" y="0"/>
            <a:ext cx="574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Дорожка здоровь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692280"/>
          <a:ext cx="9109080" cy="6308640"/>
        </p:xfrm>
        <a:graphic>
          <a:graphicData uri="http://schemas.openxmlformats.org/drawingml/2006/table">
            <a:tbl>
              <a:tblPr/>
              <a:tblGrid>
                <a:gridCol w="2268360"/>
                <a:gridCol w="4248360"/>
                <a:gridCol w="259236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зв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пражн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опроводительный текс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струкции 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пражнения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4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Великан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ы становимся все выш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остаем руками крыш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 носочки поднимис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 макушечкой тянись!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олнце в небе высоко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отянуться нелегк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 каждым шагом выше, выше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удем к солнышку поближе!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ети идут по дорожке на носочках, подняв прямые руки вверх, ладонями внутрь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5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Крылыш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и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ебеди стайкою дружной плывут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ямо и гордо умеют держаться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рыльями машут- красиво летят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ихо на воду садятся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уки в «крылышки» сложили и 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ятках походили!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уки в «крылышках» - локти прижаты к талии, лопатки соединены. Ходьба на пятках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0"/>
          <a:ext cx="9182160" cy="6453000"/>
        </p:xfrm>
        <a:graphic>
          <a:graphicData uri="http://schemas.openxmlformats.org/drawingml/2006/table">
            <a:tbl>
              <a:tblPr/>
              <a:tblGrid>
                <a:gridCol w="2421000"/>
                <a:gridCol w="3701880"/>
                <a:gridCol w="3059280"/>
              </a:tblGrid>
              <a:tr h="255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Свечка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 коленях мы идем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пину держим прямо!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а красивую осанк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с похвалит мама!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 теперь походи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 наружном своде!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Ходьба по гимнаст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камейке на коленях, руки на пояс. Затем ходьба на наружном своде стопы, руки на поясе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7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Собач -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а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тоб найти дорогу к дому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ужно след искать знакомый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Жулька верно след взял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ямо к дому привела!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Ходьба по гимнаст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камейке на коленях, руки по полу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1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Лебедь и уточка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ловно лебедь по воде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Я плыву на животе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 теперь как уточ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хожу минуточку!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тягиваться по гимн. скамейке на животе. Затем ходьба в полуприсяде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0" y="0"/>
          <a:ext cx="8964720" cy="3573360"/>
        </p:xfrm>
        <a:graphic>
          <a:graphicData uri="http://schemas.openxmlformats.org/drawingml/2006/table">
            <a:tbl>
              <a:tblPr/>
              <a:tblGrid>
                <a:gridCol w="2987640"/>
                <a:gridCol w="3168720"/>
                <a:gridCol w="2808360"/>
              </a:tblGrid>
              <a:tr h="387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Подтягива - ние на спине»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тянуться на спин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икогда не сложно мне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есть и быстро встать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             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пя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 «цыганочку» сплясать!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тягивание по гимн.скам. на спине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Цыганочка»-хлопок в ладоши над головой, затем, повернув голову вправо, правой руко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снуться правой пятки. Повторить тоже в левую сторону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281320" y="3573360"/>
            <a:ext cx="458136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11280" y="260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1760" y="19080"/>
            <a:ext cx="749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4400" spc="-1" strike="noStrike">
                <a:solidFill>
                  <a:srgbClr val="33cc33"/>
                </a:solidFill>
                <a:latin typeface="Tahoma"/>
              </a:rPr>
              <a:t>«Расслабляющая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«Сотвори в себе солнце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50920" y="1714680"/>
            <a:ext cx="8642160" cy="48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56908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8720" y="76320"/>
            <a:ext cx="930816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ahoma"/>
              </a:rPr>
              <a:t>Цель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Сформировать у детей желание вест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            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здоровый образ жизн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            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сохранение физического и психическог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            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здоровья учащих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ahoma"/>
              </a:rPr>
              <a:t>Задачи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Показать важность режима дня в формирован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здорового образа жиз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2. Определить принципы здорового питани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закаливания организма и занятий спорт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3. Снятие физического и психического напряж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4. Повышение эмоциональной стабильност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5. Профилактика плоскостоп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6. Воспитывать чувство ответственност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за сохранение и укрепление своего здоровь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19120" y="-12600"/>
            <a:ext cx="837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35120" y="-12600"/>
            <a:ext cx="7653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-189000"/>
            <a:ext cx="9361440" cy="62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1" lang="ru-RU" sz="3600" spc="-1" strike="noStrike">
                <a:solidFill>
                  <a:srgbClr val="cc3300"/>
                </a:solidFill>
                <a:latin typeface="Tahoma"/>
              </a:rPr>
              <a:t>Речевка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66"/>
                </a:solidFill>
                <a:uFillTx/>
                <a:latin typeface="Tahoma"/>
              </a:rPr>
              <a:t>Ведущий:</a:t>
            </a: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</a:t>
            </a:r>
            <a:r>
              <a:rPr b="1" lang="ru-RU" sz="10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1" lang="ru-RU" sz="2000" spc="-1" strike="noStrike" u="sng">
                <a:solidFill>
                  <a:srgbClr val="ff0066"/>
                </a:solidFill>
                <a:uFillTx/>
                <a:latin typeface="Tahoma"/>
              </a:rPr>
              <a:t>Дет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Раз, два!                 -                     Три, четыре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Три, четыре!          -                      Раз, два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Кто идет?               -                     Отряд здоровы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                                                       </a:t>
            </a: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Смелых и веселы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                                                       </a:t>
            </a: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задорных друз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Раз, два!                 -                      Три, четыре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Тверже ногу!          -                      Четче шаг, юных крепышей отряд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Мы здоровье сохраним!      -       Мы здоровьем дорожим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И даем мы всем рецепты,    -     Как здоровье сохранить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                                                        </a:t>
            </a: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Чтобы бодрым и веселы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                                                        </a:t>
            </a: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Нам до старости прожить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-25560"/>
            <a:ext cx="9144000" cy="41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1" lang="en-US" sz="4800" spc="-1" strike="noStrike">
                <a:solidFill>
                  <a:srgbClr val="cc3300"/>
                </a:solidFill>
                <a:latin typeface="Tahoma"/>
              </a:rPr>
              <a:t>Наш девиз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ff33"/>
                </a:solidFill>
                <a:latin typeface="Tahoma"/>
              </a:rPr>
              <a:t>«Я здоровье берегу –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ff33"/>
                </a:solidFill>
                <a:latin typeface="Tahoma"/>
              </a:rPr>
              <a:t>  </a:t>
            </a:r>
            <a:r>
              <a:rPr b="1" lang="en-US" sz="6000" spc="-1" strike="noStrike">
                <a:solidFill>
                  <a:srgbClr val="66ff33"/>
                </a:solidFill>
                <a:latin typeface="Tahoma"/>
              </a:rPr>
              <a:t>сам себе я помогу!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84360" y="1219320"/>
            <a:ext cx="8064360" cy="53053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63480" y="260280"/>
            <a:ext cx="7869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Tahoma"/>
              </a:rPr>
              <a:t>«</a:t>
            </a:r>
            <a:r>
              <a:rPr b="1" lang="en-US" sz="6000" spc="-1" strike="noStrike">
                <a:solidFill>
                  <a:srgbClr val="ff0066"/>
                </a:solidFill>
                <a:latin typeface="Tahoma"/>
              </a:rPr>
              <a:t>Личная  гигиена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50920" y="203040"/>
            <a:ext cx="871380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1" lang="en-US" sz="6000" spc="-1" strike="noStrike" u="sng">
                <a:solidFill>
                  <a:srgbClr val="ccff33"/>
                </a:solidFill>
                <a:uFillTx/>
                <a:latin typeface="Tahoma"/>
              </a:rPr>
              <a:t>ГИГИЕН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                            </a:t>
            </a:r>
            <a:r>
              <a:rPr b="1" lang="en-US" sz="4800" spc="-1" strike="noStrike">
                <a:solidFill>
                  <a:srgbClr val="00ff00"/>
                </a:solidFill>
                <a:latin typeface="Tahoma"/>
              </a:rPr>
              <a:t>1. Тела человек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Tahoma"/>
              </a:rPr>
              <a:t>2. Полости рта, зубов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Tahoma"/>
              </a:rPr>
              <a:t>3. Глаз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Tahoma"/>
              </a:rPr>
              <a:t>4. Волос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Tahoma"/>
              </a:rPr>
              <a:t>5. Кож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Tahoma"/>
              </a:rPr>
              <a:t>6. Нос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Tahoma"/>
              </a:rPr>
              <a:t>7. Сн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708360" y="2781360"/>
            <a:ext cx="458172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44360" y="-268200"/>
            <a:ext cx="866016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4400" spc="-1" strike="noStrike" u="sng">
                <a:solidFill>
                  <a:srgbClr val="cc3399"/>
                </a:solidFill>
                <a:uFillTx/>
                <a:latin typeface="Tahoma"/>
              </a:rPr>
              <a:t>Оздоровительная минут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1.Мы шагаем, мы шагаем, руки выше поднимаем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Голову не опускаем, дышим ровно, глубок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2.Вдруг мы видим:  из кус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Выпал птенчик из гнез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3.Тихо птенчика бер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И назад его клад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4. Впереди из-за куста смотрит хитрая лис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Мы лисицу обхитрим, на носочках побежи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5. На полянку мы выходи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Много ягод там находи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Земляника так душист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Что не лень нам наклонить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6. Как много мы увидели: и речку, и цве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Узнали много нового – и я, и мы, и 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815760" y="0"/>
            <a:ext cx="689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«Здоровое питание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39640" y="765000"/>
            <a:ext cx="806472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46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990099"/>
                </a:solidFill>
                <a:uFillTx/>
                <a:latin typeface="Tahoma"/>
              </a:rPr>
              <a:t>Советы здорового питания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</a:t>
            </a:r>
            <a:r>
              <a:rPr b="1" lang="en-US" sz="3200" spc="-1" strike="noStrike">
                <a:solidFill>
                  <a:srgbClr val="ff66ff"/>
                </a:solidFill>
                <a:latin typeface="Tahoma"/>
              </a:rPr>
              <a:t>1.Воздерживайтесь от жирной пищ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Tahoma"/>
              </a:rPr>
              <a:t>                                                         </a:t>
            </a:r>
            <a:r>
              <a:rPr b="1" lang="en-US" sz="3200" spc="-1" strike="noStrike">
                <a:solidFill>
                  <a:srgbClr val="ff66ff"/>
                </a:solidFill>
                <a:latin typeface="Tahoma"/>
              </a:rPr>
              <a:t>2.Остерегайтесь очень острого и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Tahoma"/>
              </a:rPr>
              <a:t>                                                        </a:t>
            </a:r>
            <a:r>
              <a:rPr b="1" lang="en-US" sz="3200" spc="-1" strike="noStrike">
                <a:solidFill>
                  <a:srgbClr val="ff66ff"/>
                </a:solidFill>
                <a:latin typeface="Tahoma"/>
              </a:rPr>
              <a:t>соленог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Tahoma"/>
              </a:rPr>
              <a:t>3.Сладостей тысячи, а здоровье од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Tahoma"/>
              </a:rPr>
              <a:t>                                                                               </a:t>
            </a:r>
            <a:r>
              <a:rPr b="1" lang="en-US" sz="3200" spc="-1" strike="noStrike">
                <a:solidFill>
                  <a:srgbClr val="ff66ff"/>
                </a:solidFill>
                <a:latin typeface="Tahoma"/>
              </a:rPr>
              <a:t>4.Овощи и фрукты здоровые продук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059280" y="4653000"/>
            <a:ext cx="273672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6T16:14:14Z</dcterms:created>
  <dc:creator>USER</dc:creator>
  <dc:description/>
  <dc:language>en-US</dc:language>
  <cp:lastModifiedBy>kroz</cp:lastModifiedBy>
  <dcterms:modified xsi:type="dcterms:W3CDTF">2013-02-11T07:58:21Z</dcterms:modified>
  <cp:revision>6</cp:revision>
  <dc:subject/>
  <dc:title>Слайд 1</dc:title>
</cp:coreProperties>
</file>