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F8A-72EF-40A8-A4D2-96F011AB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D5E-A54C-4BA7-89DA-DD6DE9F9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BBC-A688-4C30-AD1B-81C14E5D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DA2-DC52-4C01-9835-37C1EF6C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4BC68-0C82-46C3-9900-5234CF0E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281AD-88B7-407E-B514-C2644768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69E02-02B7-48EE-8408-5A2AD1BC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5DB52-E361-4D6E-931F-068D4E00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C6049-D282-442F-A0EC-E0D732C5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99383-4D99-4EA5-9EEF-E5A7FE00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1496A-A588-4CEF-A675-7B67B458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103-B937-4154-9793-BBC7A1D8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F9850-5249-4242-ACB2-AD4CF835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9648F-6518-42C7-9A30-4A53EA82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3640B-D02E-429D-A44D-9A80F1D3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C66DF-9BE0-4FCB-B3C7-D993CFED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255FB-0232-4469-B7B1-AE186ABA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BB2-AFDF-4323-8C03-6FA2B2CC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61B-26B7-4C1F-B533-70E12EF8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4B7-CCF0-4028-A889-36840BE2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75B-37A7-484D-96AA-0793C4A4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6EE-4E14-4114-B632-68AD4A64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4C6-9AD1-4B9A-9F97-55241EDC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43E-E687-4011-873B-48F28CCE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6065-5689-47AA-8569-8C350AAD92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F08F-0651-4BEE-B93C-B24A1CEE2A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-44280"/>
            <a:ext cx="896472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МОУ Виткуловская СО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Заня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в группе продленного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«Путешестви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              </a:t>
            </a: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в страну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                       </a:t>
            </a: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здоровь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т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кова Нина Никол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34776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66"/>
                </a:solidFill>
                <a:latin typeface="Tahoma"/>
              </a:rPr>
              <a:t>«Режим дн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684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-115920"/>
            <a:ext cx="9144000" cy="77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Режим дня</a:t>
            </a:r>
            <a:r>
              <a:rPr b="0" lang="en-US" sz="1800" spc="-1" strike="noStrike">
                <a:solidFill>
                  <a:srgbClr val="ccff33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00 – подъ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00 – 7.10 – утренняя гимнаст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10 – 7.25 – утренний туа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25 – 7.40 – завтр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40 – 8.00 – дорога в шко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8.00 – 8.15 – подготовка к уро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8.15 – 12.00 – занятия в шк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2.00 – 17.00 – группа продленного д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7.00 – 17.20 – дорога до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7.20 – 18.20 – отдых, прогу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8.20 – 18.50 – уж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8.50 – 21.00 – личное 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21.00 – 21.30 – вечерний туалет, подготовка ко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                                                                       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с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21.30 – отбой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9000"/>
            <a:ext cx="8964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7000" spc="-1" strike="noStrike">
                <a:solidFill>
                  <a:srgbClr val="99ff66"/>
                </a:solidFill>
                <a:latin typeface="Tahoma"/>
              </a:rPr>
              <a:t>«Спортивная»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35800" y="0"/>
            <a:ext cx="57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Дорожка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692280"/>
          <a:ext cx="9109080" cy="6308640"/>
        </p:xfrm>
        <a:graphic>
          <a:graphicData uri="http://schemas.openxmlformats.org/drawingml/2006/table">
            <a:tbl>
              <a:tblPr/>
              <a:tblGrid>
                <a:gridCol w="2268360"/>
                <a:gridCol w="4248360"/>
                <a:gridCol w="2592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праж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проводительный тек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кции 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пражн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Великан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ы становимся все выш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таем руками крыш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носочки поднимис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макушечкой тянись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нце в небе высоко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тянуться нелег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 каждым шагом выше, выш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дем к солнышку поближе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ти идут по дорожке на носочках, подняв прямые руки вверх, ладонями внутр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Крылыш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беди стайкою дружной плывут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ямо и гордо умеют держаться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ыльями машут- красиво летят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хо на воду садятс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ки в «крылышки» сложили и 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ятках походили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ки в «крылышках» - локти прижаты к талии, лопатки соединены. Ходьба на пятк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82160" cy="6453000"/>
        </p:xfrm>
        <a:graphic>
          <a:graphicData uri="http://schemas.openxmlformats.org/drawingml/2006/table">
            <a:tbl>
              <a:tblPr/>
              <a:tblGrid>
                <a:gridCol w="2421000"/>
                <a:gridCol w="3701880"/>
                <a:gridCol w="3059280"/>
              </a:tblGrid>
              <a:tr h="25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Свечк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коленях мы идем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ину держим прямо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 красивую осан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с похвалит мама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 теперь поход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наружном своде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дьба по гимна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амейке на коленях, руки на пояс. Затем ходьба на наружном своде стопы, руки на пояс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Собач -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б найти дорогу к дому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ужно след искать знакомы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улька верно след взя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ямо к дому привела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дьба по гимна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амейке на коленях, руки по пол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Лебедь и уточк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овно лебедь по вод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плыву на живот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 теперь как уточ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хожу минуточку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тягиваться по гимн. скамейке на животе. Затем ходьба в полуприсяде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8964720" cy="3573360"/>
        </p:xfrm>
        <a:graphic>
          <a:graphicData uri="http://schemas.openxmlformats.org/drawingml/2006/table">
            <a:tbl>
              <a:tblPr/>
              <a:tblGrid>
                <a:gridCol w="2987640"/>
                <a:gridCol w="3168720"/>
                <a:gridCol w="280836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одтягива - ние на спине»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тянуться на спи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когда не сложно м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сть и быстро встать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«цыганочку» сплясать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тягивание по гимн.скам. на спи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Цыганочка»-хлопок в ладоши над головой, затем, повернув голову вправо, правой ру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снуться правой пятки. Повторить тоже в левую сторон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1320" y="3573360"/>
            <a:ext cx="4581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26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1760" y="19080"/>
            <a:ext cx="749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«Расслабляющая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«Сотвори в себе солнц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86421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69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720" y="76320"/>
            <a:ext cx="9308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ahoma"/>
              </a:rPr>
              <a:t>Цель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формировать у детей желание в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доровый образ жиз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охранение физического и психичес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доровья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ahoma"/>
              </a:rPr>
              <a:t>Задачи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казать важность режима дня в формиров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дорового образа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2. Определить принципы здорового пита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акаливания организма и занятий спор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3. Снятие физического и психического напря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4. Повышение эмоциональной стаби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5. Профилактика плоскостоп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6. Воспитывать чувство ответствен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а сохранение и укрепление своего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-12600"/>
            <a:ext cx="837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120" y="-12600"/>
            <a:ext cx="76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189000"/>
            <a:ext cx="936144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600" spc="-1" strike="noStrike">
                <a:solidFill>
                  <a:srgbClr val="cc3300"/>
                </a:solidFill>
                <a:latin typeface="Tahoma"/>
              </a:rPr>
              <a:t>Речев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Ведущий: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Де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Раз, два!                 -                     Три, четыр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ри, четыре!          -                      Раз, дв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то идет?               -                     Отряд здоров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Смелых и весел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задорных дру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Раз, два!                 -                      Три, четыр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верже ногу!          -                      Четче шаг, юных крепышей отряд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Мы здоровье сохраним!      -       Мы здоровьем дорожи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И даем мы всем рецепты,    -     Как здоровье сохран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Чтобы бодрым и весел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Нам до старости прожи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-25560"/>
            <a:ext cx="91440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4800" spc="-1" strike="noStrike">
                <a:solidFill>
                  <a:srgbClr val="cc3300"/>
                </a:solidFill>
                <a:latin typeface="Tahoma"/>
              </a:rPr>
              <a:t>Наш девиз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«Я здоровье берегу 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  </a:t>
            </a: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сам себе я помогу!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4360" y="1219320"/>
            <a:ext cx="8064360" cy="5305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3480" y="260280"/>
            <a:ext cx="786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«</a:t>
            </a:r>
            <a:r>
              <a:rPr b="1" lang="en-US" sz="6000" spc="-1" strike="noStrike">
                <a:solidFill>
                  <a:srgbClr val="ff0066"/>
                </a:solidFill>
                <a:latin typeface="Tahoma"/>
              </a:rPr>
              <a:t>Личная  гигиен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203040"/>
            <a:ext cx="8713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6000" spc="-1" strike="noStrike" u="sng">
                <a:solidFill>
                  <a:srgbClr val="ccff33"/>
                </a:solidFill>
                <a:uFillTx/>
                <a:latin typeface="Tahoma"/>
              </a:rPr>
              <a:t>ГИГИ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1. Тела челове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2. Полости рта, зуб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3. Гл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4. Воло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5. Кож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6. Но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7. С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708360" y="2781360"/>
            <a:ext cx="4581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360" y="-268200"/>
            <a:ext cx="866016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 u="sng">
                <a:solidFill>
                  <a:srgbClr val="cc3399"/>
                </a:solidFill>
                <a:uFillTx/>
                <a:latin typeface="Tahoma"/>
              </a:rPr>
              <a:t>Оздоровительная минут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1.Мы шагаем, мы шагаем, руки выше поднимае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Голову не опускаем, дышим ровно, глуб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2.Вдруг мы видим:  из ку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Выпал птенчик из гнез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3.Тихо птенчика бер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И назад его клад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4. Впереди из-за куста смотрит хитрая ли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Мы лисицу обхитрим, на носочках побеж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5. На полянку мы выход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Много ягод там наход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Земляника так душис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Что не лень нам наклони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6. Как много мы увидели: и речку, и цв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Узнали много нового – и я, и мы, и 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5760" y="0"/>
            <a:ext cx="689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Здоровое питани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064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0099"/>
                </a:solidFill>
                <a:uFillTx/>
                <a:latin typeface="Tahoma"/>
              </a:rPr>
              <a:t>Советы здорового питани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1.Воздерживайтесь от жирной пищ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 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2.Остерегайтесь очень острого и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соле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3.Сладостей тысячи, а здоровье од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                       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4.Овощи и фрукты здоровые проду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59280" y="4653000"/>
            <a:ext cx="2736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6:14:14Z</dcterms:created>
  <dc:creator>USER</dc:creator>
  <dc:description/>
  <dc:language>en-US</dc:language>
  <cp:lastModifiedBy>kroz</cp:lastModifiedBy>
  <dcterms:modified xsi:type="dcterms:W3CDTF">2013-02-11T07:58:21Z</dcterms:modified>
  <cp:revision>6</cp:revision>
  <dc:subject/>
  <dc:title>Слайд 1</dc:title>
</cp:coreProperties>
</file>