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A0D-FCDA-4BAF-AF38-4FCD6D7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5E2-42E3-45B8-AE6D-C90DE416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E42-AAAB-46A4-B514-25F5737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CFF-5017-4381-BA94-8824EABE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51B-C4F9-43D6-8119-155EF41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278D-F23D-481C-8CA9-2CD540E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07A2-4F5B-451F-B9AE-13FFBB2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281C-BA97-419E-B7B4-8D1CF64F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840-FDF9-43F8-8112-57CD158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3AE-BCAD-4EBD-9B01-C6B0666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EBD4-8C0D-4E6A-996A-B5DDF4A0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932-70A7-4C34-9A67-5960579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40E0-BE70-40D5-89A5-6296EA9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CB7E-75C1-4F6B-9BA1-A363D85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993C-5709-46FD-BBC9-A7F9E2E9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DAFB-1A57-49D4-A6AE-02008E25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CF2-285A-4AE5-A6A5-F2AC09EE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69A-0671-4317-93F1-ED135AB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C17-2499-41A3-A243-3C0E6B8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2B2-241D-48ED-BC76-30B6A24B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0CF-8E6F-432A-8F6D-3F42DABE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332-1F75-457F-AECD-0DDB7B3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685-CECE-4EF4-8DD5-B2EB8F8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5E7-BF89-41E5-8934-5394A6E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679-827D-445F-9419-343A3D8E2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72E8-9E9E-4A4D-A6F3-D17C1128C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60606"/>
                </a:solidFill>
                <a:latin typeface="Tahoma"/>
              </a:rPr>
              <a:t>Мировые информационные образовательные ресурсы.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Tahoma"/>
              </a:rPr>
              <a:t>Работу выполняла: Кун 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091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ровое сообщество начала третьего тысячелетия характеризуется рядом особенностей, к которым следует, прежде всего, отнести возросшую значимость интеллектуального труда, ориентированного на использование информационного ресурса глобального масштаба и потребность в осуществлении оперативной коммуникации между отдельными специалистами, социально-профессиональными группами, сообществами людей, общественными организациями и государствами. Роль информации и коммуникаций в развитии общества всегда была значительной. Важнейшими элементами электронной части мирового информационного пространства являются профессиональные базы, деловые ресурсы Интернет, электронные библиоте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временный специалист должен уметь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52576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ять информационные потребности для решения конкретной зада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ть информационные ресурсы с учетом существующих законодательных и этических нор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учать доступ к информационным ресур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авать профессиональную оценку информ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ть найденную в мировых ресурсах информацию при решении профессиональных задач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880920"/>
            <a:ext cx="7993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ahoma"/>
              </a:rPr>
              <a:t>"Информационные ресурсы (ИР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дельные документы и отдельные массивы документов, документы и массивы документов в информационных системах (библиотеках, архивах, фондах, банках данных, других информационных системах)". Документы и массивы информации, о которых говорится в этом законе, не существуют сами по себе. В них в разных формах представлены знания, которыми обладали люди, создававши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8000" y="88920"/>
          <a:ext cx="8661240" cy="6797520"/>
        </p:xfrm>
        <a:graphic>
          <a:graphicData uri="http://schemas.openxmlformats.org/drawingml/2006/table">
            <a:tbl>
              <a:tblPr/>
              <a:tblGrid>
                <a:gridCol w="3030480"/>
                <a:gridCol w="2816280"/>
                <a:gridCol w="2814480"/>
              </a:tblGrid>
              <a:tr h="34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неправительственная организация стандартизации International Organization for Standardization (ISO), учрежденная в 1947 го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EEE [Institute of Electrical and Electronics Engineers] Институт инженеров по электротехнике и электронике. Основанной в 1963 году в США и устанавливает стандарты для вычислительной техники и связи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rning Object Metadata standard. – New York: IEEE, 200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 ИР как нечто, имеющее отличительную особенность (anything that has identity), благодаря которой данная сущность может быть выделена в самостоятельном качестве. При этом оговаривается, что обычно ИР является электронным докумен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В них понятие ИР заменено понятием "образовательный объект" (learning object) - цифровая или нецифровая сущность, которая может использоваться в образовательных целях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ся как документ (совокупность документов), предназначенный и самостоятельно оформленный для распространения среди неограниченного круга лиц либо служащий основой для представления информационных услу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Tahoma"/>
              </a:rPr>
              <a:t>Информационные ресурс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знания, подготовленные людьми для социального использования в обществе и зафиксированные на материальном носител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мировой информационной культ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</a:t>
            </a: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форме представл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т.е. в каком виде зафиксирована или представлена информация: текстовая форма; графическая форма; мультимеди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</a:t>
            </a: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ограничению доступа или защи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здесь можно выделить три вида информационных ресурсов: сведения, составляющие государственную тайну; персональные данные; сведения, составляющие коммерческую тай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ahoma"/>
              </a:rPr>
              <a:t>разбивка по тематик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самый сложный критерий, так как те или иные информационные ресурсы можно отнести к сразу нескольким видам. Количество видов огромно, например: законодательные ресурсы; статистические ресурсы; образовательные ресур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епени интеграции информационных технолог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81080"/>
          <a:ext cx="8229600" cy="394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вы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торо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тий уров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е различных средств представления учебной информации и мировых информационных ресурсов для решения традиционных образовательных задач на новом качественном уровн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учебного процесса с использованием интерактивных средств взаимодействия участников образовательного процесс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учебного процесса с использованием интерактивных средств взаимодействия участников образовательного процесса, т.е. информационные ресур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362960"/>
            <a:ext cx="7704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06"/>
                </a:solidFill>
                <a:latin typeface="Tahoma"/>
              </a:rPr>
              <a:t>Итог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ключение современных компьютерных и телекоммуникационных технологий в образовательный процесс, широкое использование мировых информационных ресурсов создает возможности повышения качества образовательных услуг, но в то же время требует изменения содержания и методов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07:41Z</dcterms:created>
  <dc:creator>Аня</dc:creator>
  <dc:description/>
  <dc:language>en-US</dc:language>
  <cp:lastModifiedBy>Аня</cp:lastModifiedBy>
  <dcterms:modified xsi:type="dcterms:W3CDTF">2011-04-25T16:14:00Z</dcterms:modified>
  <cp:revision>2</cp:revision>
  <dc:subject/>
  <dc:title>Мировые информационные образовательные ресурсы.  </dc:title>
</cp:coreProperties>
</file>