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5083-57E2-4C8C-839D-AD4F825EC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7ED8-9B1F-4979-B082-E0404DA26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8E72-3903-4F3B-ADDD-D55906383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62C6-7785-4CFE-B8C2-8E176BE43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870DB-C7D2-45F0-B7C1-6F36033D0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4447B-D5AC-433A-A7DA-8B60C0535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E2419-A1B5-4534-A879-E6C1FB47F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AE2D3-27DE-41F6-9FD8-DCE1441AB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D72DA-8936-489D-998B-3D33FE72E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C8B4B-397B-4239-9D80-48B8EFC60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283DC-07BE-45E0-A3A6-DDAA0219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A624-605D-4F0D-AFE3-C984FCCD5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CCAAB-B77C-4863-9BD7-341B34D6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68986-0B05-4A60-88E5-A1F291DF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74D7F-3777-405A-9AFD-18E4DDC94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E9F0C-F054-43D1-9F47-03E732924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B4A75-87F2-4564-B59D-3CAC68D2C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F983-4AB2-46A5-B315-BDF4BBCC5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A2BB-9AD9-4B58-9E58-86064F5C0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FD0A-9CC4-41F9-8415-1D8B0EB13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A6FA-900F-4CBE-9324-54FE45AAA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BE9C-BC36-4B44-85D2-0558BD36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08E9-8153-47C4-B762-02EC4113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2C7A-3E5A-4C03-9C8D-8135985A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5315C-3A90-4C18-B222-3C22F8F64C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DA9C8-5227-47C2-9042-286551CF6A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60606"/>
                </a:solidFill>
                <a:latin typeface="Tahoma"/>
              </a:rPr>
              <a:t>Мировые информационные образовательные ресурсы. 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0606"/>
                </a:solidFill>
                <a:latin typeface="Tahoma"/>
              </a:rPr>
              <a:t>Работу выполняла: Кун Ан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39640" y="1091880"/>
            <a:ext cx="7632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ировое сообщество начала третьего тысячелетия характеризуется рядом особенностей, к которым следует, прежде всего, отнести возросшую значимость интеллектуального труда, ориентированного на использование информационного ресурса глобального масштаба и потребность в осуществлении оперативной коммуникации между отдельными специалистами, социально-профессиональными группами, сообществами людей, общественными организациями и государствами. Роль информации и коммуникаций в развитии общества всегда была значительной. Важнейшими элементами электронной части мирового информационного пространства являются профессиональные базы, деловые ресурсы Интернет, электронные библиотеки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Современный специалист должен уметь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2525760"/>
            <a:ext cx="7993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пределять информационные потребности для решения конкретной задач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спользовать информационные ресурсы с учетом существующих законодательных и этических нор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лучать доступ к информационным ресурса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давать профессиональную оценку информаци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спользовать найденную в мировых ресурсах информацию при решении профессиональных задач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11280" y="880920"/>
            <a:ext cx="799308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606"/>
                </a:solidFill>
                <a:latin typeface="Tahoma"/>
              </a:rPr>
              <a:t>"Информационные ресурсы (ИР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тдельные документы и отдельные массивы документов, документы и массивы документов в информационных системах (библиотеках, архивах, фондах, банках данных, других информационных системах)". Документы и массивы информации, о которых говорится в этом законе, не существуют сами по себе. В них в разных формах представлены знания, которыми обладали люди, создававшие и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108000" y="88920"/>
          <a:ext cx="8661240" cy="6797520"/>
        </p:xfrm>
        <a:graphic>
          <a:graphicData uri="http://schemas.openxmlformats.org/drawingml/2006/table">
            <a:tbl>
              <a:tblPr/>
              <a:tblGrid>
                <a:gridCol w="3030480"/>
                <a:gridCol w="2816280"/>
                <a:gridCol w="2814480"/>
              </a:tblGrid>
              <a:tr h="341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ждународная неправительственная организация стандартизации International Organization for Standardization (ISO), учрежденная в 1947 году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EEE [Institute of Electrical and Electronics Engineers] Институт инженеров по электротехнике и электронике. Основанной в 1963 году в США и устанавливает стандарты для вычислительной техники и связи.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earning Object Metadata standard. – New York: IEEE, 200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пределяет ИР как нечто, имеющее отличительную особенность (anything that has identity), благодаря которой данная сущность может быть выделена в самостоятельном качестве. При этом оговаривается, что обычно ИР является электронным документом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В них понятие ИР заменено понятием "образовательный объект" (learning object) - цифровая или нецифровая сущность, которая может использоваться в образовательных целях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пределяется как документ (совокупность документов), предназначенный и самостоятельно оформленный для распространения среди неограниченного круга лиц либо служащий основой для представления информационных услуг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Вывод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0606"/>
                </a:solidFill>
                <a:latin typeface="Tahoma"/>
              </a:rPr>
              <a:t>Информационные ресурсы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это знания, подготовленные людьми для социального использования в обществе и зафиксированные на материальном носител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Критерии мировой информационной культуры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 </a:t>
            </a:r>
            <a:r>
              <a:rPr b="0" lang="en-US" sz="2000" spc="-1" strike="noStrike">
                <a:solidFill>
                  <a:srgbClr val="060606"/>
                </a:solidFill>
                <a:latin typeface="Tahoma"/>
              </a:rPr>
              <a:t>форме представления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т.е. в каком виде зафиксирована или представлена информация: текстовая форма; графическая форма; мультимеди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 </a:t>
            </a:r>
            <a:r>
              <a:rPr b="0" lang="en-US" sz="2000" spc="-1" strike="noStrike">
                <a:solidFill>
                  <a:srgbClr val="060606"/>
                </a:solidFill>
                <a:latin typeface="Tahoma"/>
              </a:rPr>
              <a:t>ограничению доступа или защите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здесь можно выделить три вида информационных ресурсов: сведения, составляющие государственную тайну; персональные данные; сведения, составляющие коммерческую тайну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ahoma"/>
              </a:rPr>
              <a:t>разбивка по тематике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самый сложный критерий, так как те или иные информационные ресурсы можно отнести к сразу нескольким видам. Количество видов огромно, например: законодательные ресурсы; статистические ресурсы; образовательные ресурс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Степени интеграции информационных технологий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57200" y="1981080"/>
          <a:ext cx="8229600" cy="39448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ервый уровень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торой уровень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ретий уровень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спользование различных средств представления учебной информации и мировых информационных ресурсов для решения традиционных образовательных задач на новом качественном уровне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ализация учебного процесса с использованием интерактивных средств взаимодействия участников образовательного процесс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ализация учебного процесса с использованием интерактивных средств взаимодействия участников образовательного процесса, т.е. информационные ресурсы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39640" y="1362960"/>
            <a:ext cx="770436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0606"/>
                </a:solidFill>
                <a:latin typeface="Tahoma"/>
              </a:rPr>
              <a:t>Итог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включение современных компьютерных и телекоммуникационных технологий в образовательный процесс, широкое использование мировых информационных ресурсов создает возможности повышения качества образовательных услуг, но в то же время требует изменения содержания и методов обуч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5T15:07:41Z</dcterms:created>
  <dc:creator>Аня</dc:creator>
  <dc:description/>
  <dc:language>en-US</dc:language>
  <cp:lastModifiedBy>Аня</cp:lastModifiedBy>
  <dcterms:modified xsi:type="dcterms:W3CDTF">2011-04-25T16:14:00Z</dcterms:modified>
  <cp:revision>2</cp:revision>
  <dc:subject/>
  <dc:title>Мировые информационные образовательные ресурсы.  </dc:title>
</cp:coreProperties>
</file>