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33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4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5"/>
          </p:nvPr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C17E9A2-CEED-4E0B-88A7-51436D4B4CA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933967D-91D3-45EA-B249-762932BA060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F0919E6-FB92-4428-B459-15B2D1AC6C8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6514666-B37D-46C6-B8EB-8659766A011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098061F-2DDB-4416-ABE1-81F937E4532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C512950-B1C4-4F8B-B7B1-8BD30693BE5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75C39A6-9443-43F2-AC94-C362F1D2319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E7B1B97-FEE3-482F-BF5C-508E120A590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463F7BA-6133-40D5-8E7D-4995AD320F2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816A4DA-A8A3-42DA-87D1-C50A5310B9B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A213B8F-FE7A-4FD4-A281-8ABFC91E05E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7FF04CA-7E50-413E-BEB1-8E497BD1BBD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282F744-0F40-4DEC-B3B8-8AB38655F94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18D88AEA-C2FF-4004-9A6B-ABCBF10F8FB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A896DBB-8BBE-41FC-93A4-E4BF2D8BF67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B6F86C4-5123-48D8-A1C8-BBA00C63594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3E99CA52-EBA4-4C23-B818-D1F4CB5D957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1FC8-C6D9-4222-8EBF-01A5A125C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C049-9BF8-419B-8C33-C953D1A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BFBB8-1B22-4EA9-8253-D35ED45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0D337-889E-468E-B80D-555753DF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A1EA5-1378-4FB7-A72D-8C0F091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74276-4034-47E5-9B2C-4D22926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F6F18-094D-4625-B504-B50B221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0C07D-60A0-4681-985B-F0F2A31E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82573-C7E7-48B3-975C-C208C85C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F9A81-0FD4-45CB-ABD5-3B47B64B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53B67-E5FC-4B2E-AC71-E0DBEADE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C4BE58-1DDE-4D7C-BCF6-11CB883E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9556-763F-4E75-96A6-1F8DC30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54752F-4DCC-404E-A4A1-6E25563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B7452-EB1E-4F0B-B958-DB3A955E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C8F3C-2A3F-4A49-B05F-92BD9744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43508-B28F-442C-A25D-1813C0CA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4FDF1-54B9-4CBD-AA25-BED12FAB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F27F5-6518-48A3-A0CE-77AE3BE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2C2B50-EFD4-4384-B8D7-761989E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9E7E37-2413-4CBC-A759-0D95C43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19E08-242F-4481-A165-686B576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F4179D-F4C5-4FE5-9EC5-196A835E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30DE-094C-41AE-BD51-95329BD4BA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0AF81D-F554-4981-AAA7-C918C2B3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EE7F35-5619-4ED7-A5C2-DC2AAE5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DA273-85A5-4CB5-A1CD-758B237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340BD-0423-4A8D-8393-375A2077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32E6B1-871D-4A4D-8A52-8E4BE23C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52A6CF-EE6B-4E94-8060-11AB6A6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9549E-21EB-4F4F-B3DC-C24088A3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F1126F-6FC6-4183-BBC3-5AE38A3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2EB143-DA7B-4043-AC43-65F61BB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C3ECF-85ED-40A2-BD3D-F688304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3464A-E268-449F-A079-98C491F7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1D4CB-40E8-48A3-A50C-9957E8A2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F4A6B6-7401-40F2-96B6-0D7F8DD6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90098C-1255-4F81-AB07-56E19FE3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8CBA9-70A6-44F9-8675-A0E11B0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967F-6ED1-421E-BC5B-8C75117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7E483-778A-41BA-9C28-AAA53BC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972CA-AA78-4C29-848D-DC7FCBE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09236-38B3-4E6C-B024-630245C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F494F-0763-4F8C-A4B3-1B210570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89A3-5756-42D4-967B-43DCE50E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D8CF-D283-4F07-9199-5976885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D3F0-B975-498E-AAFC-8B9EE58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75C0-6A03-4A4E-80FD-59801BAB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6C461-243E-441F-AF8C-989404F0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7B5D1-798D-4DC9-B93F-DA1C99C2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80429-2C31-4B3E-945A-160F61DB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D6A69-7B18-4F69-9E4B-CA9BAB3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86363-5689-42C7-BDE0-F4C5320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B5772-6E84-4867-95AE-82E1F7F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07DFA-9E2B-45B3-934D-3B8DF024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8AEB-3A72-4FF3-9279-02BF7A9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04C90-FA53-4E39-9D7A-D224B5D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850C7-AFC4-4DE6-BE83-A88C6E20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B9A24-2944-4A50-8FF2-ABBEA9D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DFEC0-F294-4705-A0AF-C8CBF51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99D33-0535-4CDC-BBD9-432D1B1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CF0CB-7DCC-4199-9F26-FE441EDF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0FD27-BBD1-4ECF-80F3-1204DFF6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36963-16F0-4BEB-A799-0F8A9B2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338DF-6FF2-40C8-9EA2-B4EFAD9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965B9-66D3-451D-8A94-C06FFDB5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F6E7-E862-488D-8D96-5EED0AAA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D070E-7FB5-4B1C-BD7A-40340643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F88FA-6060-498C-90CF-ED5AB621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4C459-CBB5-4B92-B740-2FA4D42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86EED-4D25-418A-9867-260BE72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85BB6-2C0F-4E0D-AC90-ABBE34D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8E570-FC9E-4E51-8D5D-8420D9B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AB375-9E27-4A56-8F87-9F1ED98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1CE2B-A336-4347-9D55-C3BA1BF5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34DA8-BEB2-4853-8346-83FB264D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BCFC4-892D-4D66-9275-23F26894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ED8E-BC02-488D-8ED1-61546FCD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3F5F1-9383-41B8-A0A9-52A1E02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3FD0F-36B1-4DF4-8FC5-47ED962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12B35-8580-4FBD-BCF2-EC246E3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75CD6-2887-4495-B769-AE9C38DE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B507E-3F32-4239-877A-C4A5205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1B847-D94B-492C-8C66-88E3210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CE076-5D74-4C27-9345-A949727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B894C-2CBA-4104-8D8A-D781783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26308-2AA0-4A71-822F-40E0F499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1F33F-05B5-4958-9D09-7C9DA3C1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E578-9131-43D8-9499-914F9CA8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D8331-E63B-4BEE-A4E5-3692CDFF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55D4C-446A-43C4-A3B4-A9B84001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6BFF9-467D-4553-A040-80B68CDA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6B120-7D56-4591-B11A-39A62AA9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55445-0A22-4B54-9A77-6A7F9F28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E6DF7-3005-4F7F-8455-7F469559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6C792-D1B1-4775-A129-7E18B1A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CBA00-0F47-4DB8-BFA4-3FC6F15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EF45D-2AC9-46A8-A63E-726C845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CCAD9-3559-43CF-9830-A092670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018F-A007-4F44-92DA-A075A5C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C6DD7-3405-4F5C-A878-AC9DFE2A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7B091-523F-4280-A46F-22CD2880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36F9E-0792-4AB0-9407-70ED5F1A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A2E7E-D7E3-43ED-A419-71A98B7C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E4C39-F854-45A8-BA2C-543AFDC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1C02A-BAC7-4E7E-82DA-0DECC4D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C17A0-C08C-47D8-BFB5-56EA70A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5EB87-280E-4796-B98B-0100043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18080-1061-4FA0-B29B-8C49C085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FD173-0AE5-4DC2-9822-0F572E0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79D3-3AA4-4707-933F-D6A2A25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3213D-6205-4118-864C-39B5FF3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E5DF9-964C-403C-B176-B7F050B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20A6F-1068-44C3-9AD7-FF4CE2A5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62EF5-B894-4BC4-A11C-2470B201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3CD56-3025-46D8-955C-6AC30715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FF461B-5156-44CB-B22A-643E7833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6D652-994F-46F6-B45A-169DD10F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B80A0-E4D3-412A-B9D9-574E23F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DCE99-EA81-46D2-AFC3-632911AF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3C763-D419-4512-8BA8-1689DB3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98DC-39EA-4E8D-86ED-34C9B84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6428F-C621-420B-9065-1689AA10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CEFD3-498D-4B97-8CB7-681F31A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9B39D-2FEE-4D1F-BD59-0CAB096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E3260-1E9C-4FD1-AAA9-4ED958D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017F2-BBE0-4A6F-9CDB-15DEFCF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078D9-192F-4221-B2E3-0B249965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A470C-149A-430C-81A1-932E4C2C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D77C9D-5293-4445-AAA2-F835A3D7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A7B24-6B60-4CF0-93E5-9B16AF0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A2D07-AF8C-4328-ADB0-6FE01AD2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13.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6529A4-45E3-49FC-8595-6A748313B10B}" type="slidenum"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3F8444-CC46-4BD8-AB26-147FEE0E9BE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E8FECA-9F68-4B7A-A56C-9C666031957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896CC4-327D-445C-A64D-F191BCAA6A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6422BC-7EDE-4C92-AB16-A57BBA50565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3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0A5440-87EC-40B4-B018-D2B65801F03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D908CF-86D8-4FE1-9DFC-5E87B4CC24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682125-0BAF-4914-871F-8347841960F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0B3D43-AC4E-4A0C-AFC1-D6101BB8704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8DFAA6-6356-4B2D-838E-77474C35630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13.0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6F0DA6-3E7B-49A6-A940-BA9460FD53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F47BB9-5284-45A0-AD04-E73495D4FD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907920" y="1122480"/>
            <a:ext cx="755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ая и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84360" y="4076640"/>
            <a:ext cx="7859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295960" y="3213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ПД и У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DE653C-1897-4F09-8F2A-9C768FE3BC2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ж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539640" y="2349360"/>
            <a:ext cx="8280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вместное планирование деятельности учителем и обучаю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няется роль учителя – из простого транслятора знаний он становится действительным организатором совместной работы с обучающимися, способствуя переходу к реальному сотрудничеству в ходе овладения зн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E8B9FC-DD7F-4F0A-BA5F-74782282092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914400" y="2465280"/>
            <a:ext cx="8050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видам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й (поисков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тель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кладной (практико-ориентирован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овой (ролевой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B440DF-A07B-4471-9CBD-F7193DEBAF36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914400" y="2465280"/>
            <a:ext cx="805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содержани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редмет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предметный, относящийся к области знаний (нескольким областя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предметный, относящийся к области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F659B-F361-479F-83F6-EB92A422E3A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900000" y="2205000"/>
            <a:ext cx="8050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о количеству участник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ой ( до 15 челов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лективный (класс, школ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ницип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российск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народн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те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72803B-54B8-418C-8870-BCFE6FD8EEC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900000" y="263700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дли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ткосрочный (уро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есро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лгосрочный (многолет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9A9519-60FD-4118-A6C6-5819152B4AD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900000" y="2394000"/>
            <a:ext cx="82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2205000"/>
          <a:ext cx="8137440" cy="4392720"/>
        </p:xfrm>
        <a:graphic>
          <a:graphicData uri="http://schemas.openxmlformats.org/drawingml/2006/table">
            <a:tbl>
              <a:tblPr/>
              <a:tblGrid>
                <a:gridCol w="3486240"/>
                <a:gridCol w="4651200"/>
              </a:tblGrid>
              <a:tr h="14796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онно-подготовите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ыбор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оставление пл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формирование груп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иск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ис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бобщение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формление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одготовка к защи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резент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279CDF-4F34-4554-B820-D63899AFAAE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начинается с постановки основополагающего вопр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826920" y="2349360"/>
            <a:ext cx="7920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новополагающи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целивают учащихся на более высокий уровень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мулируют воображение учащихся, связывают предмет изучения с собственными идеями и опы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авляют учащихся исследовать множество вариа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899640" y="23623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аздел «Районы России»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здание эмблемы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герба район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837720" y="23623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ить образ территории через создание слайд-проек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бщить и систематизировать знания о район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зать возможность использования компьютера как инструмент практической и учебной 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ствовать развитию творческого потенциала учащихс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вать интерес к познанию, осознанному и самостоятельному получению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вать коммуникативные навыки, умение вести дискуссию, приводить аргументы в пользу различных версий, доказы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меть лаконично и чётко излагать свои мысли, уметь слушать и уважать мнение други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ответствие содержания сформулированной теме, поставленным целям и задач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ладение предметными знаниями, нормативной базой, современными технология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ткость изложения материала, лаконичность, нагляд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игинальность раскрытия тем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чимость материала для друг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191342-E5CE-4827-B141-D6A5E8F500C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проект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роект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–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 – решение конкретной задачи, значимой для обучающихся и оформленной в виде некоего конечного проду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552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13.04.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6C7670-B3B0-4FF7-8ED6-B6E633740C8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755640" y="1989000"/>
            <a:ext cx="83883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исьменн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эссе, реферат, отчёт о проделанном исследовании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художественная творческ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материальный объект, мак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иное конструкторское издел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тчётные материалы по социальному проек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е могут включать как тексты, так и мультимедийные продукты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6DAA5-7C54-459E-9105-9D45483E37D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чеб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539640" y="2362320"/>
            <a:ext cx="842508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спитанников –  это разновидность учебной работы, направленной на удовлетворение познавательной потребности обучающихся, связанная с освоением методов познания и выяснения той или иной закономерности развития научных представлений  об окружающем ми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8A76A8-4928-4131-9D58-E63B39BE2FA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яются как личностными, так и социальными мотивами обучаю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вышение компетентности в предметной области, развитие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циа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оздание продукта, имеющего значимость для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62F0B8-AED7-44DF-939D-9A8FFEAB30C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68436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бщение и сотрудничеств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Учащиеся овладевают норм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заимоотноше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 разными людьми (одноклассники, учителя, родители), умениями переходить от одного вида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 другому приобретают навыки индивидуально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амостоятельной рабо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труднич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C99974-B7D9-4F1D-B17A-4879AD11D3B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очетание различных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идов познаватель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этих видах деятельности могут быть востребованы практически любые способности учащихся, реализованы личные пристрастия к тому или иному виду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ормирование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УД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универсальных учебных действ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73540A-D741-4A42-A976-80D633BE9BC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ие характерис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684360" y="1916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чески значимые цели 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Д и УИД включает общие компоненты: целеполагание, формулировка задач, выбор средств и методов, планирование, проведение исследования, оформление результатов, представлени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етентность в выбранной сфере , творческая активность, собранность, целеустремлённость, высокая мотив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DFF16F-BD0E-4EAF-8795-C8034E49B58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"/>
          <p:cNvSpPr/>
          <p:nvPr/>
        </p:nvSpPr>
        <p:spPr>
          <a:xfrm>
            <a:off x="684360" y="620640"/>
            <a:ext cx="79581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ецифические черты (различия)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ПД                           У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838080" y="2362320"/>
          <a:ext cx="8128080" cy="3751200"/>
        </p:xfrm>
        <a:graphic>
          <a:graphicData uri="http://schemas.openxmlformats.org/drawingml/2006/table">
            <a:tbl>
              <a:tblPr/>
              <a:tblGrid>
                <a:gridCol w="4065840"/>
                <a:gridCol w="4062240"/>
              </a:tblGrid>
              <a:tr h="375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ализацию предваряет представление о будущем проекте, планирование процесса создания продукта. Результат проекта должен быть точно соотнесён со всеми характеристиками, сформулированными в его замысл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гика построения УИД включает формулировку проблемы исследования, выдвижение гипотезы и последующую экспериментальную  или модельную проверку выдвинутых предполож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Мишунина </cp:lastModifiedBy>
  <dcterms:modified xsi:type="dcterms:W3CDTF">2015-10-19T19:08:41Z</dcterms:modified>
  <cp:revision>143</cp:revision>
  <dc:subject/>
  <dc:title>Организация проектной деятельности</dc:title>
</cp:coreProperties>
</file>