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33"/>
          </p:nvPr>
        </p:nvSpPr>
        <p:spPr>
          <a:xfrm>
            <a:off x="40226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34"/>
          </p:nvPr>
        </p:nvSpPr>
        <p:spPr>
          <a:xfrm>
            <a:off x="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5"/>
          </p:nvPr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ADC7A6FF-DCBE-4B37-B3C4-50A8B3973DC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2233E44A-ABA6-4EF4-A648-D6D98046737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703B4BFE-AC4F-4573-8CAC-F74C5E1B522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7BFE4BE8-35FA-4CF1-801F-7824D410707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AA0DFFF0-CE6A-4C70-B4B2-BA898CFDA04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EF5505BA-BE20-4F2F-ACB4-96B217DF6C0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93B28658-9E38-476B-A8AA-F8B67329FDC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4F867136-9031-462E-B31D-A7D16D9CAF3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D85B2B8A-A4C3-4001-8BF6-88CCBFEB3A1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0DD814BC-F33F-44DB-800D-1F404DFD2B2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438A384A-F6EE-4515-BC38-6F6B3CA5005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A8690968-C742-4A6E-86C1-6F17CD641A1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908C2BFA-FE8C-4A2A-983B-1A59D4BC7C0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579D0431-1210-44E9-BD4E-856A60FE147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63180DBE-7649-4E5C-9194-E6AF0609A89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6A7DEAF4-AF33-40C2-9E48-2822CED75F1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2EE5E811-E1DC-455F-A04D-A8C1D354F91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EC90A-8E22-4227-8EE4-B8B61A99D6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E3E13-C32B-47B5-9B20-23ECBA97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FD8A3E-3654-4C3A-A9A3-EC3019C6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0E1805-C353-4EC4-B57C-BAC92954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75A5AC-B36C-4F65-BE35-D99E1C5C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AC3161-8CEB-4D26-850B-9AA77EF3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0269D9-FE7C-420C-B3D4-BA8AD941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9D40CD-5EE9-4B1F-81D2-004B0473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78A0F8-1D62-405D-A88B-6C40F5E4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B6ACAE-AC84-4C2F-9364-379C6D04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87FF44-F4B0-4193-B071-1B7880DC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45E21E-1698-418A-949B-9CEA5E85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90424-2FF8-4B8D-9EBA-D3B74DB2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F07930-5FD8-433B-9C56-53D93B88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671A92-83AA-4B3E-905C-98571E8F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CCC987-079D-4F58-94E0-DD532765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BA47DF-FFBA-4658-A745-38B51A1D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404B47-8823-40B8-B990-B902EAB9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2521A7-6D8F-43A7-ABF3-C11B158C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168657-EFBD-4133-9ADE-DE7D715E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1A07C8-779A-4A07-911D-C8FCC843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C326A9-14AA-47C5-AACF-2DA1684B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BC5A2D-2177-4F26-A61C-DF3E0D4D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F3069-2592-4765-A51D-4C36AE72FC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F2DF12-1A08-40B0-9280-31B6E366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2188AC-617C-4DF6-8932-BAA74A39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098150-8D5E-4A64-9A86-319149ED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2EEBEB-221D-431B-91C2-F4D72F68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39E201-08A1-49A4-AEEB-5A13AEBC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5C9891-6222-417D-A718-E0DF875B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F08B76-6F5D-4839-B3AC-DB52935E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78D350-B71F-49EE-9C27-65236925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332174-F199-4A03-B7E6-660FE0FF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2A36D8-6116-4447-B4D7-81721923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9DFD1-813A-4F47-BBD1-9DDA8CBB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82647E-49D4-4C45-B303-870C9A58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9A359F-8698-48C6-845C-9FBFE022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CC80B4-6A0B-4CBB-84AB-F3959D51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0F986-41C8-42EF-8115-269DDE8A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0ADC5-B9A7-4EF0-81E7-6760E2C7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CD8E7-39BF-46DB-8089-6E24AB15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BE60D-DE61-48FE-B71E-2450A953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E66FC-CBA4-46F4-857A-FDCD7D6D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831C7-8FE3-46C6-8A6E-E04AEDA9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D880-6618-4821-BA19-57E1F327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AC8F5-A47D-4426-9F69-08F6EB03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73244-B1E1-44C5-8690-66C89985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9537E-528A-4278-9B0C-4E13047E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EC9EE-0FFB-4835-92F7-315CF896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B29D9-BEAF-4483-9E2E-B90176E0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E4E7D-18E6-4835-9D2E-F6CBAC0E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214BA-E6CF-4655-ABCA-97C418F1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32DA3-7007-4E5D-BAA4-525F28CA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6A2CA-8605-4DF9-B3F0-BCA5D337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86D50-F45E-4D55-8912-BF917A55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787F6-A18D-485D-AA48-EE7312E3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586B6-5CC3-48E7-B5DE-5E6B85E5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DD37F-A84D-4060-ACC0-12518D30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C9ACC-080F-44CC-A490-5A7AE4EB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9F77E-2534-40A0-9B00-7A759ADA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C1315-230B-4387-9993-BB5E9D6C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B05C3-8229-40D4-B76B-E826134D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ADC3F-FAED-42A1-89CF-5813DE2A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46106E-69AE-442D-B88D-CBCF23B2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BF60F4-728D-483F-A3D1-80092FFB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BF510B-264E-4A9A-84AC-B2299A8D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AD0CD-EBAD-4AB6-B6EF-AAC4F241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DFC091-5EBF-44AA-917D-C94BA69E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5C6DB7-E199-4A81-9C4F-F4E3F939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6BFAAD-B00B-4F18-A1E5-CBA6B6D3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9124A5-EC83-4598-84C6-3E8A320A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DA30F4-115B-4587-AA60-99B0531C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040265-F9E7-4C4B-B1CF-7B0B176B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F5591-6BA1-4F77-9865-E5D0D661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A5775A-FF42-49DD-863F-B52C3675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4673AF-3351-4C79-A733-C8076D6C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56E55E-50CC-404F-A293-09637324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71005-A8A3-4302-A1F0-5462B360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C29AA3-4E6C-46C7-B273-172381CD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8C2C4-89C2-4833-BE63-F6E9DEE3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421307-A5C4-48CA-8EFF-FF76552C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804B2-0BAC-4EA0-977C-6DAADDEC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04300-CB4D-46FE-A8C3-5D89EC5D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A86F7-662B-40D7-88A9-D21456AB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AE868-C386-4542-B34B-2572E086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FB567-632D-4B65-94AA-AD36EC5F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45E1A-ABC5-494A-885F-A50EF827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B0048-4F38-4CEA-B40B-DC451363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DEA6-3FCF-4256-A3E3-C717B31C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B0D5F-0C8C-40D2-9D28-CB17B12E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7BFD9F-F84C-48E9-BE2A-B278125F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B2180-1A0C-4818-8DE4-62CF659B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38BC1A-915E-4699-8D42-943B276E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E3C55-50F2-447D-ACCD-80BFFD14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D12A4-4F47-44F6-B0DF-4C536502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9CC72-1904-40C6-A3CE-1C54B095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084AE9-DC9F-4273-8A63-FEFADC0F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7C4084-104B-48E7-A8E8-3D4D33A5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BD7120-B957-4BAA-9676-181D41F9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09E99-B93F-44CE-953C-AE797FC6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823C9-C1ED-4DA7-88C7-90BBA1EB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039F7-51BE-4886-B6A2-0BBF49BA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154073-C580-4EEA-AAE8-0D06F057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657C66-8A89-4597-80B5-C61F7F2F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CB0F6E-673D-4E8F-A888-98148566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800999-C024-479E-9735-EA9F65EF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67292-363C-483A-BCDB-86CD9D71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49A1C8-AAD0-4B9C-8333-9C0B5DD3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71A477-7A43-4349-979E-9B26DCA2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EE2407-EC43-47D9-B061-62DB61AA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06712-C6AD-4DDA-ADFC-C38D0220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C9202-AD75-4A50-B85D-7C9B677D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D87EE-DFDA-47AA-8B10-B276B190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1D0B24-A4CC-46B7-8C78-80AC850D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9D5FA8-723E-4352-BF90-BACD3033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0D7FF1-C799-4FF7-A7CC-D9F74924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092E02-0015-4263-B32D-6E2A6449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5CABC1-193C-4901-AE39-BEE0B3C5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012D80-4C12-4496-A1B9-9B9C0EE2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EB6F24-ADEC-46EB-9C2F-FEF8CD8B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ECBEA6-0E6C-421A-AEC5-A33F9C42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B5690-43C9-4574-BCDC-A393E7A8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1534F3-25A2-4B89-9B94-9708607E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F170F0-6CD6-4E18-9247-93A34817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9C9167-A274-43CF-808D-B93A1EA2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2777E3-330B-4E93-AA18-D30ED0F0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218F77-C2A9-4E60-A527-159CF993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F8255E-17C4-4A71-8E09-5FF357BF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E82FEF-78B6-4C40-ADC4-C94AEAB7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7D9918-1588-457E-AEBD-62E3DC24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22D70D-C2E8-4DBE-95F6-BF10DE30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696B31-D541-4230-9CA6-80612117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1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rPr>
              <a:t>13.4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C137B8-80CF-4E06-85D9-D90B718054BA}" type="slidenum">
              <a: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D5EDAF-69BB-4EA1-8181-1FD2ECCBA874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4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0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1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2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417CC6-6070-49D2-9F08-BCA59101012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5F04A0-6117-46CF-9F33-ECB4C1257A9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0B5D1F-FD75-4AB5-8CFB-E4ADE3D40C8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132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1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085FE1-73A9-46AB-9F68-0D365DD0814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C14959-17F6-4DF0-A20E-64332D8A48E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5BBA43-97ED-4A45-8F63-ADA7CFB93107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8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9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0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8FAB7B-1FEF-4D6E-B380-BB277547034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30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1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2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3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D37C8A-F0DC-4054-A2F0-5709BD47E50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5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4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5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6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FF6F10-2388-4DA7-8C93-DDE0FAEA16A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EB813F-610B-443E-AE7F-4E311F492CA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"/>
          <p:cNvSpPr/>
          <p:nvPr/>
        </p:nvSpPr>
        <p:spPr>
          <a:xfrm>
            <a:off x="907920" y="1122480"/>
            <a:ext cx="755820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роектная и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учебно-исследовательская деятельность учащих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684360" y="4076640"/>
            <a:ext cx="78595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5295960" y="3213000"/>
            <a:ext cx="22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ПД и УИД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64B50A-43EC-45DB-9215-829D9D938E7F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ажн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"/>
          <p:cNvSpPr/>
          <p:nvPr/>
        </p:nvSpPr>
        <p:spPr>
          <a:xfrm>
            <a:off x="539640" y="2349360"/>
            <a:ext cx="828036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вместное планирование деятельности учителем и обучающими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меняется роль учителя – из простого транслятора знаний он становится действительным организатором совместной работы с обучающимися, способствуя переходу к реальному сотрудничеству в ходе овладения знан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9376CD-86E0-4950-8AE7-F0A60402093E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2"/>
          <p:cNvSpPr/>
          <p:nvPr/>
        </p:nvSpPr>
        <p:spPr>
          <a:xfrm>
            <a:off x="914400" y="2465280"/>
            <a:ext cx="805032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видам деятель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ационный (поисковы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следовательск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ворческ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циальны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кладной (практико-ориентированны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гровой (ролевой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21F954-E996-467F-BA90-DC34B179229F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"/>
          <p:cNvSpPr/>
          <p:nvPr/>
        </p:nvSpPr>
        <p:spPr>
          <a:xfrm>
            <a:off x="914400" y="2465280"/>
            <a:ext cx="805032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содержанию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нопредметны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жпредметный, относящийся к области знаний (нескольким областям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апредметный, относящийся к области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31F04F-55A6-426F-8CA1-AD6B6B136D15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2"/>
          <p:cNvSpPr/>
          <p:nvPr/>
        </p:nvSpPr>
        <p:spPr>
          <a:xfrm>
            <a:off x="900000" y="2205000"/>
            <a:ext cx="8050320" cy="49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По количеству участников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ндивидуаль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р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упповой ( до 15 человек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ллективный (класс, школ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униципаль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сероссийск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ждународны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тев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BFFED3-5ADB-41A7-A4E7-CDEED5DBC13D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2"/>
          <p:cNvSpPr/>
          <p:nvPr/>
        </p:nvSpPr>
        <p:spPr>
          <a:xfrm>
            <a:off x="900000" y="2637000"/>
            <a:ext cx="7559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длитель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ткосрочный (урок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несрочны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лгосрочный (многолетни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ECA2FB-73E7-4075-9FA1-A85F82D7AE51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ы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900000" y="2394000"/>
            <a:ext cx="8244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755640" y="2205000"/>
          <a:ext cx="8137440" cy="4392720"/>
        </p:xfrm>
        <a:graphic>
          <a:graphicData uri="http://schemas.openxmlformats.org/drawingml/2006/table">
            <a:tbl>
              <a:tblPr/>
              <a:tblGrid>
                <a:gridCol w="3486240"/>
                <a:gridCol w="4651200"/>
              </a:tblGrid>
              <a:tr h="147960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рганизационно-подготовите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457200" indent="-455760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выбор темы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5760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составление план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5760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формирование групп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исков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исследо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обобщение результа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оформление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584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тогов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подготовка к защи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презентация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рефлек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26D78D-5748-4709-B1F1-25462D4FCEF2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ект начинается с постановки основополагающего вопро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"/>
          <p:cNvSpPr/>
          <p:nvPr/>
        </p:nvSpPr>
        <p:spPr>
          <a:xfrm>
            <a:off x="826920" y="2349360"/>
            <a:ext cx="7920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Основополагающие вопро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целивают учащихся на более высокий уровень мыш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имулируют воображение учащихся, связывают предмет изучения с собственными идеями и опы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ставляют учащихся исследовать множество вариан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899640" y="2362320"/>
            <a:ext cx="7691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Раздел «Районы России»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оздание эмблемы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герба район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Дата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13.04.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 txBox="1"/>
          <p:nvPr/>
        </p:nvSpPr>
        <p:spPr>
          <a:xfrm>
            <a:off x="837720" y="2362320"/>
            <a:ext cx="7691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дставить образ территории через создание слайд-проект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общить и систематизировать знания о район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азать возможность использования компьютера как инструмент практической и учебной деятельности челове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пособствовать развитию творческого потенциала учащихс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звивать интерес к познанию, осознанному и самостоятельному получению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звивать коммуникативные навыки, умение вести дискуссию, приводить аргументы в пользу различных версий, доказывать свою точку зре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меть лаконично и чётко излагать свои мысли, уметь слушать и уважать мнение других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Дата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13.04.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ответствие содержания сформулированной теме, поставленным целям и задача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ладение предметными знаниями, нормативной базой, современными технология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еткость изложения материала, лаконичность, нагляд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ригинальность раскрытия тем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начимость материала для други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Дата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13.04.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79A9C6-D13F-4B4E-B481-52A1EE19D300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то такое «проект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Проект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– это форма организации совместной деятельности учителя и обучающихся, совокупность приёмов и действий в их определённой последовательности, направленной на достижение поставленной цели – решение конкретной задачи, значимой для обучающихся и оформленной в виде некоего конечного продук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sp>
        <p:nvSpPr>
          <p:cNvPr id="552" name="Дата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13.04.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344B1C-3888-4058-8FED-4A1C23CBDDF8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зультат (продукт)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2"/>
          <p:cNvSpPr/>
          <p:nvPr/>
        </p:nvSpPr>
        <p:spPr>
          <a:xfrm>
            <a:off x="755640" y="1989000"/>
            <a:ext cx="8388360" cy="48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письменная работ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(эссе, реферат, отчёт о проделанном исследовании и д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художественная творческая работ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представленная в виде прозаического или стихотворного произведения, инсценировки, художественной декламации, исполнения музыкального произведения, компьютерной анимации и др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материальный объект, макет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иное конструкторское издел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отчётные материалы по социальному проект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оторые могут включать как тексты, так и мультимедийные продукты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AA2E96-08A7-4A48-B716-ABD670C2DF8F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чебно-исследовательская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539640" y="2362320"/>
            <a:ext cx="842508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чебно-исследовательская деятельно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оспитанников –  это разновидность учебной работы, направленной на удовлетворение познавательной потребности обучающихся, связанная с освоением методов познания и выяснения той или иной закономерности развития научных представлений  об окружающем ми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B87E51-D36E-45BB-A870-CECD8F96816A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исследовательской и проект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684360" y="1916280"/>
            <a:ext cx="8459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Цели и задач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определяются как личностными, так и социальными мотивами обучающих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ичностны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повышение компетентности в предметной области, развитие способ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циальны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создание продукта, имеющего значимость для друг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4C8039-430E-419D-9F46-DDDEFF60E38E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исследовательской и проект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2"/>
          <p:cNvSpPr/>
          <p:nvPr/>
        </p:nvSpPr>
        <p:spPr>
          <a:xfrm>
            <a:off x="684360" y="1916280"/>
            <a:ext cx="84596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Общение и сотрудничеств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Учащиеся овладевают нормами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заимоотношен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 разными людьми (одноклассники, учителя, родители), умениями переходить от одного вида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 другому приобретают навыки индивидуальной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амостоятельной работ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трудничеств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 коллекти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4AB9A1-AF02-484B-8478-35965ECD17C7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исследовательской и проект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2"/>
          <p:cNvSpPr/>
          <p:nvPr/>
        </p:nvSpPr>
        <p:spPr>
          <a:xfrm>
            <a:off x="684360" y="1916280"/>
            <a:ext cx="8459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Сочетание различных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видов познавательно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деятель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В этих видах деятельности могут быть востребованы практически любые способности учащихся, реализованы личные пристрастия к тому или иному виду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Формирование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УД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универсальных учебных действи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EDB6F8-F3A1-49EA-AE65-6B66C19F5A58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щие характерис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2"/>
          <p:cNvSpPr/>
          <p:nvPr/>
        </p:nvSpPr>
        <p:spPr>
          <a:xfrm>
            <a:off x="684360" y="1916280"/>
            <a:ext cx="845964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2080">
              <a:spcBef>
                <a:spcPts val="60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актически значимые цели и зада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руктура ПД и УИД включает общие компоненты: целеполагание, формулировка задач, выбор средств и методов, планирование, проведение исследования, оформление результатов, представление результа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мпетентность в выбранной сфере , творческая активность, собранность, целеустремлённость, высокая мотив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5A3FB7-6970-4680-AB0D-D6E2F42203D3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"/>
          <p:cNvSpPr/>
          <p:nvPr/>
        </p:nvSpPr>
        <p:spPr>
          <a:xfrm>
            <a:off x="684360" y="620640"/>
            <a:ext cx="79581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ецифические черты (различия)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ПД                           УИ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838080" y="2362320"/>
          <a:ext cx="8128080" cy="3751200"/>
        </p:xfrm>
        <a:graphic>
          <a:graphicData uri="http://schemas.openxmlformats.org/drawingml/2006/table">
            <a:tbl>
              <a:tblPr/>
              <a:tblGrid>
                <a:gridCol w="4065840"/>
                <a:gridCol w="4062240"/>
              </a:tblGrid>
              <a:tr h="375120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ализацию предваряет представление о будущем проекте, планирование процесса создания продукта. Результат проекта должен быть точно соотнесён со всеми характеристиками, сформулированными в его замысл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огика построения УИД включает формулировку проблемы исследования, выдвижение гипотезы и последующую экспериментальную  или модельную проверку выдвинутых предположени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14:32:14Z</dcterms:created>
  <dc:creator>Александр</dc:creator>
  <dc:description/>
  <dc:language>en-US</dc:language>
  <cp:lastModifiedBy>Мишунина </cp:lastModifiedBy>
  <dcterms:modified xsi:type="dcterms:W3CDTF">2015-10-19T19:08:41Z</dcterms:modified>
  <cp:revision>143</cp:revision>
  <dc:subject/>
  <dc:title>Организация проектной деятельности</dc:title>
</cp:coreProperties>
</file>