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DC0-031A-460D-ADEB-A9B7426CE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2CC-9CA4-4A7A-831E-D31EA3052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8CC-2D5D-4A08-B147-85A29A43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537-1C5A-4F3A-B7D9-580C0252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D18-A9ED-46DE-96EE-F95C0271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AAD-D5F3-42A0-8521-C845F0CB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BA8-9910-4F04-8DE5-CA0452B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0AD-AEF3-4762-98D8-FC861B8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110-2096-4E1C-BCE9-EB6E49C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A88-854F-46CA-BC62-950337B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B55-4816-43DF-8ABB-9CA28778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992-477A-4E85-94DB-52F36BF0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6DD-D743-4912-B939-7B81792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6CA-DAD2-4079-A50A-49D2CB9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F0A-12B8-49CF-96F4-0E70EB11C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е технологии как инструмент обеспечения нового качества образ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640" y="5373720"/>
            <a:ext cx="3060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19. 12. 201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МБОУ «СОШ № 4»</a:t>
            </a: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Г. Ангарс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894680" y="0"/>
            <a:ext cx="71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Нельзя чему-то научить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можно только помочь ему сдел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                            </a:t>
            </a: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для себя новое открытие.      </a:t>
            </a:r>
            <a:br>
              <a:rPr sz="2800"/>
            </a:br>
            <a:r>
              <a:rPr b="0" i="1" lang="ru-RU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                                  Г.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encrypted-tbn2.gstatic.com/images?q=tbn:ANd9GcShzS9K4RfVoa58fNyhgFrZwwVFH3eBqSiLa26-8b1upCJ_a0B8Pw"/>
          <p:cNvPicPr/>
          <p:nvPr/>
        </p:nvPicPr>
        <p:blipFill>
          <a:blip r:embed="rId1"/>
          <a:stretch/>
        </p:blipFill>
        <p:spPr>
          <a:xfrm>
            <a:off x="1116000" y="4076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ехнология критического мыш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г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ышления – это не критика,  не негативность суждений, а разумное рассмотрение разнообразия подходов, способность ставить новые вопрос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ть информацию. Применение полученных результатов к стандартным и не стандартным ситуац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ить развитие критического мышления посредством включения учащихся в образовательный проце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зовая модель техноло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Прямоугольник 2"/>
          <p:cNvGrpSpPr/>
          <p:nvPr/>
        </p:nvGrpSpPr>
        <p:grpSpPr>
          <a:xfrm>
            <a:off x="255600" y="1096920"/>
            <a:ext cx="4017960" cy="1049400"/>
            <a:chOff x="255600" y="1096920"/>
            <a:chExt cx="4017960" cy="1049400"/>
          </a:xfrm>
        </p:grpSpPr>
        <p:pic>
          <p:nvPicPr>
            <p:cNvPr id="1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55600" y="1096920"/>
              <a:ext cx="4017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24000" y="1125360"/>
              <a:ext cx="3887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вызо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рямоугольник 3"/>
          <p:cNvGrpSpPr/>
          <p:nvPr/>
        </p:nvGrpSpPr>
        <p:grpSpPr>
          <a:xfrm>
            <a:off x="1682640" y="3108240"/>
            <a:ext cx="4546800" cy="1049400"/>
            <a:chOff x="1682640" y="3108240"/>
            <a:chExt cx="4546800" cy="1049400"/>
          </a:xfrm>
        </p:grpSpPr>
        <p:pic>
          <p:nvPicPr>
            <p:cNvPr id="13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82640" y="3108240"/>
              <a:ext cx="45468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35280" y="3141720"/>
              <a:ext cx="4249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осмысл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Прямоугольник 4"/>
          <p:cNvGrpSpPr/>
          <p:nvPr/>
        </p:nvGrpSpPr>
        <p:grpSpPr>
          <a:xfrm>
            <a:off x="4218120" y="5126040"/>
            <a:ext cx="4376520" cy="1049400"/>
            <a:chOff x="4218120" y="5126040"/>
            <a:chExt cx="4376520" cy="104940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218120" y="5126040"/>
              <a:ext cx="43765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84720" y="5157720"/>
              <a:ext cx="4248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дия рефлекс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кругленный прямоугольник 5"/>
          <p:cNvSpPr/>
          <p:nvPr/>
        </p:nvSpPr>
        <p:spPr>
          <a:xfrm>
            <a:off x="0" y="0"/>
            <a:ext cx="9144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ть имеющиеся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познавательный инте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самостоятельно определить направление в изучении 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7"/>
          <p:cNvSpPr/>
          <p:nvPr/>
        </p:nvSpPr>
        <p:spPr>
          <a:xfrm>
            <a:off x="0" y="2349360"/>
            <a:ext cx="9144000" cy="215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олучение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нов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новой информации с собственными зн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8"/>
          <p:cNvSpPr/>
          <p:nvPr/>
        </p:nvSpPr>
        <p:spPr>
          <a:xfrm>
            <a:off x="0" y="4554360"/>
            <a:ext cx="9144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знания на уровень понимания и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е, рождение нового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еником новых целей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урока – мостик к следующему у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меры приём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787920" y="112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600" y="1916280"/>
            <a:ext cx="923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брать у учеников все идеи или а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е с каким-либо пон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с темой уро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5"/>
          <p:cNvSpPr/>
          <p:nvPr/>
        </p:nvSpPr>
        <p:spPr>
          <a:xfrm>
            <a:off x="3564000" y="4724280"/>
            <a:ext cx="194472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1476360" y="3860640"/>
            <a:ext cx="158292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8"/>
          <p:cNvSpPr/>
          <p:nvPr/>
        </p:nvSpPr>
        <p:spPr>
          <a:xfrm>
            <a:off x="5796000" y="3860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9"/>
          <p:cNvSpPr/>
          <p:nvPr/>
        </p:nvSpPr>
        <p:spPr>
          <a:xfrm>
            <a:off x="1619280" y="558972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5940360" y="558972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 flipH="1" flipV="1">
            <a:off x="2268360" y="4437000"/>
            <a:ext cx="1579680" cy="393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 flipH="1">
            <a:off x="2410920" y="5340240"/>
            <a:ext cx="1436760" cy="249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 flipH="1" flipV="1">
            <a:off x="5222880" y="5339880"/>
            <a:ext cx="1509840" cy="249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 flipH="1">
            <a:off x="5222880" y="4437000"/>
            <a:ext cx="1365120" cy="393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Овал 3"/>
          <p:cNvSpPr/>
          <p:nvPr/>
        </p:nvSpPr>
        <p:spPr>
          <a:xfrm>
            <a:off x="3203640" y="692280"/>
            <a:ext cx="273672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5"/>
          <p:cNvSpPr/>
          <p:nvPr/>
        </p:nvSpPr>
        <p:spPr>
          <a:xfrm flipH="1">
            <a:off x="2195280" y="1860480"/>
            <a:ext cx="1409400" cy="776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7"/>
          <p:cNvSpPr/>
          <p:nvPr/>
        </p:nvSpPr>
        <p:spPr>
          <a:xfrm>
            <a:off x="5538960" y="1860480"/>
            <a:ext cx="1265040" cy="704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8"/>
          <p:cNvSpPr/>
          <p:nvPr/>
        </p:nvSpPr>
        <p:spPr>
          <a:xfrm>
            <a:off x="1116000" y="2637000"/>
            <a:ext cx="2160720" cy="1079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9"/>
          <p:cNvSpPr/>
          <p:nvPr/>
        </p:nvSpPr>
        <p:spPr>
          <a:xfrm>
            <a:off x="5724360" y="2565360"/>
            <a:ext cx="2160720" cy="1079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3"/>
          <p:cNvSpPr/>
          <p:nvPr/>
        </p:nvSpPr>
        <p:spPr>
          <a:xfrm flipH="1">
            <a:off x="1061640" y="3716280"/>
            <a:ext cx="1133640" cy="86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2197080" y="3716280"/>
            <a:ext cx="1222560" cy="9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7"/>
          <p:cNvSpPr/>
          <p:nvPr/>
        </p:nvSpPr>
        <p:spPr>
          <a:xfrm flipH="1">
            <a:off x="5688000" y="3645000"/>
            <a:ext cx="111600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9"/>
          <p:cNvSpPr/>
          <p:nvPr/>
        </p:nvSpPr>
        <p:spPr>
          <a:xfrm>
            <a:off x="6804000" y="3645000"/>
            <a:ext cx="136836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0" y="4581360"/>
            <a:ext cx="2124000" cy="9352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2124000" y="4653000"/>
            <a:ext cx="2592360" cy="14400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33"/>
          <p:cNvSpPr/>
          <p:nvPr/>
        </p:nvSpPr>
        <p:spPr>
          <a:xfrm>
            <a:off x="4716360" y="4653000"/>
            <a:ext cx="1943280" cy="93672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5"/>
          <p:cNvSpPr/>
          <p:nvPr/>
        </p:nvSpPr>
        <p:spPr>
          <a:xfrm>
            <a:off x="7199280" y="4653000"/>
            <a:ext cx="1944720" cy="93672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9"/>
          <p:cNvSpPr/>
          <p:nvPr/>
        </p:nvSpPr>
        <p:spPr>
          <a:xfrm>
            <a:off x="7236000" y="76500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3710880" y="692280"/>
            <a:ext cx="18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м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ко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1"/>
          <p:cNvSpPr/>
          <p:nvPr/>
        </p:nvSpPr>
        <p:spPr>
          <a:xfrm>
            <a:off x="1412280" y="2637000"/>
            <a:ext cx="164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6"/>
          <p:cNvSpPr/>
          <p:nvPr/>
        </p:nvSpPr>
        <p:spPr>
          <a:xfrm>
            <a:off x="6235200" y="2637000"/>
            <a:ext cx="114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7"/>
          <p:cNvSpPr/>
          <p:nvPr/>
        </p:nvSpPr>
        <p:spPr>
          <a:xfrm>
            <a:off x="7560" y="479736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9"/>
          <p:cNvSpPr/>
          <p:nvPr/>
        </p:nvSpPr>
        <p:spPr>
          <a:xfrm>
            <a:off x="2700360" y="4797360"/>
            <a:ext cx="17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еж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рось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4728600" y="479736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7648560" y="47862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4" descr="http://images.zaazu.com/img/Graduate-graduate-graduation-elementary-smiley-emoticon-000186-facebook.gif"/>
          <p:cNvPicPr/>
          <p:nvPr/>
        </p:nvPicPr>
        <p:blipFill>
          <a:blip r:embed="rId1"/>
          <a:stretch/>
        </p:blipFill>
        <p:spPr>
          <a:xfrm>
            <a:off x="3564000" y="2565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2376720" cy="9349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мн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Прямая со стрелкой 5"/>
          <p:cNvCxnSpPr>
            <a:stCxn id="175" idx="3"/>
            <a:endCxn id="177" idx="1"/>
          </p:cNvCxnSpPr>
          <p:nvPr/>
        </p:nvCxnSpPr>
        <p:spPr>
          <a:xfrm flipV="1">
            <a:off x="2556000" y="1088640"/>
            <a:ext cx="1080000" cy="1945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8" name="Прямая со стрелкой 6"/>
          <p:cNvCxnSpPr>
            <a:stCxn id="175" idx="3"/>
            <a:endCxn id="179" idx="1"/>
          </p:cNvCxnSpPr>
          <p:nvPr/>
        </p:nvCxnSpPr>
        <p:spPr>
          <a:xfrm>
            <a:off x="2556000" y="3033360"/>
            <a:ext cx="10800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80" name="Прямая со стрелкой 7"/>
          <p:cNvCxnSpPr>
            <a:stCxn id="175" idx="3"/>
            <a:endCxn id="181" idx="1"/>
          </p:cNvCxnSpPr>
          <p:nvPr/>
        </p:nvCxnSpPr>
        <p:spPr>
          <a:xfrm>
            <a:off x="2556000" y="3033360"/>
            <a:ext cx="1080000" cy="2159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77" name="Заголовок 1"/>
          <p:cNvSpPr/>
          <p:nvPr/>
        </p:nvSpPr>
        <p:spPr>
          <a:xfrm>
            <a:off x="3635280" y="620640"/>
            <a:ext cx="2376720" cy="936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a lo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3635280" y="2565360"/>
            <a:ext cx="2376720" cy="9349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3635280" y="4724280"/>
            <a:ext cx="2376720" cy="936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omic Sans MS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25"/>
          <p:cNvCxnSpPr>
            <a:stCxn id="177" idx="3"/>
            <a:endCxn id="183" idx="1"/>
          </p:cNvCxnSpPr>
          <p:nvPr/>
        </p:nvCxnSpPr>
        <p:spPr>
          <a:xfrm flipV="1">
            <a:off x="6012000" y="475920"/>
            <a:ext cx="721440" cy="613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4" name="Прямая со стрелкой 26"/>
          <p:cNvCxnSpPr>
            <a:stCxn id="177" idx="3"/>
            <a:endCxn id="185" idx="1"/>
          </p:cNvCxnSpPr>
          <p:nvPr/>
        </p:nvCxnSpPr>
        <p:spPr>
          <a:xfrm>
            <a:off x="6012000" y="1088640"/>
            <a:ext cx="721440" cy="3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6" name="Прямая со стрелкой 27"/>
          <p:cNvCxnSpPr>
            <a:stCxn id="179" idx="3"/>
            <a:endCxn id="187" idx="1"/>
          </p:cNvCxnSpPr>
          <p:nvPr/>
        </p:nvCxnSpPr>
        <p:spPr>
          <a:xfrm>
            <a:off x="6012000" y="3033720"/>
            <a:ext cx="721440" cy="467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8" name="Прямая со стрелкой 28"/>
          <p:cNvCxnSpPr>
            <a:stCxn id="181" idx="3"/>
            <a:endCxn id="189" idx="1"/>
          </p:cNvCxnSpPr>
          <p:nvPr/>
        </p:nvCxnSpPr>
        <p:spPr>
          <a:xfrm>
            <a:off x="6012000" y="5192280"/>
            <a:ext cx="721440" cy="469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0" name="Прямая со стрелкой 29"/>
          <p:cNvCxnSpPr>
            <a:stCxn id="179" idx="3"/>
            <a:endCxn id="191" idx="1"/>
          </p:cNvCxnSpPr>
          <p:nvPr/>
        </p:nvCxnSpPr>
        <p:spPr>
          <a:xfrm flipV="1">
            <a:off x="6012000" y="2586960"/>
            <a:ext cx="721440" cy="446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2" name="Прямая со стрелкой 30"/>
          <p:cNvCxnSpPr>
            <a:stCxn id="181" idx="3"/>
            <a:endCxn id="193" idx="1"/>
          </p:cNvCxnSpPr>
          <p:nvPr/>
        </p:nvCxnSpPr>
        <p:spPr>
          <a:xfrm flipV="1">
            <a:off x="6012000" y="4782600"/>
            <a:ext cx="721440" cy="41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3" name="Прямоугольник 42"/>
          <p:cNvSpPr/>
          <p:nvPr/>
        </p:nvSpPr>
        <p:spPr>
          <a:xfrm>
            <a:off x="6732720" y="0"/>
            <a:ext cx="2411280" cy="95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3"/>
          <p:cNvSpPr/>
          <p:nvPr/>
        </p:nvSpPr>
        <p:spPr>
          <a:xfrm>
            <a:off x="6732720" y="981000"/>
            <a:ext cx="241128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не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6732720" y="2133720"/>
            <a:ext cx="2411280" cy="90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5"/>
          <p:cNvSpPr/>
          <p:nvPr/>
        </p:nvSpPr>
        <p:spPr>
          <a:xfrm>
            <a:off x="6732720" y="3068640"/>
            <a:ext cx="24112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исчисля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6"/>
          <p:cNvSpPr/>
          <p:nvPr/>
        </p:nvSpPr>
        <p:spPr>
          <a:xfrm>
            <a:off x="6732720" y="4365720"/>
            <a:ext cx="241128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7"/>
          <p:cNvSpPr/>
          <p:nvPr/>
        </p:nvSpPr>
        <p:spPr>
          <a:xfrm>
            <a:off x="6732720" y="5229360"/>
            <a:ext cx="24112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неисчисля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5"/>
          <p:cNvSpPr/>
          <p:nvPr/>
        </p:nvSpPr>
        <p:spPr>
          <a:xfrm>
            <a:off x="6732720" y="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7"/>
          <p:cNvSpPr/>
          <p:nvPr/>
        </p:nvSpPr>
        <p:spPr>
          <a:xfrm>
            <a:off x="6732720" y="907920"/>
            <a:ext cx="2411280" cy="100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8"/>
          <p:cNvSpPr/>
          <p:nvPr/>
        </p:nvSpPr>
        <p:spPr>
          <a:xfrm>
            <a:off x="6732720" y="213372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9"/>
          <p:cNvSpPr/>
          <p:nvPr/>
        </p:nvSpPr>
        <p:spPr>
          <a:xfrm>
            <a:off x="6732720" y="2997360"/>
            <a:ext cx="2411280" cy="907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0"/>
          <p:cNvSpPr/>
          <p:nvPr/>
        </p:nvSpPr>
        <p:spPr>
          <a:xfrm>
            <a:off x="6732720" y="4292640"/>
            <a:ext cx="2411280" cy="90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1"/>
          <p:cNvSpPr/>
          <p:nvPr/>
        </p:nvSpPr>
        <p:spPr>
          <a:xfrm>
            <a:off x="6732720" y="5157720"/>
            <a:ext cx="241128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Нарисованные овощи. Автор иллюстрации – художник Наталья Логванова.&#10;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6480" y="-6480"/>
            <a:ext cx="1981440" cy="150048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меры приём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502080" y="112536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.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0" y="1916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352680" y="37162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.Корзина и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0" y="4149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индивидуальных имеющихся представлений по изученн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 включения каждого школьника в учеб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 flipH="1">
            <a:off x="2268360" y="1700280"/>
            <a:ext cx="2376720" cy="433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9"/>
          <p:cNvSpPr/>
          <p:nvPr/>
        </p:nvSpPr>
        <p:spPr>
          <a:xfrm flipH="1" flipV="1">
            <a:off x="4643280" y="1701720"/>
            <a:ext cx="2376720" cy="5032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1"/>
          <p:cNvSpPr/>
          <p:nvPr/>
        </p:nvSpPr>
        <p:spPr>
          <a:xfrm flipH="1">
            <a:off x="4642920" y="1700280"/>
            <a:ext cx="1800" cy="1225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324000" y="2133720"/>
            <a:ext cx="3024000" cy="5745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6"/>
          <p:cNvSpPr/>
          <p:nvPr/>
        </p:nvSpPr>
        <p:spPr>
          <a:xfrm>
            <a:off x="2484360" y="2924280"/>
            <a:ext cx="4319640" cy="5760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5435640" y="2205000"/>
            <a:ext cx="3457440" cy="5763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.Корзина ид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infoiza.com.ua/images/lofthumbs/925x360/images/product/4444452.png"/>
          <p:cNvPicPr/>
          <p:nvPr/>
        </p:nvPicPr>
        <p:blipFill>
          <a:blip r:embed="rId1"/>
          <a:stretch/>
        </p:blipFill>
        <p:spPr>
          <a:xfrm>
            <a:off x="5796000" y="1773360"/>
            <a:ext cx="2476440" cy="247644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3"/>
          <p:cNvGrpSpPr/>
          <p:nvPr/>
        </p:nvGrpSpPr>
        <p:grpSpPr>
          <a:xfrm>
            <a:off x="5003280" y="764640"/>
            <a:ext cx="3816360" cy="1224720"/>
            <a:chOff x="5003280" y="764640"/>
            <a:chExt cx="3816360" cy="1224720"/>
          </a:xfrm>
        </p:grpSpPr>
        <p:cxnSp>
          <p:nvCxnSpPr>
            <p:cNvPr id="217" name="Прямая со стрелкой 4"/>
            <p:cNvCxnSpPr/>
            <p:nvPr/>
          </p:nvCxnSpPr>
          <p:spPr>
            <a:xfrm>
              <a:off x="5003280" y="1412280"/>
              <a:ext cx="1369080" cy="5770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18" name="Прямая со стрелкой 5"/>
            <p:cNvCxnSpPr/>
            <p:nvPr/>
          </p:nvCxnSpPr>
          <p:spPr>
            <a:xfrm>
              <a:off x="5579640" y="909360"/>
              <a:ext cx="1080000" cy="72000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19" name="Прямая со стрелкой 6"/>
            <p:cNvCxnSpPr/>
            <p:nvPr/>
          </p:nvCxnSpPr>
          <p:spPr>
            <a:xfrm>
              <a:off x="7019280" y="764640"/>
              <a:ext cx="1080" cy="8643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20" name="Прямая со стрелкой 7"/>
            <p:cNvCxnSpPr/>
            <p:nvPr/>
          </p:nvCxnSpPr>
          <p:spPr>
            <a:xfrm flipH="1">
              <a:off x="7450920" y="980280"/>
              <a:ext cx="937080" cy="6483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221" name="Прямая со стрелкой 8"/>
            <p:cNvCxnSpPr/>
            <p:nvPr/>
          </p:nvCxnSpPr>
          <p:spPr>
            <a:xfrm flipH="1">
              <a:off x="7667280" y="1485720"/>
              <a:ext cx="1152720" cy="50400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</p:grpSp>
      <p:pic>
        <p:nvPicPr>
          <p:cNvPr id="222" name="Рисунок 24" descr="C:\Users\ЛЕНА\Desktop\korzina.gif"/>
          <p:cNvPicPr/>
          <p:nvPr/>
        </p:nvPicPr>
        <p:blipFill>
          <a:blip r:embed="rId2"/>
          <a:stretch/>
        </p:blipFill>
        <p:spPr>
          <a:xfrm>
            <a:off x="179280" y="1413000"/>
            <a:ext cx="7777440" cy="4895640"/>
          </a:xfrm>
          <a:prstGeom prst="rect">
            <a:avLst/>
          </a:prstGeom>
          <a:ln w="0">
            <a:noFill/>
          </a:ln>
        </p:spPr>
      </p:pic>
      <p:sp>
        <p:nvSpPr>
          <p:cNvPr id="2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3.Верные и неверные утверж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6360" y="1341360"/>
            <a:ext cx="914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е планирование учащим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й поисков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576520" y="28526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ите ли Вы, ч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3860640"/>
          <a:ext cx="8064360" cy="1262160"/>
        </p:xfrm>
        <a:graphic>
          <a:graphicData uri="http://schemas.openxmlformats.org/drawingml/2006/table">
            <a:tbl>
              <a:tblPr/>
              <a:tblGrid>
                <a:gridCol w="687240"/>
                <a:gridCol w="806400"/>
                <a:gridCol w="804960"/>
                <a:gridCol w="806400"/>
                <a:gridCol w="804960"/>
                <a:gridCol w="806400"/>
                <a:gridCol w="936720"/>
                <a:gridCol w="806400"/>
                <a:gridCol w="806400"/>
                <a:gridCol w="79848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40" descr="C:\Users\ЛЕНА\Desktop\vn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.Таблица - ЗХ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9720" y="836640"/>
            <a:ext cx="373176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1131840" y="1628640"/>
            <a:ext cx="55483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хотим у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2360160" y="2421000"/>
            <a:ext cx="606960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узнали, что н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у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0" y="3284640"/>
            <a:ext cx="914400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мению определять уровень собственных зна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ждение интереса к получению новой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мению соотносить новую информацию со своими установившимися представлени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ектирование учебного процесса, основанное на использовании совокупности методов, приёмов и форм организации обучения и учебной деятельности, повышающих эффективность обучения, применение которых имеет чётко заданный результат.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1415353839-1198314392"/>
          <p:cNvPicPr/>
          <p:nvPr/>
        </p:nvPicPr>
        <p:blipFill>
          <a:blip r:embed="rId1"/>
          <a:stretch/>
        </p:blipFill>
        <p:spPr>
          <a:xfrm>
            <a:off x="2124000" y="3573360"/>
            <a:ext cx="5162760" cy="256392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.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нквей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зных стадиях уро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вызо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жатое обобщение актуальных зад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осмы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думчивая работа над новыми понят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тадии рефлекс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нтеграция новых и предыдущих зн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.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стихотворение из пяти строк, которое строится по правил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ервой строчке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зывается одним словом (обычн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м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строч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писание темы в двух словах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мя прилагательным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строч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писани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этой темы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я словам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вертая стро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за из четырех слов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азывающая отношение к теме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дняя стро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слова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вторяе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темы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Try to gues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sty   Favou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unch Crunch Dr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always eat 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4074480" y="1484280"/>
            <a:ext cx="12808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s://encrypted-tbn2.gstatic.com/images?q=tbn:ANd9GcRABwWc1Yb8XxDdlWi_OeGJRZzwjCuymQYaf-XQn3HWEVInCzoNPw"/>
          <p:cNvPicPr/>
          <p:nvPr/>
        </p:nvPicPr>
        <p:blipFill>
          <a:blip r:embed="rId2"/>
          <a:stretch/>
        </p:blipFill>
        <p:spPr>
          <a:xfrm>
            <a:off x="250920" y="260280"/>
            <a:ext cx="2570040" cy="2122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papag.net/wp-content/urok/009/apple-300x251.jpg"/>
          <p:cNvPicPr/>
          <p:nvPr/>
        </p:nvPicPr>
        <p:blipFill>
          <a:blip r:embed="rId3"/>
          <a:stretch/>
        </p:blipFill>
        <p:spPr>
          <a:xfrm>
            <a:off x="6286680" y="333360"/>
            <a:ext cx="2857320" cy="2390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salvadordali-cafe.ru/data/items/apelfresh.jpg"/>
          <p:cNvPicPr/>
          <p:nvPr/>
        </p:nvPicPr>
        <p:blipFill>
          <a:blip r:embed="rId4"/>
          <a:stretch/>
        </p:blipFill>
        <p:spPr>
          <a:xfrm>
            <a:off x="0" y="414972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http://s16.rimg.info/886d45b4f8d64b3caad5e3efe33624a4.gif"/>
          <p:cNvPicPr/>
          <p:nvPr/>
        </p:nvPicPr>
        <p:blipFill>
          <a:blip r:embed="rId5"/>
          <a:stretch/>
        </p:blipFill>
        <p:spPr>
          <a:xfrm>
            <a:off x="5940360" y="4365720"/>
            <a:ext cx="2643120" cy="2057400"/>
          </a:xfrm>
          <a:prstGeom prst="rect">
            <a:avLst/>
          </a:prstGeom>
          <a:ln w="0">
            <a:noFill/>
          </a:ln>
        </p:spPr>
      </p:pic>
      <p:sp>
        <p:nvSpPr>
          <p:cNvPr id="2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87240" y="1557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т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радицио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1413000"/>
            <a:ext cx="4643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ценивать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не должен делать оши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нает, как и что должен отвечать шк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прос учителя всегда должен быть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Урок в ТР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27280" y="1413000"/>
            <a:ext cx="471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сам может оценить свою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имеет право на ошиб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ются ответы с альтернативными вариан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учителя могут быть началом нового получен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23"/>
          <p:cNvCxnSpPr/>
          <p:nvPr/>
        </p:nvCxnSpPr>
        <p:spPr>
          <a:xfrm>
            <a:off x="3276360" y="213336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8" name="Прямая со стрелкой 24"/>
          <p:cNvCxnSpPr/>
          <p:nvPr/>
        </p:nvCxnSpPr>
        <p:spPr>
          <a:xfrm>
            <a:off x="3276360" y="306828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9" name="Прямая со стрелкой 25"/>
          <p:cNvCxnSpPr/>
          <p:nvPr/>
        </p:nvCxnSpPr>
        <p:spPr>
          <a:xfrm>
            <a:off x="3276360" y="436536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60" name="Прямая со стрелкой 26"/>
          <p:cNvCxnSpPr/>
          <p:nvPr/>
        </p:nvCxnSpPr>
        <p:spPr>
          <a:xfrm>
            <a:off x="3348000" y="5805000"/>
            <a:ext cx="1440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7"/>
          <p:cNvSpPr/>
          <p:nvPr/>
        </p:nvSpPr>
        <p:spPr>
          <a:xfrm>
            <a:off x="179280" y="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який, кто желает к ним приобщиться, должен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гнуть этого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ственной деятельностью собственными силами, собственным напряжением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вне он может получить только возб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8" descr="http://iyazyki.ru/wp-content/uploads/2014/02/gruzz.jpg"/>
          <p:cNvPicPr/>
          <p:nvPr/>
        </p:nvPicPr>
        <p:blipFill>
          <a:blip r:embed="rId1"/>
          <a:stretch/>
        </p:blipFill>
        <p:spPr>
          <a:xfrm>
            <a:off x="684360" y="3500280"/>
            <a:ext cx="568800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Овал 2"/>
          <p:cNvGrpSpPr/>
          <p:nvPr/>
        </p:nvGrpSpPr>
        <p:grpSpPr>
          <a:xfrm>
            <a:off x="1500120" y="139680"/>
            <a:ext cx="6278760" cy="1171440"/>
            <a:chOff x="1500120" y="139680"/>
            <a:chExt cx="6278760" cy="1171440"/>
          </a:xfrm>
        </p:grpSpPr>
        <p:pic>
          <p:nvPicPr>
            <p:cNvPr id="57" name="Овал 2" descr=""/>
            <p:cNvPicPr/>
            <p:nvPr/>
          </p:nvPicPr>
          <p:blipFill>
            <a:blip r:embed="rId1"/>
            <a:stretch/>
          </p:blipFill>
          <p:spPr>
            <a:xfrm>
              <a:off x="1500120" y="139680"/>
              <a:ext cx="62787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454120" y="345960"/>
              <a:ext cx="438012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ИЧЕСКАЯ ТЕХНОЛОГ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Выгнутая влево стрелка 3"/>
          <p:cNvSpPr/>
          <p:nvPr/>
        </p:nvSpPr>
        <p:spPr>
          <a:xfrm>
            <a:off x="1403280" y="1125360"/>
            <a:ext cx="1008000" cy="9352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46160 h 935280"/>
              <a:gd name="textAreaBottom" fmla="*/ 67248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159665"/>
                <a:lnTo>
                  <a:pt x="16591" y="21416"/>
                </a:lnTo>
                <a:lnTo>
                  <a:pt x="21600" y="16200"/>
                </a:lnTo>
                <a:lnTo>
                  <a:pt x="16591" y="10616"/>
                </a:lnTo>
                <a:lnTo>
                  <a:pt x="16591" y="13316"/>
                </a:lnTo>
                <a:arcTo wR="21600" hR="6750" stAng="7640335" swAng="269367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2771640" y="1484280"/>
            <a:ext cx="3816360" cy="914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26"/>
          <p:cNvGrpSpPr/>
          <p:nvPr/>
        </p:nvGrpSpPr>
        <p:grpSpPr>
          <a:xfrm>
            <a:off x="3563640" y="2398320"/>
            <a:ext cx="2232000" cy="383400"/>
            <a:chOff x="3563640" y="2398320"/>
            <a:chExt cx="2232000" cy="383400"/>
          </a:xfrm>
        </p:grpSpPr>
        <p:cxnSp>
          <p:nvCxnSpPr>
            <p:cNvPr id="62" name="Прямая со стрелкой 8"/>
            <p:cNvCxnSpPr>
              <a:stCxn id="60" idx="2"/>
            </p:cNvCxnSpPr>
            <p:nvPr/>
          </p:nvCxnSpPr>
          <p:spPr>
            <a:xfrm flipH="1">
              <a:off x="3563640" y="2398320"/>
              <a:ext cx="1116720" cy="383400"/>
            </a:xfrm>
            <a:prstGeom prst="straightConnector1">
              <a:avLst/>
            </a:prstGeom>
            <a:ln w="38160">
              <a:solidFill>
                <a:srgbClr val="4bacc6"/>
              </a:solidFill>
              <a:miter/>
              <a:tailEnd len="med" type="arrow" w="med"/>
            </a:ln>
          </p:spPr>
        </p:cxnSp>
        <p:cxnSp>
          <p:nvCxnSpPr>
            <p:cNvPr id="63" name="Прямая со стрелкой 9"/>
            <p:cNvCxnSpPr/>
            <p:nvPr/>
          </p:nvCxnSpPr>
          <p:spPr>
            <a:xfrm>
              <a:off x="4643280" y="2420640"/>
              <a:ext cx="1152720" cy="361440"/>
            </a:xfrm>
            <a:prstGeom prst="straightConnector1">
              <a:avLst/>
            </a:prstGeom>
            <a:ln w="38160">
              <a:solidFill>
                <a:srgbClr val="4bacc6"/>
              </a:solidFill>
              <a:miter/>
              <a:tailEnd len="med" type="arrow" w="med"/>
            </a:ln>
          </p:spPr>
        </p:cxnSp>
      </p:grpSp>
      <p:sp>
        <p:nvSpPr>
          <p:cNvPr id="64" name="Скругленный прямоугольник 13"/>
          <p:cNvSpPr/>
          <p:nvPr/>
        </p:nvSpPr>
        <p:spPr>
          <a:xfrm>
            <a:off x="539640" y="2708280"/>
            <a:ext cx="2808360" cy="843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4"/>
          <p:cNvSpPr/>
          <p:nvPr/>
        </p:nvSpPr>
        <p:spPr>
          <a:xfrm>
            <a:off x="6084720" y="2708280"/>
            <a:ext cx="2808360" cy="843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 при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oprezi.ru/fl/image.raw?view=image&amp;type=img&amp;id=16"/>
          <p:cNvPicPr/>
          <p:nvPr/>
        </p:nvPicPr>
        <p:blipFill>
          <a:blip r:embed="rId2"/>
          <a:stretch/>
        </p:blipFill>
        <p:spPr>
          <a:xfrm>
            <a:off x="4140360" y="3573360"/>
            <a:ext cx="2330280" cy="3284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1"/>
          <p:cNvSpPr/>
          <p:nvPr/>
        </p:nvSpPr>
        <p:spPr>
          <a:xfrm>
            <a:off x="1403280" y="6334200"/>
            <a:ext cx="6769080" cy="52056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ые особенност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5952960" y="40053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ера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1483560" y="400536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6879600" y="501336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с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1050840" y="501336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16"/>
          <p:cNvCxnSpPr/>
          <p:nvPr/>
        </p:nvCxnSpPr>
        <p:spPr>
          <a:xfrm flipH="1" flipV="1">
            <a:off x="1979280" y="5444280"/>
            <a:ext cx="937440" cy="864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Прямая со стрелкой 17"/>
          <p:cNvCxnSpPr/>
          <p:nvPr/>
        </p:nvCxnSpPr>
        <p:spPr>
          <a:xfrm flipH="1" flipV="1">
            <a:off x="2484000" y="4508280"/>
            <a:ext cx="432720" cy="1800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Прямая со стрелкой 19"/>
          <p:cNvCxnSpPr/>
          <p:nvPr/>
        </p:nvCxnSpPr>
        <p:spPr>
          <a:xfrm flipV="1">
            <a:off x="6372360" y="4652280"/>
            <a:ext cx="504000" cy="1656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Прямая со стрелкой 26"/>
          <p:cNvCxnSpPr/>
          <p:nvPr/>
        </p:nvCxnSpPr>
        <p:spPr>
          <a:xfrm flipV="1">
            <a:off x="6372360" y="5589000"/>
            <a:ext cx="1008720" cy="719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еятельност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моти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чем вводить знание, надо создать ситуацию… необходимости его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А.Цукерман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пределённых действий для приобретения недостающих зн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водить знания в готовом виде… всегда есть возможность создать ситуацию пои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А.Цукерман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приобретённые 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можно передать только тог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ученик их берёт, то есть применяет 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Ф.Талызин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онтролировать свои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интерактивного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Информационно-коммуникационная технология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Технология проблемного обу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Метод прое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Игровая технология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Технология развития критического мышл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Здоровьесберегающая образовательная технология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1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1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ехнология проблемного обучения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бычность в требованиях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 урок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2" descr="http://school2.lutsk.ua/sites/all/files/images/1778487.jpg"/>
          <p:cNvPicPr/>
          <p:nvPr/>
        </p:nvPicPr>
        <p:blipFill>
          <a:blip r:embed="rId1"/>
          <a:stretch/>
        </p:blipFill>
        <p:spPr>
          <a:xfrm>
            <a:off x="7378560" y="549360"/>
            <a:ext cx="1765440" cy="231444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2"/>
          <p:cNvGrpSpPr/>
          <p:nvPr/>
        </p:nvGrpSpPr>
        <p:grpSpPr>
          <a:xfrm>
            <a:off x="539640" y="2781360"/>
            <a:ext cx="8066160" cy="3382920"/>
            <a:chOff x="539640" y="2781360"/>
            <a:chExt cx="8066160" cy="3382920"/>
          </a:xfrm>
        </p:grpSpPr>
        <p:grpSp>
          <p:nvGrpSpPr>
            <p:cNvPr id="87" name="Группа 10"/>
            <p:cNvGrpSpPr/>
            <p:nvPr/>
          </p:nvGrpSpPr>
          <p:grpSpPr>
            <a:xfrm>
              <a:off x="539640" y="2781360"/>
              <a:ext cx="8066160" cy="3382920"/>
              <a:chOff x="539640" y="2781360"/>
              <a:chExt cx="8066160" cy="3382920"/>
            </a:xfrm>
          </p:grpSpPr>
          <p:sp>
            <p:nvSpPr>
              <p:cNvPr id="88" name="Скругленный прямоугольник 3"/>
              <p:cNvSpPr/>
              <p:nvPr/>
            </p:nvSpPr>
            <p:spPr>
              <a:xfrm>
                <a:off x="539640" y="4005360"/>
                <a:ext cx="2448000" cy="91440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ро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Скругленный прямоугольник 4"/>
              <p:cNvSpPr/>
              <p:nvPr/>
            </p:nvSpPr>
            <p:spPr>
              <a:xfrm>
                <a:off x="3563640" y="2781360"/>
                <a:ext cx="4970520" cy="143964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Изюминка»  урока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вызывает изумление, удивление, восторг…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Скругленный прямоугольник 5"/>
              <p:cNvSpPr/>
              <p:nvPr/>
            </p:nvSpPr>
            <p:spPr>
              <a:xfrm>
                <a:off x="3636720" y="4724640"/>
                <a:ext cx="4969080" cy="1439640"/>
              </a:xfrm>
              <a:prstGeom prst="roundRect">
                <a:avLst>
                  <a:gd name="adj" fmla="val 16667"/>
                </a:avLst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Прямая со стрелкой 7"/>
              <p:cNvCxnSpPr/>
              <p:nvPr/>
            </p:nvCxnSpPr>
            <p:spPr>
              <a:xfrm flipV="1">
                <a:off x="2987640" y="3499560"/>
                <a:ext cx="576360" cy="926280"/>
              </a:xfrm>
              <a:prstGeom prst="straightConnector1">
                <a:avLst/>
              </a:prstGeom>
              <a:ln w="38160">
                <a:solidFill>
                  <a:srgbClr val="4bacc6"/>
                </a:solidFill>
                <a:miter/>
                <a:tailEnd len="med" type="arrow" w="med"/>
              </a:ln>
            </p:spPr>
          </p:cxnSp>
          <p:cxnSp>
            <p:nvCxnSpPr>
              <p:cNvPr id="92" name="Прямая со стрелкой 9"/>
              <p:cNvCxnSpPr>
                <a:stCxn id="88" idx="3"/>
                <a:endCxn id="90" idx="1"/>
              </p:cNvCxnSpPr>
              <p:nvPr/>
            </p:nvCxnSpPr>
            <p:spPr>
              <a:xfrm>
                <a:off x="2987280" y="4462200"/>
                <a:ext cx="649800" cy="983160"/>
              </a:xfrm>
              <a:prstGeom prst="straightConnector1">
                <a:avLst/>
              </a:prstGeom>
              <a:ln w="38160">
                <a:solidFill>
                  <a:srgbClr val="4bacc6"/>
                </a:solidFill>
                <a:miter/>
                <a:tailEnd len="med" type="arrow" w="med"/>
              </a:ln>
            </p:spPr>
          </p:cxnSp>
        </p:grpSp>
        <p:sp>
          <p:nvSpPr>
            <p:cNvPr id="93" name="Прямоугольник 11"/>
            <p:cNvSpPr/>
            <p:nvPr/>
          </p:nvSpPr>
          <p:spPr>
            <a:xfrm>
              <a:off x="3851640" y="4941360"/>
              <a:ext cx="47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ма уро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формулируется детьми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620640"/>
          <a:ext cx="9144000" cy="6445440"/>
        </p:xfrm>
        <a:graphic>
          <a:graphicData uri="http://schemas.openxmlformats.org/drawingml/2006/table">
            <a:tbl>
              <a:tblPr/>
              <a:tblGrid>
                <a:gridCol w="1835280"/>
                <a:gridCol w="2881080"/>
                <a:gridCol w="4427640"/>
              </a:tblGrid>
              <a:tr h="432000"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360">
                <a:tc rowSpan="4">
                  <a:txBody>
                    <a:bodyPr lIns="37080" rIns="37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Е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ведение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становка учебной проблемы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ирование вопроса учебной проблемы или тем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иск решения</a:t>
                      </a:r>
                      <a:r>
                        <a:rPr b="0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ткрытие субъективно нового 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7080" rIns="37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оспроизведение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ражение решени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жение нового знания в доступ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еализация продукта</a:t>
                      </a:r>
                      <a:r>
                        <a:rPr b="0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представление продукта учителю и класс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"/>
          <p:cNvSpPr/>
          <p:nvPr/>
        </p:nvSpPr>
        <p:spPr>
          <a:xfrm>
            <a:off x="1351800" y="-92880"/>
            <a:ext cx="64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руктура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блем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Прямая со стрелкой 3"/>
          <p:cNvCxnSpPr>
            <a:stCxn id="97" idx="2"/>
          </p:cNvCxnSpPr>
          <p:nvPr/>
        </p:nvCxnSpPr>
        <p:spPr>
          <a:xfrm flipH="1">
            <a:off x="1186560" y="848880"/>
            <a:ext cx="3467880" cy="204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9" name="Прямая со стрелкой 5"/>
          <p:cNvCxnSpPr>
            <a:stCxn id="97" idx="2"/>
          </p:cNvCxnSpPr>
          <p:nvPr/>
        </p:nvCxnSpPr>
        <p:spPr>
          <a:xfrm>
            <a:off x="4654080" y="848880"/>
            <a:ext cx="3303000" cy="276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404640" y="1197000"/>
            <a:ext cx="2809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2600" y="198900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вас удиви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2960" y="2565360"/>
            <a:ext cx="31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зам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840" y="3141720"/>
            <a:ext cx="47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Не) получилось,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6560" y="3716280"/>
            <a:ext cx="36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мы не 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7360" y="4292640"/>
            <a:ext cx="51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будет тема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54880" y="494172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. Не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179280" y="4941720"/>
            <a:ext cx="3024360" cy="574920"/>
            <a:chOff x="179280" y="4941720"/>
            <a:chExt cx="3024360" cy="574920"/>
          </a:xfrm>
        </p:grpSpPr>
        <p:sp>
          <p:nvSpPr>
            <p:cNvPr id="108" name="Прямая соединительная линия 16"/>
            <p:cNvSpPr/>
            <p:nvPr/>
          </p:nvSpPr>
          <p:spPr>
            <a:xfrm>
              <a:off x="179280" y="4941720"/>
              <a:ext cx="3024360" cy="57492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20"/>
            <p:cNvSpPr/>
            <p:nvPr/>
          </p:nvSpPr>
          <p:spPr>
            <a:xfrm flipV="1">
              <a:off x="179280" y="5013000"/>
              <a:ext cx="3024360" cy="432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3"/>
          <p:cNvSpPr/>
          <p:nvPr/>
        </p:nvSpPr>
        <p:spPr>
          <a:xfrm>
            <a:off x="257040" y="5732640"/>
            <a:ext cx="33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, а что ещё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ина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724360" y="1268280"/>
            <a:ext cx="27716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5304600" y="2060640"/>
            <a:ext cx="35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роходил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шло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5379840" y="3141720"/>
            <a:ext cx="28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что мы у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5370120" y="4076640"/>
            <a:ext cx="37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сможем ли мы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5438160" y="4724280"/>
            <a:ext cx="333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чит, что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ем проход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уроке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етоды постановки пробл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ди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щий к теме ди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яркого пят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ы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из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и на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авая фигурная скобка 5"/>
          <p:cNvSpPr/>
          <p:nvPr/>
        </p:nvSpPr>
        <p:spPr>
          <a:xfrm rot="5400000">
            <a:off x="2195280" y="3860640"/>
            <a:ext cx="649080" cy="3961080"/>
          </a:xfrm>
          <a:custGeom>
            <a:avLst/>
            <a:gdLst>
              <a:gd name="textAreaLeft" fmla="*/ 0 w 649080"/>
              <a:gd name="textAreaRight" fmla="*/ 234360 w 649080"/>
              <a:gd name="textAreaTop" fmla="*/ 16560 h 3961080"/>
              <a:gd name="textAreaBottom" fmla="*/ 39445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24000" y="6237360"/>
            <a:ext cx="5689440" cy="6206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моти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15:03:47Z</dcterms:created>
  <dc:creator>Max</dc:creator>
  <dc:description/>
  <dc:language>en-US</dc:language>
  <cp:lastModifiedBy>Max</cp:lastModifiedBy>
  <dcterms:modified xsi:type="dcterms:W3CDTF">2015-10-20T14:39:34Z</dcterms:modified>
  <cp:revision>76</cp:revision>
  <dc:subject/>
  <dc:title>Слайд 1</dc:title>
</cp:coreProperties>
</file>