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2E0-DBC9-4256-8DBE-376BCBBE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545-8F40-43C3-A7DD-D598705A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F69-E2E5-4FDD-8963-5ADB10E3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6CF-E6BC-4A79-85BD-606D2C4E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724B6-6702-4336-8546-50AA17D3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7586E-E874-4883-82C0-28A5C3B2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5C8EE-E072-44E5-979D-1C6D24E6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2023D-9790-49F5-8E60-AC5A0701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482AB-B756-486C-92D1-7F25E4A1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7C843-F0A8-4BA0-84C8-65A36FF2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3FE3A-2463-46F1-807B-2755DE35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F0E-8BCD-4113-B149-73763F2C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EC1F5-4C43-4DED-A482-93F9D8C1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75A9C-43F4-466C-BCC0-921501A2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F516C-86D3-45D3-99F3-EB04D34A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EC60E-0D9F-4D56-AC97-5AFFADDE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6E08C-9765-43AA-81FE-7F4BAD90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AD5-AF3D-4B0B-AB2B-127B201B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0E5-7615-4F86-AC93-646B8255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2BF-7936-438E-8449-FA0CCA71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477-DAEA-4A53-B444-402F898D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DA3-0EC5-4A0B-BF19-ACB9D23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406-FDDB-49EE-A52B-D15423B7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8CC-AA25-43FC-BDFB-0BBBE5C3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E48CEA6-7DB5-478E-BF3A-9D50C237D98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1981FC2-63B8-46A8-B384-647A2D71F3C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214840" cy="47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000"/>
            </a:br>
            <a:r>
              <a:rPr b="1" lang="ru-RU" sz="3600" spc="49" strike="noStrike" cap="small">
                <a:solidFill>
                  <a:srgbClr val="000000"/>
                </a:solidFill>
                <a:latin typeface="Times New Roman"/>
              </a:rPr>
              <a:t>Пожарная безопасность</a:t>
            </a:r>
            <a:br>
              <a:rPr sz="3000"/>
            </a:br>
            <a:endParaRPr b="0" lang="ru-RU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28760" y="550080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000000"/>
                </a:solidFill>
                <a:latin typeface="Times New Roman"/>
              </a:rPr>
              <a:t>Красная макушка,  два ушка, два дужка.</a:t>
            </a:r>
            <a:br>
              <a:rPr sz="2400"/>
            </a:br>
            <a:r>
              <a:rPr b="1" lang="ru-RU" sz="2400" spc="-1" strike="noStrike" cap="small">
                <a:solidFill>
                  <a:srgbClr val="000000"/>
                </a:solidFill>
                <a:latin typeface="Times New Roman"/>
              </a:rPr>
              <a:t>Пусто так бренчит, а наполнишь - молчит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3" name="Picture 2" descr="C:\Users\Admin\Downloads\vedro-pozharnoe.jpg"/>
          <p:cNvPicPr/>
          <p:nvPr/>
        </p:nvPicPr>
        <p:blipFill>
          <a:blip r:embed="rId1"/>
          <a:stretch/>
        </p:blipFill>
        <p:spPr>
          <a:xfrm>
            <a:off x="2238480" y="2379600"/>
            <a:ext cx="39049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000000"/>
                </a:solidFill>
                <a:latin typeface="Times New Roman"/>
              </a:rPr>
              <a:t>Летала мошка -сосновая ножка, на стог села - всё сено съела  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5" name="Picture 2" descr="C:\Users\Admin\Downloads\13.jpg"/>
          <p:cNvPicPr/>
          <p:nvPr/>
        </p:nvPicPr>
        <p:blipFill>
          <a:blip r:embed="rId1"/>
          <a:stretch/>
        </p:blipFill>
        <p:spPr>
          <a:xfrm>
            <a:off x="323640" y="1917000"/>
            <a:ext cx="4859640" cy="323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E:\k4mwi.jpg"/>
          <p:cNvPicPr/>
          <p:nvPr/>
        </p:nvPicPr>
        <p:blipFill>
          <a:blip r:embed="rId2"/>
          <a:stretch/>
        </p:blipFill>
        <p:spPr>
          <a:xfrm>
            <a:off x="5076000" y="1845000"/>
            <a:ext cx="3571560" cy="4762080"/>
          </a:xfrm>
          <a:prstGeom prst="rect">
            <a:avLst/>
          </a:prstGeom>
          <a:ln cap="sq" w="127000">
            <a:solidFill>
              <a:srgbClr val="ffc000"/>
            </a:solidFill>
            <a:miter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small">
                <a:solidFill>
                  <a:srgbClr val="000000"/>
                </a:solidFill>
                <a:latin typeface="Times New Roman"/>
              </a:rPr>
              <a:t>К чему приводит не соблюдение правил пожарной безопасности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8" name="Picture 6" descr="E:\11F13B~1.JPG"/>
          <p:cNvPicPr/>
          <p:nvPr/>
        </p:nvPicPr>
        <p:blipFill>
          <a:blip r:embed="rId1"/>
          <a:stretch/>
        </p:blipFill>
        <p:spPr>
          <a:xfrm>
            <a:off x="755640" y="1700640"/>
            <a:ext cx="3362040" cy="228564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39" name="Picture 3" descr="E:\1272527990_img_0031-2-2.jpg"/>
          <p:cNvPicPr/>
          <p:nvPr/>
        </p:nvPicPr>
        <p:blipFill>
          <a:blip r:embed="rId2"/>
          <a:stretch/>
        </p:blipFill>
        <p:spPr>
          <a:xfrm>
            <a:off x="4356000" y="1700640"/>
            <a:ext cx="4047840" cy="269964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40" name="Picture 7" descr="E:\image.png"/>
          <p:cNvPicPr/>
          <p:nvPr/>
        </p:nvPicPr>
        <p:blipFill>
          <a:blip r:embed="rId3"/>
          <a:stretch/>
        </p:blipFill>
        <p:spPr>
          <a:xfrm>
            <a:off x="539640" y="4077000"/>
            <a:ext cx="4000320" cy="253512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41" name="Picture 2" descr="C:\Users\Admin\Downloads\123-obzh-kartinki-detyam-330x206.jpg"/>
          <p:cNvPicPr/>
          <p:nvPr/>
        </p:nvPicPr>
        <p:blipFill>
          <a:blip r:embed="rId4"/>
          <a:stretch/>
        </p:blipFill>
        <p:spPr>
          <a:xfrm>
            <a:off x="4716000" y="4509000"/>
            <a:ext cx="3142800" cy="19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Times New Roman"/>
              </a:rPr>
              <a:t>Средства тушения пожар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icture 2"/>
          <p:cNvSpPr/>
          <p:nvPr/>
        </p:nvSpPr>
        <p:spPr>
          <a:xfrm>
            <a:off x="323640" y="1772640"/>
            <a:ext cx="4790880" cy="4285800"/>
          </a:xfrm>
          <a:prstGeom prst="roundRect">
            <a:avLst>
              <a:gd name="adj" fmla="val 4167"/>
            </a:avLst>
          </a:prstGeom>
          <a:blipFill rotWithShape="0">
            <a:blip r:embed="rId1"/>
            <a:srcRect/>
            <a:stretch/>
          </a:blipFill>
          <a:ln cap="sq" w="76200">
            <a:solidFill>
              <a:srgbClr val="292929"/>
            </a:solidFill>
            <a:miter/>
          </a:ln>
          <a:effectLst>
            <a:reflection algn="bl" blurRad="12700" dir="5400000" dist="5000" endPos="28000" rotWithShape="0" stA="28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icture 3"/>
          <p:cNvSpPr/>
          <p:nvPr/>
        </p:nvSpPr>
        <p:spPr>
          <a:xfrm>
            <a:off x="5143680" y="1714320"/>
            <a:ext cx="3857400" cy="4357440"/>
          </a:xfrm>
          <a:prstGeom prst="roundRect">
            <a:avLst>
              <a:gd name="adj" fmla="val 4167"/>
            </a:avLst>
          </a:prstGeom>
          <a:blipFill rotWithShape="0">
            <a:blip r:embed="rId2"/>
            <a:srcRect/>
            <a:stretch/>
          </a:blipFill>
          <a:ln cap="sq" w="76200">
            <a:solidFill>
              <a:srgbClr val="292929"/>
            </a:solidFill>
            <a:miter/>
          </a:ln>
          <a:effectLst>
            <a:reflection algn="bl" blurRad="12700" dir="5400000" dist="5000" endPos="28000" rotWithShape="0" stA="28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Users\Admin\Downloads\25.jpg"/>
          <p:cNvPicPr/>
          <p:nvPr/>
        </p:nvPicPr>
        <p:blipFill>
          <a:blip r:embed="rId1"/>
          <a:stretch/>
        </p:blipFill>
        <p:spPr>
          <a:xfrm>
            <a:off x="3348000" y="1628640"/>
            <a:ext cx="3078720" cy="4283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Times New Roman"/>
              </a:rPr>
              <a:t>Вы запомните друзья,  что играть с огнём НЕЛЬЗЯ!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7" name="Picture 3" descr="C:\Users\Admin\Downloads\128-1-pozharnaya-bezopasnost-kartinki-dlya-detej-330x496.jpg"/>
          <p:cNvPicPr/>
          <p:nvPr/>
        </p:nvPicPr>
        <p:blipFill>
          <a:blip r:embed="rId2"/>
          <a:stretch/>
        </p:blipFill>
        <p:spPr>
          <a:xfrm>
            <a:off x="6012000" y="2061000"/>
            <a:ext cx="2921760" cy="4391640"/>
          </a:xfrm>
          <a:prstGeom prst="rect">
            <a:avLst/>
          </a:prstGeom>
          <a:ln w="0">
            <a:noFill/>
          </a:ln>
        </p:spPr>
      </p:pic>
      <p:sp>
        <p:nvSpPr>
          <p:cNvPr id="148" name="Picture 2"/>
          <p:cNvSpPr/>
          <p:nvPr/>
        </p:nvSpPr>
        <p:spPr>
          <a:xfrm>
            <a:off x="179640" y="2637000"/>
            <a:ext cx="3468960" cy="3995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50" name="Picture 2" descr="C:\Users\Admin\Downloads\129-plakaty-pozharnaya-bezopasnost-dlya-detej-330x206.jpg"/>
          <p:cNvPicPr/>
          <p:nvPr/>
        </p:nvPicPr>
        <p:blipFill>
          <a:blip r:embed="rId1"/>
          <a:stretch/>
        </p:blipFill>
        <p:spPr>
          <a:xfrm>
            <a:off x="1331640" y="1845000"/>
            <a:ext cx="6228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Times New Roman"/>
              </a:rPr>
              <a:t>Пожарная безопасность –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яние защищённости личности, имущества, общества и государства от пожаров. 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icture 2"/>
          <p:cNvSpPr/>
          <p:nvPr/>
        </p:nvSpPr>
        <p:spPr>
          <a:xfrm rot="5400000">
            <a:off x="3650760" y="2117880"/>
            <a:ext cx="3714120" cy="4752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IMG_20151002_112555 (1)"/>
          <p:cNvPicPr/>
          <p:nvPr/>
        </p:nvPicPr>
        <p:blipFill>
          <a:blip r:embed="rId2"/>
          <a:stretch/>
        </p:blipFill>
        <p:spPr>
          <a:xfrm>
            <a:off x="395640" y="3357000"/>
            <a:ext cx="2889000" cy="2159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small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жар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неконтролируемое горение, причиняющее материальный ущерб, вред жизни и здоровью граждан, интересам общества и государства.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жарная безопасность объект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состояние объекта, характеризуемое возможностью предотвращения возникновения и развития пожара, а также воздействия на людей и имущество опасных факторов пожара. 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ротивопожарный режи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правила поведения людей, порядок организации производства, порядок содержания помещений и территорий, обеспечивающие предупреждение нарушений требований пожарной безопасности и тушение пожаров. 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Меры пожарной безопасн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— действия по обеспечению пожарной безопасности, в том числе по выполнению требований пожарной безопасности.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r>
              <a:rPr b="1" lang="ru-RU" sz="2200" spc="-1" strike="noStrike" cap="small">
                <a:solidFill>
                  <a:srgbClr val="000000"/>
                </a:solidFill>
                <a:latin typeface="Times New Roman"/>
              </a:rPr>
              <a:t>Он друг ребят, но когда с ним шалят, он становится врагом и сжигает всё кругом. </a:t>
            </a:r>
            <a:br>
              <a:rPr sz="2200"/>
            </a:b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0" name="Picture 4" descr="C:\Users\Admin\Downloads\pozharnaya_bezopasnost_kartinki_dlya_detey_6-500x350.jpg"/>
          <p:cNvPicPr/>
          <p:nvPr/>
        </p:nvPicPr>
        <p:blipFill>
          <a:blip r:embed="rId1"/>
          <a:stretch/>
        </p:blipFill>
        <p:spPr>
          <a:xfrm>
            <a:off x="2190600" y="1762200"/>
            <a:ext cx="4762080" cy="33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200" spc="-1" strike="noStrike" cap="small">
                <a:solidFill>
                  <a:srgbClr val="000000"/>
                </a:solidFill>
                <a:latin typeface="Times New Roman"/>
              </a:rPr>
              <a:t>Смел огонь, они смелее. Он силен, они сильнее. </a:t>
            </a:r>
            <a:br>
              <a:rPr sz="2200"/>
            </a:br>
            <a:r>
              <a:rPr b="1" lang="ru-RU" sz="2200" spc="-1" strike="noStrike" cap="small">
                <a:solidFill>
                  <a:srgbClr val="000000"/>
                </a:solidFill>
                <a:latin typeface="Times New Roman"/>
              </a:rPr>
              <a:t>Их огнём не испугать, им к огню не привыкать!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2" name="Picture 5" descr="C:\Users\Admin\Downloads\kartinkipozharnuh2-222x300.jpg"/>
          <p:cNvPicPr/>
          <p:nvPr/>
        </p:nvPicPr>
        <p:blipFill>
          <a:blip r:embed="rId1"/>
          <a:stretch/>
        </p:blipFill>
        <p:spPr>
          <a:xfrm>
            <a:off x="3060000" y="1772640"/>
            <a:ext cx="3036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640" y="33264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ru-RU" sz="2700" spc="-1" strike="noStrike" cap="small">
                <a:solidFill>
                  <a:srgbClr val="000000"/>
                </a:solidFill>
                <a:latin typeface="Times New Roman"/>
              </a:rPr>
              <a:t>Выпал на пол уголек, деревянный пол зажег.</a:t>
            </a:r>
            <a:br>
              <a:rPr sz="2700"/>
            </a:br>
            <a:r>
              <a:rPr b="1" lang="ru-RU" sz="2700" spc="-1" strike="noStrike" cap="small">
                <a:solidFill>
                  <a:srgbClr val="000000"/>
                </a:solidFill>
                <a:latin typeface="Times New Roman"/>
              </a:rPr>
              <a:t>Не смотри, не жди, не стой. А скорей залей…</a:t>
            </a:r>
            <a:r>
              <a:rPr b="0" lang="ru-RU" sz="3000" spc="-1" strike="noStrike" cap="small">
                <a:solidFill>
                  <a:srgbClr val="575f6d"/>
                </a:solidFill>
                <a:latin typeface="Times New Roman"/>
              </a:rPr>
              <a:t> </a:t>
            </a:r>
            <a:br>
              <a:rPr sz="3000"/>
            </a:b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4" name="Picture 2" descr="C:\Users\Admin\Downloads\voda-3_small.jpg"/>
          <p:cNvPicPr/>
          <p:nvPr/>
        </p:nvPicPr>
        <p:blipFill>
          <a:blip r:embed="rId1"/>
          <a:stretch/>
        </p:blipFill>
        <p:spPr>
          <a:xfrm>
            <a:off x="2919960" y="2208240"/>
            <a:ext cx="254160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Times New Roman"/>
              </a:rPr>
              <a:t>Висит - молчит, а перевернешь, шипит, и пена летит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6" name="Picture 2" descr="C:\Users\Admin\Downloads\21152807.jpg"/>
          <p:cNvPicPr/>
          <p:nvPr/>
        </p:nvPicPr>
        <p:blipFill>
          <a:blip r:embed="rId1"/>
          <a:stretch/>
        </p:blipFill>
        <p:spPr>
          <a:xfrm>
            <a:off x="1547640" y="1989000"/>
            <a:ext cx="2598480" cy="327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Admin\Downloads\thumb.jpg"/>
          <p:cNvPicPr/>
          <p:nvPr/>
        </p:nvPicPr>
        <p:blipFill>
          <a:blip r:embed="rId2"/>
          <a:stretch/>
        </p:blipFill>
        <p:spPr>
          <a:xfrm>
            <a:off x="4788000" y="3141000"/>
            <a:ext cx="3135960" cy="31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small">
                <a:solidFill>
                  <a:srgbClr val="000000"/>
                </a:solidFill>
                <a:latin typeface="Times New Roman"/>
              </a:rPr>
              <a:t>Когда бензин горит отменно, его легко затушит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9" name="Picture 2" descr="C:\Users\Admin\Downloads\128-pozharnaya-bezopasnost-kartinki-dlya-detej-330x206.jpg"/>
          <p:cNvPicPr/>
          <p:nvPr/>
        </p:nvPicPr>
        <p:blipFill>
          <a:blip r:embed="rId1"/>
          <a:stretch/>
        </p:blipFill>
        <p:spPr>
          <a:xfrm>
            <a:off x="1979640" y="2277000"/>
            <a:ext cx="5536080" cy="34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 cap="small">
                <a:solidFill>
                  <a:srgbClr val="000000"/>
                </a:solidFill>
                <a:latin typeface="Times New Roman"/>
              </a:rPr>
              <a:t>Что за лестница такая из машины вырастает, поднимаясь выше дома…Всем пожарным так знакома. </a:t>
            </a:r>
            <a:br>
              <a:rPr sz="3000"/>
            </a:b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1" name="Picture 2" descr="C:\Users\Admin\Downloads\1.jpg"/>
          <p:cNvPicPr/>
          <p:nvPr/>
        </p:nvPicPr>
        <p:blipFill>
          <a:blip r:embed="rId1"/>
          <a:stretch/>
        </p:blipFill>
        <p:spPr>
          <a:xfrm>
            <a:off x="941760" y="1600200"/>
            <a:ext cx="6497640" cy="48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1_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691</TotalTime>
  <Application>LibreOffice/7.4.7.2$Linux_X86_64 LibreOffice_project/40$Build-2</Application>
  <AppVersion>15.0000</AppVersion>
  <Words>99</Words>
  <Paragraphs>3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2:43:25Z</dcterms:created>
  <dc:creator>XTreme</dc:creator>
  <dc:description/>
  <dc:language>en-US</dc:language>
  <cp:lastModifiedBy>Admin</cp:lastModifiedBy>
  <dcterms:modified xsi:type="dcterms:W3CDTF">2015-10-19T16:55:00Z</dcterms:modified>
  <cp:revision>8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