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CB8-D42E-492C-9BF0-11A81709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54C-6704-4307-BE09-CDB7A9E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0C4-8136-4E8D-A0EB-FE31EF9F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3C7-DE88-48A5-9368-3A76AB16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FA4A-4EAE-49F0-B503-081BF29D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2264A-2593-4EDD-BCFC-05E14832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80C8-2B1B-4CA5-B545-3035084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4222D-3866-49B6-9FEE-4EFB552D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8497-3390-4B7F-9FAD-FEAB60DE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72A1-7F83-4FA4-86E6-06CE49B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C37B-EF33-470D-9BCD-6165EE5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F92-D905-48ED-A806-C024F43D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9EB73-9F55-4094-9A95-9C6E3F5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1CCA7-82D7-4EC6-83C3-CC1CC0D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F488-10AE-4B90-A797-1C2C9671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FA20F-746C-4E8F-B8E8-4FEBE7DD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6A4D-D74D-4E5E-ACAD-3B595BCE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532-CD65-47CE-84D0-825100E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CDC-538D-4613-8189-BC1888A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8DC-F7B5-4A05-B18A-A22C73F4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858-8BBF-4388-9B0A-C5C23A28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992-855D-4185-B58F-CAFC842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DF0-2F17-4422-89E7-EC789867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E35-95DD-4408-AAD8-DD7FC4B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BD78A9-F9EB-4D90-949E-55530D14B6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D909F3-474B-4B5F-94EA-BACA5CAF5B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21484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000"/>
            </a:br>
            <a:r>
              <a:rPr b="1" lang="ru-RU" sz="3600" spc="49" strike="noStrike" cap="small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br>
              <a:rPr sz="3000"/>
            </a:b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8760" y="550080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Красная макушка,  два ушка, два дужка.</a:t>
            </a:r>
            <a:br>
              <a:rPr sz="2400"/>
            </a:b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Пусто так бренчит, а наполнишь - молчит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Picture 2" descr="C:\Users\Admin\Downloads\vedro-pozharnoe.jpg"/>
          <p:cNvPicPr/>
          <p:nvPr/>
        </p:nvPicPr>
        <p:blipFill>
          <a:blip r:embed="rId1"/>
          <a:stretch/>
        </p:blipFill>
        <p:spPr>
          <a:xfrm>
            <a:off x="2238480" y="2379600"/>
            <a:ext cx="3904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Times New Roman"/>
              </a:rPr>
              <a:t>Летала мошка -сосновая ножка, на стог села - всё сено съела 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5" name="Picture 2" descr="C:\Users\Admin\Downloads\13.jpg"/>
          <p:cNvPicPr/>
          <p:nvPr/>
        </p:nvPicPr>
        <p:blipFill>
          <a:blip r:embed="rId1"/>
          <a:stretch/>
        </p:blipFill>
        <p:spPr>
          <a:xfrm>
            <a:off x="323640" y="1917000"/>
            <a:ext cx="4859640" cy="323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E:\k4mwi.jpg"/>
          <p:cNvPicPr/>
          <p:nvPr/>
        </p:nvPicPr>
        <p:blipFill>
          <a:blip r:embed="rId2"/>
          <a:stretch/>
        </p:blipFill>
        <p:spPr>
          <a:xfrm>
            <a:off x="5076000" y="1845000"/>
            <a:ext cx="3571560" cy="4762080"/>
          </a:xfrm>
          <a:prstGeom prst="rect">
            <a:avLst/>
          </a:prstGeom>
          <a:ln cap="sq" w="127000">
            <a:solidFill>
              <a:srgbClr val="ffc000"/>
            </a:solidFill>
            <a:miter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000000"/>
                </a:solidFill>
                <a:latin typeface="Times New Roman"/>
              </a:rPr>
              <a:t>К чему приводит не соблюдение правил пожарной безопасности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8" name="Picture 6" descr="E:\11F13B~1.JPG"/>
          <p:cNvPicPr/>
          <p:nvPr/>
        </p:nvPicPr>
        <p:blipFill>
          <a:blip r:embed="rId1"/>
          <a:stretch/>
        </p:blipFill>
        <p:spPr>
          <a:xfrm>
            <a:off x="755640" y="1700640"/>
            <a:ext cx="3362040" cy="2285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39" name="Picture 3" descr="E:\1272527990_img_0031-2-2.jpg"/>
          <p:cNvPicPr/>
          <p:nvPr/>
        </p:nvPicPr>
        <p:blipFill>
          <a:blip r:embed="rId2"/>
          <a:stretch/>
        </p:blipFill>
        <p:spPr>
          <a:xfrm>
            <a:off x="4356000" y="1700640"/>
            <a:ext cx="4047840" cy="26996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7" descr="E:\image.png"/>
          <p:cNvPicPr/>
          <p:nvPr/>
        </p:nvPicPr>
        <p:blipFill>
          <a:blip r:embed="rId3"/>
          <a:stretch/>
        </p:blipFill>
        <p:spPr>
          <a:xfrm>
            <a:off x="539640" y="4077000"/>
            <a:ext cx="4000320" cy="253512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41" name="Picture 2" descr="C:\Users\Admin\Downloads\123-obzh-kartinki-detyam-330x206.jpg"/>
          <p:cNvPicPr/>
          <p:nvPr/>
        </p:nvPicPr>
        <p:blipFill>
          <a:blip r:embed="rId4"/>
          <a:stretch/>
        </p:blipFill>
        <p:spPr>
          <a:xfrm>
            <a:off x="4716000" y="4509000"/>
            <a:ext cx="3142800" cy="19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Средства тушения пожар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icture 2"/>
          <p:cNvSpPr/>
          <p:nvPr/>
        </p:nvSpPr>
        <p:spPr>
          <a:xfrm>
            <a:off x="323640" y="1772640"/>
            <a:ext cx="4790880" cy="428580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icture 3"/>
          <p:cNvSpPr/>
          <p:nvPr/>
        </p:nvSpPr>
        <p:spPr>
          <a:xfrm>
            <a:off x="5143680" y="1714320"/>
            <a:ext cx="3857400" cy="435744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Admin\Downloads\25.jpg"/>
          <p:cNvPicPr/>
          <p:nvPr/>
        </p:nvPicPr>
        <p:blipFill>
          <a:blip r:embed="rId1"/>
          <a:stretch/>
        </p:blipFill>
        <p:spPr>
          <a:xfrm>
            <a:off x="3348000" y="1628640"/>
            <a:ext cx="3078720" cy="4283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Вы запомните друзья,  что играть с огнём НЕЛЬЗЯ!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7" name="Picture 3" descr="C:\Users\Admin\Downloads\128-1-pozharnaya-bezopasnost-kartinki-dlya-detej-330x496.jpg"/>
          <p:cNvPicPr/>
          <p:nvPr/>
        </p:nvPicPr>
        <p:blipFill>
          <a:blip r:embed="rId2"/>
          <a:stretch/>
        </p:blipFill>
        <p:spPr>
          <a:xfrm>
            <a:off x="6012000" y="2061000"/>
            <a:ext cx="2921760" cy="4391640"/>
          </a:xfrm>
          <a:prstGeom prst="rect">
            <a:avLst/>
          </a:prstGeom>
          <a:ln w="0">
            <a:noFill/>
          </a:ln>
        </p:spPr>
      </p:pic>
      <p:sp>
        <p:nvSpPr>
          <p:cNvPr id="148" name="Picture 2"/>
          <p:cNvSpPr/>
          <p:nvPr/>
        </p:nvSpPr>
        <p:spPr>
          <a:xfrm>
            <a:off x="179640" y="2637000"/>
            <a:ext cx="3468960" cy="3995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50" name="Picture 2" descr="C:\Users\Admin\Downloads\129-plakaty-pozharnaya-bezopasnost-dlya-detej-330x206.jpg"/>
          <p:cNvPicPr/>
          <p:nvPr/>
        </p:nvPicPr>
        <p:blipFill>
          <a:blip r:embed="rId1"/>
          <a:stretch/>
        </p:blipFill>
        <p:spPr>
          <a:xfrm>
            <a:off x="1331640" y="1845000"/>
            <a:ext cx="622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Пожарная безопасность –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ние защищённости личности, имущества, общества и государства от пожаров.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icture 2"/>
          <p:cNvSpPr/>
          <p:nvPr/>
        </p:nvSpPr>
        <p:spPr>
          <a:xfrm rot="5400000">
            <a:off x="3650760" y="2117880"/>
            <a:ext cx="3714120" cy="4752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IMG_20151002_112555 (1)"/>
          <p:cNvPicPr/>
          <p:nvPr/>
        </p:nvPicPr>
        <p:blipFill>
          <a:blip r:embed="rId2"/>
          <a:stretch/>
        </p:blipFill>
        <p:spPr>
          <a:xfrm>
            <a:off x="395640" y="3357000"/>
            <a:ext cx="2889000" cy="215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small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жар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жарная безопасность объект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состояние объекта, характеризуемое возможностью предотвращения возникновения и развития пожара, а также воздействия на людей и имущество опасных факторов пожара.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жарный режи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правила поведения людей, порядок организации производства, порядок содержания помещений и территорий, обеспечивающие предупреждение нарушений требований пожарной безопасности и тушение пожаров. 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Меры пожарной безопас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— действия по обеспечению пожарной безопасности, в том числе по выполнению требований пожарной безопасности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Он друг ребят, но когда с ним шалят, он становится врагом и сжигает всё кругом. 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Picture 4" descr="C:\Users\Admin\Downloads\pozharnaya_bezopasnost_kartinki_dlya_detey_6-500x350.jpg"/>
          <p:cNvPicPr/>
          <p:nvPr/>
        </p:nvPicPr>
        <p:blipFill>
          <a:blip r:embed="rId1"/>
          <a:stretch/>
        </p:blipFill>
        <p:spPr>
          <a:xfrm>
            <a:off x="2190600" y="1762200"/>
            <a:ext cx="4762080" cy="33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Смел огонь, они смелее. Он силен, они сильнее. </a:t>
            </a:r>
            <a:br>
              <a:rPr sz="2200"/>
            </a:b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Их огнём не испугать, им к огню не привыкать!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5" descr="C:\Users\Admin\Downloads\kartinkipozharnuh2-222x300.jpg"/>
          <p:cNvPicPr/>
          <p:nvPr/>
        </p:nvPicPr>
        <p:blipFill>
          <a:blip r:embed="rId1"/>
          <a:stretch/>
        </p:blipFill>
        <p:spPr>
          <a:xfrm>
            <a:off x="3060000" y="1772640"/>
            <a:ext cx="303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640" y="3326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 cap="small">
                <a:solidFill>
                  <a:srgbClr val="000000"/>
                </a:solidFill>
                <a:latin typeface="Times New Roman"/>
              </a:rPr>
              <a:t>Выпал на пол уголек, деревянный пол зажег.</a:t>
            </a:r>
            <a:br>
              <a:rPr sz="2700"/>
            </a:br>
            <a:r>
              <a:rPr b="1" lang="ru-RU" sz="2700" spc="-1" strike="noStrike" cap="small">
                <a:solidFill>
                  <a:srgbClr val="000000"/>
                </a:solidFill>
                <a:latin typeface="Times New Roman"/>
              </a:rPr>
              <a:t>Не смотри, не жди, не стой. А скорей залей…</a:t>
            </a:r>
            <a:r>
              <a:rPr b="0" lang="ru-RU" sz="3000" spc="-1" strike="noStrike" cap="small">
                <a:solidFill>
                  <a:srgbClr val="575f6d"/>
                </a:solidFill>
                <a:latin typeface="Times New Roman"/>
              </a:rPr>
              <a:t> 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Picture 2" descr="C:\Users\Admin\Downloads\voda-3_small.jpg"/>
          <p:cNvPicPr/>
          <p:nvPr/>
        </p:nvPicPr>
        <p:blipFill>
          <a:blip r:embed="rId1"/>
          <a:stretch/>
        </p:blipFill>
        <p:spPr>
          <a:xfrm>
            <a:off x="2919960" y="2208240"/>
            <a:ext cx="254160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Times New Roman"/>
              </a:rPr>
              <a:t>Висит - молчит, а перевернешь, шипит, и пена летит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6" name="Picture 2" descr="C:\Users\Admin\Downloads\21152807.jpg"/>
          <p:cNvPicPr/>
          <p:nvPr/>
        </p:nvPicPr>
        <p:blipFill>
          <a:blip r:embed="rId1"/>
          <a:stretch/>
        </p:blipFill>
        <p:spPr>
          <a:xfrm>
            <a:off x="1547640" y="1989000"/>
            <a:ext cx="2598480" cy="327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Admin\Downloads\thumb.jpg"/>
          <p:cNvPicPr/>
          <p:nvPr/>
        </p:nvPicPr>
        <p:blipFill>
          <a:blip r:embed="rId2"/>
          <a:stretch/>
        </p:blipFill>
        <p:spPr>
          <a:xfrm>
            <a:off x="4788000" y="3141000"/>
            <a:ext cx="3135960" cy="31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000000"/>
                </a:solidFill>
                <a:latin typeface="Times New Roman"/>
              </a:rPr>
              <a:t>Когда бензин горит отменно, его легко затуши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9" name="Picture 2" descr="C:\Users\Admin\Downloads\128-pozharnaya-bezopasnost-kartinki-dlya-detej-330x206.jpg"/>
          <p:cNvPicPr/>
          <p:nvPr/>
        </p:nvPicPr>
        <p:blipFill>
          <a:blip r:embed="rId1"/>
          <a:stretch/>
        </p:blipFill>
        <p:spPr>
          <a:xfrm>
            <a:off x="1979640" y="2277000"/>
            <a:ext cx="5536080" cy="34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 cap="small">
                <a:solidFill>
                  <a:srgbClr val="000000"/>
                </a:solidFill>
                <a:latin typeface="Times New Roman"/>
              </a:rPr>
              <a:t>Что за лестница такая из машины вырастает, поднимаясь выше дома…Всем пожарным так знакома. </a:t>
            </a:r>
            <a:br>
              <a:rPr sz="3000"/>
            </a:b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Picture 2" descr="C:\Users\Admin\Downloads\1.jpg"/>
          <p:cNvPicPr/>
          <p:nvPr/>
        </p:nvPicPr>
        <p:blipFill>
          <a:blip r:embed="rId1"/>
          <a:stretch/>
        </p:blipFill>
        <p:spPr>
          <a:xfrm>
            <a:off x="941760" y="1600200"/>
            <a:ext cx="649764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1_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91</TotalTime>
  <Application>LibreOffice/7.4.7.2$Linux_X86_64 LibreOffice_project/40$Build-2</Application>
  <AppVersion>15.0000</AppVersion>
  <Words>99</Words>
  <Paragraphs>3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2:43:25Z</dcterms:created>
  <dc:creator>XTreme</dc:creator>
  <dc:description/>
  <dc:language>en-US</dc:language>
  <cp:lastModifiedBy>Admin</cp:lastModifiedBy>
  <dcterms:modified xsi:type="dcterms:W3CDTF">2015-10-19T16:55:00Z</dcterms:modified>
  <cp:revision>8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