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53-7D63-48E6-BD46-F99E7B1B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19A-C9A6-4AC2-9A97-67AB506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ADC-C0B2-44F2-9CD7-033752AB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80D-D9A5-46FB-83EB-44039F3C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C98-609A-465E-AD46-B16A62F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47E6-2504-4474-9D2F-5E371E4A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F16D-34C2-4505-8AE9-8B0CB15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E4F8-2CDF-41B8-8C75-FA20DA7A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2B67-F77C-4590-A6D1-0D6F586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4D5A-7F2B-4C33-94FA-DFD1C56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E87-0CE8-41FB-BA71-FAE6E21D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4AE-172F-4432-B68C-080C421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01B5-37D7-406C-86FE-3375D7D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4355-3DB5-4CFD-98B0-69BC35F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9687-E98B-4F93-8BF9-0F88F0E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4D88-2E04-437C-BAB9-A6428796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3D1-CAC1-44CB-B37A-7A426128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F5C5-2BB2-44C9-AD6A-3C54B9B4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5894-8B16-4451-B18A-73F1D3CF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F7ED-D45D-4A2F-AA8A-4B4E8838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BF2C-4856-4031-B1FF-70AFF6C0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B029-6A01-43CC-8A63-CF16229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AD3-5ABC-472B-8C95-6A8E547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996B-37B3-4CFD-BFB2-EBE86EBC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2BCA-425C-4C0B-9C38-D797B6D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2913-838E-465C-84B6-369C50E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44D6-4A17-40CC-A8AB-6138280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6898-8821-40B6-A9FA-9209DBEB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DA37-4002-4A6E-A3A0-F9367337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1D4D-225D-4EF2-ABBF-9795C643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30E-1BC1-4F5C-ADAB-75A59A3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2E0-886F-4517-9D85-04C3D4A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81F-572D-4444-B699-7AE90AEB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1B6-4A3A-4F47-AF8F-B66036C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E6D-62F8-4AC1-9516-592AD57B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BCB-EB41-4289-BAE5-558F400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C99-104A-45EC-A20C-CACD4DAAB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763-03CB-4EDE-B78B-C06C58172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17E9-E6A5-4938-98CE-0798DBD4E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eorgia"/>
              </a:rPr>
              <a:t>Road Safe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крытый урок в 6 классе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К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Spotligh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3.jpg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4.jpg"/>
          <p:cNvPicPr/>
          <p:nvPr/>
        </p:nvPicPr>
        <p:blipFill>
          <a:blip r:embed="rId2"/>
          <a:stretch/>
        </p:blipFill>
        <p:spPr>
          <a:xfrm>
            <a:off x="179280" y="981000"/>
            <a:ext cx="1787760" cy="2519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c2066-7.jpg"/>
          <p:cNvPicPr/>
          <p:nvPr/>
        </p:nvPicPr>
        <p:blipFill>
          <a:blip r:embed="rId3"/>
          <a:stretch/>
        </p:blipFill>
        <p:spPr>
          <a:xfrm>
            <a:off x="611280" y="4076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8879f070029e9e525648627353bb185c05a6ff15.preview.jpg"/>
          <p:cNvPicPr/>
          <p:nvPr/>
        </p:nvPicPr>
        <p:blipFill>
          <a:blip r:embed="rId4"/>
          <a:stretch/>
        </p:blipFill>
        <p:spPr>
          <a:xfrm>
            <a:off x="2195640" y="981000"/>
            <a:ext cx="196848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161612.jpg"/>
          <p:cNvPicPr/>
          <p:nvPr/>
        </p:nvPicPr>
        <p:blipFill>
          <a:blip r:embed="rId5"/>
          <a:stretch/>
        </p:blipFill>
        <p:spPr>
          <a:xfrm>
            <a:off x="6300720" y="3860640"/>
            <a:ext cx="24559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8ea32020e8baef3d614c7b65b55706ba-d087037c89ee549f773875aba4b880f0.jpg"/>
          <p:cNvPicPr/>
          <p:nvPr/>
        </p:nvPicPr>
        <p:blipFill>
          <a:blip r:embed="rId6"/>
          <a:stretch/>
        </p:blipFill>
        <p:spPr>
          <a:xfrm>
            <a:off x="3203640" y="3860640"/>
            <a:ext cx="2616120" cy="2376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830363.jpg"/>
          <p:cNvPicPr/>
          <p:nvPr/>
        </p:nvPicPr>
        <p:blipFill>
          <a:blip r:embed="rId7"/>
          <a:stretch/>
        </p:blipFill>
        <p:spPr>
          <a:xfrm>
            <a:off x="4716360" y="981000"/>
            <a:ext cx="185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Georgia"/>
              </a:rPr>
              <a:t>What are we going to speak </a:t>
            </a: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Georgia"/>
              </a:rPr>
              <a:t>at the lesson abou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68000" y="2133720"/>
            <a:ext cx="5504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 To speak how to behave at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 To speak how to behave a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. To speak how to be safe on the 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51af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" descr="3.jpg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.jpg"/>
          <p:cNvPicPr/>
          <p:nvPr/>
        </p:nvPicPr>
        <p:blipFill>
          <a:blip r:embed="rId2"/>
          <a:stretch/>
        </p:blipFill>
        <p:spPr>
          <a:xfrm>
            <a:off x="179280" y="981000"/>
            <a:ext cx="178776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c2066-7.jpg"/>
          <p:cNvPicPr/>
          <p:nvPr/>
        </p:nvPicPr>
        <p:blipFill>
          <a:blip r:embed="rId3"/>
          <a:stretch/>
        </p:blipFill>
        <p:spPr>
          <a:xfrm>
            <a:off x="611280" y="4076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8879f070029e9e525648627353bb185c05a6ff15.preview.jpg"/>
          <p:cNvPicPr/>
          <p:nvPr/>
        </p:nvPicPr>
        <p:blipFill>
          <a:blip r:embed="rId4"/>
          <a:stretch/>
        </p:blipFill>
        <p:spPr>
          <a:xfrm>
            <a:off x="2195640" y="981000"/>
            <a:ext cx="196848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161612.jpg"/>
          <p:cNvPicPr/>
          <p:nvPr/>
        </p:nvPicPr>
        <p:blipFill>
          <a:blip r:embed="rId5"/>
          <a:stretch/>
        </p:blipFill>
        <p:spPr>
          <a:xfrm>
            <a:off x="6300720" y="3860640"/>
            <a:ext cx="2455920" cy="2305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8ea32020e8baef3d614c7b65b55706ba-d087037c89ee549f773875aba4b880f0.jpg"/>
          <p:cNvPicPr/>
          <p:nvPr/>
        </p:nvPicPr>
        <p:blipFill>
          <a:blip r:embed="rId6"/>
          <a:stretch/>
        </p:blipFill>
        <p:spPr>
          <a:xfrm>
            <a:off x="3203640" y="3860640"/>
            <a:ext cx="2616120" cy="2376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830363.jpg"/>
          <p:cNvPicPr/>
          <p:nvPr/>
        </p:nvPicPr>
        <p:blipFill>
          <a:blip r:embed="rId7"/>
          <a:stretch/>
        </p:blipFill>
        <p:spPr>
          <a:xfrm>
            <a:off x="4716360" y="981000"/>
            <a:ext cx="185436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127800" y="3500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2039040" y="34290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w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05240" y="623736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647240" y="32846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llow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490560" y="623736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k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6798240" y="34290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zebra cr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6820920" y="61657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764640"/>
            <a:ext cx="439272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) A person who is on foot, not by car/ bik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) White stripes on the road. People can cross the road on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) A sign on the ro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) An area which people use for wa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) A name of a job. This person watches the traffic and makes it sa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) A place where you can park a c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26560" y="404280"/>
            <a:ext cx="30258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king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dest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ebra cro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ffic wa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ffic 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1" name="Прямая со стрелкой 15"/>
          <p:cNvCxnSpPr/>
          <p:nvPr/>
        </p:nvCxnSpPr>
        <p:spPr>
          <a:xfrm flipV="1">
            <a:off x="3492000" y="1052280"/>
            <a:ext cx="57564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20"/>
          <p:cNvCxnSpPr/>
          <p:nvPr/>
        </p:nvCxnSpPr>
        <p:spPr>
          <a:xfrm flipH="1" flipV="1">
            <a:off x="5724360" y="2133000"/>
            <a:ext cx="64836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24"/>
          <p:cNvCxnSpPr/>
          <p:nvPr/>
        </p:nvCxnSpPr>
        <p:spPr>
          <a:xfrm flipH="1">
            <a:off x="5579280" y="3357360"/>
            <a:ext cx="648360" cy="115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54" name="Овал 2"/>
          <p:cNvGrpSpPr/>
          <p:nvPr/>
        </p:nvGrpSpPr>
        <p:grpSpPr>
          <a:xfrm>
            <a:off x="1700280" y="1378080"/>
            <a:ext cx="2206440" cy="1189080"/>
            <a:chOff x="1700280" y="1378080"/>
            <a:chExt cx="2206440" cy="1189080"/>
          </a:xfrm>
        </p:grpSpPr>
        <p:pic>
          <p:nvPicPr>
            <p:cNvPr id="155" name="Овал 2" descr=""/>
            <p:cNvPicPr/>
            <p:nvPr/>
          </p:nvPicPr>
          <p:blipFill>
            <a:blip r:embed="rId1"/>
            <a:stretch/>
          </p:blipFill>
          <p:spPr>
            <a:xfrm>
              <a:off x="1700280" y="1378080"/>
              <a:ext cx="2206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070000" y="1571760"/>
              <a:ext cx="1476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1"/>
          <p:cNvSpPr/>
          <p:nvPr/>
        </p:nvSpPr>
        <p:spPr>
          <a:xfrm>
            <a:off x="1844280" y="155736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i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3"/>
          <p:cNvGrpSpPr/>
          <p:nvPr/>
        </p:nvGrpSpPr>
        <p:grpSpPr>
          <a:xfrm>
            <a:off x="5877000" y="2603520"/>
            <a:ext cx="2206440" cy="1187280"/>
            <a:chOff x="5877000" y="2603520"/>
            <a:chExt cx="2206440" cy="1187280"/>
          </a:xfrm>
        </p:grpSpPr>
        <p:pic>
          <p:nvPicPr>
            <p:cNvPr id="159" name="Овал 3" descr=""/>
            <p:cNvPicPr/>
            <p:nvPr/>
          </p:nvPicPr>
          <p:blipFill>
            <a:blip r:embed="rId2"/>
            <a:stretch/>
          </p:blipFill>
          <p:spPr>
            <a:xfrm>
              <a:off x="5877000" y="2603520"/>
              <a:ext cx="220644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45280" y="2795760"/>
              <a:ext cx="1477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eorgia"/>
                </a:rPr>
                <a:t>bu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4"/>
          <p:cNvGrpSpPr/>
          <p:nvPr/>
        </p:nvGrpSpPr>
        <p:grpSpPr>
          <a:xfrm>
            <a:off x="2279520" y="4114800"/>
            <a:ext cx="2200320" cy="1189080"/>
            <a:chOff x="2279520" y="4114800"/>
            <a:chExt cx="2200320" cy="1189080"/>
          </a:xfrm>
        </p:grpSpPr>
        <p:pic>
          <p:nvPicPr>
            <p:cNvPr id="162" name="Овал 4" descr=""/>
            <p:cNvPicPr/>
            <p:nvPr/>
          </p:nvPicPr>
          <p:blipFill>
            <a:blip r:embed="rId3"/>
            <a:stretch/>
          </p:blipFill>
          <p:spPr>
            <a:xfrm>
              <a:off x="2279520" y="4114800"/>
              <a:ext cx="2200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644920" y="4307040"/>
              <a:ext cx="1477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5"/>
          <p:cNvSpPr/>
          <p:nvPr/>
        </p:nvSpPr>
        <p:spPr>
          <a:xfrm>
            <a:off x="2850480" y="4292640"/>
            <a:ext cx="10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7"/>
          <p:cNvCxnSpPr/>
          <p:nvPr/>
        </p:nvCxnSpPr>
        <p:spPr>
          <a:xfrm>
            <a:off x="3492360" y="2349360"/>
            <a:ext cx="5040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9"/>
          <p:cNvCxnSpPr/>
          <p:nvPr/>
        </p:nvCxnSpPr>
        <p:spPr>
          <a:xfrm flipH="1">
            <a:off x="1618920" y="2349000"/>
            <a:ext cx="505440" cy="57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Прямая со стрелкой 13"/>
          <p:cNvCxnSpPr/>
          <p:nvPr/>
        </p:nvCxnSpPr>
        <p:spPr>
          <a:xfrm flipH="1" flipV="1">
            <a:off x="1692000" y="1051920"/>
            <a:ext cx="50400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16"/>
          <p:cNvSpPr/>
          <p:nvPr/>
        </p:nvSpPr>
        <p:spPr>
          <a:xfrm>
            <a:off x="1143000" y="62064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3603240" y="62064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933480" y="28526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2996640" y="27813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ke 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21"/>
          <p:cNvCxnSpPr/>
          <p:nvPr/>
        </p:nvCxnSpPr>
        <p:spPr>
          <a:xfrm flipV="1">
            <a:off x="7308360" y="1915920"/>
            <a:ext cx="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26"/>
          <p:cNvCxnSpPr/>
          <p:nvPr/>
        </p:nvCxnSpPr>
        <p:spPr>
          <a:xfrm>
            <a:off x="7093080" y="3715920"/>
            <a:ext cx="35892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30"/>
          <p:cNvSpPr/>
          <p:nvPr/>
        </p:nvSpPr>
        <p:spPr>
          <a:xfrm>
            <a:off x="6855120" y="14130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4370760" y="162864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g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4809600" y="436572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6741000" y="443700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 стрелкой 35"/>
          <p:cNvCxnSpPr/>
          <p:nvPr/>
        </p:nvCxnSpPr>
        <p:spPr>
          <a:xfrm flipH="1">
            <a:off x="1978920" y="5013360"/>
            <a:ext cx="648360" cy="72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36"/>
          <p:cNvSpPr/>
          <p:nvPr/>
        </p:nvSpPr>
        <p:spPr>
          <a:xfrm>
            <a:off x="880920" y="3645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7"/>
          <p:cNvSpPr/>
          <p:nvPr/>
        </p:nvSpPr>
        <p:spPr>
          <a:xfrm>
            <a:off x="925200" y="558972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 b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8"/>
          <p:cNvSpPr/>
          <p:nvPr/>
        </p:nvSpPr>
        <p:spPr>
          <a:xfrm>
            <a:off x="3951360" y="328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9"/>
          <p:cNvSpPr/>
          <p:nvPr/>
        </p:nvSpPr>
        <p:spPr>
          <a:xfrm>
            <a:off x="3063960" y="566100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r view 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41"/>
          <p:cNvCxnSpPr/>
          <p:nvPr/>
        </p:nvCxnSpPr>
        <p:spPr>
          <a:xfrm flipH="1" flipV="1">
            <a:off x="1546920" y="4005000"/>
            <a:ext cx="86436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4"/>
          <p:cNvCxnSpPr/>
          <p:nvPr/>
        </p:nvCxnSpPr>
        <p:spPr>
          <a:xfrm>
            <a:off x="3995640" y="5157360"/>
            <a:ext cx="72144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Прямая со стрелкой 47"/>
          <p:cNvCxnSpPr/>
          <p:nvPr/>
        </p:nvCxnSpPr>
        <p:spPr>
          <a:xfrm flipV="1">
            <a:off x="3780000" y="3715920"/>
            <a:ext cx="86400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Give instructions to your part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2205000"/>
          <a:ext cx="822960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4700520"/>
              </a:tblGrid>
              <a:tr h="1265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ride you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r a seat be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t in the back if you are under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travel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 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lk t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dri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an out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wind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travel 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 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r a bicycl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lm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ry a second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Home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messages to car driver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 a po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3" descr="7.08_doroga.jpg"/>
          <p:cNvPicPr/>
          <p:nvPr/>
        </p:nvPicPr>
        <p:blipFill>
          <a:blip r:embed="rId1"/>
          <a:srcRect l="0" t="-23343" r="0" b="0"/>
          <a:stretch/>
        </p:blipFill>
        <p:spPr>
          <a:xfrm>
            <a:off x="1979640" y="1844640"/>
            <a:ext cx="3024000" cy="415764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pic>
        <p:nvPicPr>
          <p:cNvPr id="191" name="Рисунок 4" descr="p18_013.jpg"/>
          <p:cNvPicPr/>
          <p:nvPr/>
        </p:nvPicPr>
        <p:blipFill>
          <a:blip r:embed="rId2"/>
          <a:srcRect l="0" t="0" r="0" b="-22692"/>
          <a:stretch/>
        </p:blipFill>
        <p:spPr>
          <a:xfrm>
            <a:off x="5076720" y="2852640"/>
            <a:ext cx="3168720" cy="28051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5076720" y="515772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fe way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850760" y="184464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w 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ds are walking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RePack by SPecialiST</cp:lastModifiedBy>
  <dcterms:modified xsi:type="dcterms:W3CDTF">2015-10-20T16:53:39Z</dcterms:modified>
  <cp:revision>27</cp:revision>
  <dc:subject/>
  <dc:title>Слайд 1</dc:title>
</cp:coreProperties>
</file>