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200-E8A5-4289-9362-859D3578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1C3-0F61-41A4-B304-D51DB2B6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F652-A5CB-44F2-B337-B3126D65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9D1-3C6A-4435-AE70-A03D8B11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7470-1155-4350-A2C8-A89A1C28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A8BE-B2FB-451B-9CB0-E5FBCA05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B032-BDCF-4512-9B3E-BD00CB9D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AA5D-B310-470D-9DD5-873D7288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2309-7641-4E64-876D-079B67D4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85E9-CF26-442A-8032-42A320B0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612E-080A-42B4-8CDB-F1DFDF7D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78A-CDAA-47E2-A904-60BD41C2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59D7-7CAC-437A-94CD-15331696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527D-B07F-4800-BD3B-34AD1400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A603-6A40-4ADA-8089-68D92D49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2932-3BFB-487D-8077-7CC8E528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0EF2-00FB-4D89-B3EF-4886F62F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4E3F-B0EE-48C2-AC9C-4771633E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A48-B7AD-4A5D-A2B4-6D08C528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E84-BA33-4FE1-B80A-327781FE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B6F-D992-45B0-8D71-9A5CDD70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0E4-E85F-4D53-8FA3-2453C6FF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7381-23EE-45EC-883F-1C87D21C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B210-C840-463A-ADFC-2BC8F875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7"/>
          <p:cNvGrpSpPr/>
          <p:nvPr/>
        </p:nvGrpSpPr>
        <p:grpSpPr>
          <a:xfrm>
            <a:off x="365040" y="324000"/>
            <a:ext cx="8407440" cy="1260360"/>
            <a:chOff x="365040" y="324000"/>
            <a:chExt cx="8407440" cy="1260360"/>
          </a:xfrm>
        </p:grpSpPr>
        <p:pic>
          <p:nvPicPr>
            <p:cNvPr id="1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65040" y="324000"/>
              <a:ext cx="840744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428760" y="357120"/>
              <a:ext cx="828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9D9D-2C65-4870-A5EC-E6C764D541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Прямоугольник 6"/>
          <p:cNvGrpSpPr/>
          <p:nvPr/>
        </p:nvGrpSpPr>
        <p:grpSpPr>
          <a:xfrm>
            <a:off x="-60480" y="-60480"/>
            <a:ext cx="9271080" cy="7058160"/>
            <a:chOff x="-60480" y="-60480"/>
            <a:chExt cx="9271080" cy="7058160"/>
          </a:xfrm>
        </p:grpSpPr>
        <p:pic>
          <p:nvPicPr>
            <p:cNvPr id="9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60480" y="-60480"/>
              <a:ext cx="9271080" cy="70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Прямоугольник 7"/>
          <p:cNvGrpSpPr/>
          <p:nvPr/>
        </p:nvGrpSpPr>
        <p:grpSpPr>
          <a:xfrm>
            <a:off x="365040" y="324000"/>
            <a:ext cx="8407440" cy="1260360"/>
            <a:chOff x="365040" y="324000"/>
            <a:chExt cx="8407440" cy="12603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65040" y="324000"/>
              <a:ext cx="840744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28760" y="357120"/>
              <a:ext cx="828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Прямоугольник 6"/>
          <p:cNvGrpSpPr/>
          <p:nvPr/>
        </p:nvGrpSpPr>
        <p:grpSpPr>
          <a:xfrm>
            <a:off x="-60480" y="-60480"/>
            <a:ext cx="9271080" cy="7058160"/>
            <a:chOff x="-60480" y="-60480"/>
            <a:chExt cx="9271080" cy="7058160"/>
          </a:xfrm>
        </p:grpSpPr>
        <p:pic>
          <p:nvPicPr>
            <p:cNvPr id="51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60480" y="-60480"/>
              <a:ext cx="9271080" cy="70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" name="Рисунок 8" descr="wallpaper_19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" name="Скругленная прямоугольная выноска 9"/>
          <p:cNvGrpSpPr/>
          <p:nvPr/>
        </p:nvGrpSpPr>
        <p:grpSpPr>
          <a:xfrm>
            <a:off x="1152360" y="3895560"/>
            <a:ext cx="5430960" cy="1962360"/>
            <a:chOff x="1152360" y="3895560"/>
            <a:chExt cx="5430960" cy="1962360"/>
          </a:xfrm>
        </p:grpSpPr>
        <p:pic>
          <p:nvPicPr>
            <p:cNvPr id="55" name="Скругленная прямоугольная выноска 9" descr=""/>
            <p:cNvPicPr/>
            <p:nvPr/>
          </p:nvPicPr>
          <p:blipFill>
            <a:blip r:embed="rId6"/>
            <a:stretch/>
          </p:blipFill>
          <p:spPr>
            <a:xfrm>
              <a:off x="1152360" y="3895560"/>
              <a:ext cx="543096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305000" y="4019400"/>
              <a:ext cx="46767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Выноска-облако 10"/>
          <p:cNvGrpSpPr/>
          <p:nvPr/>
        </p:nvGrpSpPr>
        <p:grpSpPr>
          <a:xfrm>
            <a:off x="792000" y="738360"/>
            <a:ext cx="7486920" cy="3071520"/>
            <a:chOff x="792000" y="738360"/>
            <a:chExt cx="7486920" cy="3071520"/>
          </a:xfrm>
        </p:grpSpPr>
        <p:pic>
          <p:nvPicPr>
            <p:cNvPr id="58" name="Выноска-облако 10" descr=""/>
            <p:cNvPicPr/>
            <p:nvPr/>
          </p:nvPicPr>
          <p:blipFill>
            <a:blip r:embed="rId7"/>
            <a:stretch/>
          </p:blipFill>
          <p:spPr>
            <a:xfrm>
              <a:off x="792000" y="738360"/>
              <a:ext cx="7486920" cy="30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922400" y="1212840"/>
              <a:ext cx="4713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Прямоугольник 11"/>
          <p:cNvSpPr/>
          <p:nvPr/>
        </p:nvSpPr>
        <p:spPr>
          <a:xfrm>
            <a:off x="71280" y="71280"/>
            <a:ext cx="9001440" cy="6715440"/>
          </a:xfrm>
          <a:prstGeom prst="rect">
            <a:avLst/>
          </a:prstGeom>
          <a:noFill/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937B-A951-4539-80D1-7FF4FFE260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4240" y="114300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81bd"/>
                </a:solidFill>
                <a:latin typeface="Calibri"/>
              </a:rPr>
              <a:t>Экспериментирование с водой и воздухом </a:t>
            </a:r>
            <a:r>
              <a:rPr b="0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85560" y="4071960"/>
            <a:ext cx="47862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ервой категории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мак Евгения Иван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№ 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ы- эксперименты с вод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читалочка-купало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: познакомить со свойствами воды: льётся, движ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жека\Desktop\Игры эксперименты с водой\P2020484.JPG"/>
          <p:cNvPicPr/>
          <p:nvPr/>
        </p:nvPicPr>
        <p:blipFill>
          <a:blip r:embed="rId1"/>
          <a:stretch/>
        </p:blipFill>
        <p:spPr>
          <a:xfrm>
            <a:off x="2071800" y="2571840"/>
            <a:ext cx="49291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ыбал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: закрепить знания о свойствах воды - льётся, можно процедить через сач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жека\Desktop\эксперименты ср.гр\P2050001.JPG"/>
          <p:cNvPicPr/>
          <p:nvPr/>
        </p:nvPicPr>
        <p:blipFill>
          <a:blip r:embed="rId1"/>
          <a:stretch/>
        </p:blipFill>
        <p:spPr>
          <a:xfrm>
            <a:off x="1214280" y="2286000"/>
            <a:ext cx="6572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ы- эксперименты с воздух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азка о камеш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: показать, что предметы могут быть лёгкими и тяжёлы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C:\Users\жека\Desktop\Игры эксперименты с водой\P2050022.JPG"/>
          <p:cNvPicPr/>
          <p:nvPr/>
        </p:nvPicPr>
        <p:blipFill>
          <a:blip r:embed="rId1"/>
          <a:stretch/>
        </p:blipFill>
        <p:spPr>
          <a:xfrm>
            <a:off x="2428920" y="2714760"/>
            <a:ext cx="47149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ыльные пузы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: познакомить с тем, что при попадании воздуха в мыльную воду образуется пузыр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Users\жека\Desktop\Игры эксперименты с водой\P2050027.JPG"/>
          <p:cNvPicPr/>
          <p:nvPr/>
        </p:nvPicPr>
        <p:blipFill>
          <a:blip r:embed="rId1"/>
          <a:stretch/>
        </p:blipFill>
        <p:spPr>
          <a:xfrm>
            <a:off x="1357200" y="2786040"/>
            <a:ext cx="62150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о, что я услышал, я забыл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То, что я увидел, я помню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То, что я сделал, я зна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02920" y="4076280"/>
            <a:ext cx="456876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Творчески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успехов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7:45:17Z</dcterms:created>
  <dc:creator>Corowina</dc:creator>
  <dc:description/>
  <dc:language>en-US</dc:language>
  <cp:lastModifiedBy>Женя</cp:lastModifiedBy>
  <dcterms:modified xsi:type="dcterms:W3CDTF">2015-10-20T18:36:00Z</dcterms:modified>
  <cp:revision>75</cp:revision>
  <dc:subject/>
  <dc:title>Слайд 1</dc:title>
</cp:coreProperties>
</file>