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510-9D9D-4BE6-8A8C-E4C38926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685-AA75-4CD2-A8D9-54A0AE9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4F3-C4E4-407F-B9E7-941CE1D5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BB4-CE29-4C58-8632-2AD376B2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71CF-9FF1-47C4-923A-9F85EFBF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26C0-470D-4B6C-8CCD-023C60B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01E3-E6C7-49D1-AA87-9E92314D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D6C-141C-4392-9866-135E8BF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6DD9-A2A4-46D0-AF50-CFF3026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BB37-9C88-40BD-A872-BDF8ED84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82A6-37E6-4B62-838E-63194F4A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337-F28A-44E7-9CDC-9913AA5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2211-CEE1-449F-8946-ACAEDB4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E23-FD1C-43E9-9EF1-CD08911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5A3-36DF-491C-82FC-08F12521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AC24-A541-4B07-90FC-7B3004C3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C041-2EA2-4617-B94D-E9013914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E94-9E03-466F-A5F3-06A5917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375-074A-4CFB-A601-118279CF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830-CF51-44DC-B926-03D5BAF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024-1C0E-4FBC-BD39-9EC26938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FBE-1008-4F1D-83B5-7C8AFAB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4E9-23B9-4B2F-8D6D-BBFE0BD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503-4842-43A6-997E-35BD167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170-ED3E-40F7-90C8-3F8FFAC03B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Рисунок 8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9"/>
          <p:cNvGrpSpPr/>
          <p:nvPr/>
        </p:nvGrpSpPr>
        <p:grpSpPr>
          <a:xfrm>
            <a:off x="1152360" y="3895560"/>
            <a:ext cx="5430960" cy="1962360"/>
            <a:chOff x="1152360" y="3895560"/>
            <a:chExt cx="5430960" cy="1962360"/>
          </a:xfrm>
        </p:grpSpPr>
        <p:pic>
          <p:nvPicPr>
            <p:cNvPr id="55" name="Скругленная прямоугольная выноска 9" descr=""/>
            <p:cNvPicPr/>
            <p:nvPr/>
          </p:nvPicPr>
          <p:blipFill>
            <a:blip r:embed="rId6"/>
            <a:stretch/>
          </p:blipFill>
          <p:spPr>
            <a:xfrm>
              <a:off x="1152360" y="3895560"/>
              <a:ext cx="54309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Выноска-облако 10"/>
          <p:cNvGrpSpPr/>
          <p:nvPr/>
        </p:nvGrpSpPr>
        <p:grpSpPr>
          <a:xfrm>
            <a:off x="792000" y="738360"/>
            <a:ext cx="7486920" cy="3071520"/>
            <a:chOff x="792000" y="738360"/>
            <a:chExt cx="7486920" cy="3071520"/>
          </a:xfrm>
        </p:grpSpPr>
        <p:pic>
          <p:nvPicPr>
            <p:cNvPr id="58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792000" y="738360"/>
              <a:ext cx="748692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11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2AD-1AC6-436C-BA34-10A10BA276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Экспериментирование с водой и воздухом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85560" y="4071960"/>
            <a:ext cx="47862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категории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мак Евгения Ива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№ 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- эксперименты с во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италочка-купал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познакомить со свойствами воды: льётся, движ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жека\Desktop\Игры эксперименты с водой\P2020484.JPG"/>
          <p:cNvPicPr/>
          <p:nvPr/>
        </p:nvPicPr>
        <p:blipFill>
          <a:blip r:embed="rId1"/>
          <a:stretch/>
        </p:blipFill>
        <p:spPr>
          <a:xfrm>
            <a:off x="2071800" y="2571840"/>
            <a:ext cx="492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б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закрепить знания о свойствах воды - льётся, можно процедить через сач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жека\Desktop\эксперименты ср.гр\P2050001.JPG"/>
          <p:cNvPicPr/>
          <p:nvPr/>
        </p:nvPicPr>
        <p:blipFill>
          <a:blip r:embed="rId1"/>
          <a:stretch/>
        </p:blipFill>
        <p:spPr>
          <a:xfrm>
            <a:off x="1214280" y="2286000"/>
            <a:ext cx="6572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- эксперименты с воздух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а о каме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показать, что предметы могут быть лёгкими и тяжёлы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жека\Desktop\Игры эксперименты с водой\P2050022.JPG"/>
          <p:cNvPicPr/>
          <p:nvPr/>
        </p:nvPicPr>
        <p:blipFill>
          <a:blip r:embed="rId1"/>
          <a:stretch/>
        </p:blipFill>
        <p:spPr>
          <a:xfrm>
            <a:off x="2428920" y="2714760"/>
            <a:ext cx="4714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льные пузы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познакомить с тем, что при попадании воздуха в мыльную воду образуется пузы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жека\Desktop\Игры эксперименты с водой\P2050027.JPG"/>
          <p:cNvPicPr/>
          <p:nvPr/>
        </p:nvPicPr>
        <p:blipFill>
          <a:blip r:embed="rId1"/>
          <a:stretch/>
        </p:blipFill>
        <p:spPr>
          <a:xfrm>
            <a:off x="1357200" y="2786040"/>
            <a:ext cx="62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, что я услышал, я забыл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То, что я увидел, я помню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То, что я сделал, я зна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456876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ворчески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спех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Corowina</dc:creator>
  <dc:description/>
  <dc:language>en-US</dc:language>
  <cp:lastModifiedBy>Женя</cp:lastModifiedBy>
  <dcterms:modified xsi:type="dcterms:W3CDTF">2015-10-20T18:36:00Z</dcterms:modified>
  <cp:revision>75</cp:revision>
  <dc:subject/>
  <dc:title>Слайд 1</dc:title>
</cp:coreProperties>
</file>