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3.jpeg" ContentType="image/jpeg"/>
  <Override PartName="/ppt/media/image12.png" ContentType="image/png"/>
  <Override PartName="/ppt/media/image41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36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6B0-D3DE-4BA8-8AE2-BE2DCD1E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8E6-742A-45F2-8BF6-A87F77DD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B1A-7E8B-4614-B7DE-13187450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A78-E1F5-47AA-AA4B-666C7BA1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25ED-B3C6-471E-9F43-B74F8652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D40F-26DC-4C94-873A-F78ED141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DF6F-25F2-461B-9D3C-46213995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7B3E-EC39-4575-BA4A-F103CAC2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DCF0-4867-4BDD-964B-72D318E9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393D-0D41-4225-8325-1E2502D7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B050-4996-4FE2-AC2A-EC1840CB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EB74-5710-4F48-A629-0DACC49B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1E79-3EA3-4395-80C7-43F61DCB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A57E-B8B6-4979-8983-E188D773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61E5-5117-4F18-BF1B-EE7BA240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2E98-D14B-4438-85FF-A1F5B7DD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7E6E-5514-4C89-9E33-7B7E9415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34989-11AF-410A-AB68-55E545A2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C8DFC-3275-407E-8536-B2CEEF0A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C2756-91ED-4763-85BB-78E8CC3E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DCA68-06F9-43D0-823F-5BA605C9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1778B-ED4E-4BCB-AAA5-3F0CD1D7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4C0-7572-498F-99AC-479754AE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790CC-89A7-4F49-AABC-93608B16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6C780-F5D8-4E5A-8B7A-03792D7D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D4AED-2235-4D79-BB9E-8603EDD6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CC85A-3DBD-4FED-91AA-7B11E8ED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11CE8-EDE0-4840-973E-05F7BA43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37EEF-4FE6-4CCE-BDF5-2BD93E67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6EB02-CAC3-4409-A98C-AD73AA35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90F6B-47CA-4F17-AD66-2300F3E3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9C4C7-F4F0-4594-AD0B-829C5DC7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34510-7418-481A-8CAD-63E48D50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F58-42B7-462E-81A7-0C884038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12215-D034-4F2D-A372-F4C315B4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29B4D-53A9-46D7-A4CE-1E7103C6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5AD0F-13EC-4451-8868-5B7A4CC4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F37E1-8B53-4149-B917-2ECFCE66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75DCB-3A3C-4910-9AD1-F6E94374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677F1-2C9D-423D-BB06-DB62343D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15913-043A-4B47-B964-FCDE6540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65FE1-4698-4010-9696-D8F979EE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66449-B6C5-4856-AB76-6C24D123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00AF7-B04A-462F-821D-75F663C9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685-6E26-4F27-A5D3-20954396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34A5AF-8BCD-4025-9EE2-4872167C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C5788-26C4-4898-BB79-0FADAB04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364D1-50AA-47B7-AE01-F8E89DBF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54854-100A-48D0-A999-7FCE1785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A26F67-DCB0-48F1-8C22-A9BDA8E9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52F929-7B87-482B-9FCD-5794CCBC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228E0-0021-43A3-93B5-2831EA17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F211D-A43E-4261-A99A-10CE0CBF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B86D2-1CD7-4C44-80BB-C062BBBF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6E427B-CFCE-4C7A-A572-D54D3667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C05-4DED-4C8A-972C-3B116986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C8804A-3C29-4E04-ACBB-4D60DF64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0CA26A-07B0-4A6A-9544-9062C576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7318C3-F999-41CE-B479-CB712697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A890E-3E64-4042-9443-768DFC82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568317-4103-4904-8D69-02A7ABD5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549DAC-818B-4B99-A110-854CBCB0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5974F9-5A23-4705-AAAF-AA2F5DAC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5191CC-ACF8-4C6C-BA6B-0F90987E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3EAC0D-8ADE-4EF9-A02E-6FADF8AC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A00E72-EF2A-4F09-BF07-34D86725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4D7A-FEC8-4A78-88A4-B57CF0F5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0909F2-3CC7-48A9-B57E-C42D79A7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16C485-463A-43F9-B6B1-7269BD8C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A941CE-A2D9-4B85-8518-9A6BA1D7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274971-5AF5-4717-A327-EA62E632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BCAB0D-8DF8-4D53-9A0E-D20AFBEC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F135D2-46C8-4E79-9D84-913B5E71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1E11DA-7FD3-434E-B5C4-D768A2CF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C6C0EE-F8F7-452B-B36D-9D972220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7D883B-764D-4FB3-AFD5-E140545C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971736-6646-4B7D-9277-69BA8296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CE00-E135-4412-842D-4E04AA70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A4E864-ECC1-4202-9512-B1C50F75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2CA789-8EFF-4DA8-92CF-7DE4B1F1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2E9C78-56CC-4937-B536-5D6DA25F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25562-F311-48F4-BA7F-76BB2208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EF5614-068E-4587-8B1C-CF03B1F7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3B3-25AA-4099-9177-244227A2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1659-9D88-4C50-BE79-4F325981B2E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D41F-C565-4334-A396-7CD3D5F9B9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07C1-94AE-4F5E-A662-BBC2577D952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EC0A-9A9C-495C-A152-206B9FC7A3F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0DE6-617F-41CD-A4CA-0C5524D1CE3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257D-5342-4C09-8AB8-7BC5180A7E5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5D27-BED5-4073-A7CA-16DE789009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2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07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ЕТООТРАЖАТЕЛЬ - ВАЖНЫЙ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ОЩНИК НА ДОРОГ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4" descr="4ea0cf9123bb"/>
          <p:cNvPicPr/>
          <p:nvPr/>
        </p:nvPicPr>
        <p:blipFill>
          <a:blip r:embed="rId1"/>
          <a:stretch/>
        </p:blipFill>
        <p:spPr>
          <a:xfrm>
            <a:off x="2484360" y="2349360"/>
            <a:ext cx="446400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900000" y="549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нтересах пешехода, во время пересечения проезжей часть даже по пешеходному переходу, обозначить свое присутствие на дороге, дав возможность водителю вовремя затормози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3" name="Picture 3" descr="SL_Kids_52"/>
          <p:cNvPicPr/>
          <p:nvPr/>
        </p:nvPicPr>
        <p:blipFill>
          <a:blip r:embed="rId1"/>
          <a:stretch/>
        </p:blipFill>
        <p:spPr>
          <a:xfrm>
            <a:off x="1547640" y="2492280"/>
            <a:ext cx="5864400" cy="303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611280" y="404640"/>
            <a:ext cx="82087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световозвращающие приспособления позволяют водителю увидеть пешеход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значительном расстоян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звращающие элементы способны отражать свет, падающий под любым углом, что особенно важно на дороге, когда свет фар идет сниз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Picture 3" descr="SL_Kids_37"/>
          <p:cNvPicPr/>
          <p:nvPr/>
        </p:nvPicPr>
        <p:blipFill>
          <a:blip r:embed="rId1"/>
          <a:stretch/>
        </p:blipFill>
        <p:spPr>
          <a:xfrm>
            <a:off x="1692360" y="3284640"/>
            <a:ext cx="5688000" cy="3273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4674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9bc04"/>
                </a:solidFill>
                <a:latin typeface="Times New Roman"/>
                <a:ea typeface="Times New Roman"/>
              </a:rPr>
              <a:t>МАМУ ТОЖЕ ДОЛЖНЫ ВИДЕТЬ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Прямоугольник 4"/>
          <p:cNvSpPr/>
          <p:nvPr/>
        </p:nvSpPr>
        <p:spPr>
          <a:xfrm>
            <a:off x="1116000" y="1052640"/>
            <a:ext cx="712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 только тебе нужно быть видным, н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воей маме, папе, сестре, братику, бабушке и дедушке!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ни, что в темное время суток, во время дождя, снегопада и туман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с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новя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темными» пешеход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5" descr="C:\Users\home\Desktop\img4.jpg"/>
          <p:cNvPicPr/>
          <p:nvPr/>
        </p:nvPicPr>
        <p:blipFill>
          <a:blip r:embed="rId1"/>
          <a:stretch/>
        </p:blipFill>
        <p:spPr>
          <a:xfrm>
            <a:off x="2771640" y="386064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379680" y="375120"/>
            <a:ext cx="4410000" cy="105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ДЕ ДОЛЖЕН БЫТЬ СВЕТОВОЗВРАЩАТЕЛЬ</a:t>
            </a: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0" name="Picture 3" descr="14"/>
          <p:cNvPicPr/>
          <p:nvPr/>
        </p:nvPicPr>
        <p:blipFill>
          <a:blip r:embed="rId1"/>
          <a:stretch/>
        </p:blipFill>
        <p:spPr>
          <a:xfrm>
            <a:off x="539640" y="2421000"/>
            <a:ext cx="5761080" cy="2440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6"/>
          <p:cNvPicPr/>
          <p:nvPr/>
        </p:nvPicPr>
        <p:blipFill>
          <a:blip r:embed="rId2"/>
          <a:stretch/>
        </p:blipFill>
        <p:spPr>
          <a:xfrm>
            <a:off x="6588000" y="2060640"/>
            <a:ext cx="2016360" cy="38876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11"/>
          <p:cNvPicPr/>
          <p:nvPr/>
        </p:nvPicPr>
        <p:blipFill>
          <a:blip r:embed="rId3"/>
          <a:stretch/>
        </p:blipFill>
        <p:spPr>
          <a:xfrm>
            <a:off x="1103400" y="517680"/>
            <a:ext cx="16095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ГДЕ РАСПОЛОЖИТЬ ФЛИКЕРЫ?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900000" y="105228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ветоотражающие элементы должны располагать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местах, которые будут доступны для просмотра с большого расстояния. Это могут быть подвески, которые крепятся на ремне или поясе, нарукавные повязки или браслеты, полоски на спине или груди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. Светоотражающие материалы могут быть закреплен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сумках или рюкзаках, но так, чтобы проезжающие водители могли их замети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404280"/>
            <a:ext cx="8229600" cy="29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бязательно носите светоотражающие наклейки или ленты на одежде. Для детей такие наклейки могут быть выполнены в виде персонажей из мультфильмов и сказок. При попадании на них света от фар проезжающего автомобиля, они будут отражать свет, и водитель сможет вовремя отреагирова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6" name="Picture 5" descr="1_26"/>
          <p:cNvPicPr/>
          <p:nvPr/>
        </p:nvPicPr>
        <p:blipFill>
          <a:blip r:embed="rId1"/>
          <a:stretch/>
        </p:blipFill>
        <p:spPr>
          <a:xfrm>
            <a:off x="5003640" y="3645000"/>
            <a:ext cx="2986200" cy="2985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1443923"/>
          <p:cNvPicPr/>
          <p:nvPr/>
        </p:nvPicPr>
        <p:blipFill>
          <a:blip r:embed="rId2"/>
          <a:stretch/>
        </p:blipFill>
        <p:spPr>
          <a:xfrm>
            <a:off x="971640" y="4292640"/>
            <a:ext cx="34574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 ЖЕ ЕСТЬ СПЕЦИАЛЬНАЯ ОДЕЖДА СО СВЕТОВОЗВРАЩАЮЩИМИ ЭЛЕМЕНТАМИ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9" name="Picture 5" descr="clo3"/>
          <p:cNvPicPr/>
          <p:nvPr/>
        </p:nvPicPr>
        <p:blipFill>
          <a:blip r:embed="rId1"/>
          <a:stretch/>
        </p:blipFill>
        <p:spPr>
          <a:xfrm>
            <a:off x="324000" y="1413000"/>
            <a:ext cx="2660400" cy="35319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lo2"/>
          <p:cNvPicPr/>
          <p:nvPr/>
        </p:nvPicPr>
        <p:blipFill>
          <a:blip r:embed="rId2"/>
          <a:stretch/>
        </p:blipFill>
        <p:spPr>
          <a:xfrm>
            <a:off x="5940360" y="1484280"/>
            <a:ext cx="2519280" cy="33447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6"/>
          <p:cNvPicPr/>
          <p:nvPr/>
        </p:nvPicPr>
        <p:blipFill>
          <a:blip r:embed="rId3"/>
          <a:stretch/>
        </p:blipFill>
        <p:spPr>
          <a:xfrm>
            <a:off x="2916360" y="4076640"/>
            <a:ext cx="335124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ДОРОЖНОГО ДВИЖЕНИЯ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Ф, П. 4.1: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26920" y="12682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движении по обочинам или краю проезжей части в темное время суток или в условиях недостаточной видимости пешеходам рекомендуется иметь при себе предметы со </a:t>
            </a:r>
            <a:r>
              <a:rPr b="0" lang="ru-RU" sz="2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</a:rPr>
              <a:t>световозвращающими элемент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беспечивать видимость этих предметов водителями транспортных средств»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4" name="Picture 4" descr="ПДД"/>
          <p:cNvPicPr/>
          <p:nvPr/>
        </p:nvPicPr>
        <p:blipFill>
          <a:blip r:embed="rId1"/>
          <a:stretch/>
        </p:blipFill>
        <p:spPr>
          <a:xfrm>
            <a:off x="7093080" y="4316400"/>
            <a:ext cx="17175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788000" y="620280"/>
            <a:ext cx="435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Помните и стар, и млад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Выполняйте строго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Пешеходу – тротуар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Транспорту – дорога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Не случилась чтоб бед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Не было б увечья –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Надо  двигаться всег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Транспорту навстреч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Правила дорожны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Нужно знать не понаслышк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И учить их не слегк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А всерьёз – наверняка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6" name="Picture 4" descr="C:\Users\home\Desktop\eBPmLvk_E68.jpg"/>
          <p:cNvPicPr/>
          <p:nvPr/>
        </p:nvPicPr>
        <p:blipFill>
          <a:blip r:embed="rId1"/>
          <a:stretch/>
        </p:blipFill>
        <p:spPr>
          <a:xfrm>
            <a:off x="468360" y="836640"/>
            <a:ext cx="39243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ПРОСЫ ДЛЯ ЗАКРЕПЛЕНИЯ МАТЕРИАЛА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такое световозвращени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ого цвета световозвращатели имеют самый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учший световозвращающий эффект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гда появляются «темные» пешеходы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то должен носить световозвращател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ие виды световозвращателей ты знаеш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Выноска-облако 8"/>
          <p:cNvSpPr/>
          <p:nvPr/>
        </p:nvSpPr>
        <p:spPr>
          <a:xfrm>
            <a:off x="2484360" y="1125360"/>
            <a:ext cx="6335640" cy="4967640"/>
          </a:xfrm>
          <a:prstGeom prst="cloudCallout">
            <a:avLst>
              <a:gd name="adj1" fmla="val -64976"/>
              <a:gd name="adj2" fmla="val 52972"/>
            </a:avLst>
          </a:prstGeom>
          <a:solidFill>
            <a:srgbClr val="0099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58920" y="1916280"/>
            <a:ext cx="5010120" cy="25207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 fontScale="75000"/>
          </a:bodyPr>
          <a:p>
            <a:pPr marL="204480" indent="-2044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вет, ребята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04480" indent="-2044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ня зовут Световозвращатель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04480" indent="-2044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которые называют меня Светоотражатель, а иногда меня могут звать Катафот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04480" indent="-2044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годня я расскажу Вам о том, почему нужно использовать световозвращатели и как они могут Вам помочь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04480" indent="-204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10" descr="4"/>
          <p:cNvPicPr/>
          <p:nvPr/>
        </p:nvPicPr>
        <p:blipFill>
          <a:blip r:embed="rId1"/>
          <a:stretch/>
        </p:blipFill>
        <p:spPr>
          <a:xfrm>
            <a:off x="395280" y="333360"/>
            <a:ext cx="1008000" cy="973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12"/>
          <p:cNvPicPr/>
          <p:nvPr/>
        </p:nvPicPr>
        <p:blipFill>
          <a:blip r:embed="rId2"/>
          <a:stretch/>
        </p:blipFill>
        <p:spPr>
          <a:xfrm>
            <a:off x="1908000" y="62064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babo"/>
          <p:cNvPicPr/>
          <p:nvPr/>
        </p:nvPicPr>
        <p:blipFill>
          <a:blip r:embed="rId3"/>
          <a:stretch/>
        </p:blipFill>
        <p:spPr>
          <a:xfrm>
            <a:off x="611280" y="170028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1" descr="fea"/>
          <p:cNvPicPr/>
          <p:nvPr/>
        </p:nvPicPr>
        <p:blipFill>
          <a:blip r:embed="rId4"/>
          <a:stretch/>
        </p:blipFill>
        <p:spPr>
          <a:xfrm>
            <a:off x="395280" y="29973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11"/>
          <p:cNvPicPr/>
          <p:nvPr/>
        </p:nvPicPr>
        <p:blipFill>
          <a:blip r:embed="rId5"/>
          <a:stretch/>
        </p:blipFill>
        <p:spPr>
          <a:xfrm>
            <a:off x="-152280" y="5059440"/>
            <a:ext cx="18889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i03-25-01-2012"/>
          <p:cNvPicPr/>
          <p:nvPr/>
        </p:nvPicPr>
        <p:blipFill>
          <a:blip r:embed="rId1"/>
          <a:stretch/>
        </p:blipFill>
        <p:spPr>
          <a:xfrm>
            <a:off x="1332000" y="3429000"/>
            <a:ext cx="6172200" cy="25146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5"/>
          <p:cNvSpPr/>
          <p:nvPr/>
        </p:nvSpPr>
        <p:spPr>
          <a:xfrm>
            <a:off x="468360" y="260280"/>
            <a:ext cx="822960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5f6d"/>
                </a:solidFill>
                <a:latin typeface="Times New Roman"/>
              </a:rPr>
              <a:t>Уважаемые пешехо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удьте бдительн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сегда одевайте одежду со светоотражател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тёмное время суток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Безопасность на дороге – залог Вашего здоровь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11"/>
          <p:cNvPicPr/>
          <p:nvPr/>
        </p:nvPicPr>
        <p:blipFill>
          <a:blip r:embed="rId2"/>
          <a:stretch/>
        </p:blipFill>
        <p:spPr>
          <a:xfrm>
            <a:off x="684360" y="287280"/>
            <a:ext cx="12236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94920" y="15573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овозвращ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когда свет (от фар, например), падающий на поверхность, почти полностью возвращается обратно в направлении источника света. Проще всего понять это на примере кошачьих глаз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бсолютной темноте кошка не видна, но если посветить ей в мордочку фонариком или светом фар, то глаза кошки можно заметить на дальнем расстоян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355480" y="378360"/>
            <a:ext cx="5800680" cy="113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ДЛЯ НАЧАЛА, Я РАССКАЖУ ВАМ, ЧТО ТАКОЕ СВЕТОВОЗВРАЩЕНИЕ И КАК РАБОТАЕТ СВЕТОВОЗВРАЩАТЕЛЬ!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18 copy"/>
          <p:cNvPicPr/>
          <p:nvPr/>
        </p:nvPicPr>
        <p:blipFill>
          <a:blip r:embed="rId1"/>
          <a:stretch/>
        </p:blipFill>
        <p:spPr>
          <a:xfrm>
            <a:off x="6059520" y="4591080"/>
            <a:ext cx="2895480" cy="22795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11"/>
          <p:cNvPicPr/>
          <p:nvPr/>
        </p:nvPicPr>
        <p:blipFill>
          <a:blip r:embed="rId2"/>
          <a:stretch/>
        </p:blipFill>
        <p:spPr>
          <a:xfrm>
            <a:off x="384120" y="378000"/>
            <a:ext cx="16034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тёмное время суток увеличивается число дорожно-транспортных происшествий, связанных с наездом на пешеходов. Чаще всего причиной этого является плохая видимость пешехода. Водителю сложно разглядеть человека из салона автомобиля ночью, если на нём тёмная одежда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того, что бы уменьшить аварийность на дорогах, разработаны специальные светоотражающие наклейки и нашивки на одежду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Прямоугольник 3" descr=""/>
          <p:cNvPicPr/>
          <p:nvPr/>
        </p:nvPicPr>
        <p:blipFill>
          <a:blip r:embed="rId1"/>
          <a:stretch/>
        </p:blipFill>
        <p:spPr>
          <a:xfrm>
            <a:off x="603360" y="231840"/>
            <a:ext cx="743112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237480" y="446400"/>
            <a:ext cx="4468680" cy="105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Т КАК «РАБОТАЕТ» СВЕТОВОЗВРАЩАТЕЛЬ!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Picture 5" descr="21"/>
          <p:cNvPicPr/>
          <p:nvPr/>
        </p:nvPicPr>
        <p:blipFill>
          <a:blip r:embed="rId1"/>
          <a:stretch/>
        </p:blipFill>
        <p:spPr>
          <a:xfrm>
            <a:off x="684360" y="2060640"/>
            <a:ext cx="3240000" cy="4370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20"/>
          <p:cNvPicPr/>
          <p:nvPr/>
        </p:nvPicPr>
        <p:blipFill>
          <a:blip r:embed="rId2"/>
          <a:stretch/>
        </p:blipFill>
        <p:spPr>
          <a:xfrm>
            <a:off x="4356000" y="2060640"/>
            <a:ext cx="3241800" cy="43225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11"/>
          <p:cNvPicPr/>
          <p:nvPr/>
        </p:nvPicPr>
        <p:blipFill>
          <a:blip r:embed="rId3"/>
          <a:stretch/>
        </p:blipFill>
        <p:spPr>
          <a:xfrm>
            <a:off x="1322280" y="878040"/>
            <a:ext cx="16034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39640" y="19843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ветовозвраща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светоотражатель) —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устройство обеспечения безопасност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лучшим световозвращающим эффектом обладают световозвращател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о-белого и лимонного цвет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750840" y="302040"/>
            <a:ext cx="4677840" cy="105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ЭТОМУ, ЗАПОМНИТЕ РЕБЯТА!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11"/>
          <p:cNvPicPr/>
          <p:nvPr/>
        </p:nvPicPr>
        <p:blipFill>
          <a:blip r:embed="rId1"/>
          <a:stretch/>
        </p:blipFill>
        <p:spPr>
          <a:xfrm>
            <a:off x="1682640" y="590400"/>
            <a:ext cx="1603440" cy="1914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22"/>
          <p:cNvPicPr/>
          <p:nvPr/>
        </p:nvPicPr>
        <p:blipFill>
          <a:blip r:embed="rId2"/>
          <a:stretch/>
        </p:blipFill>
        <p:spPr>
          <a:xfrm>
            <a:off x="2627280" y="4653000"/>
            <a:ext cx="216072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467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СВЕТОВОЗВРАЩАТЕЛЕЙ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4000" y="1483920"/>
            <a:ext cx="13777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Брел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3" descr="fea"/>
          <p:cNvPicPr/>
          <p:nvPr/>
        </p:nvPicPr>
        <p:blipFill>
          <a:blip r:embed="rId1"/>
          <a:stretch/>
        </p:blipFill>
        <p:spPr>
          <a:xfrm>
            <a:off x="6595920" y="3213000"/>
            <a:ext cx="1306800" cy="8924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rnd-041"/>
          <p:cNvPicPr/>
          <p:nvPr/>
        </p:nvPicPr>
        <p:blipFill>
          <a:blip r:embed="rId2"/>
          <a:stretch/>
        </p:blipFill>
        <p:spPr>
          <a:xfrm>
            <a:off x="7524720" y="2276640"/>
            <a:ext cx="1238400" cy="84600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11"/>
          <p:cNvSpPr/>
          <p:nvPr/>
        </p:nvSpPr>
        <p:spPr>
          <a:xfrm>
            <a:off x="7170840" y="4050360"/>
            <a:ext cx="18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на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8" descr="4"/>
          <p:cNvPicPr/>
          <p:nvPr/>
        </p:nvPicPr>
        <p:blipFill>
          <a:blip r:embed="rId3"/>
          <a:stretch/>
        </p:blipFill>
        <p:spPr>
          <a:xfrm>
            <a:off x="6372360" y="4508640"/>
            <a:ext cx="1363680" cy="900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1" descr="14"/>
          <p:cNvPicPr/>
          <p:nvPr/>
        </p:nvPicPr>
        <p:blipFill>
          <a:blip r:embed="rId4"/>
          <a:stretch/>
        </p:blipFill>
        <p:spPr>
          <a:xfrm>
            <a:off x="6659640" y="5589720"/>
            <a:ext cx="1227240" cy="838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7" descr="tiger2"/>
          <p:cNvPicPr/>
          <p:nvPr/>
        </p:nvPicPr>
        <p:blipFill>
          <a:blip r:embed="rId5"/>
          <a:stretch/>
        </p:blipFill>
        <p:spPr>
          <a:xfrm>
            <a:off x="6156360" y="2133720"/>
            <a:ext cx="1338120" cy="9144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6"/>
          <p:cNvSpPr/>
          <p:nvPr/>
        </p:nvSpPr>
        <p:spPr>
          <a:xfrm>
            <a:off x="6443640" y="1483560"/>
            <a:ext cx="15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Шев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serdc"/>
          <p:cNvPicPr/>
          <p:nvPr/>
        </p:nvPicPr>
        <p:blipFill>
          <a:blip r:embed="rId6"/>
          <a:stretch/>
        </p:blipFill>
        <p:spPr>
          <a:xfrm>
            <a:off x="7885080" y="4581360"/>
            <a:ext cx="1015920" cy="101628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5"/>
          <p:cNvSpPr/>
          <p:nvPr/>
        </p:nvSpPr>
        <p:spPr>
          <a:xfrm>
            <a:off x="990720" y="3274920"/>
            <a:ext cx="344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амоклеющиеся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шивные л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13" descr="l3"/>
          <p:cNvPicPr/>
          <p:nvPr/>
        </p:nvPicPr>
        <p:blipFill>
          <a:blip r:embed="rId7">
            <a:lum contrast="40000"/>
          </a:blip>
          <a:stretch/>
        </p:blipFill>
        <p:spPr>
          <a:xfrm>
            <a:off x="2743200" y="4267080"/>
            <a:ext cx="2158920" cy="1452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4" descr="l6"/>
          <p:cNvPicPr/>
          <p:nvPr/>
        </p:nvPicPr>
        <p:blipFill>
          <a:blip r:embed="rId8">
            <a:lum contrast="20000"/>
          </a:blip>
          <a:stretch/>
        </p:blipFill>
        <p:spPr>
          <a:xfrm>
            <a:off x="457200" y="4343400"/>
            <a:ext cx="2089080" cy="13921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9" descr="ornament2"/>
          <p:cNvPicPr/>
          <p:nvPr/>
        </p:nvPicPr>
        <p:blipFill>
          <a:blip r:embed="rId9"/>
          <a:stretch/>
        </p:blipFill>
        <p:spPr>
          <a:xfrm>
            <a:off x="3886200" y="1905120"/>
            <a:ext cx="969840" cy="9586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6" descr="ser"/>
          <p:cNvPicPr/>
          <p:nvPr/>
        </p:nvPicPr>
        <p:blipFill>
          <a:blip r:embed="rId10"/>
          <a:stretch/>
        </p:blipFill>
        <p:spPr>
          <a:xfrm>
            <a:off x="2717640" y="1879560"/>
            <a:ext cx="1016280" cy="1015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2" descr="babo"/>
          <p:cNvPicPr/>
          <p:nvPr/>
        </p:nvPicPr>
        <p:blipFill>
          <a:blip r:embed="rId11"/>
          <a:stretch/>
        </p:blipFill>
        <p:spPr>
          <a:xfrm>
            <a:off x="1600200" y="2082960"/>
            <a:ext cx="1015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ИДЫ СВЕТООТРАЖАЮЩИХ ЭЛЕМЕНТОВ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8360" y="3499920"/>
            <a:ext cx="3348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ветоотражающие полос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5" descr="52b276"/>
          <p:cNvPicPr/>
          <p:nvPr/>
        </p:nvPicPr>
        <p:blipFill>
          <a:blip r:embed="rId1"/>
          <a:stretch/>
        </p:blipFill>
        <p:spPr>
          <a:xfrm>
            <a:off x="1042920" y="1484280"/>
            <a:ext cx="2952720" cy="18702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post-66670-1247911745_thumb"/>
          <p:cNvPicPr/>
          <p:nvPr/>
        </p:nvPicPr>
        <p:blipFill>
          <a:blip r:embed="rId2"/>
          <a:stretch/>
        </p:blipFill>
        <p:spPr>
          <a:xfrm>
            <a:off x="5940360" y="1773360"/>
            <a:ext cx="2664000" cy="167148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9"/>
          <p:cNvSpPr/>
          <p:nvPr/>
        </p:nvSpPr>
        <p:spPr>
          <a:xfrm>
            <a:off x="5651640" y="3789360"/>
            <a:ext cx="25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Флик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2556000" y="836640"/>
            <a:ext cx="468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ветоотражающие повязки, значки и жил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1" descr="4b592fe2592b8fdad53e32b79e0f6d92"/>
          <p:cNvPicPr/>
          <p:nvPr/>
        </p:nvPicPr>
        <p:blipFill>
          <a:blip r:embed="rId3"/>
          <a:stretch/>
        </p:blipFill>
        <p:spPr>
          <a:xfrm>
            <a:off x="611280" y="4508640"/>
            <a:ext cx="2881080" cy="18716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2" descr="P1010008"/>
          <p:cNvPicPr/>
          <p:nvPr/>
        </p:nvPicPr>
        <p:blipFill>
          <a:blip r:embed="rId4"/>
          <a:stretch/>
        </p:blipFill>
        <p:spPr>
          <a:xfrm>
            <a:off x="5148360" y="4365720"/>
            <a:ext cx="3095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408840" y="375120"/>
            <a:ext cx="5143320" cy="105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ОЧЕМУ НУЖНО ПОЛЬЗОВАТЬСЯ СВЕТОВОЗВРАЩА-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ЕЛЕМ?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Picture 3" descr="5"/>
          <p:cNvPicPr/>
          <p:nvPr/>
        </p:nvPicPr>
        <p:blipFill>
          <a:blip r:embed="rId1"/>
          <a:stretch/>
        </p:blipFill>
        <p:spPr>
          <a:xfrm>
            <a:off x="457200" y="1762200"/>
            <a:ext cx="3657600" cy="424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269960" y="1600200"/>
            <a:ext cx="411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емное время суток, ночью или в сумерк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 время тумана, дождя и снегопада на дорогах появляются «темные» пешеход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сеннее и зимнее время, когда на улице поздно светает и рано темнеет, такого пешехода обнаружить очень и очень не прост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2" descr="11"/>
          <p:cNvPicPr/>
          <p:nvPr/>
        </p:nvPicPr>
        <p:blipFill>
          <a:blip r:embed="rId2"/>
          <a:stretch/>
        </p:blipFill>
        <p:spPr>
          <a:xfrm>
            <a:off x="1103400" y="517680"/>
            <a:ext cx="16095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20:56:30Z</dcterms:created>
  <dc:creator>admin</dc:creator>
  <dc:description/>
  <dc:language>en-US</dc:language>
  <cp:lastModifiedBy>home</cp:lastModifiedBy>
  <dcterms:modified xsi:type="dcterms:W3CDTF">2015-10-19T21:26:10Z</dcterms:modified>
  <cp:revision>23</cp:revision>
  <dc:subject/>
  <dc:title>Дорога! Дети! Безопасность!</dc:title>
</cp:coreProperties>
</file>