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2.png" ContentType="image/png"/>
  <Override PartName="/ppt/media/image4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D73-B204-42BD-A0FD-F5620867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817-BFE6-40F8-BF9B-A56CBAE8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04A-05E2-4173-A7F9-16B5FD35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B31-DE49-48B9-89E9-2D2938A5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5328-C40D-48DF-BC82-E67548B6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9EF3-898C-423C-992A-6B3D9317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1848-B5EF-4DE8-9079-C595F2B4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B865-764A-4093-B80C-4DEB231A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3F9F-4E4D-43A5-A9CC-69BEC8D5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572F-5EBA-4117-8847-63A7981A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35A3-C9B1-4FEB-90A5-5EC6C469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16E-4951-46CD-B9D5-C37F6C1D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9130-AD98-48C0-B458-3C5C49E2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168D-B4D0-4B31-9E8E-EC1401F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3867-6020-4594-9AA8-2AFD2B45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F334-0802-41AD-A8EA-9119CEA3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8782-47E6-4DD4-998F-EB7045B9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267FC-CCA9-443F-9CE5-01B4A642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455C3-CF1E-4CB8-A635-08479E11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B2BD3-99BF-4695-8553-6D90CA25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BA7C0-AE39-4271-814A-615E9EDC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5B461-504F-40D4-B16A-7768576D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25A-E73E-46A6-8DFF-FB850B56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00855-102E-4D49-9C38-00BF461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94E18-749A-4C9A-8342-AFF99EEB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037C0-74F8-44DB-8CDE-8261910C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C4A9B-94DC-4645-83AF-371088DB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BEF34-D1EB-4BA2-A375-3F61CB33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945E8-2A15-4BE6-938E-29F2EC17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76F52-7A85-42B9-BFAC-715168EF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392E4-E689-4AB2-8357-FB94878D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C564-71E3-492C-B86D-095A9BF5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7A2A6-7939-4573-A4B3-B5F8C140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850-8699-40D6-A21A-37752F5E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55D96-7689-4DE4-8BE3-57BDFB27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33D6-4D5F-48A3-84E1-53EDE2EF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03B35-D40D-4118-BFEE-95585E76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C90FC-75EA-4980-9AF8-6A56E3F6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7EFA-11A5-4727-B093-B6B14F92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4239-ED78-4DA7-BD6E-A38A1FE7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6BB4-7A54-470B-8EAE-AF964C9C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FDD1-2E5D-41A0-8966-3B5E5F26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88FD-2C2A-40A1-BE4C-3403E294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B46B5-0105-47E0-85EC-A26F808C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81E-C247-4DBE-8BCF-B6B890DE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BD87C-9E47-410A-AA30-817820DA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88159-1D6E-4521-BF57-1BDFD70B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06509-D1BE-4A96-B2A0-0FE2079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35790-7E67-4E86-89E0-ABB75495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5BE69-0297-49F6-BC6B-A7F8E65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5AD1F-8C08-4EE5-89F7-0AA4587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867A4-8EE5-4DB1-B06E-B6295B9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9BE77-3104-4A41-8ADE-4C94249B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043EF-FEEF-4F1E-93E8-BC5E3225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4E71B-4354-4E9C-A282-8E81DBEA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4AF-8754-4C15-8A0B-144B3E14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218A6-E9A7-4AF7-B7D8-6F788C7A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B71FD-026A-4349-BDD2-01A58CA5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6BFA5-E17B-4604-A728-2995C75F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7843D-EECB-43B5-B106-78FC124C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60B1D-E5E2-451C-9F45-39FEDC35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C7F15-3D9C-4D7E-BBD0-04D6A3D3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639D2-C7A3-4FFF-B9E9-39FA4D90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FBF3D-A825-4C9D-B442-86C6B57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A6BC3-0573-4CD1-B576-6714C62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AED21-F9B7-4646-B8C6-76946762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33C-9574-47E2-B2C8-9883A00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ECE67-1DE7-4363-88C2-F7543813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95CB2-25AD-4B3F-AF93-7D9DDFE0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1A1A0-7E52-4044-BAEC-E6AA8831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761CF-2219-48D4-978D-475F7391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0F664-4372-4374-9171-C4E75DA2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3E364-DF93-4D46-A17B-6A7EBA20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ACAC17-A191-41E4-A935-FE6A25BB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CD721-39FC-4DA0-8028-CE3CEC11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2A3CE-96DC-4AD9-9B67-28FD9B2C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34C43-7312-4B1A-BA94-11887357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629-EE25-4B43-AB05-05C2B05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8FC40-0D4A-4A31-B5BC-EAC5966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C9222-E856-4AC4-B3C0-EFE1A394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4DB80-A04E-4B0F-AA63-87D7C9FC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00B9B-1E3D-4579-94E4-34EC83D0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15803-56F3-40D4-9531-B09CB192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177-8062-4144-83B2-92D1AAC4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416E-7C71-4661-8918-37A933A154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277-B1A0-400D-8EAA-E3EEA0E899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B82-39D2-4013-A4D8-48D0344F6E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7287-F9E1-48C9-BCCF-1BB1D2A201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12A5-73EE-44EF-AC38-F55E2DED04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4167-5B57-47DA-BADC-38F9559DD9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6E71-DA6C-418E-9F9E-3265845E5C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07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ЕТООТРАЖАТЕЛЬ - ВАЖНЫЙ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ЩНИК НА ДОРОГ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4" descr="4ea0cf9123bb"/>
          <p:cNvPicPr/>
          <p:nvPr/>
        </p:nvPicPr>
        <p:blipFill>
          <a:blip r:embed="rId1"/>
          <a:stretch/>
        </p:blipFill>
        <p:spPr>
          <a:xfrm>
            <a:off x="2484360" y="2349360"/>
            <a:ext cx="44640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900000" y="549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тересах пешехода, во время пересечения проезжей часть даже по пешеходному переходу, обозначить свое присутствие на дороге, дав возможность водителю вовремя затормози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3" descr="SL_Kids_52"/>
          <p:cNvPicPr/>
          <p:nvPr/>
        </p:nvPicPr>
        <p:blipFill>
          <a:blip r:embed="rId1"/>
          <a:stretch/>
        </p:blipFill>
        <p:spPr>
          <a:xfrm>
            <a:off x="1547640" y="2492280"/>
            <a:ext cx="5864400" cy="303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611280" y="404640"/>
            <a:ext cx="82087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световозвращающие приспособления позволяют водителю увидеть пешеход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значительном расстоя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ие элементы способны отражать свет, падающий под любым углом, что особенно важно на дороге, когда свет фар идет сниз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3" descr="SL_Kids_37"/>
          <p:cNvPicPr/>
          <p:nvPr/>
        </p:nvPicPr>
        <p:blipFill>
          <a:blip r:embed="rId1"/>
          <a:stretch/>
        </p:blipFill>
        <p:spPr>
          <a:xfrm>
            <a:off x="1692360" y="3284640"/>
            <a:ext cx="5688000" cy="3273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4674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9bc04"/>
                </a:solidFill>
                <a:latin typeface="Times New Roman"/>
                <a:ea typeface="Times New Roman"/>
              </a:rPr>
              <a:t>МАМУ ТОЖЕ ДОЛЖНЫ ВИДЕТЬ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1116000" y="1052640"/>
            <a:ext cx="71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 только тебе нужно быть видным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воей маме, папе, сестре, братику, бабушке и дедушке!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ни, что в темное время суток, во время дождя, снегопада и туман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с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овя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темными» пешеход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5" descr="C:\Users\home\Desktop\img4.jpg"/>
          <p:cNvPicPr/>
          <p:nvPr/>
        </p:nvPicPr>
        <p:blipFill>
          <a:blip r:embed="rId1"/>
          <a:stretch/>
        </p:blipFill>
        <p:spPr>
          <a:xfrm>
            <a:off x="2771640" y="386064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379680" y="375120"/>
            <a:ext cx="4410000" cy="10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 ДОЛЖЕН БЫТЬ СВЕТОВОЗВРАЩАТЕЛЬ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Picture 3" descr="14"/>
          <p:cNvPicPr/>
          <p:nvPr/>
        </p:nvPicPr>
        <p:blipFill>
          <a:blip r:embed="rId1"/>
          <a:stretch/>
        </p:blipFill>
        <p:spPr>
          <a:xfrm>
            <a:off x="539640" y="2421000"/>
            <a:ext cx="5761080" cy="2440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6"/>
          <p:cNvPicPr/>
          <p:nvPr/>
        </p:nvPicPr>
        <p:blipFill>
          <a:blip r:embed="rId2"/>
          <a:stretch/>
        </p:blipFill>
        <p:spPr>
          <a:xfrm>
            <a:off x="6588000" y="2060640"/>
            <a:ext cx="2016360" cy="3887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11"/>
          <p:cNvPicPr/>
          <p:nvPr/>
        </p:nvPicPr>
        <p:blipFill>
          <a:blip r:embed="rId3"/>
          <a:stretch/>
        </p:blipFill>
        <p:spPr>
          <a:xfrm>
            <a:off x="1103400" y="517680"/>
            <a:ext cx="16095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ГДЕ РАСПОЛОЖИТЬ ФЛИКЕРЫ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00000" y="105228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отражающие элементы должны располагать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естах, которые будут доступны для просмотра с большого расстояния. Это могут быть подвески, которые крепятся на ремне или поясе, нарукавные повязки или браслеты, полоски на спине или груди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. Светоотражающие материалы могут быть закреплен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сумках или рюкзаках, но так, чтобы проезжающие водители могли их замети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404280"/>
            <a:ext cx="822960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язательно носите светоотражающие наклейки или ленты на одежде. Для детей такие наклейки могут быть выполнены в виде персонажей из мультфильмов и сказок. При попадании на них света от фар проезжающего автомобиля, они будут отражать свет, и водитель сможет вовремя отреагирова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5" descr="1_26"/>
          <p:cNvPicPr/>
          <p:nvPr/>
        </p:nvPicPr>
        <p:blipFill>
          <a:blip r:embed="rId1"/>
          <a:stretch/>
        </p:blipFill>
        <p:spPr>
          <a:xfrm>
            <a:off x="5003640" y="3645000"/>
            <a:ext cx="2986200" cy="2985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1443923"/>
          <p:cNvPicPr/>
          <p:nvPr/>
        </p:nvPicPr>
        <p:blipFill>
          <a:blip r:embed="rId2"/>
          <a:stretch/>
        </p:blipFill>
        <p:spPr>
          <a:xfrm>
            <a:off x="971640" y="4292640"/>
            <a:ext cx="34574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 ЖЕ ЕСТЬ СПЕЦИАЛЬНАЯ ОДЕЖДА СО СВЕТОВОЗВРАЩАЮЩИМИ ЭЛЕМЕНТАМ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9" name="Picture 5" descr="clo3"/>
          <p:cNvPicPr/>
          <p:nvPr/>
        </p:nvPicPr>
        <p:blipFill>
          <a:blip r:embed="rId1"/>
          <a:stretch/>
        </p:blipFill>
        <p:spPr>
          <a:xfrm>
            <a:off x="324000" y="1413000"/>
            <a:ext cx="2660400" cy="3531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lo2"/>
          <p:cNvPicPr/>
          <p:nvPr/>
        </p:nvPicPr>
        <p:blipFill>
          <a:blip r:embed="rId2"/>
          <a:stretch/>
        </p:blipFill>
        <p:spPr>
          <a:xfrm>
            <a:off x="5940360" y="1484280"/>
            <a:ext cx="2519280" cy="3344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6"/>
          <p:cNvPicPr/>
          <p:nvPr/>
        </p:nvPicPr>
        <p:blipFill>
          <a:blip r:embed="rId3"/>
          <a:stretch/>
        </p:blipFill>
        <p:spPr>
          <a:xfrm>
            <a:off x="2916360" y="4076640"/>
            <a:ext cx="33512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ДОРОЖНОГО ДВИЖЕНИЯ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Ф, П. 4.1: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26920" y="12682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</a:rPr>
              <a:t>световозвращающими элемент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еспечивать видимость этих предметов водителями транспортных средств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Picture 4" descr="ПДД"/>
          <p:cNvPicPr/>
          <p:nvPr/>
        </p:nvPicPr>
        <p:blipFill>
          <a:blip r:embed="rId1"/>
          <a:stretch/>
        </p:blipFill>
        <p:spPr>
          <a:xfrm>
            <a:off x="7093080" y="4316400"/>
            <a:ext cx="17175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788000" y="620280"/>
            <a:ext cx="435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Помните и стар, и млад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Выполняйте строг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Пешеходу – тротуар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Транспорту – дорога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Не случилась чтоб бед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Не было б увечья –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Надо  двигаться всег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Транспорту навстреч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Правила дорожны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Нужно знать не понаслышк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И учить их не слег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А всерьёз – наверняка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6" name="Picture 4" descr="C:\Users\home\Desktop\eBPmLvk_E68.jpg"/>
          <p:cNvPicPr/>
          <p:nvPr/>
        </p:nvPicPr>
        <p:blipFill>
          <a:blip r:embed="rId1"/>
          <a:stretch/>
        </p:blipFill>
        <p:spPr>
          <a:xfrm>
            <a:off x="468360" y="836640"/>
            <a:ext cx="39243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Ы ДЛЯ ЗАКРЕПЛЕНИЯ МАТЕРИАЛ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такое световозвращени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го цвета световозвращатели имеют самый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учший световозвращающий эффек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гда появляются «темные» пешеход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должен носить световозвращател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ие виды световозвращателей ты знаеш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Выноска-облако 8"/>
          <p:cNvSpPr/>
          <p:nvPr/>
        </p:nvSpPr>
        <p:spPr>
          <a:xfrm>
            <a:off x="2484360" y="1125360"/>
            <a:ext cx="6335640" cy="4967640"/>
          </a:xfrm>
          <a:prstGeom prst="cloudCallout">
            <a:avLst>
              <a:gd name="adj1" fmla="val -64976"/>
              <a:gd name="adj2" fmla="val 52972"/>
            </a:avLst>
          </a:prstGeom>
          <a:solidFill>
            <a:srgbClr val="0099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58920" y="1916280"/>
            <a:ext cx="5010120" cy="2520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 fontScale="75000"/>
          </a:bodyPr>
          <a:p>
            <a:pPr marL="204480" indent="-2044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вет, ребята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4480" indent="-2044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ня зовут Световозвращател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4480" indent="-2044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которые называют меня Светоотражатель, а иногда меня могут звать Катафот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4480" indent="-2044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годня я расскажу Вам о том, почему нужно использовать световозвращатели и как они могут Вам помоч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4480" indent="-204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10" descr="4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97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12"/>
          <p:cNvPicPr/>
          <p:nvPr/>
        </p:nvPicPr>
        <p:blipFill>
          <a:blip r:embed="rId2"/>
          <a:stretch/>
        </p:blipFill>
        <p:spPr>
          <a:xfrm>
            <a:off x="1908000" y="62064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babo"/>
          <p:cNvPicPr/>
          <p:nvPr/>
        </p:nvPicPr>
        <p:blipFill>
          <a:blip r:embed="rId3"/>
          <a:stretch/>
        </p:blipFill>
        <p:spPr>
          <a:xfrm>
            <a:off x="611280" y="170028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fea"/>
          <p:cNvPicPr/>
          <p:nvPr/>
        </p:nvPicPr>
        <p:blipFill>
          <a:blip r:embed="rId4"/>
          <a:stretch/>
        </p:blipFill>
        <p:spPr>
          <a:xfrm>
            <a:off x="395280" y="2997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11"/>
          <p:cNvPicPr/>
          <p:nvPr/>
        </p:nvPicPr>
        <p:blipFill>
          <a:blip r:embed="rId5"/>
          <a:stretch/>
        </p:blipFill>
        <p:spPr>
          <a:xfrm>
            <a:off x="-152280" y="5059440"/>
            <a:ext cx="18889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i03-25-01-2012"/>
          <p:cNvPicPr/>
          <p:nvPr/>
        </p:nvPicPr>
        <p:blipFill>
          <a:blip r:embed="rId1"/>
          <a:stretch/>
        </p:blipFill>
        <p:spPr>
          <a:xfrm>
            <a:off x="1332000" y="3429000"/>
            <a:ext cx="6172200" cy="25146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>
            <a:off x="468360" y="260280"/>
            <a:ext cx="822960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5f6d"/>
                </a:solidFill>
                <a:latin typeface="Times New Roman"/>
              </a:rPr>
              <a:t>Уважаемые пешех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удьте бдитель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сегда одевайте одежду со светоотражател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тёмное время суток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Безопасность на дороге – залог Вашего здоров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11"/>
          <p:cNvPicPr/>
          <p:nvPr/>
        </p:nvPicPr>
        <p:blipFill>
          <a:blip r:embed="rId2"/>
          <a:stretch/>
        </p:blipFill>
        <p:spPr>
          <a:xfrm>
            <a:off x="684360" y="287280"/>
            <a:ext cx="12236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4920" y="1557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овозвращ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когда свет (от фар, например), падающий на поверхность, почти полностью возвращается обратно в направлении источника света. Проще всего понять это на примере кошачьих глаз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бсолютной темноте кошка не видна, но если посветить ей в мордочку фонариком или светом фар, то глаза кошки можно заметить на дальнем расстоя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355480" y="378360"/>
            <a:ext cx="5800680" cy="113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ЛЯ НАЧАЛА, Я РАССКАЖУ ВАМ, ЧТО ТАКОЕ СВЕТОВОЗВРАЩЕНИЕ И КАК РАБОТАЕТ СВЕТОВОЗВРАЩАТЕЛЬ!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18 copy"/>
          <p:cNvPicPr/>
          <p:nvPr/>
        </p:nvPicPr>
        <p:blipFill>
          <a:blip r:embed="rId1"/>
          <a:stretch/>
        </p:blipFill>
        <p:spPr>
          <a:xfrm>
            <a:off x="6059520" y="4591080"/>
            <a:ext cx="2895480" cy="2279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11"/>
          <p:cNvPicPr/>
          <p:nvPr/>
        </p:nvPicPr>
        <p:blipFill>
          <a:blip r:embed="rId2"/>
          <a:stretch/>
        </p:blipFill>
        <p:spPr>
          <a:xfrm>
            <a:off x="384120" y="378000"/>
            <a:ext cx="1603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ёмное время суток увеличивается число дорожно-транспортных происшествий, связанных с наездом на пешеходов. Чаще всего причиной этого является плохая видимость пешехода. Водителю сложно разглядеть человека из салона автомобиля ночью, если на нём тёмная одежд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того, что бы уменьшить аварийность на дорогах, разработаны специальные светоотражающие наклейки и нашивки на одежду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231840"/>
            <a:ext cx="74311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237480" y="446400"/>
            <a:ext cx="4468680" cy="10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Т КАК «РАБОТАЕТ» СВЕТОВОЗВРАЩАТЕЛЬ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5" descr="21"/>
          <p:cNvPicPr/>
          <p:nvPr/>
        </p:nvPicPr>
        <p:blipFill>
          <a:blip r:embed="rId1"/>
          <a:stretch/>
        </p:blipFill>
        <p:spPr>
          <a:xfrm>
            <a:off x="684360" y="2060640"/>
            <a:ext cx="3240000" cy="437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20"/>
          <p:cNvPicPr/>
          <p:nvPr/>
        </p:nvPicPr>
        <p:blipFill>
          <a:blip r:embed="rId2"/>
          <a:stretch/>
        </p:blipFill>
        <p:spPr>
          <a:xfrm>
            <a:off x="4356000" y="2060640"/>
            <a:ext cx="3241800" cy="4322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11"/>
          <p:cNvPicPr/>
          <p:nvPr/>
        </p:nvPicPr>
        <p:blipFill>
          <a:blip r:embed="rId3"/>
          <a:stretch/>
        </p:blipFill>
        <p:spPr>
          <a:xfrm>
            <a:off x="1322280" y="878040"/>
            <a:ext cx="1603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3964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ветовозвраща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ветоотражатель) 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устройство обеспечения безопасност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лучшим световозвращающим эффектом обладают световозвращате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о-белого и лимонного цвет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750840" y="302040"/>
            <a:ext cx="4677840" cy="10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ЭТОМУ, ЗАПОМНИТЕ РЕБЯТА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11"/>
          <p:cNvPicPr/>
          <p:nvPr/>
        </p:nvPicPr>
        <p:blipFill>
          <a:blip r:embed="rId1"/>
          <a:stretch/>
        </p:blipFill>
        <p:spPr>
          <a:xfrm>
            <a:off x="1682640" y="590400"/>
            <a:ext cx="1603440" cy="1914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22"/>
          <p:cNvPicPr/>
          <p:nvPr/>
        </p:nvPicPr>
        <p:blipFill>
          <a:blip r:embed="rId2"/>
          <a:stretch/>
        </p:blipFill>
        <p:spPr>
          <a:xfrm>
            <a:off x="2627280" y="4653000"/>
            <a:ext cx="21607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67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СВЕТОВОЗВРАЩАТЕЛЕЙ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4000" y="1483920"/>
            <a:ext cx="137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рел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3" descr="fea"/>
          <p:cNvPicPr/>
          <p:nvPr/>
        </p:nvPicPr>
        <p:blipFill>
          <a:blip r:embed="rId1"/>
          <a:stretch/>
        </p:blipFill>
        <p:spPr>
          <a:xfrm>
            <a:off x="6595920" y="3213000"/>
            <a:ext cx="1306800" cy="892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rnd-041"/>
          <p:cNvPicPr/>
          <p:nvPr/>
        </p:nvPicPr>
        <p:blipFill>
          <a:blip r:embed="rId2"/>
          <a:stretch/>
        </p:blipFill>
        <p:spPr>
          <a:xfrm>
            <a:off x="7524720" y="2276640"/>
            <a:ext cx="1238400" cy="8460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1"/>
          <p:cNvSpPr/>
          <p:nvPr/>
        </p:nvSpPr>
        <p:spPr>
          <a:xfrm>
            <a:off x="7170840" y="405036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на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8" descr="4"/>
          <p:cNvPicPr/>
          <p:nvPr/>
        </p:nvPicPr>
        <p:blipFill>
          <a:blip r:embed="rId3"/>
          <a:stretch/>
        </p:blipFill>
        <p:spPr>
          <a:xfrm>
            <a:off x="6372360" y="4508640"/>
            <a:ext cx="1363680" cy="900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1" descr="14"/>
          <p:cNvPicPr/>
          <p:nvPr/>
        </p:nvPicPr>
        <p:blipFill>
          <a:blip r:embed="rId4"/>
          <a:stretch/>
        </p:blipFill>
        <p:spPr>
          <a:xfrm>
            <a:off x="6659640" y="5589720"/>
            <a:ext cx="1227240" cy="838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7" descr="tiger2"/>
          <p:cNvPicPr/>
          <p:nvPr/>
        </p:nvPicPr>
        <p:blipFill>
          <a:blip r:embed="rId5"/>
          <a:stretch/>
        </p:blipFill>
        <p:spPr>
          <a:xfrm>
            <a:off x="6156360" y="2133720"/>
            <a:ext cx="1338120" cy="914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6"/>
          <p:cNvSpPr/>
          <p:nvPr/>
        </p:nvSpPr>
        <p:spPr>
          <a:xfrm>
            <a:off x="6443640" y="1483560"/>
            <a:ext cx="15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Шев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serdc"/>
          <p:cNvPicPr/>
          <p:nvPr/>
        </p:nvPicPr>
        <p:blipFill>
          <a:blip r:embed="rId6"/>
          <a:stretch/>
        </p:blipFill>
        <p:spPr>
          <a:xfrm>
            <a:off x="7885080" y="4581360"/>
            <a:ext cx="1015920" cy="10162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5"/>
          <p:cNvSpPr/>
          <p:nvPr/>
        </p:nvSpPr>
        <p:spPr>
          <a:xfrm>
            <a:off x="990720" y="327492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амоклеющиес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шивные л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3" descr="l3"/>
          <p:cNvPicPr/>
          <p:nvPr/>
        </p:nvPicPr>
        <p:blipFill>
          <a:blip r:embed="rId7">
            <a:lum contrast="40000"/>
          </a:blip>
          <a:stretch/>
        </p:blipFill>
        <p:spPr>
          <a:xfrm>
            <a:off x="2743200" y="4267080"/>
            <a:ext cx="2158920" cy="1452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l6"/>
          <p:cNvPicPr/>
          <p:nvPr/>
        </p:nvPicPr>
        <p:blipFill>
          <a:blip r:embed="rId8">
            <a:lum contrast="20000"/>
          </a:blip>
          <a:stretch/>
        </p:blipFill>
        <p:spPr>
          <a:xfrm>
            <a:off x="457200" y="4343400"/>
            <a:ext cx="2089080" cy="13921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9" descr="ornament2"/>
          <p:cNvPicPr/>
          <p:nvPr/>
        </p:nvPicPr>
        <p:blipFill>
          <a:blip r:embed="rId9"/>
          <a:stretch/>
        </p:blipFill>
        <p:spPr>
          <a:xfrm>
            <a:off x="3886200" y="1905120"/>
            <a:ext cx="969840" cy="958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6" descr="ser"/>
          <p:cNvPicPr/>
          <p:nvPr/>
        </p:nvPicPr>
        <p:blipFill>
          <a:blip r:embed="rId10"/>
          <a:stretch/>
        </p:blipFill>
        <p:spPr>
          <a:xfrm>
            <a:off x="2717640" y="1879560"/>
            <a:ext cx="1016280" cy="1015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2" descr="babo"/>
          <p:cNvPicPr/>
          <p:nvPr/>
        </p:nvPicPr>
        <p:blipFill>
          <a:blip r:embed="rId11"/>
          <a:stretch/>
        </p:blipFill>
        <p:spPr>
          <a:xfrm>
            <a:off x="1600200" y="208296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ИДЫ СВЕТООТРАЖАЮЩИХ ЭЛЕМЕНТОВ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8360" y="3499920"/>
            <a:ext cx="3348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ветоотражающие полос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5" descr="52b276"/>
          <p:cNvPicPr/>
          <p:nvPr/>
        </p:nvPicPr>
        <p:blipFill>
          <a:blip r:embed="rId1"/>
          <a:stretch/>
        </p:blipFill>
        <p:spPr>
          <a:xfrm>
            <a:off x="1042920" y="1484280"/>
            <a:ext cx="2952720" cy="18702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post-66670-1247911745_thumb"/>
          <p:cNvPicPr/>
          <p:nvPr/>
        </p:nvPicPr>
        <p:blipFill>
          <a:blip r:embed="rId2"/>
          <a:stretch/>
        </p:blipFill>
        <p:spPr>
          <a:xfrm>
            <a:off x="5940360" y="1773360"/>
            <a:ext cx="2664000" cy="16714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9"/>
          <p:cNvSpPr/>
          <p:nvPr/>
        </p:nvSpPr>
        <p:spPr>
          <a:xfrm>
            <a:off x="5651640" y="378936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Флик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2556000" y="836640"/>
            <a:ext cx="468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ветоотражающие повязки, значки и жил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1" descr="4b592fe2592b8fdad53e32b79e0f6d92"/>
          <p:cNvPicPr/>
          <p:nvPr/>
        </p:nvPicPr>
        <p:blipFill>
          <a:blip r:embed="rId3"/>
          <a:stretch/>
        </p:blipFill>
        <p:spPr>
          <a:xfrm>
            <a:off x="611280" y="4508640"/>
            <a:ext cx="2881080" cy="1871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2" descr="P1010008"/>
          <p:cNvPicPr/>
          <p:nvPr/>
        </p:nvPicPr>
        <p:blipFill>
          <a:blip r:embed="rId4"/>
          <a:stretch/>
        </p:blipFill>
        <p:spPr>
          <a:xfrm>
            <a:off x="5148360" y="4365720"/>
            <a:ext cx="3095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408840" y="375120"/>
            <a:ext cx="5143320" cy="10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ОЧЕМУ НУЖНО ПОЛЬЗОВАТЬСЯ СВЕТОВОЗВРАЩА-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ЕЛЕМ?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3" descr="5"/>
          <p:cNvPicPr/>
          <p:nvPr/>
        </p:nvPicPr>
        <p:blipFill>
          <a:blip r:embed="rId1"/>
          <a:stretch/>
        </p:blipFill>
        <p:spPr>
          <a:xfrm>
            <a:off x="457200" y="1762200"/>
            <a:ext cx="3657600" cy="424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269960" y="1600200"/>
            <a:ext cx="411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мное время суток, ночью или в сумерк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тумана, дождя и снегопада на дорогах появляются «темные» пешеход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еннее и зимнее время, когда на улице поздно светает и рано темнеет, такого пешехода обнаружить очень и очень не прост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11"/>
          <p:cNvPicPr/>
          <p:nvPr/>
        </p:nvPicPr>
        <p:blipFill>
          <a:blip r:embed="rId2"/>
          <a:stretch/>
        </p:blipFill>
        <p:spPr>
          <a:xfrm>
            <a:off x="1103400" y="517680"/>
            <a:ext cx="16095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20:56:30Z</dcterms:created>
  <dc:creator>admin</dc:creator>
  <dc:description/>
  <dc:language>en-US</dc:language>
  <cp:lastModifiedBy>home</cp:lastModifiedBy>
  <dcterms:modified xsi:type="dcterms:W3CDTF">2015-10-19T21:26:10Z</dcterms:modified>
  <cp:revision>23</cp:revision>
  <dc:subject/>
  <dc:title>Дорога! Дети! Безопасность!</dc:title>
</cp:coreProperties>
</file>