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631-B63E-4694-A4DC-3BAD9698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DE9-FBA8-4FE6-8F61-79A6EA25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F44-2E4C-48EA-9128-FDA47399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CB5-22A7-40B6-8005-DA8BC234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696C-E27F-49C4-984D-41B78B29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23F9-4997-4151-8ABB-EADC6B8F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6C0E-03DA-46C6-8BA6-D1253CA2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FC84-9D1F-46BC-B46E-028A1FBE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8CBA-FAD6-44C8-8AE9-86789ED3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F666-F602-47A5-AAD4-2D53772F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C7D2-BF8C-446F-BEAD-72144D7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E2B-F79B-47B0-80D2-CE87C488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C4B2-8575-41DE-9C56-BB42505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B283-BBF6-46D9-98A0-9E7BB936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5068-3DC4-4DC5-89AA-935EF4B0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2BCE-0C40-401E-892D-856AB910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C0D3-53E5-439B-901C-F4305E17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135-9AA2-4ED2-A586-9C23949D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C1F-A3DC-4933-BEEC-00632147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1A0-A0E8-420B-94FA-8947EF4F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E93-723D-4E03-8A5A-E092917D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789-21E5-4D83-A077-E4AE977C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632-3001-43A0-AE03-162F2C6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4E6-67E8-4ED5-96D2-EF664A91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8986-57AC-4BD2-9502-F3AFFB4A3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0A49-AF31-4913-B1CE-D73020612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590040"/>
            <a:ext cx="6945480" cy="501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Древесные материалы. Пиломатериал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Виды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19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Шп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97360" y="1534680"/>
            <a:ext cx="4789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Фане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770160" y="5079600"/>
            <a:ext cx="191628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ДС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50920" y="1476360"/>
            <a:ext cx="232416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335320" y="2538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6330960" y="136692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4"/>
          <a:stretch/>
        </p:blipFill>
        <p:spPr>
          <a:xfrm>
            <a:off x="23760" y="3981600"/>
            <a:ext cx="2183040" cy="1760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6840" y="4811400"/>
            <a:ext cx="404028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ДВ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5"/>
          <a:stretch/>
        </p:blipFill>
        <p:spPr>
          <a:xfrm>
            <a:off x="2089080" y="5429160"/>
            <a:ext cx="200988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6"/>
          <a:stretch/>
        </p:blipFill>
        <p:spPr>
          <a:xfrm>
            <a:off x="4729320" y="5014800"/>
            <a:ext cx="1946160" cy="15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7"/>
          <a:stretch/>
        </p:blipFill>
        <p:spPr>
          <a:xfrm>
            <a:off x="6089760" y="3224160"/>
            <a:ext cx="21733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3520" y="340920"/>
            <a:ext cx="7086600" cy="15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Древесина – один их важнейших и широко распространенных в природе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247680" y="139392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1700280" y="1978200"/>
            <a:ext cx="2327040" cy="1876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945480" y="15224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733320" y="4202280"/>
            <a:ext cx="2630520" cy="1973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3592440" y="3090960"/>
            <a:ext cx="2870280" cy="205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6"/>
          <a:stretch/>
        </p:blipFill>
        <p:spPr>
          <a:xfrm>
            <a:off x="6148440" y="4913280"/>
            <a:ext cx="2311200" cy="159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7"/>
          <a:stretch/>
        </p:blipFill>
        <p:spPr>
          <a:xfrm>
            <a:off x="6805440" y="33336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7800" y="4410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роды деревьев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93520" y="1599840"/>
            <a:ext cx="632628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324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32400"/>
                </a:solidFill>
                <a:latin typeface="Arial"/>
              </a:rPr>
              <a:t>Хвой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Листвен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046920" y="922320"/>
            <a:ext cx="2820960" cy="211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10960" y="1459080"/>
            <a:ext cx="2489400" cy="186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977160" y="4792680"/>
            <a:ext cx="189540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3425760" y="3471840"/>
            <a:ext cx="2486160" cy="1863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320760" y="4294080"/>
            <a:ext cx="2284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8040" y="4964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Arial"/>
              </a:rPr>
              <a:t>ПЛАН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49080" y="214488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Строение древе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400"/>
                </a:solidFill>
                <a:latin typeface="Arial"/>
              </a:rPr>
              <a:t>Основные разрезы ств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Породы древесины и их текс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Виды пило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1f00"/>
                </a:solidFill>
                <a:latin typeface="Arial"/>
              </a:rPr>
              <a:t>Основные виды древес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28920" y="2058840"/>
            <a:ext cx="3195720" cy="3981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002060"/>
                </a:solidFill>
                <a:uFillTx/>
                <a:latin typeface="Arial"/>
              </a:rPr>
              <a:t>ДЕРЕ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4680" y="2957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81100"/>
                </a:solidFill>
                <a:latin typeface="Arial"/>
              </a:rPr>
              <a:t>Ствол</a:t>
            </a:r>
            <a:r>
              <a:rPr b="1" lang="ru-RU" sz="4400" spc="-1" strike="noStrike">
                <a:solidFill>
                  <a:srgbClr val="7811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1920" y="13777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11600" y="3047760"/>
            <a:ext cx="437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уч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04840" y="4681440"/>
            <a:ext cx="79056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7539120" y="128520"/>
            <a:ext cx="1380960" cy="1654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12"/>
          <p:cNvSpPr/>
          <p:nvPr/>
        </p:nvSpPr>
        <p:spPr>
          <a:xfrm flipV="1">
            <a:off x="4562640" y="1929960"/>
            <a:ext cx="766440" cy="50796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4"/>
          <p:cNvSpPr/>
          <p:nvPr/>
        </p:nvSpPr>
        <p:spPr>
          <a:xfrm flipV="1">
            <a:off x="4276800" y="3537000"/>
            <a:ext cx="1893960" cy="8128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6"/>
          <p:cNvSpPr/>
          <p:nvPr/>
        </p:nvSpPr>
        <p:spPr>
          <a:xfrm flipH="1" flipV="1">
            <a:off x="1967040" y="3454560"/>
            <a:ext cx="1744560" cy="149832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8"/>
          <p:cNvSpPr/>
          <p:nvPr/>
        </p:nvSpPr>
        <p:spPr>
          <a:xfrm>
            <a:off x="4460760" y="5614920"/>
            <a:ext cx="795600" cy="6746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Внутренняя часть дер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20720" y="1717560"/>
            <a:ext cx="67150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Текстура дер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62040" y="2955960"/>
            <a:ext cx="280044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252960" y="1486080"/>
            <a:ext cx="2286000" cy="142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6738840" y="1587600"/>
            <a:ext cx="201924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4"/>
          <a:stretch/>
        </p:blipFill>
        <p:spPr>
          <a:xfrm>
            <a:off x="4721400" y="3002040"/>
            <a:ext cx="213336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5"/>
          <a:stretch/>
        </p:blipFill>
        <p:spPr>
          <a:xfrm>
            <a:off x="1227240" y="4700520"/>
            <a:ext cx="221940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6"/>
          <a:stretch/>
        </p:blipFill>
        <p:spPr>
          <a:xfrm>
            <a:off x="4044960" y="4618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7"/>
          <a:stretch/>
        </p:blipFill>
        <p:spPr>
          <a:xfrm>
            <a:off x="6656400" y="4543560"/>
            <a:ext cx="22194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Лесопильные р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095720" y="1690560"/>
            <a:ext cx="3652920" cy="223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754200" y="4570560"/>
            <a:ext cx="1804680" cy="185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477720" y="1625760"/>
            <a:ext cx="2847960" cy="225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6335640" y="4451400"/>
            <a:ext cx="242892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2830680" y="4468680"/>
            <a:ext cx="2917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14360" y="15415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Виды пиломатериа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3387600" y="5043600"/>
            <a:ext cx="2343240" cy="1428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2039760" y="179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4"/>
          <a:stretch/>
        </p:blipFill>
        <p:spPr>
          <a:xfrm>
            <a:off x="3476520" y="2714760"/>
            <a:ext cx="2190960" cy="1428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480960" y="4008600"/>
            <a:ext cx="2200320" cy="1428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844360"/>
            <a:ext cx="4114800" cy="387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у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у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ка необрез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бр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6"/>
          <a:stretch/>
        </p:blipFill>
        <p:spPr>
          <a:xfrm>
            <a:off x="6394320" y="1560600"/>
            <a:ext cx="260028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7"/>
          <a:stretch/>
        </p:blipFill>
        <p:spPr>
          <a:xfrm>
            <a:off x="7426440" y="3176640"/>
            <a:ext cx="147636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8"/>
          <a:stretch/>
        </p:blipFill>
        <p:spPr>
          <a:xfrm>
            <a:off x="5530680" y="434988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507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бы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с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5:21Z</dcterms:created>
  <dc:creator>qwerty</dc:creator>
  <dc:description/>
  <cp:keywords>тема для презентаций</cp:keywords>
  <dc:language>en-US</dc:language>
  <cp:lastModifiedBy>User</cp:lastModifiedBy>
  <dcterms:modified xsi:type="dcterms:W3CDTF">2014-01-17T12:52:01Z</dcterms:modified>
  <cp:revision>24</cp:revision>
  <dc:subject/>
  <dc:title>Слайд 1</dc:title>
</cp:coreProperties>
</file>