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5FE-B3C1-4276-84F2-50611CCF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265-AD96-48A1-80A6-EF8BA1FD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310-52C1-4C8E-AD76-3B7D97ED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171-720C-4183-8DE5-20EB105A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15E7-5B33-4D66-98E4-C9A9B373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74D8-DE94-4D0E-9B2F-3CC57B80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D0BE-C57E-4083-81BA-AC6AB9CD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C255-A942-425B-9972-B312E99B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EF6D-55A2-4704-87AF-09B5D2D8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3CA4-3FFC-40DA-84D5-B663C519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096A-AB99-4225-A3D1-06D1B78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4EC-13BE-4F62-A1E5-1946B1C1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0AD0-4490-4D03-9607-9E5E27B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4F59-86DE-4EA8-814C-B91E1158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660D-FEB9-4647-9859-E5569CFF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91F3-73BD-4221-8C0C-14EE79EB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6631-71D7-4CF3-A9C0-64779B0D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46C-36F4-4D49-ACC5-3F6EDEEE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97E-B727-4B13-A775-C757CB7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F61-7A4D-44D2-B670-35D7FB28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459-A7EF-4C88-9A7E-79E7393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877-755C-4E8B-8540-33DAB995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6D2-B1A5-4994-ABF7-CD1F7597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0A8-72B8-451E-B695-FBFDA1E9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44F7-2325-4302-A736-816D9A49B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02F2-CD24-4533-98AC-6E9F62D6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590040"/>
            <a:ext cx="6945480" cy="501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Древесные материалы. Пиломатериал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Виды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19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Шп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97360" y="1534680"/>
            <a:ext cx="4789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Фане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770160" y="5079600"/>
            <a:ext cx="191628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ДС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50920" y="1476360"/>
            <a:ext cx="232416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335320" y="2538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6330960" y="136692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4"/>
          <a:stretch/>
        </p:blipFill>
        <p:spPr>
          <a:xfrm>
            <a:off x="23760" y="3981600"/>
            <a:ext cx="2183040" cy="1760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6840" y="4811400"/>
            <a:ext cx="404028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ДВ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5"/>
          <a:stretch/>
        </p:blipFill>
        <p:spPr>
          <a:xfrm>
            <a:off x="2089080" y="5429160"/>
            <a:ext cx="200988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6"/>
          <a:stretch/>
        </p:blipFill>
        <p:spPr>
          <a:xfrm>
            <a:off x="4729320" y="5014800"/>
            <a:ext cx="1946160" cy="15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7"/>
          <a:stretch/>
        </p:blipFill>
        <p:spPr>
          <a:xfrm>
            <a:off x="6089760" y="3224160"/>
            <a:ext cx="21733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3520" y="340920"/>
            <a:ext cx="7086600" cy="15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Древесина – один их важнейших и широко распространенных в природе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247680" y="139392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1700280" y="1978200"/>
            <a:ext cx="2327040" cy="1876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945480" y="15224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733320" y="4202280"/>
            <a:ext cx="2630520" cy="1973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3592440" y="3090960"/>
            <a:ext cx="2870280" cy="205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6"/>
          <a:stretch/>
        </p:blipFill>
        <p:spPr>
          <a:xfrm>
            <a:off x="6148440" y="4913280"/>
            <a:ext cx="2311200" cy="159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7"/>
          <a:stretch/>
        </p:blipFill>
        <p:spPr>
          <a:xfrm>
            <a:off x="6805440" y="33336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7800" y="4410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роды деревьев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93520" y="1599840"/>
            <a:ext cx="632628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324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32400"/>
                </a:solidFill>
                <a:latin typeface="Arial"/>
              </a:rPr>
              <a:t>Хвой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Листвен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046920" y="922320"/>
            <a:ext cx="2820960" cy="211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10960" y="1459080"/>
            <a:ext cx="2489400" cy="186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977160" y="4792680"/>
            <a:ext cx="189540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3425760" y="3471840"/>
            <a:ext cx="2486160" cy="1863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320760" y="4294080"/>
            <a:ext cx="2284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8040" y="4964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Arial"/>
              </a:rPr>
              <a:t>ПЛАН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49080" y="214488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Строение древе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400"/>
                </a:solidFill>
                <a:latin typeface="Arial"/>
              </a:rPr>
              <a:t>Основные разрезы ств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Породы древесины и их текс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Виды пило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1f00"/>
                </a:solidFill>
                <a:latin typeface="Arial"/>
              </a:rPr>
              <a:t>Основные виды древес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28920" y="2058840"/>
            <a:ext cx="3195720" cy="3981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002060"/>
                </a:solidFill>
                <a:uFillTx/>
                <a:latin typeface="Arial"/>
              </a:rPr>
              <a:t>ДЕРЕ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4680" y="2957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81100"/>
                </a:solidFill>
                <a:latin typeface="Arial"/>
              </a:rPr>
              <a:t>Ствол</a:t>
            </a:r>
            <a:r>
              <a:rPr b="1" lang="ru-RU" sz="4400" spc="-1" strike="noStrike">
                <a:solidFill>
                  <a:srgbClr val="7811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1920" y="13777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11600" y="3047760"/>
            <a:ext cx="437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уч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04840" y="4681440"/>
            <a:ext cx="79056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7539120" y="128520"/>
            <a:ext cx="1380960" cy="1654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12"/>
          <p:cNvSpPr/>
          <p:nvPr/>
        </p:nvSpPr>
        <p:spPr>
          <a:xfrm flipV="1">
            <a:off x="4562640" y="1929960"/>
            <a:ext cx="766440" cy="50796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4"/>
          <p:cNvSpPr/>
          <p:nvPr/>
        </p:nvSpPr>
        <p:spPr>
          <a:xfrm flipV="1">
            <a:off x="4276800" y="3537000"/>
            <a:ext cx="1893960" cy="8128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6"/>
          <p:cNvSpPr/>
          <p:nvPr/>
        </p:nvSpPr>
        <p:spPr>
          <a:xfrm flipH="1" flipV="1">
            <a:off x="1967040" y="3454560"/>
            <a:ext cx="1744560" cy="149832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8"/>
          <p:cNvSpPr/>
          <p:nvPr/>
        </p:nvSpPr>
        <p:spPr>
          <a:xfrm>
            <a:off x="4460760" y="5614920"/>
            <a:ext cx="795600" cy="6746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Внутренняя часть дер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20720" y="1717560"/>
            <a:ext cx="67150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Текстура дер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62040" y="2955960"/>
            <a:ext cx="280044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252960" y="1486080"/>
            <a:ext cx="2286000" cy="142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6738840" y="1587600"/>
            <a:ext cx="201924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4"/>
          <a:stretch/>
        </p:blipFill>
        <p:spPr>
          <a:xfrm>
            <a:off x="4721400" y="3002040"/>
            <a:ext cx="213336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5"/>
          <a:stretch/>
        </p:blipFill>
        <p:spPr>
          <a:xfrm>
            <a:off x="1227240" y="4700520"/>
            <a:ext cx="221940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6"/>
          <a:stretch/>
        </p:blipFill>
        <p:spPr>
          <a:xfrm>
            <a:off x="4044960" y="4618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7"/>
          <a:stretch/>
        </p:blipFill>
        <p:spPr>
          <a:xfrm>
            <a:off x="6656400" y="4543560"/>
            <a:ext cx="22194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Лесопильные р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095720" y="1690560"/>
            <a:ext cx="3652920" cy="223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754200" y="4570560"/>
            <a:ext cx="1804680" cy="185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477720" y="1625760"/>
            <a:ext cx="2847960" cy="225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6335640" y="4451400"/>
            <a:ext cx="242892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2830680" y="4468680"/>
            <a:ext cx="2917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14360" y="15415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Виды пиломатериа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3387600" y="5043600"/>
            <a:ext cx="2343240" cy="1428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2039760" y="179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4"/>
          <a:stretch/>
        </p:blipFill>
        <p:spPr>
          <a:xfrm>
            <a:off x="3476520" y="2714760"/>
            <a:ext cx="2190960" cy="1428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480960" y="4008600"/>
            <a:ext cx="2200320" cy="1428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844360"/>
            <a:ext cx="4114800" cy="387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у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у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ка необрез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бр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6"/>
          <a:stretch/>
        </p:blipFill>
        <p:spPr>
          <a:xfrm>
            <a:off x="6394320" y="1560600"/>
            <a:ext cx="260028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7"/>
          <a:stretch/>
        </p:blipFill>
        <p:spPr>
          <a:xfrm>
            <a:off x="7426440" y="3176640"/>
            <a:ext cx="147636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8"/>
          <a:stretch/>
        </p:blipFill>
        <p:spPr>
          <a:xfrm>
            <a:off x="5530680" y="434988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507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бы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с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5:21Z</dcterms:created>
  <dc:creator>qwerty</dc:creator>
  <dc:description/>
  <cp:keywords>тема для презентаций</cp:keywords>
  <dc:language>en-US</dc:language>
  <cp:lastModifiedBy>User</cp:lastModifiedBy>
  <dcterms:modified xsi:type="dcterms:W3CDTF">2014-01-17T12:52:01Z</dcterms:modified>
  <cp:revision>24</cp:revision>
  <dc:subject/>
  <dc:title>Слайд 1</dc:title>
</cp:coreProperties>
</file>