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386-ACFD-4550-9D25-38527451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973-CA69-4219-9F71-2AADF7B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601-7EB5-46EB-B852-CDC64EBF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DAB-F27B-4609-BD44-062DD53E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B02-1856-44CC-A2C3-6844308F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282-C6FF-4455-8939-C1303C1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01C-6282-4F08-BD1E-41DEEC5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088-CDED-4F5A-B0A5-D86AE8B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45A-9EF1-462C-949B-BAA3170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3E8-970E-426E-AD28-9AF1059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C32-CC40-4389-91F2-E1BE733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8A9-C858-4EB0-B412-6CDEEA3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CF60-40E9-4C72-8E91-D4273F9F6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71680" y="357120"/>
            <a:ext cx="3429000" cy="30574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4857840" y="285840"/>
            <a:ext cx="3400200" cy="3133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857160" y="3571920"/>
            <a:ext cx="3214800" cy="2987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143680" y="3500280"/>
            <a:ext cx="3263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928800" y="344484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785880" y="344520"/>
            <a:ext cx="3214800" cy="296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4929120" y="214200"/>
            <a:ext cx="3286080" cy="3054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000760" y="3429000"/>
            <a:ext cx="31384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072040" y="357120"/>
            <a:ext cx="3357720" cy="2994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428760" y="3546360"/>
            <a:ext cx="3357360" cy="3094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5072040" y="3429000"/>
            <a:ext cx="3243240" cy="3014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285840" y="357120"/>
            <a:ext cx="3286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31aa7bbb0e6d39cbaeeed1ca1b4aea23.png"/>
          <p:cNvPicPr/>
          <p:nvPr/>
        </p:nvPicPr>
        <p:blipFill>
          <a:blip r:embed="rId1"/>
          <a:stretch/>
        </p:blipFill>
        <p:spPr>
          <a:xfrm>
            <a:off x="5072040" y="3500280"/>
            <a:ext cx="3357720" cy="2994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Bina_pencil_blue_Clip_Art.png"/>
          <p:cNvPicPr/>
          <p:nvPr/>
        </p:nvPicPr>
        <p:blipFill>
          <a:blip r:embed="rId2"/>
          <a:stretch/>
        </p:blipFill>
        <p:spPr>
          <a:xfrm>
            <a:off x="5143680" y="214200"/>
            <a:ext cx="3214440" cy="296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Bina_pencil_green.png"/>
          <p:cNvPicPr/>
          <p:nvPr/>
        </p:nvPicPr>
        <p:blipFill>
          <a:blip r:embed="rId3"/>
          <a:stretch/>
        </p:blipFill>
        <p:spPr>
          <a:xfrm>
            <a:off x="357120" y="3500280"/>
            <a:ext cx="3181320" cy="2957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Bina_pencil_red (1).png"/>
          <p:cNvPicPr/>
          <p:nvPr/>
        </p:nvPicPr>
        <p:blipFill>
          <a:blip r:embed="rId4"/>
          <a:stretch/>
        </p:blipFill>
        <p:spPr>
          <a:xfrm>
            <a:off x="571680" y="298440"/>
            <a:ext cx="314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3:19:28Z</dcterms:created>
  <dc:creator>admin</dc:creator>
  <dc:description/>
  <dc:language>en-US</dc:language>
  <cp:lastModifiedBy>admin</cp:lastModifiedBy>
  <dcterms:modified xsi:type="dcterms:W3CDTF">2014-11-16T14:09:28Z</dcterms:modified>
  <cp:revision>5</cp:revision>
  <dc:subject/>
  <dc:title>Слайд 1</dc:title>
</cp:coreProperties>
</file>