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43E-CED0-4F48-A4A0-947BB468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898-4F7C-4FB2-8EB4-B6A3AA9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9BC-F9A6-4BB1-8EBC-B77B75AD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A7-EDFB-4B36-9734-EBD2ED24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51F-CA26-4325-B5F0-C26D37F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689-6C31-4681-BD40-58B5FB0D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AB2-E9F1-4896-B8A5-36F86210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C03-B17C-4B3D-9A8F-A7A10C62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EC2-C0A1-4EE4-A66B-245E4E8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BF7-9571-407E-B2A5-9FDD40B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E83-0DC2-4E1E-B757-135B341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E94-8E3A-478B-A750-9A3AE08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707-BCDD-4999-BB15-368B597B2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71680" y="357120"/>
            <a:ext cx="3429000" cy="30574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4857840" y="285840"/>
            <a:ext cx="3400200" cy="3133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857160" y="3571920"/>
            <a:ext cx="3214800" cy="2987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143680" y="3500280"/>
            <a:ext cx="3263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928800" y="344484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785880" y="344520"/>
            <a:ext cx="3214800" cy="296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4929120" y="214200"/>
            <a:ext cx="3286080" cy="3054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000760" y="3429000"/>
            <a:ext cx="31384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072040" y="357120"/>
            <a:ext cx="3357720" cy="2994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428760" y="3546360"/>
            <a:ext cx="3357360" cy="3094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5072040" y="3429000"/>
            <a:ext cx="3243240" cy="3014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285840" y="357120"/>
            <a:ext cx="3286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072040" y="3500280"/>
            <a:ext cx="3357720" cy="2994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5143680" y="214200"/>
            <a:ext cx="3214440" cy="296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357120" y="3500280"/>
            <a:ext cx="3181320" cy="2957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71680" y="298440"/>
            <a:ext cx="314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3:19:28Z</dcterms:created>
  <dc:creator>admin</dc:creator>
  <dc:description/>
  <dc:language>en-US</dc:language>
  <cp:lastModifiedBy>admin</cp:lastModifiedBy>
  <dcterms:modified xsi:type="dcterms:W3CDTF">2014-11-16T14:09:28Z</dcterms:modified>
  <cp:revision>5</cp:revision>
  <dc:subject/>
  <dc:title>Слайд 1</dc:title>
</cp:coreProperties>
</file>