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0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08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00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78960" y="471456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52360" y="942768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36A-4D47-4E1C-AEB8-42A615B69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2720" y="9428040"/>
            <a:ext cx="2946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5CF-9C57-40DE-889A-E67512994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95256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052640" y="4724280"/>
            <a:ext cx="469872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0D9-2C96-4DC6-8ED3-386354DA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B7B-FFB9-4338-B763-D0E9BD4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A04-C16B-4E32-A92E-ED0F11B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DD1-B65F-41D2-B873-78D19934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78B2-2408-4579-A3A6-17B52FBA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0DFA-B345-4892-8205-F962B6F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04BB-9561-43EF-A0A4-9593FCE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8F5-5B6B-4F09-9152-4FAD229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5914-4077-49AF-A132-A1CEB59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1410-E02C-4BE6-B192-6BD1758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99A7-39E3-44C4-BB53-29CD884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F2B-3967-4556-948E-E23BECDC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9432-FE97-4392-822C-44E8F33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0CF-3271-45C8-B52F-4E539C7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707-B1C9-4D0B-A4CC-F710D983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5A5E-4D83-42D6-BF65-DF74AD35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35DF-62D5-455E-904D-77C42132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EDD-FBE1-468C-8CFC-FB8BD37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189-4C52-45C7-B724-CCBCF79E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243-B74F-497A-9793-B38933DB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24A-CB4B-4E44-8E68-FC406FA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0FF-D8C8-4C17-B92F-878C97B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2FF-EC69-48E9-9A2B-C4C67A1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D61-279B-4C07-BE7F-2778D9A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537-9A9B-4409-88F5-F703B688FE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4e5b6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5f779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4e5b6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5f779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5923-18E6-4662-9B38-9BE32EFED1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Project 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“Globalisation and</a:t>
            </a:r>
            <a:r>
              <a:rPr b="1" i="1" lang="ru-RU" sz="40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 my country”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Globalisation means that…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most countries depend on one another,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in different countries  may have similar problems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in different countries like going for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sport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As for us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Globalisation is associated with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hich unites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everywher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7"/>
          <p:cNvGraphicFramePr/>
          <p:nvPr/>
        </p:nvGraphicFramePr>
        <p:xfrm>
          <a:off x="395280" y="1484280"/>
          <a:ext cx="799164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79916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Results of the poll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aramond"/>
              </a:rPr>
              <a:t>Questionnaire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4. Will you call Russian national kinds of sport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00008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5. How can we develop Russian national sports?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Диаграмма 4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857400" cy="3635280"/>
          </a:xfrm>
          <a:prstGeom prst="rect">
            <a:avLst/>
          </a:prstGeom>
          <a:ln w="0">
            <a:noFill/>
          </a:ln>
        </p:spPr>
      </p:pic>
      <p:pic>
        <p:nvPicPr>
          <p:cNvPr id="151" name="Диаграмма 5" descr=""/>
          <p:cNvPicPr/>
          <p:nvPr/>
        </p:nvPicPr>
        <p:blipFill>
          <a:blip r:embed="rId2"/>
          <a:stretch/>
        </p:blipFill>
        <p:spPr>
          <a:xfrm>
            <a:off x="4714920" y="2143080"/>
            <a:ext cx="4429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For development of national of Russian spor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can create  school organization “Russian sports”  which will work out sporting measures and be an organizer of all  competi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√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can support the Russian culture of sport so that Russian national sports to go out on the international level of Olympic reserve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760"/>
                </a:solidFill>
                <a:latin typeface="Arial"/>
              </a:rPr>
              <a:t>What can we do for development of national Russian spor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54064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Let’s advertise Russian national sports on TV, in the Internet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Let’s build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the Palace of national sports in Tulun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7" descr="51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pingv1"/>
          <p:cNvPicPr/>
          <p:nvPr/>
        </p:nvPicPr>
        <p:blipFill>
          <a:blip r:embed="rId2"/>
          <a:stretch/>
        </p:blipFill>
        <p:spPr>
          <a:xfrm>
            <a:off x="0" y="0"/>
            <a:ext cx="3203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1d9760"/>
                </a:solidFill>
                <a:latin typeface="Garamond"/>
              </a:rPr>
              <a:t>LET’S DEVELOP SPORTING TRADITIONS</a:t>
            </a:r>
            <a:endParaRPr b="1" lang="en-US" sz="6600" spc="-1" strike="noStrike">
              <a:solidFill>
                <a:srgbClr val="4e5b6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d9760"/>
                </a:solidFill>
                <a:latin typeface="Garamond"/>
              </a:rPr>
              <a:t>WHAT CAN I DO FOR SPORTS</a:t>
            </a:r>
            <a:r>
              <a:rPr b="1" i="1" lang="ru-RU" sz="5400" spc="-1" strike="noStrike">
                <a:solidFill>
                  <a:srgbClr val="1d9760"/>
                </a:solidFill>
                <a:latin typeface="Garamond"/>
              </a:rPr>
              <a:t>?</a:t>
            </a: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pic>
        <p:nvPicPr>
          <p:cNvPr id="125" name="Picture 6" descr="j0285698"/>
          <p:cNvPicPr/>
          <p:nvPr/>
        </p:nvPicPr>
        <p:blipFill>
          <a:blip r:embed="rId1"/>
          <a:stretch/>
        </p:blipFill>
        <p:spPr>
          <a:xfrm>
            <a:off x="4788000" y="3213000"/>
            <a:ext cx="45957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d9760"/>
                </a:solidFill>
                <a:latin typeface="Garamond"/>
              </a:rPr>
              <a:t>IF I LEARN THE TRADITIONS  IN SPORTS, I WILL DO MORE FOR DEVELOPING NATIONAL KINDS OF SPORT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9760"/>
                </a:solidFill>
                <a:latin typeface="Garamond"/>
              </a:rPr>
              <a:t>Our project-team consists of:</a:t>
            </a: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Rezanova Oksana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Kazimiryonok Masha 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Kovalenko Masha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                                                            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95280" y="1890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9760"/>
                </a:solidFill>
                <a:latin typeface="Garamond"/>
              </a:rPr>
              <a:t>WHAT CAN I DO FOR SPORTS</a:t>
            </a:r>
            <a:r>
              <a:rPr b="1" i="1" lang="ru-RU" sz="1800" spc="-1" strike="noStrike">
                <a:solidFill>
                  <a:srgbClr val="1d9760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9760"/>
                </a:solidFill>
                <a:latin typeface="Garamond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836640"/>
            <a:ext cx="914400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Group w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ork with 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the texts from: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√ 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ncyclop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di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   √ 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000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2. Research work</a:t>
            </a:r>
            <a:r>
              <a:rPr b="1" i="1" lang="ru-RU" sz="4000" spc="-1" strike="noStrike">
                <a:solidFill>
                  <a:srgbClr val="cc0000"/>
                </a:solidFill>
                <a:latin typeface="Garamond"/>
              </a:rPr>
              <a:t>: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√ questionnaire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√ conducting a poll about sports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 √ the results of the pol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243360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187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Information from 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ncyclop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dia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W</a:t>
            </a:r>
            <a:r>
              <a:rPr b="1" lang="ru-RU" sz="4400" spc="-1" strike="noStrike">
                <a:solidFill>
                  <a:srgbClr val="344a4e"/>
                </a:solidFill>
                <a:latin typeface="Garamond"/>
              </a:rPr>
              <a:t>hat</a:t>
            </a: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 is </a:t>
            </a:r>
            <a:r>
              <a:rPr b="1" i="1" lang="ru-RU" sz="4400" spc="-1" strike="noStrike">
                <a:solidFill>
                  <a:srgbClr val="344a4e"/>
                </a:solidFill>
                <a:latin typeface="Garamond"/>
              </a:rPr>
              <a:t>sport</a:t>
            </a: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?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- from the Latin word “to have fun”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omplex of physical exercises for develop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g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trengthening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the organism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22" descr="j0285698"/>
          <p:cNvPicPr/>
          <p:nvPr/>
        </p:nvPicPr>
        <p:blipFill>
          <a:blip r:embed="rId1"/>
          <a:stretch/>
        </p:blipFill>
        <p:spPr>
          <a:xfrm>
            <a:off x="7164360" y="4076640"/>
            <a:ext cx="2160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Garamond"/>
              </a:rPr>
              <a:t>Kinds of</a:t>
            </a:r>
            <a:r>
              <a:rPr b="1" lang="ru-RU" sz="5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Garamond"/>
              </a:rPr>
              <a:t>sports</a:t>
            </a:r>
            <a:br>
              <a:rPr sz="5400"/>
            </a:br>
            <a:endParaRPr b="1" lang="en-US" sz="5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Lapta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a kind of a ball game with a bat)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gorodki (a kind of skittles)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fisticuffs,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and-to hand-fighting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ide-and-seek ga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unarmed-self-defe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5" descr="43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44"/>
          <p:cNvPicPr/>
          <p:nvPr/>
        </p:nvPicPr>
        <p:blipFill>
          <a:blip r:embed="rId2"/>
          <a:stretch/>
        </p:blipFill>
        <p:spPr>
          <a:xfrm>
            <a:off x="6084720" y="485784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aramond"/>
              </a:rPr>
              <a:t>Questionnaire</a:t>
            </a:r>
            <a:br>
              <a:rPr sz="44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</a:rPr>
              <a:t>(we asked 50  pupils)</a:t>
            </a:r>
            <a:br>
              <a:rPr sz="3200"/>
            </a:br>
            <a:endParaRPr b="1" lang="en-US" sz="3200" spc="-1" strike="noStrike">
              <a:solidFill>
                <a:srgbClr val="4e5b6f"/>
              </a:solidFill>
              <a:latin typeface="Garamond"/>
            </a:endParaRPr>
          </a:p>
        </p:txBody>
      </p:sp>
      <p:pic>
        <p:nvPicPr>
          <p:cNvPr id="141" name="Picture 5" descr="58"/>
          <p:cNvPicPr/>
          <p:nvPr/>
        </p:nvPicPr>
        <p:blipFill>
          <a:blip r:embed="rId1"/>
          <a:stretch/>
        </p:blipFill>
        <p:spPr>
          <a:xfrm>
            <a:off x="5724360" y="4653000"/>
            <a:ext cx="3419640" cy="220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Do you like sport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Do you like going in for sport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Are you ready to help us in developing sports at the school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8" descr="03"/>
          <p:cNvPicPr/>
          <p:nvPr/>
        </p:nvPicPr>
        <p:blipFill>
          <a:blip r:embed="rId2"/>
          <a:stretch/>
        </p:blipFill>
        <p:spPr>
          <a:xfrm>
            <a:off x="1285920" y="4071960"/>
            <a:ext cx="3276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4:57:26Z</dcterms:created>
  <dc:creator>Ученик</dc:creator>
  <dc:description/>
  <dc:language>en-US</dc:language>
  <cp:lastModifiedBy>ZES</cp:lastModifiedBy>
  <dcterms:modified xsi:type="dcterms:W3CDTF">2010-06-07T00:55:41Z</dcterms:modified>
  <cp:revision>36</cp:revision>
  <dc:subject/>
  <dc:title>SPORT LETS DEVELOP SPORTING TRADITION </dc:title>
</cp:coreProperties>
</file>