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95F-F304-4640-A7BA-D45F52CF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13D-6800-43BD-BB02-4BD591B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FD6-0383-4093-A06C-2791D20B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6CE-2BEF-4206-9495-8E16E9EC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4E8-2F74-4A4A-ABE8-F1215247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396-DE25-4919-8BCA-8F406FC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EB2-0A51-419B-8419-3968A693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ECE-CDD5-4BB2-96E3-CD6ABF3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41A9-1311-47C8-A062-62B1D9D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8E62-74A8-4F23-B704-23FDB4A9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1311-3B74-4023-BDD1-7CCBC8D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243-DE01-474D-A308-5432054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61BC-1379-4288-8D4F-E6371A5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1E6-143D-4556-B961-11DBB41E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B812-0D15-47A1-9607-B9BC80A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F1E0-EA8B-410B-8DA6-6F86C4BE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5E31-AD09-4C69-917E-24F1D33C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F905-940B-48A8-BBFE-1D397F15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844B-2BDA-4C85-9133-94A8FED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704F-C809-479E-9965-03CA549F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9B7A-5F1A-4854-9A3F-585C66B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86A1E-E15C-40E6-A667-6BC02853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E3C-A5F7-4FBF-93C7-14506DF4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E0D3-9488-4544-A0F6-6C9ECE6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D183-533B-4BFA-84B3-7ED3C2A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BF1C-7BAD-4D9C-9390-136BF262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B30D-8CC8-4B91-AE12-35B4F77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9DCF-2584-42FA-90A8-FB25DBB5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65F1-E569-4A83-9210-C8B091BB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3708-1804-450D-A50D-CB19B0E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E582-A3CB-437C-BD77-A6B7C0D2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692B-CDBF-4F60-B698-1E9DE05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2D7EB-C4B1-40BB-B128-45E16FB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64C-F910-4D48-A6D3-35C9CE7F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4DD2-0124-4555-A36F-3A178F9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F2AD-E9FE-4718-BC22-B982430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1C64-A49C-4666-99D5-42AC4C02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4755-3015-4BC8-87BB-2AD3483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F096-9D6B-4B71-B1D8-7149AF4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154D-B144-4028-ACFD-BC01A2C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EB7A-F7F6-44DE-BD7B-ACADD0F2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A64C-0DE8-4F96-9686-5BCD1C1E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4C73-2A63-46FA-A13A-D69185A2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A710-067B-442E-8A1F-5D524B4A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193-7180-46F6-B30D-5074FC3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E2B9-5864-4173-9F63-D250A3B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05EE-3A4D-4862-9EB3-E22AB6F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1389-83D8-4B79-B269-E1BCCB1C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C33CD-99AB-4D27-940C-D6337AA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9CC6-B27B-4EF1-AD34-D54680E6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E8C2-C610-4701-89F8-A7738DB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BD7A8-BCBB-4254-A2F4-A9F619F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F73A-6D81-4A7F-A1C6-8238ADC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B9BB-26DE-4651-8EFE-4F77F341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AD5F-BC2C-42FC-A987-C4EC75A6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A75-5A7D-460D-A68D-7E7C756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4F32-BD2F-4CCB-910D-B63A2B57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34A-5968-4388-96AA-F9F430E9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774-F976-40B5-96DF-80654EE1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044-A36E-4EB9-BFE0-7E1B1E4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D90C-BCAB-4654-8AB7-5C144C38825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BFE-2EBC-4B3C-A640-EABAC445606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CCB-D1CF-4837-AE1F-34182EF61C0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1F5B-C6CE-473E-81AF-A3EDB3D0F35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b3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629dd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629d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7DF8-B3C0-4AF2-8CD1-46526E74FC1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acoo.com/lang/e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acoo.com/diagrams/TchE9lUYzj4iuJn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1619280" y="1773360"/>
            <a:ext cx="658800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Возможности сервиса </a:t>
            </a:r>
            <a:r>
              <a:rPr b="0" lang="ru-RU" sz="4000" spc="-1" strike="noStrike" u="sng">
                <a:solidFill>
                  <a:srgbClr val="9454c3"/>
                </a:solidFill>
                <a:uFillTx/>
                <a:latin typeface="Georgia"/>
                <a:hlinkClick r:id="rId1"/>
              </a:rPr>
              <a:t>Cacoo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для организации исследовательской раб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4572000" y="5373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421080" cy="1752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1403280" y="35002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Cacoo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лёгкое соз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иагра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(компания </a:t>
            </a: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Nulab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95280" y="730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остоинства  серв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395280" y="1989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1.  Русскоязычный вариа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684360" y="2451240"/>
            <a:ext cx="720072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. Возможность коллектив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апример, </a:t>
            </a:r>
            <a:r>
              <a:rPr b="0" lang="en-US" sz="2000" spc="-1" strike="noStrike" u="sng">
                <a:solidFill>
                  <a:srgbClr val="9454c3"/>
                </a:solidFill>
                <a:uFillTx/>
                <a:latin typeface="Georgia"/>
                <a:hlinkClick r:id="rId1"/>
              </a:rPr>
              <a:t>https://cacoo.com/diagrams/TchE9lUYzj4iuJn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24000" y="37162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3. Чат для коллектив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792000" y="429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4. Бесплатный тар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20760" y="489744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ставка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 компьюте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о адресу UR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7" descr=""/>
          <p:cNvPicPr/>
          <p:nvPr/>
        </p:nvPicPr>
        <p:blipFill>
          <a:blip r:embed="rId2"/>
          <a:stretch/>
        </p:blipFill>
        <p:spPr>
          <a:xfrm>
            <a:off x="4964040" y="4141800"/>
            <a:ext cx="39862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артем\Desktop\Снимок 2.JPG"/>
          <p:cNvPicPr/>
          <p:nvPr/>
        </p:nvPicPr>
        <p:blipFill>
          <a:blip r:embed="rId1"/>
          <a:stretch/>
        </p:blipFill>
        <p:spPr>
          <a:xfrm>
            <a:off x="0" y="49320"/>
            <a:ext cx="911556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24000" y="90792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6.     Большой выбор шаблонов  диа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192240" y="1484280"/>
            <a:ext cx="8616960" cy="2808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5095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84040" y="1268280"/>
            <a:ext cx="356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7.  Большая коллекция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8.   Большая коллекция персонажей, разных объектов (категории по тема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артем\Desktop\Снимок7.JPG"/>
          <p:cNvPicPr/>
          <p:nvPr/>
        </p:nvPicPr>
        <p:blipFill>
          <a:blip r:embed="rId1"/>
          <a:stretch/>
        </p:blipFill>
        <p:spPr>
          <a:xfrm>
            <a:off x="4067280" y="812880"/>
            <a:ext cx="2695320" cy="426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артем\Desktop\Снимок8.JPG"/>
          <p:cNvPicPr/>
          <p:nvPr/>
        </p:nvPicPr>
        <p:blipFill>
          <a:blip r:embed="rId2"/>
          <a:stretch/>
        </p:blipFill>
        <p:spPr>
          <a:xfrm>
            <a:off x="6378480" y="2421000"/>
            <a:ext cx="276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187280" y="98100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едостатки серв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684360" y="2565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1.Бесплатный тариф с огранич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.Нельзя вставить видео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4" descr=""/>
          <p:cNvPicPr/>
          <p:nvPr/>
        </p:nvPicPr>
        <p:blipFill>
          <a:blip r:embed="rId1"/>
          <a:stretch/>
        </p:blipFill>
        <p:spPr>
          <a:xfrm>
            <a:off x="2973240" y="3645000"/>
            <a:ext cx="39024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09:55:24Z</dcterms:created>
  <dc:creator>артем</dc:creator>
  <dc:description/>
  <dc:language>en-US</dc:language>
  <cp:lastModifiedBy>1</cp:lastModifiedBy>
  <dcterms:modified xsi:type="dcterms:W3CDTF">2015-10-20T15:30:27Z</dcterms:modified>
  <cp:revision>9</cp:revision>
  <dc:subject/>
  <dc:title>Презентация PowerPoint</dc:title>
</cp:coreProperties>
</file>