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A83-E833-4E00-A117-4278608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29E-CE29-479C-86D8-D970984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DCE-806B-4CF1-AF23-A6D14EEF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1EE-5ABF-43E3-8641-924F6099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B8C-8DDB-465F-B591-47C191CB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D88C-75C4-4CFF-8284-F461FC8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F21-B1C5-4D33-A8E7-DE4B407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EE6C-124D-4C38-B597-C73DF04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99F-B784-49AE-9F71-0046E60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492-B9A5-45A8-AF96-1B6D601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B8D3-1BD6-479A-8852-43ED555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D50-32ED-4F0D-85E4-299E259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9858-3109-4220-9B48-C478F94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768-26FD-4CF0-9A94-DBFE101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5A8A-2A18-48DF-82BE-C1D1C40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9A7-D4E3-4E87-BE10-F7CEAE49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A7CB-1C61-4AB3-B99A-8B646509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44E0-15F7-4F5A-B899-9B3D7099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A2B3-4380-47FB-A1DE-F376335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641E-CF4A-4EEE-9EAB-E60AD9C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ABE4-D7E2-4960-B8AF-756902DA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C01C-BA12-46D7-8B5F-B88180D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F14-6288-4490-84E5-40DDC5C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BDDA-9DCD-44C8-96C0-26BE5AA3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E721-131F-4E2E-8968-2F13BF1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2519-8084-45E0-8927-6F5559B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FF2B-F940-4115-BBC6-BBD158C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A43B-49FC-4CA2-8263-BBB968ED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E567-05C7-4439-AF07-CDE176F4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3CF3-2A60-45C0-BCE2-F7BDB368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DC34-E8E4-479C-AA14-F595139F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425C-9019-4562-B0AD-5C8DD00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D814-ABC9-49ED-A311-4BAACA3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F4E-05E9-4A9D-A22E-D5C4740D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33BE-98DF-4BF1-8872-2D8C65F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1364-6F2E-40CA-9DD5-86F132C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99D3-108C-4B37-BC54-2CDC4E3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01DE-7F41-471F-8CED-9825A8C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9FC0-F728-43C8-8CEB-81E2D21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35E2-00EC-4863-B381-78D66D66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42B0-1F50-409B-8560-4377236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43C8-4C43-4E14-AFBE-65DD851D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A406-8CEC-4758-990A-BB2B0325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90BD3-7CC9-402C-9E9A-F95DC079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F26-E2BD-477C-B384-9D5065B8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48AC-6BDD-4E70-BED3-9A60B75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A313-BAE9-408D-8C18-8368CEA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66AB-2659-4972-852A-F50A8C48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957F-79C0-4E0C-B6FE-B2DF9E19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058F-4253-46D9-9605-931B841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2AE4-F396-4B41-B9FD-C8C4728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1D645-FAA5-45B7-9420-A8F2CBD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DD7C-725E-4DAC-9850-366687A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A7F7-05F5-4A24-B411-DB98D0FE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9688-A682-4C3B-8316-29412889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67B-3A9E-4A7E-A3B3-2F9AED88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CCF6-F4B4-43A2-B9A8-E25DC852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498-D76C-4415-B23F-D1685A3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784-08AE-41BA-A317-411A6F3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19E-7BF3-49BF-A98D-EB156778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617-7968-430E-8A0D-35EC25090FB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880-3657-4274-BE6E-59537CD899C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301-9A25-403A-85CE-8E753749E1E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98F-84FD-46C8-804E-03A17BCB30F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9CFE-CEE0-4F52-A142-977A229256D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acoo.com/lang/e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acoo.com/diagrams/TchE9lUYzj4iuJn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1619280" y="1773360"/>
            <a:ext cx="65880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Возможности сервиса </a:t>
            </a:r>
            <a:r>
              <a:rPr b="0" lang="ru-RU" sz="4000" spc="-1" strike="noStrike" u="sng">
                <a:solidFill>
                  <a:srgbClr val="9454c3"/>
                </a:solidFill>
                <a:uFillTx/>
                <a:latin typeface="Georgia"/>
                <a:hlinkClick r:id="rId1"/>
              </a:rPr>
              <a:t>Cacoo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для организации исследовательской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4572000" y="5373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421080" cy="1752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1403280" y="35002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Cacoo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лёгкое соз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иагра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(компания </a:t>
            </a: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Nulab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95280" y="730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остоинства 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395280" y="1989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1.  Русскоязычный вариа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684360" y="2451240"/>
            <a:ext cx="72007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. Возможность коллектив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пример, </a:t>
            </a:r>
            <a:r>
              <a:rPr b="0" lang="en-US" sz="2000" spc="-1" strike="noStrike" u="sng">
                <a:solidFill>
                  <a:srgbClr val="9454c3"/>
                </a:solidFill>
                <a:uFillTx/>
                <a:latin typeface="Georgia"/>
                <a:hlinkClick r:id="rId1"/>
              </a:rPr>
              <a:t>https://cacoo.com/diagrams/TchE9lUYzj4iuJn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24000" y="37162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3. Чат для коллектив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79200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4. Бесплатный тар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20760" y="489744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ставка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 компьюте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о адресу UR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4964040" y="4141800"/>
            <a:ext cx="39862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артем\Desktop\Снимок 2.JPG"/>
          <p:cNvPicPr/>
          <p:nvPr/>
        </p:nvPicPr>
        <p:blipFill>
          <a:blip r:embed="rId1"/>
          <a:stretch/>
        </p:blipFill>
        <p:spPr>
          <a:xfrm>
            <a:off x="0" y="49320"/>
            <a:ext cx="911556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24000" y="90792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6.     Большой выбор шаблонов  диа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192240" y="1484280"/>
            <a:ext cx="8616960" cy="2808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5095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84040" y="1268280"/>
            <a:ext cx="356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7.  Большая коллекция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8.   Большая коллекция персонажей, разных объектов (категории по тем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артем\Desktop\Снимок7.JPG"/>
          <p:cNvPicPr/>
          <p:nvPr/>
        </p:nvPicPr>
        <p:blipFill>
          <a:blip r:embed="rId1"/>
          <a:stretch/>
        </p:blipFill>
        <p:spPr>
          <a:xfrm>
            <a:off x="4067280" y="812880"/>
            <a:ext cx="2695320" cy="426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артем\Desktop\Снимок8.JPG"/>
          <p:cNvPicPr/>
          <p:nvPr/>
        </p:nvPicPr>
        <p:blipFill>
          <a:blip r:embed="rId2"/>
          <a:stretch/>
        </p:blipFill>
        <p:spPr>
          <a:xfrm>
            <a:off x="6378480" y="2421000"/>
            <a:ext cx="276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187280" y="98100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едостатки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684360" y="2565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1.Бесплатный тариф с огранич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.Нельзя вставить виде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2973240" y="3645000"/>
            <a:ext cx="39024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09:55:24Z</dcterms:created>
  <dc:creator>артем</dc:creator>
  <dc:description/>
  <dc:language>en-US</dc:language>
  <cp:lastModifiedBy>1</cp:lastModifiedBy>
  <dcterms:modified xsi:type="dcterms:W3CDTF">2015-10-20T15:30:27Z</dcterms:modified>
  <cp:revision>9</cp:revision>
  <dc:subject/>
  <dc:title>Презентация PowerPoint</dc:title>
</cp:coreProperties>
</file>