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949A-1B3E-427A-9CE1-4460CAFAE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257-A24E-497D-AF21-823CA7E02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567-2ABB-4EEF-980D-E2ABA790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F6F-2B9C-479E-A31A-D2D91D1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3D2-40C1-4B65-A6DB-5860ED64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A1A-610E-462A-8BFE-A0801E0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BE8C-6B86-45BF-AD82-8B5EE4B9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9630-F763-49BC-9C97-A954813C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C78-FFD6-4773-A72F-13191DD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B9F-123E-4FF0-A578-4AEE450A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DAD-48C8-42FD-81EF-84DC02A6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CB5D-DED2-41F5-A938-86A7FA1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AFC-754B-4BC8-9A54-75AA4B2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365-05ED-4BC9-962B-D8D3BEB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3DA5-5F71-4DFA-8F1A-8450BF0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191-5253-4684-85B0-1EDDF26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D2E-39F7-484F-8EB1-9A7539BB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08BA-119B-4A09-B967-105EE2A6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9DB-4BFA-497E-99F2-02A8FF15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0FE5-662E-4CED-A2A6-0CF117B2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900D-3929-4826-8600-87C2DE3B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892E-D218-4A9F-9DC4-5076BF5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F298-09C9-4155-BBAA-55B58AD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2E68-CEBD-44AB-9CBB-64AF78B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610-3823-4128-B6B9-BED9A0A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A916-B546-40C0-BC97-3043A4B5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0744-2B06-434A-A51B-8734C89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F011-53B9-489E-B295-BE46E5E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7719-385D-428A-97BB-8F8450B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BFD7-7122-4ABF-ACC5-C78FBA23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5244-3E19-4770-90B4-3977DF57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E77C-8F5E-4E1A-8409-D29097C9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62F1-2E33-4681-9DEF-A94E2E61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EF13-0877-4893-A6E2-657A4CC1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62F4-D831-4FB2-A572-C510CDF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C06-41C1-4CE1-B44F-8C17309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6AA7-7B5E-4689-9881-9F99CFA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BEB6-7C59-422B-B0A0-8F4BDF04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B475-91E3-42D0-8A90-3D6AC757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5918-BF85-4020-A164-82649F9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BF96-C9C0-47E3-ADA2-CBE6CBD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2410-F853-4721-B3BA-DE18449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DC56-5B9C-4280-B986-89895A5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9A11-945D-4869-B06A-7B21793D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9C7C-4AF0-4C09-B412-6A9C2463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FB01-997A-48C7-9A0B-FBBB747B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F52-E3A0-4CAC-AA00-50FAFEB8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7F9D-3A82-45CD-8B61-A2B16347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7E1F-B692-4965-BFB8-9AB17D2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8C69-9FB2-4861-9517-DC8CD29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0A3D-944D-4FD7-A873-4B69F35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1811F-6FCB-497A-8AA9-16F08D6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70B8-2101-4A7A-8451-FDD8A2A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3D88-3B8B-4888-8A5C-BF7E5FF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24D7-E9FF-49E9-AECA-C6A7F1C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B0083-5176-4D77-99D3-00EB6AE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21CC-C737-4408-8880-510A01FF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207-AE86-4F93-A259-673D476B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55C8C-7297-4DFF-91F9-DD0BA5A4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6DC-2970-4587-90DA-538E0D8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AFA-D238-4A8D-8C75-1F5274F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56B-5213-44B3-9925-8D31952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65C-CD33-43C5-8107-94161E27691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3523-55DA-46AD-8643-BACB93C6220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8B89-2690-4FEE-A4F6-8952C50F359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C5F-2E5C-4058-8C14-BDDD9B2EEA5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DA0-7E25-4946-8C07-CAA5F0D0D88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4"/>
          <p:cNvSpPr/>
          <p:nvPr/>
        </p:nvSpPr>
        <p:spPr>
          <a:xfrm>
            <a:off x="4140360" y="5661000"/>
            <a:ext cx="1223640" cy="720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1979640" y="3789360"/>
            <a:ext cx="1584360" cy="7920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3419640" y="2349360"/>
            <a:ext cx="1584000" cy="792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8000" y="1557360"/>
            <a:ext cx="7488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у=1      б) у=-5    в)  у=2,5     г) у=4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440000" cy="8236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655640" cy="7682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468360" y="31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а=-0,5    б) а=-3      в) а=3         г) а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627120" y="5013360"/>
            <a:ext cx="46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х=0    б) х=4    в) х=2    г) х=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1042920" y="4941720"/>
            <a:ext cx="1441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6840" y="1609560"/>
            <a:ext cx="181116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Содержимое 2"/>
          <p:cNvSpPr/>
          <p:nvPr/>
        </p:nvSpPr>
        <p:spPr>
          <a:xfrm>
            <a:off x="3419640" y="1628640"/>
            <a:ext cx="1811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одержимое 2"/>
          <p:cNvSpPr/>
          <p:nvPr/>
        </p:nvSpPr>
        <p:spPr>
          <a:xfrm>
            <a:off x="5940360" y="1628640"/>
            <a:ext cx="1809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груп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79280" y="256536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12       -3      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3059280" y="2565360"/>
            <a:ext cx="25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2       12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5508720" y="256536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2      -25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6656040" y="34290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391320" y="342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2264040" y="3429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132192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5714280" y="342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4922280" y="342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4"/>
          <p:cNvSpPr/>
          <p:nvPr/>
        </p:nvSpPr>
        <p:spPr>
          <a:xfrm>
            <a:off x="4055760" y="34290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5"/>
          <p:cNvSpPr/>
          <p:nvPr/>
        </p:nvSpPr>
        <p:spPr>
          <a:xfrm>
            <a:off x="320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6"/>
          <p:cNvSpPr/>
          <p:nvPr/>
        </p:nvSpPr>
        <p:spPr>
          <a:xfrm>
            <a:off x="7596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179280" y="40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положите ответы всех уравнений в порядке возрастания и получите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1908000" y="515772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У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609200"/>
            <a:ext cx="723888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обще при решении дробных уравнений целесообразно поступа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418680" y="2924280"/>
            <a:ext cx="70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Найти общий знаменатель дробей, входящих в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ривести дроби к общему знаменателю, привести к виду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де Р(х) 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х) – много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488880" y="501336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Решить получивше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611280" y="544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Исключить из его корней те, которые обращают в нуль общий 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584280" y="42926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ерейти к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Левая фигурная скобка 8"/>
          <p:cNvSpPr/>
          <p:nvPr/>
        </p:nvSpPr>
        <p:spPr>
          <a:xfrm>
            <a:off x="3059280" y="414972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6"/>
                </a:cubicBezTo>
                <a:lnTo>
                  <a:pt x="10800" y="10144"/>
                </a:lnTo>
                <a:cubicBezTo>
                  <a:pt x="10800" y="10472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6"/>
                </a:cubicBezTo>
                <a:lnTo>
                  <a:pt x="10800" y="20944"/>
                </a:lnTo>
                <a:cubicBezTo>
                  <a:pt x="10800" y="21272"/>
                  <a:pt x="16200" y="21600"/>
                  <a:pt x="2160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3349800" y="41497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(х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"/>
          <p:cNvSpPr/>
          <p:nvPr/>
        </p:nvSpPr>
        <p:spPr>
          <a:xfrm>
            <a:off x="3343680" y="4508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(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)≠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863640" cy="5810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я узнал (а) …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не было трудно ………………………………………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аучился (лась) ……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не было не понятно…………………………………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е смог (ла) понять………………………………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710480" cy="169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844280"/>
            <a:ext cx="2386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1008000" cy="887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950920" y="1989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486360" y="3213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1224000" cy="763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9"/>
          <p:cNvSpPr/>
          <p:nvPr/>
        </p:nvSpPr>
        <p:spPr>
          <a:xfrm>
            <a:off x="2884320" y="32846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а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480240" y="4292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1152360" cy="907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2959920" y="4292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у=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480240" y="551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936720" cy="8110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3035880" y="558972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в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534440" cy="1693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6840" y="1916280"/>
            <a:ext cx="585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863640" cy="946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879640" y="21337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480240" y="3141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936360" cy="811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2879640" y="3213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х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480240" y="4365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019160" cy="792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2951640" y="43657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у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480240" y="551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900360" cy="792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7"/>
          <p:cNvSpPr/>
          <p:nvPr/>
        </p:nvSpPr>
        <p:spPr>
          <a:xfrm>
            <a:off x="2946960" y="544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а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44440" y="12600"/>
            <a:ext cx="7661160" cy="1693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915920"/>
            <a:ext cx="2962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            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835200" cy="64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720720" cy="673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7"/>
          <p:cNvSpPr/>
          <p:nvPr/>
        </p:nvSpPr>
        <p:spPr>
          <a:xfrm>
            <a:off x="1352160" y="3068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588960" cy="431640"/>
          </a:xfrm>
          <a:prstGeom prst="rect">
            <a:avLst/>
          </a:prstGeom>
          <a:ln w="0">
            <a:noFill/>
          </a:ln>
        </p:spPr>
      </p:pic>
      <p:sp>
        <p:nvSpPr>
          <p:cNvPr id="283" name="Дуга 14"/>
          <p:cNvSpPr/>
          <p:nvPr/>
        </p:nvSpPr>
        <p:spPr>
          <a:xfrm rot="10957200">
            <a:off x="1917360" y="156996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Дуга 15"/>
          <p:cNvSpPr/>
          <p:nvPr/>
        </p:nvSpPr>
        <p:spPr>
          <a:xfrm rot="10957200">
            <a:off x="3212640" y="156996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Дуга 16"/>
          <p:cNvSpPr/>
          <p:nvPr/>
        </p:nvSpPr>
        <p:spPr>
          <a:xfrm rot="10957200">
            <a:off x="5517720" y="3514680"/>
            <a:ext cx="576360" cy="4320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Дуга 17"/>
          <p:cNvSpPr/>
          <p:nvPr/>
        </p:nvSpPr>
        <p:spPr>
          <a:xfrm rot="10957200">
            <a:off x="4005360" y="351468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  <a:lnTo>
                  <a:pt x="288131" y="215900"/>
                </a:lnTo>
                <a:close/>
              </a:path>
              <a:path fill="none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Дуга 18"/>
          <p:cNvSpPr/>
          <p:nvPr/>
        </p:nvSpPr>
        <p:spPr>
          <a:xfrm rot="10957200">
            <a:off x="5950080" y="156996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  <a:lnTo>
                  <a:pt x="288132" y="215900"/>
                </a:lnTo>
                <a:close/>
              </a:path>
              <a:path fill="none" w="576263" h="431800">
                <a:moveTo>
                  <a:pt x="288132" y="0"/>
                </a:moveTo>
                <a:lnTo>
                  <a:pt x="288132" y="0"/>
                </a:lnTo>
                <a:arcTo wR="288132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уга 19"/>
          <p:cNvSpPr/>
          <p:nvPr/>
        </p:nvSpPr>
        <p:spPr>
          <a:xfrm rot="10957200">
            <a:off x="7174080" y="1569960"/>
            <a:ext cx="576000" cy="432000"/>
          </a:xfrm>
          <a:custGeom>
            <a:avLst/>
            <a:gdLst>
              <a:gd name="textAreaLeft" fmla="*/ 288000 w 576000"/>
              <a:gd name="textAreaRight" fmla="*/ 576360 w 57600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  <a:lnTo>
                  <a:pt x="288131" y="215900"/>
                </a:lnTo>
                <a:close/>
              </a:path>
              <a:path fill="none" w="576262" h="431800">
                <a:moveTo>
                  <a:pt x="288131" y="0"/>
                </a:moveTo>
                <a:lnTo>
                  <a:pt x="288131" y="0"/>
                </a:lnTo>
                <a:arcTo wR="288131" hR="215900" stAng="-5400000" swAng="5400012"/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1"/>
          <p:cNvSpPr/>
          <p:nvPr/>
        </p:nvSpPr>
        <p:spPr>
          <a:xfrm>
            <a:off x="1971360" y="162864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327420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4788000" y="1989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            и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"/>
          <p:cNvPicPr/>
          <p:nvPr/>
        </p:nvPicPr>
        <p:blipFill>
          <a:blip r:embed="rId5"/>
          <a:stretch/>
        </p:blipFill>
        <p:spPr>
          <a:xfrm>
            <a:off x="5435640" y="1989000"/>
            <a:ext cx="720720" cy="746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6"/>
          <a:stretch/>
        </p:blipFill>
        <p:spPr>
          <a:xfrm>
            <a:off x="6659640" y="1989000"/>
            <a:ext cx="720720" cy="746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5125680" y="3141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(х+у)(х-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1"/>
          <p:cNvSpPr/>
          <p:nvPr/>
        </p:nvSpPr>
        <p:spPr>
          <a:xfrm>
            <a:off x="5945400" y="16286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2"/>
          <p:cNvSpPr/>
          <p:nvPr/>
        </p:nvSpPr>
        <p:spPr>
          <a:xfrm>
            <a:off x="7158960" y="1628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+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4"/>
          <p:cNvSpPr/>
          <p:nvPr/>
        </p:nvSpPr>
        <p:spPr>
          <a:xfrm>
            <a:off x="2843280" y="40766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             и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7"/>
          <a:stretch/>
        </p:blipFill>
        <p:spPr>
          <a:xfrm>
            <a:off x="3419640" y="4005360"/>
            <a:ext cx="720720" cy="7858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5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104840" cy="819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9"/>
          <p:cNvSpPr/>
          <p:nvPr/>
        </p:nvSpPr>
        <p:spPr>
          <a:xfrm>
            <a:off x="3309840" y="5013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.О.З.  с(с+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0"/>
          <p:cNvSpPr/>
          <p:nvPr/>
        </p:nvSpPr>
        <p:spPr>
          <a:xfrm>
            <a:off x="4072680" y="35733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1"/>
          <p:cNvSpPr/>
          <p:nvPr/>
        </p:nvSpPr>
        <p:spPr>
          <a:xfrm>
            <a:off x="55774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работать навыки решения рациональных уравн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вторить способы решения уравн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вершенствовать вычислительные навы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формулировать алгорит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7492680" cy="1152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6840" y="1609200"/>
            <a:ext cx="801720" cy="6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68360" y="2708280"/>
            <a:ext cx="801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одержимое 2"/>
          <p:cNvSpPr/>
          <p:nvPr/>
        </p:nvSpPr>
        <p:spPr>
          <a:xfrm>
            <a:off x="468360" y="3789360"/>
            <a:ext cx="801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одержимое 2"/>
          <p:cNvSpPr/>
          <p:nvPr/>
        </p:nvSpPr>
        <p:spPr>
          <a:xfrm>
            <a:off x="468360" y="4869000"/>
            <a:ext cx="8017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297080" cy="750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297080" cy="676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1657440" cy="689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1892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обще при решении дробных уравнений целесообразно поступа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418680" y="2924280"/>
            <a:ext cx="70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Найти общий знаменатель дробей, входящих в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ривести дроби к общему знаменателю, привести к виду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де Р(х) и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х) – много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488880" y="501336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Решить получивше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611280" y="544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Исключить из его корней те, которые обращают в нуль общий 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84280" y="42926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ерейти к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Левая фигурная скобка 8"/>
          <p:cNvSpPr/>
          <p:nvPr/>
        </p:nvSpPr>
        <p:spPr>
          <a:xfrm>
            <a:off x="3059280" y="414972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6"/>
                </a:cubicBezTo>
                <a:lnTo>
                  <a:pt x="10800" y="10144"/>
                </a:lnTo>
                <a:cubicBezTo>
                  <a:pt x="10800" y="10472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6"/>
                </a:cubicBezTo>
                <a:lnTo>
                  <a:pt x="10800" y="20944"/>
                </a:lnTo>
                <a:cubicBezTo>
                  <a:pt x="10800" y="21272"/>
                  <a:pt x="16200" y="21600"/>
                  <a:pt x="2160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3349800" y="41497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(х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343680" y="4508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(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)≠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863640" cy="5810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395280" y="62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24180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576180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584360" cy="9381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1831680" cy="8636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1439640" cy="9302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9"/>
          <p:cNvSpPr/>
          <p:nvPr/>
        </p:nvSpPr>
        <p:spPr>
          <a:xfrm>
            <a:off x="45720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"/>
          <p:cNvPicPr/>
          <p:nvPr/>
        </p:nvPicPr>
        <p:blipFill>
          <a:blip r:embed="rId4"/>
          <a:stretch/>
        </p:blipFill>
        <p:spPr>
          <a:xfrm>
            <a:off x="3059280" y="1484280"/>
            <a:ext cx="1460160" cy="8650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2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3" descr=""/>
          <p:cNvPicPr/>
          <p:nvPr/>
        </p:nvPicPr>
        <p:blipFill>
          <a:blip r:embed="rId5"/>
          <a:stretch/>
        </p:blipFill>
        <p:spPr>
          <a:xfrm>
            <a:off x="2843280" y="2997360"/>
            <a:ext cx="1913040" cy="7920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5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"/>
          <p:cNvPicPr/>
          <p:nvPr/>
        </p:nvPicPr>
        <p:blipFill>
          <a:blip r:embed="rId6"/>
          <a:stretch/>
        </p:blipFill>
        <p:spPr>
          <a:xfrm>
            <a:off x="2771640" y="4365720"/>
            <a:ext cx="1656000" cy="931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8"/>
          <p:cNvSpPr/>
          <p:nvPr/>
        </p:nvSpPr>
        <p:spPr>
          <a:xfrm>
            <a:off x="45720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9" descr=""/>
          <p:cNvPicPr/>
          <p:nvPr/>
        </p:nvPicPr>
        <p:blipFill>
          <a:blip r:embed="rId7"/>
          <a:stretch/>
        </p:blipFill>
        <p:spPr>
          <a:xfrm>
            <a:off x="5580000" y="1484280"/>
            <a:ext cx="1295640" cy="8254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1"/>
          <p:cNvSpPr/>
          <p:nvPr/>
        </p:nvSpPr>
        <p:spPr>
          <a:xfrm>
            <a:off x="45720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5364000" y="2997360"/>
            <a:ext cx="1852920" cy="792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4"/>
          <p:cNvSpPr/>
          <p:nvPr/>
        </p:nvSpPr>
        <p:spPr>
          <a:xfrm>
            <a:off x="45720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5" descr=""/>
          <p:cNvPicPr/>
          <p:nvPr/>
        </p:nvPicPr>
        <p:blipFill>
          <a:blip r:embed="rId9"/>
          <a:stretch/>
        </p:blipFill>
        <p:spPr>
          <a:xfrm>
            <a:off x="5003640" y="4437000"/>
            <a:ext cx="312768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7"/>
          <p:cNvSpPr/>
          <p:nvPr/>
        </p:nvSpPr>
        <p:spPr>
          <a:xfrm>
            <a:off x="4572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16:29Z</dcterms:created>
  <dc:creator>Ksu</dc:creator>
  <dc:description/>
  <dc:language>en-US</dc:language>
  <cp:lastModifiedBy>Ksu</cp:lastModifiedBy>
  <dcterms:modified xsi:type="dcterms:W3CDTF">2015-10-14T04:27:59Z</dcterms:modified>
  <cp:revision>18</cp:revision>
  <dc:subject/>
  <dc:title>Слайд 1</dc:title>
</cp:coreProperties>
</file>