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289-35B5-45A7-AD59-19D429082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C73-F4F2-46D1-818F-F2C044850E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EF9-9DFD-4AB2-93E6-CEB9AF00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726-E7CC-4B7D-B06B-41F00A0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BAE-0805-4D9A-89EB-3CF9CAF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59C-95AF-48BD-9C1F-C69E118E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F92-47EE-411E-8737-E42BDE8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D46-B75A-4940-A136-577B073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DFB-E301-43E8-982B-8D6C2E35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87B7-E129-4D8E-9328-2565E9F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8A1-950A-4072-80D0-E45F0219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DF29-1A6C-409F-B8BA-43C11B3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CCFE-4BAF-45CA-AFE4-1CAA066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04E-F31C-43DF-B16A-2A273C6D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553A-366B-4475-AFB2-74EEA08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E282-EECA-442F-BC82-F6D2DED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EA34-14BA-40C3-B3E4-DBA4FE8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9B3-47B3-4489-AB75-580C58F6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EC19-285C-4501-B032-7D41CACD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47F5-E0A9-4C03-8AF7-D75D7247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BB1A-098F-4B15-A2A4-41D67225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014D-E08A-4969-ABAB-98C6257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3D43-902E-4740-8F5D-B1BCC6B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67EF-32A1-459D-ADC1-11AE1F64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5C2-CBAB-4F3B-8BC9-D418899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9A69-97DD-4666-8423-2C8F67F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9529-A642-4228-8591-2F044C0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1C12-8B21-4689-BC1B-6E6333B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7D39-5C88-46B0-91AC-F241AED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205B-7871-4457-A0BF-EDF1FF3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7320-FB81-4204-9854-27383CBE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EDF1-D15F-4425-8839-D038EAAA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31BD-7129-4C2E-A7CD-5B3EDED1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67D5-AA0B-408B-8406-A5CBEA8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37BB-1119-4983-943E-1F0DCA8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51D-EF6E-4902-B6BE-8BA51280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EC8C-25FD-4DFF-993F-45CFB1A7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0E62-E9AF-4B08-A6E2-AA9E75E8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D280-B8EB-457A-AAA4-9ECB128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5193-B7D5-42FD-8BA8-368D43B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298D-0008-49DA-8335-D9A1B16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3A90-F157-4519-995C-8199B3A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01FF-CD1C-48B5-92BD-7E2BC60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AF5F-1AA0-4889-85F7-79685009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691C-E8CB-462F-9E91-CB394377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21257-14E2-402B-9C3C-0B23F433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5FE-B1A0-43C1-9D15-3C9C712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57C4-3041-435A-9439-34EB66D1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419D-C7D8-4B57-BECE-213211C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F55B6-2151-414B-8CB7-48D2A00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9BA28-2F64-4386-9187-0889090B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6B787-CFE7-40F9-BDEE-66A0C171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AED5-DD72-438D-A8DE-0818180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7D41-7065-4453-BB84-763DC6F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2D86-473B-4C9D-9459-0B0C715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1B29-9811-425D-9ABB-0A4EF4CF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5FF0-6F0A-4834-8392-DFCCACE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45E-845F-4540-8D8B-697B602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74670-2856-4DE7-89A6-9D80FD86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539-4F18-4FE0-9D10-43CD17D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E1C-A3A9-4E0C-ADE2-4C10ABD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0A6-ECF3-4A0F-A97C-52C82F7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D56-F371-4F92-BE60-66404A5A7CA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051-882E-4B62-9961-A57563207AD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0F1-3F45-4F43-B415-E4F7DF69BFB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53A-ABDF-4640-A781-68B49BED2F7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FBA-4B06-4D45-8B9C-A231FDC5DA4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4"/>
          <p:cNvSpPr/>
          <p:nvPr/>
        </p:nvSpPr>
        <p:spPr>
          <a:xfrm>
            <a:off x="4140360" y="5661000"/>
            <a:ext cx="1223640" cy="720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1979640" y="3789360"/>
            <a:ext cx="1584360" cy="7920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3419640" y="2349360"/>
            <a:ext cx="1584000" cy="792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8000" y="1557360"/>
            <a:ext cx="7488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у=1      б) у=-5    в)  у=2,5     г) у=4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440000" cy="8236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655640" cy="7682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468360" y="31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а=-0,5    б) а=-3      в) а=3         г) а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627120" y="5013360"/>
            <a:ext cx="46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х=0    б) х=4    в) х=2    г) х=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1042920" y="4941720"/>
            <a:ext cx="1441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6840" y="1609560"/>
            <a:ext cx="181116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Содержимое 2"/>
          <p:cNvSpPr/>
          <p:nvPr/>
        </p:nvSpPr>
        <p:spPr>
          <a:xfrm>
            <a:off x="3419640" y="1628640"/>
            <a:ext cx="1811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одержимое 2"/>
          <p:cNvSpPr/>
          <p:nvPr/>
        </p:nvSpPr>
        <p:spPr>
          <a:xfrm>
            <a:off x="5940360" y="1628640"/>
            <a:ext cx="1809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гру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79280" y="256536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12       -3      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3059280" y="2565360"/>
            <a:ext cx="25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2       12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5508720" y="256536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2      -25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6656040" y="34290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391320" y="342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2264040" y="3429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132192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5714280" y="342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4922280" y="342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4"/>
          <p:cNvSpPr/>
          <p:nvPr/>
        </p:nvSpPr>
        <p:spPr>
          <a:xfrm>
            <a:off x="4055760" y="34290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5"/>
          <p:cNvSpPr/>
          <p:nvPr/>
        </p:nvSpPr>
        <p:spPr>
          <a:xfrm>
            <a:off x="320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6"/>
          <p:cNvSpPr/>
          <p:nvPr/>
        </p:nvSpPr>
        <p:spPr>
          <a:xfrm>
            <a:off x="7596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179280" y="40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положите ответы всех уравнений в порядке возрастания и получите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1908000" y="515772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У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609200"/>
            <a:ext cx="723888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обще при решении дробных уравнений целесообразно поступа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418680" y="2924280"/>
            <a:ext cx="70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Найти общий знаменатель дробей, входящих в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ривести дроби к общему знаменателю, привести к виду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де Р(х) 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х) – много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488880" y="501336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Решить получивше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611280" y="544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Исключить из его корней те, которые обращают в нуль общий 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584280" y="42926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ерейти к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Левая фигурная скобка 8"/>
          <p:cNvSpPr/>
          <p:nvPr/>
        </p:nvSpPr>
        <p:spPr>
          <a:xfrm>
            <a:off x="3059280" y="414972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6"/>
                </a:cubicBezTo>
                <a:lnTo>
                  <a:pt x="10800" y="10144"/>
                </a:lnTo>
                <a:cubicBezTo>
                  <a:pt x="10800" y="10472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6"/>
                </a:cubicBezTo>
                <a:lnTo>
                  <a:pt x="10800" y="20944"/>
                </a:lnTo>
                <a:cubicBezTo>
                  <a:pt x="10800" y="21272"/>
                  <a:pt x="16200" y="21600"/>
                  <a:pt x="2160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3349800" y="41497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(х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"/>
          <p:cNvSpPr/>
          <p:nvPr/>
        </p:nvSpPr>
        <p:spPr>
          <a:xfrm>
            <a:off x="3343680" y="4508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(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)≠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863640" cy="5810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я узнал (а) …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не было трудно ………………………………………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аучился (лась) ……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не было не понятно…………………………………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е смог (ла) понять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710480" cy="169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844280"/>
            <a:ext cx="2386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1008000" cy="887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950920" y="1989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486360" y="3213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1224000" cy="763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9"/>
          <p:cNvSpPr/>
          <p:nvPr/>
        </p:nvSpPr>
        <p:spPr>
          <a:xfrm>
            <a:off x="2884320" y="32846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а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480240" y="4292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1152360" cy="907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2959920" y="4292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у=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480240" y="551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936720" cy="8110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3035880" y="558972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в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534440" cy="1693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6840" y="1916280"/>
            <a:ext cx="585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863640" cy="946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879640" y="21337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480240" y="3141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936360" cy="811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2879640" y="3213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480240" y="4365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019160" cy="792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2951640" y="43657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у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480240" y="551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900360" cy="792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7"/>
          <p:cNvSpPr/>
          <p:nvPr/>
        </p:nvSpPr>
        <p:spPr>
          <a:xfrm>
            <a:off x="2946960" y="544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а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661160" cy="1693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915920"/>
            <a:ext cx="2962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           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835200" cy="64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720720" cy="673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7"/>
          <p:cNvSpPr/>
          <p:nvPr/>
        </p:nvSpPr>
        <p:spPr>
          <a:xfrm>
            <a:off x="1352160" y="3068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588960" cy="431640"/>
          </a:xfrm>
          <a:prstGeom prst="rect">
            <a:avLst/>
          </a:prstGeom>
          <a:ln w="0">
            <a:noFill/>
          </a:ln>
        </p:spPr>
      </p:pic>
      <p:sp>
        <p:nvSpPr>
          <p:cNvPr id="283" name="Дуга 14"/>
          <p:cNvSpPr/>
          <p:nvPr/>
        </p:nvSpPr>
        <p:spPr>
          <a:xfrm rot="10957200">
            <a:off x="1917360" y="156996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Дуга 15"/>
          <p:cNvSpPr/>
          <p:nvPr/>
        </p:nvSpPr>
        <p:spPr>
          <a:xfrm rot="10957200">
            <a:off x="3212640" y="156996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Дуга 16"/>
          <p:cNvSpPr/>
          <p:nvPr/>
        </p:nvSpPr>
        <p:spPr>
          <a:xfrm rot="10957200">
            <a:off x="5517720" y="351468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Дуга 17"/>
          <p:cNvSpPr/>
          <p:nvPr/>
        </p:nvSpPr>
        <p:spPr>
          <a:xfrm rot="10957200">
            <a:off x="4005360" y="351468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  <a:lnTo>
                  <a:pt x="288131" y="215900"/>
                </a:lnTo>
                <a:close/>
              </a:path>
              <a:path fill="none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Дуга 18"/>
          <p:cNvSpPr/>
          <p:nvPr/>
        </p:nvSpPr>
        <p:spPr>
          <a:xfrm rot="10957200">
            <a:off x="5950080" y="156996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уга 19"/>
          <p:cNvSpPr/>
          <p:nvPr/>
        </p:nvSpPr>
        <p:spPr>
          <a:xfrm rot="10957200">
            <a:off x="7174080" y="156996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  <a:lnTo>
                  <a:pt x="288131" y="215900"/>
                </a:lnTo>
                <a:close/>
              </a:path>
              <a:path fill="none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1"/>
          <p:cNvSpPr/>
          <p:nvPr/>
        </p:nvSpPr>
        <p:spPr>
          <a:xfrm>
            <a:off x="1971360" y="162864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327420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4788000" y="1989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            и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"/>
          <p:cNvPicPr/>
          <p:nvPr/>
        </p:nvPicPr>
        <p:blipFill>
          <a:blip r:embed="rId5"/>
          <a:stretch/>
        </p:blipFill>
        <p:spPr>
          <a:xfrm>
            <a:off x="5435640" y="1989000"/>
            <a:ext cx="720720" cy="746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6"/>
          <a:stretch/>
        </p:blipFill>
        <p:spPr>
          <a:xfrm>
            <a:off x="6659640" y="1989000"/>
            <a:ext cx="720720" cy="746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5125680" y="3141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(х+у)(х-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1"/>
          <p:cNvSpPr/>
          <p:nvPr/>
        </p:nvSpPr>
        <p:spPr>
          <a:xfrm>
            <a:off x="5945400" y="16286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2"/>
          <p:cNvSpPr/>
          <p:nvPr/>
        </p:nvSpPr>
        <p:spPr>
          <a:xfrm>
            <a:off x="7158960" y="1628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+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4"/>
          <p:cNvSpPr/>
          <p:nvPr/>
        </p:nvSpPr>
        <p:spPr>
          <a:xfrm>
            <a:off x="2843280" y="40766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            и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7"/>
          <a:stretch/>
        </p:blipFill>
        <p:spPr>
          <a:xfrm>
            <a:off x="3419640" y="4005360"/>
            <a:ext cx="720720" cy="7858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5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104840" cy="819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9"/>
          <p:cNvSpPr/>
          <p:nvPr/>
        </p:nvSpPr>
        <p:spPr>
          <a:xfrm>
            <a:off x="3309840" y="5013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с(с+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0"/>
          <p:cNvSpPr/>
          <p:nvPr/>
        </p:nvSpPr>
        <p:spPr>
          <a:xfrm>
            <a:off x="4072680" y="35733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1"/>
          <p:cNvSpPr/>
          <p:nvPr/>
        </p:nvSpPr>
        <p:spPr>
          <a:xfrm>
            <a:off x="55774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работать навыки решения рациональных уравн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вторить способы решения уравн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вершенствовать вычислительные навы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формулировать алгорит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7492680" cy="1152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6840" y="1609200"/>
            <a:ext cx="801720" cy="6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68360" y="2708280"/>
            <a:ext cx="801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одержимое 2"/>
          <p:cNvSpPr/>
          <p:nvPr/>
        </p:nvSpPr>
        <p:spPr>
          <a:xfrm>
            <a:off x="468360" y="3789360"/>
            <a:ext cx="801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одержимое 2"/>
          <p:cNvSpPr/>
          <p:nvPr/>
        </p:nvSpPr>
        <p:spPr>
          <a:xfrm>
            <a:off x="468360" y="4869000"/>
            <a:ext cx="801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297080" cy="750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297080" cy="676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1657440" cy="689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1892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обще при решении дробных уравнений целесообразно поступа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418680" y="2924280"/>
            <a:ext cx="70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Найти общий знаменатель дробей, входящих в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ривести дроби к общему знаменателю, привести к виду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де Р(х) 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х) – много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488880" y="501336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Решить получивше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611280" y="544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Исключить из его корней те, которые обращают в нуль общий 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84280" y="42926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ерейти к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Левая фигурная скобка 8"/>
          <p:cNvSpPr/>
          <p:nvPr/>
        </p:nvSpPr>
        <p:spPr>
          <a:xfrm>
            <a:off x="3059280" y="414972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6"/>
                </a:cubicBezTo>
                <a:lnTo>
                  <a:pt x="10800" y="10144"/>
                </a:lnTo>
                <a:cubicBezTo>
                  <a:pt x="10800" y="10472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6"/>
                </a:cubicBezTo>
                <a:lnTo>
                  <a:pt x="10800" y="20944"/>
                </a:lnTo>
                <a:cubicBezTo>
                  <a:pt x="10800" y="21272"/>
                  <a:pt x="16200" y="21600"/>
                  <a:pt x="2160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3349800" y="41497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(х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343680" y="4508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(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)≠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863640" cy="5810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395280" y="62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180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576180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584360" cy="9381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1831680" cy="8636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1439640" cy="9302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9"/>
          <p:cNvSpPr/>
          <p:nvPr/>
        </p:nvSpPr>
        <p:spPr>
          <a:xfrm>
            <a:off x="45720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"/>
          <p:cNvPicPr/>
          <p:nvPr/>
        </p:nvPicPr>
        <p:blipFill>
          <a:blip r:embed="rId4"/>
          <a:stretch/>
        </p:blipFill>
        <p:spPr>
          <a:xfrm>
            <a:off x="3059280" y="1484280"/>
            <a:ext cx="1460160" cy="8650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2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3" descr=""/>
          <p:cNvPicPr/>
          <p:nvPr/>
        </p:nvPicPr>
        <p:blipFill>
          <a:blip r:embed="rId5"/>
          <a:stretch/>
        </p:blipFill>
        <p:spPr>
          <a:xfrm>
            <a:off x="2843280" y="2997360"/>
            <a:ext cx="1913040" cy="7920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5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"/>
          <p:cNvPicPr/>
          <p:nvPr/>
        </p:nvPicPr>
        <p:blipFill>
          <a:blip r:embed="rId6"/>
          <a:stretch/>
        </p:blipFill>
        <p:spPr>
          <a:xfrm>
            <a:off x="2771640" y="4365720"/>
            <a:ext cx="1656000" cy="931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8"/>
          <p:cNvSpPr/>
          <p:nvPr/>
        </p:nvSpPr>
        <p:spPr>
          <a:xfrm>
            <a:off x="45720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9" descr=""/>
          <p:cNvPicPr/>
          <p:nvPr/>
        </p:nvPicPr>
        <p:blipFill>
          <a:blip r:embed="rId7"/>
          <a:stretch/>
        </p:blipFill>
        <p:spPr>
          <a:xfrm>
            <a:off x="5580000" y="1484280"/>
            <a:ext cx="1295640" cy="8254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1"/>
          <p:cNvSpPr/>
          <p:nvPr/>
        </p:nvSpPr>
        <p:spPr>
          <a:xfrm>
            <a:off x="45720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5364000" y="2997360"/>
            <a:ext cx="1852920" cy="792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4"/>
          <p:cNvSpPr/>
          <p:nvPr/>
        </p:nvSpPr>
        <p:spPr>
          <a:xfrm>
            <a:off x="45720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5" descr=""/>
          <p:cNvPicPr/>
          <p:nvPr/>
        </p:nvPicPr>
        <p:blipFill>
          <a:blip r:embed="rId9"/>
          <a:stretch/>
        </p:blipFill>
        <p:spPr>
          <a:xfrm>
            <a:off x="5003640" y="4437000"/>
            <a:ext cx="312768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7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16:29Z</dcterms:created>
  <dc:creator>Ksu</dc:creator>
  <dc:description/>
  <dc:language>en-US</dc:language>
  <cp:lastModifiedBy>Ksu</cp:lastModifiedBy>
  <dcterms:modified xsi:type="dcterms:W3CDTF">2015-10-14T04:27:59Z</dcterms:modified>
  <cp:revision>18</cp:revision>
  <dc:subject/>
  <dc:title>Слайд 1</dc:title>
</cp:coreProperties>
</file>