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41F-DEDC-457B-B45A-D372DE14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A30-6F15-448A-9453-5C9AEB46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960-DF72-4F07-8BD7-1BB38DF6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AD1-4560-45D1-9216-44D63F2D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04C-64BE-49ED-8E48-DED7CC1F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24A-0F3E-4C6C-BF98-B9A21A25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171-3BFE-4D61-8BAF-6F6BE454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564-408A-4755-83A3-01160354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FAB-6C17-4A69-856D-E6B00FF9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30D-8AE8-4D2D-BFEE-688951A1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A10-0BCF-4FAF-897A-7FEE430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32A-9367-46D5-9AA0-BC3887C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3CA0-305B-4B4D-9EFC-51D292132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6381720"/>
            <a:ext cx="4392360" cy="409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хи М. Грозовского, М. Дружин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FLOWER22"/>
          <p:cNvPicPr/>
          <p:nvPr/>
        </p:nvPicPr>
        <p:blipFill>
          <a:blip r:embed="rId2"/>
          <a:stretch/>
        </p:blipFill>
        <p:spPr>
          <a:xfrm>
            <a:off x="-142920" y="-142920"/>
            <a:ext cx="219564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3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00803_1071_4814_vnvv"/>
          <p:cNvPicPr/>
          <p:nvPr/>
        </p:nvPicPr>
        <p:blipFill>
          <a:blip r:embed="rId2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739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MCj02963590000[1]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000803_1071_4902_vnvv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BK00014_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25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6" descr=""/>
          <p:cNvPicPr/>
          <p:nvPr/>
        </p:nvPicPr>
        <p:blipFill>
          <a:blip r:embed="rId4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1"/>
          <p:cNvGrpSpPr/>
          <p:nvPr/>
        </p:nvGrpSpPr>
        <p:grpSpPr>
          <a:xfrm>
            <a:off x="4429080" y="4643280"/>
            <a:ext cx="681120" cy="592200"/>
            <a:chOff x="4429080" y="4643280"/>
            <a:chExt cx="681120" cy="592200"/>
          </a:xfrm>
        </p:grpSpPr>
        <p:sp>
          <p:nvSpPr>
            <p:cNvPr id="120" name="WordArt 13"/>
            <p:cNvSpPr txBox="1"/>
            <p:nvPr/>
          </p:nvSpPr>
          <p:spPr>
            <a:xfrm>
              <a:off x="4429080" y="5001120"/>
              <a:ext cx="678240" cy="23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cc99ff"/>
                  </a:solidFill>
                  <a:latin typeface="Times New Roman"/>
                </a:rPr>
                <a:t>viki.rdf.ru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21" name="WordArt 14"/>
            <p:cNvSpPr txBox="1"/>
            <p:nvPr/>
          </p:nvSpPr>
          <p:spPr>
            <a:xfrm>
              <a:off x="4429080" y="4643280"/>
              <a:ext cx="68112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ДЭПиК</a:t>
              </a:r>
              <a:endPara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 advTm="3000"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33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0803_1071_4827_vnvv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72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Cj03209400000[1]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Mj03033860000[1]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MMj03033790000[1]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MMj02867970000[1]"/>
          <p:cNvPicPr/>
          <p:nvPr/>
        </p:nvPicPr>
        <p:blipFill>
          <a:blip r:embed="rId5"/>
          <a:stretch/>
        </p:blipFill>
        <p:spPr>
          <a:xfrm flipH="1">
            <a:off x="729720" y="5133960"/>
            <a:ext cx="1465560" cy="110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6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25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Mj03546700000[1]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MCj02345710000[1]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2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5580000" y="5445000"/>
            <a:ext cx="1803600" cy="1208160"/>
          </a:xfrm>
          <a:custGeom>
            <a:avLst/>
            <a:gdLst>
              <a:gd name="textAreaLeft" fmla="*/ 248400 w 1803600"/>
              <a:gd name="textAreaRight" fmla="*/ 1427040 w 1803600"/>
              <a:gd name="textAreaTop" fmla="*/ 182160 h 1208160"/>
              <a:gd name="textAreaBottom" fmla="*/ 969840 h 120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0" y="5965920"/>
            <a:ext cx="1332000" cy="892080"/>
          </a:xfrm>
          <a:custGeom>
            <a:avLst/>
            <a:gdLst>
              <a:gd name="textAreaLeft" fmla="*/ 183600 w 1332000"/>
              <a:gd name="textAreaRight" fmla="*/ 1053720 w 1332000"/>
              <a:gd name="textAreaTop" fmla="*/ 134640 h 892080"/>
              <a:gd name="textAreaBottom" fmla="*/ 716040 h 892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7775640" y="2781360"/>
            <a:ext cx="1368360" cy="915840"/>
          </a:xfrm>
          <a:custGeom>
            <a:avLst/>
            <a:gdLst>
              <a:gd name="textAreaLeft" fmla="*/ 188640 w 1368360"/>
              <a:gd name="textAreaRight" fmla="*/ 1082520 w 1368360"/>
              <a:gd name="textAreaTop" fmla="*/ 138240 h 915840"/>
              <a:gd name="textAreaBottom" fmla="*/ 735120 h 9158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BK00014_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/>
          <p:cNvPicPr/>
          <p:nvPr/>
        </p:nvPicPr>
        <p:blipFill>
          <a:blip r:embed="rId4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063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K00014_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LOWERS6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LOWERS3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POPPY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EETLE"/>
          <p:cNvPicPr/>
          <p:nvPr/>
        </p:nvPicPr>
        <p:blipFill>
          <a:blip r:embed="rId5"/>
          <a:stretch/>
        </p:blipFill>
        <p:spPr>
          <a:xfrm rot="220800">
            <a:off x="2346480" y="2897280"/>
            <a:ext cx="5688000" cy="33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6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86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FIRTREE2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поезд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FIRTREE2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FIRTREE2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6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90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TRNGR007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g0109751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BK00014_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g0126091"/>
          <p:cNvPicPr/>
          <p:nvPr/>
        </p:nvPicPr>
        <p:blipFill>
          <a:blip r:embed="rId5"/>
          <a:stretch/>
        </p:blipFill>
        <p:spPr>
          <a:xfrm flipH="1"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"/>
          <p:cNvPicPr/>
          <p:nvPr/>
        </p:nvPicPr>
        <p:blipFill>
          <a:blip r:embed="rId6"/>
          <a:stretch/>
        </p:blipFill>
        <p:spPr>
          <a:xfrm>
            <a:off x="860436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57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MCj01977310000[1]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3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829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MMj02346830000[1]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Cj02956200000[1]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4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222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>Dizainer</cp:lastModifiedBy>
  <dcterms:modified xsi:type="dcterms:W3CDTF">2010-02-24T08:21:12Z</dcterms:modified>
  <cp:revision>10</cp:revision>
  <dc:subject/>
  <dc:title>ЗАГАДКИ  ПРО ТРАНСПОРТ</dc:title>
</cp:coreProperties>
</file>