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B0B-65EB-47B2-B740-42470BFF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2C4-10F6-4BDB-9713-264DF0B4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F5F-AE16-453A-AB28-715C1AE9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0CE-D917-4FEB-91FF-D3BEF65B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117-D909-42D0-9821-0365760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D66-8DAD-493B-854C-E0008CA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948-52B7-4791-9628-98D6BAE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3F1-07CD-4BE9-808F-B68DDF4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7DB-F6C3-48C6-88E4-A56E7A8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0E5-6C59-4A90-94E7-8B60E66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9C5-C83F-4138-88DA-F186F2C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56D-8140-4A3F-A3FD-1D184C3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710-41F9-4B9F-9D91-A98127BEF4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680" y="928440"/>
            <a:ext cx="4782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바탕"/>
              </a:rPr>
              <a:t>Само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214880" y="1785960"/>
            <a:ext cx="421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71960" y="2143080"/>
          <a:ext cx="4643280" cy="3940200"/>
        </p:xfrm>
        <a:graphic>
          <a:graphicData uri="http://schemas.openxmlformats.org/drawingml/2006/table">
            <a:tbl>
              <a:tblPr/>
              <a:tblGrid>
                <a:gridCol w="2427120"/>
                <a:gridCol w="2216160"/>
              </a:tblGrid>
              <a:tr h="915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Шлеменкова  Анастасия  Серге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09.10.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Зам. зав.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Квалификационная 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Педагогический ст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Позвольте представить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k0cQ8B35dcY.jpg"/>
          <p:cNvPicPr/>
          <p:nvPr/>
        </p:nvPicPr>
        <p:blipFill>
          <a:blip r:embed="rId1"/>
          <a:srcRect l="0" t="14117" r="0" b="0"/>
          <a:stretch/>
        </p:blipFill>
        <p:spPr>
          <a:xfrm>
            <a:off x="428760" y="2082960"/>
            <a:ext cx="3268440" cy="3741480"/>
          </a:xfrm>
          <a:prstGeom prst="rect">
            <a:avLst/>
          </a:prstGeom>
          <a:ln w="1584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ё образ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02 году- закончила Новоржевскую среднюю шко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07 году – закончила ФГОУ ВПО «Великолукскую государственную сельскохозяйственную академию» по специальности эконо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mbria"/>
              </a:rPr>
              <a:t>2015 году – поступила на 1 курс магистратуры РГПУ им. Герце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720" y="1928520"/>
            <a:ext cx="44719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е послана судьбой моя сем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ней забываю о любом нен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ней сын и дочка, муж и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а дает мне теплоту и сч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aVNkGpwKMZM.jpg"/>
          <p:cNvPicPr/>
          <p:nvPr/>
        </p:nvPicPr>
        <p:blipFill>
          <a:blip r:embed="rId1"/>
          <a:stretch/>
        </p:blipFill>
        <p:spPr>
          <a:xfrm>
            <a:off x="214200" y="3143160"/>
            <a:ext cx="4498920" cy="2994120"/>
          </a:xfrm>
          <a:prstGeom prst="rect">
            <a:avLst/>
          </a:prstGeom>
          <a:ln w="22320">
            <a:solidFill>
              <a:srgbClr val="4597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Моя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работа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833640" cy="3125880"/>
          </a:xfrm>
          <a:prstGeom prst="rect">
            <a:avLst/>
          </a:prstGeom>
          <a:ln w="28440">
            <a:solidFill>
              <a:srgbClr val="224b50"/>
            </a:solidFill>
            <a:miter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3157560" cy="402588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  <p:sp>
        <p:nvSpPr>
          <p:cNvPr id="54" name="TextBox 7"/>
          <p:cNvSpPr/>
          <p:nvPr/>
        </p:nvSpPr>
        <p:spPr>
          <a:xfrm>
            <a:off x="3643200" y="4071960"/>
            <a:ext cx="535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ом, в котором все окна распахнуты в детств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Я любуюсь тобой, не могу наглядетьс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не милее и краше всех зданий на све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ом, в котором с утра собираются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GBDOU114\Desktop\0_6bf61_a1cca8f4_XL.jpg"/>
          <p:cNvPicPr/>
          <p:nvPr/>
        </p:nvPicPr>
        <p:blipFill>
          <a:blip r:embed="rId1"/>
          <a:stretch/>
        </p:blipFill>
        <p:spPr>
          <a:xfrm>
            <a:off x="1357200" y="2000160"/>
            <a:ext cx="6485040" cy="4037040"/>
          </a:xfrm>
          <a:prstGeom prst="rect">
            <a:avLst/>
          </a:prstGeom>
          <a:ln w="255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BDOU114</cp:lastModifiedBy>
  <dcterms:modified xsi:type="dcterms:W3CDTF">2015-10-20T05:20:47Z</dcterms:modified>
  <cp:revision>742</cp:revision>
  <dc:subject/>
  <dc:title>Diapositiva 1</dc:title>
</cp:coreProperties>
</file>