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D04-7F06-44C1-BB16-3394596F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026-8B99-4AB6-8456-37AE87B6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6AE-A9B7-4854-B276-7635D7D5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89F-036D-4CBA-BDC8-C1B49DC5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04C-CAEB-4E27-8F07-5D563D42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CA6-0243-48FC-BE37-F4BE60FA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900-2107-47E2-9A75-77CBF11A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E0E-4D6D-4FDA-B3A2-8FE4FA1A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70C-D8F8-44C7-BCDD-75F1250C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2C9-1EB9-4697-B40F-8F61572A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9C0-1A4B-46D9-A7F4-F1EFDB4A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A02-513D-42D7-BDF9-A1BB8394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E89D-D924-4A41-AF17-D5A9D84271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00680" y="928440"/>
            <a:ext cx="478296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바탕"/>
              </a:rPr>
              <a:t>Самопрезен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4214880" y="1785960"/>
            <a:ext cx="4214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071960" y="2143080"/>
          <a:ext cx="4643280" cy="3940200"/>
        </p:xfrm>
        <a:graphic>
          <a:graphicData uri="http://schemas.openxmlformats.org/drawingml/2006/table">
            <a:tbl>
              <a:tblPr/>
              <a:tblGrid>
                <a:gridCol w="2427120"/>
                <a:gridCol w="2216160"/>
              </a:tblGrid>
              <a:tr h="915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Шлеменкова  Анастасия  Серге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Дата ро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09.10.19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9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Дол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Зам. зав. по У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Квалификационная катег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ер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Педагогический ст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6840" y="2854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omic Sans MS"/>
              </a:rPr>
              <a:t>Позвольте представить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" descr="k0cQ8B35dcY.jpg"/>
          <p:cNvPicPr/>
          <p:nvPr/>
        </p:nvPicPr>
        <p:blipFill>
          <a:blip r:embed="rId1"/>
          <a:srcRect l="0" t="14117" r="0" b="0"/>
          <a:stretch/>
        </p:blipFill>
        <p:spPr>
          <a:xfrm>
            <a:off x="428760" y="2082960"/>
            <a:ext cx="3268440" cy="3741480"/>
          </a:xfrm>
          <a:prstGeom prst="rect">
            <a:avLst/>
          </a:prstGeom>
          <a:ln w="1584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omic Sans MS"/>
              </a:rPr>
              <a:t>Моё образов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mbria"/>
              </a:rPr>
              <a:t>2002 году- закончила Новоржевскую среднюю школ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mbria"/>
              </a:rPr>
              <a:t>2007 году – закончила ФГОУ ВПО «Великолукскую государственную сельскохозяйственную академию» по специальности экономи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mbria"/>
              </a:rPr>
              <a:t>2015 году – поступила на 1 курс магистратуры РГПУ им. Герце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omic Sans MS"/>
              </a:rPr>
              <a:t>Моя 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00720" y="1928520"/>
            <a:ext cx="44719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не послана судьбой моя семь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ней забываю о любом ненаст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ней сын и дочка, муж и 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на дает мне теплоту и счаст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aVNkGpwKMZM.jpg"/>
          <p:cNvPicPr/>
          <p:nvPr/>
        </p:nvPicPr>
        <p:blipFill>
          <a:blip r:embed="rId1"/>
          <a:stretch/>
        </p:blipFill>
        <p:spPr>
          <a:xfrm>
            <a:off x="214200" y="3143160"/>
            <a:ext cx="4498920" cy="2994120"/>
          </a:xfrm>
          <a:prstGeom prst="rect">
            <a:avLst/>
          </a:prstGeom>
          <a:ln w="22320">
            <a:solidFill>
              <a:srgbClr val="4597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omic Sans MS"/>
              </a:rPr>
              <a:t>Моя</a:t>
            </a:r>
            <a:r>
              <a:rPr b="0" lang="ru-RU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3300"/>
                </a:solidFill>
                <a:latin typeface="Comic Sans MS"/>
              </a:rPr>
              <a:t>работа</a:t>
            </a:r>
            <a:r>
              <a:rPr b="0" lang="ru-RU" sz="4400" spc="-1" strike="noStrike">
                <a:solidFill>
                  <a:srgbClr val="0033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833640" cy="3125880"/>
          </a:xfrm>
          <a:prstGeom prst="rect">
            <a:avLst/>
          </a:prstGeom>
          <a:ln w="28440">
            <a:solidFill>
              <a:srgbClr val="224b50"/>
            </a:solidFill>
            <a:miter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14200" y="2071800"/>
            <a:ext cx="3157560" cy="4025880"/>
          </a:xfrm>
          <a:prstGeom prst="rect">
            <a:avLst/>
          </a:prstGeom>
          <a:ln w="19080">
            <a:solidFill>
              <a:srgbClr val="993300"/>
            </a:solidFill>
            <a:miter/>
          </a:ln>
        </p:spPr>
      </p:pic>
      <p:sp>
        <p:nvSpPr>
          <p:cNvPr id="54" name="TextBox 7"/>
          <p:cNvSpPr/>
          <p:nvPr/>
        </p:nvSpPr>
        <p:spPr>
          <a:xfrm>
            <a:off x="3643200" y="4071960"/>
            <a:ext cx="535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ом, в котором все окна распахнуты в детство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Я любуюсь тобой, не могу наглядеться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не милее и краше всех зданий на свет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ом, в котором с утра собираются д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omic Sans MS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GBDOU114\Desktop\0_6bf61_a1cca8f4_XL.jpg"/>
          <p:cNvPicPr/>
          <p:nvPr/>
        </p:nvPicPr>
        <p:blipFill>
          <a:blip r:embed="rId1"/>
          <a:stretch/>
        </p:blipFill>
        <p:spPr>
          <a:xfrm>
            <a:off x="1357200" y="2000160"/>
            <a:ext cx="6485040" cy="4037040"/>
          </a:xfrm>
          <a:prstGeom prst="rect">
            <a:avLst/>
          </a:prstGeom>
          <a:ln w="2556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GBDOU114</cp:lastModifiedBy>
  <dcterms:modified xsi:type="dcterms:W3CDTF">2015-10-20T05:20:47Z</dcterms:modified>
  <cp:revision>742</cp:revision>
  <dc:subject/>
  <dc:title>Diapositiva 1</dc:title>
</cp:coreProperties>
</file>