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157-3801-4D26-AA90-C522446A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DE7-F955-4EF2-A5FB-A5579941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D0D-B872-4B6D-BACE-8B3BE02A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57A-769B-43BA-96D5-947AE02A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8E7-AEF6-48A6-B6CA-7161FE59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949-8599-4497-9320-EFB10DF2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15E-65F3-45CD-BFDE-693F68F5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040-2C29-46B9-B13C-60E925BC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398-797E-4151-9090-A5AD32F1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755-4A30-4355-9A06-BBF1CFCB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F79-F3CB-47F6-8ED6-3E592760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8F0-41B0-4E9B-9BF2-177CEEA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6EEA-DBDC-45FC-812D-B9266B55D9B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3397320" y="3314880"/>
            <a:ext cx="2305080" cy="184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stellar"/>
              </a:rPr>
              <a:t>ТРЕВОЖНОСТЬ У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88000" y="3644640"/>
            <a:ext cx="244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ченица 4 «А» кла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мичёва А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иминова Е.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26028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й №28 имени академика Б.А. Корол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тского района г. Нижнего Нов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ное общество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627360" y="6127920"/>
            <a:ext cx="184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 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а тревожност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57280" y="1341000"/>
            <a:ext cx="6329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373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вожность – это индивидуальная психологическая особенность, заключающаяся в повышенной склонности испытывать беспокойство в самых различных жизненных ситуациях, в том числе и в таких, которые к этому не предрасполагаю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059280" y="2997360"/>
            <a:ext cx="4537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тревожност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784600" y="1557360"/>
            <a:ext cx="3983040" cy="1440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трев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3"/>
          <p:cNvCxnSpPr/>
          <p:nvPr/>
        </p:nvCxnSpPr>
        <p:spPr>
          <a:xfrm flipH="1">
            <a:off x="3491640" y="2997360"/>
            <a:ext cx="79308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5"/>
          <p:cNvCxnSpPr/>
          <p:nvPr/>
        </p:nvCxnSpPr>
        <p:spPr>
          <a:xfrm>
            <a:off x="5508360" y="2997360"/>
            <a:ext cx="71964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Скругленный прямоугольник 9"/>
          <p:cNvSpPr/>
          <p:nvPr/>
        </p:nvSpPr>
        <p:spPr>
          <a:xfrm>
            <a:off x="468360" y="3645000"/>
            <a:ext cx="3643200" cy="25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9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туативная тревожность 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 есть порожденная некоторой конкретной ситуацией, которая объективно вызывает беспокойство. Данное состояние может возникать у любого человека в преддверии возможных неприятностей и жизненных ослож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0"/>
          <p:cNvSpPr/>
          <p:nvPr/>
        </p:nvSpPr>
        <p:spPr>
          <a:xfrm>
            <a:off x="4572000" y="3641760"/>
            <a:ext cx="4032360" cy="2522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9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чностная тревож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Она может рассматриваться как личностная черта, проявляющаяся в постоянной склонности к переживаниям тревоги в самых различных жизненных ситуациях, в том числе и таких, которые объективно к этому не располагают. Она характеризуется состоянием безотчетного страха, неопределенным ощущением угрозы, готовностью воспринять любое событие как неблагоприятное и опасно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и поведения тревожных де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4840" y="3715920"/>
            <a:ext cx="5176800" cy="28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лонность  к вредным привычкам невротического характера (они грызут ногти, сосут пальцы, выдергивают волосы). Манипуляция с собственным телом снижает у них эмоциональное напряжение, успокаива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знать тревожных детей помогает рисование. Их рисунки отличаются обилием штриховки, сильным нажимом, а также маленькими размерами изображе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724360" y="3895560"/>
            <a:ext cx="3100680" cy="228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3529080" cy="2495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4284720" y="817560"/>
            <a:ext cx="468000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являют беспокойство и тревогу даже ситуациях, где ничего не грозит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изкая самооценка, в связи, с чем у них возникает ожидание неблагополучия со стороны окружающи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Чувствительность к своим неудачам, острая реакция на них, склонность отказываться от той деятельности, в которой испытывают затруд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учение тревожности у учащихся 4 «А» класса МАОУ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цей №28 им. академика Б.А. Короле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1052280"/>
            <a:ext cx="8013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080" indent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Цель – изучение тревожности у детей при переходе из начального в среднее зве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 тестировании приняли участие ученики 4 «А» класса в количестве 23 челове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дная таблица результатов диагнос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80" indent="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58920" y="3213000"/>
          <a:ext cx="6480000" cy="1789200"/>
        </p:xfrm>
        <a:graphic>
          <a:graphicData uri="http://schemas.openxmlformats.org/drawingml/2006/table">
            <a:tbl>
              <a:tblPr/>
              <a:tblGrid>
                <a:gridCol w="1455840"/>
                <a:gridCol w="2504880"/>
                <a:gridCol w="25192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тивная тревожность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ая тревожность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р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5905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ческое изображение полученных результат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3860280"/>
            <a:ext cx="63295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373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40" indent="373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у учащихся 4 «А» класса выявлен достаточно высокий процент детей с ситуативной (40%) и личностной (47%) тревожностью. Но всё же уровень личностной тревожности у детей выше, чем ситуатив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2195640" y="765000"/>
          <a:ext cx="6948360" cy="307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765000"/>
                    <a:ext cx="6948360" cy="30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769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екомендации по снижению уровня тревожнос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2080" y="1521000"/>
            <a:ext cx="839628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80" indent="16812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збегать излишне эмоциональных реакций по поводу неудач ребенка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Для создания у детей ситуации успеха стараться показывать положительную динамику в результатах отдельного ученик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080" indent="168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обходимо стараться создать на уроке максимально безопасную с психологической точки зрения атмосферу взаимоуважения: пресекать попытки унижения, давления, насмешек со стороны детей, способствовать повышению самооценки и уверенности в себе путём поощрения и подчёркивания положительных моментов в работе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080" indent="168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ля улучшения психологического климата в классе необходимо проводить внешкольные мероприятия, привлекать детей к участию в жизни класса, школы, выполнению поручений, способствовать самораскрытию, самоутверждению, повышению их авторитета  среди одноклассников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500720" y="3773520"/>
            <a:ext cx="4462200" cy="2994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352440" y="3875040"/>
            <a:ext cx="42480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81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екомендуется коррекционная работа с психолог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40" indent="181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одителям рекомендуется по возможности чаще с детьми устраивать совместные праздники, спортивные игры, совершать прогулки на воздухе. Чаще разговаривать с ребенком, интересоваться его школьной жизнью, стимулировать ребенка к выражению своих переживаний. Всячески поддерживать ребенка, стараться избегать резких категоричных высказыван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Облако 1"/>
          <p:cNvSpPr/>
          <p:nvPr/>
        </p:nvSpPr>
        <p:spPr>
          <a:xfrm>
            <a:off x="1476360" y="115920"/>
            <a:ext cx="6191280" cy="2665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d6ecf2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050920" y="907920"/>
            <a:ext cx="4681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urora Script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1706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3:16Z</dcterms:created>
  <dc:creator>ppsworld.ru</dc:creator>
  <dc:description/>
  <dc:language>en-US</dc:language>
  <cp:lastModifiedBy>Вход</cp:lastModifiedBy>
  <cp:lastPrinted>2015-02-25T09:49:41Z</cp:lastPrinted>
  <dcterms:modified xsi:type="dcterms:W3CDTF">2015-10-20T10:40:22Z</dcterms:modified>
  <cp:revision>41</cp:revision>
  <dc:subject/>
  <dc:title>PRESENTATION  NAME</dc:title>
</cp:coreProperties>
</file>