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3.jpeg" ContentType="image/jpeg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2F67-AE0E-478B-B404-F6CF74CA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2EA1-1003-44A8-BECA-A102C69D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49CE-E02F-4EA1-A1DA-5A8CC799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22B6-5288-4842-B5DF-1AC60CE5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53FD-6C2E-447C-BAC0-2366D9DE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B060-B278-4579-B8CD-0C58FD0E8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7E67-8060-4D45-A742-C034A7824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E32A-F0ED-4CE7-A2F9-7A099762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 направлен не только и не столько на разработку конкретных цифровых ресурсов и учебных материалов, но на создание устойчивого потенциала в области производства высококачественных материалов, о чем сказано в целях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м для этого, на наш взгляд,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процедур педагогического диз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ытание материалов (апроб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D71-8CEF-4A37-A007-EE73209A5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3E0-6958-4D9A-9C73-A40319B5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194E-A6EF-42D2-A8FC-29BBD1422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7B10-ABCE-4F14-A8A3-2D151C267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AF66-0A07-416C-AABC-CC2DA9CA0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CD40-A3B8-410A-862D-C2EAFEEF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E4A-63FA-429F-8483-47026D97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472-7934-40D8-A98E-413BC285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B88-3C04-47A8-805E-8D0F489A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20A-A0F4-428B-ADCF-021B3811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182C-B313-4230-9E1D-20572182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76F5-8F75-4C38-8FD4-70F3CEEA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BE87-8DBC-4E12-AFFE-FF5ECFB6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7538-8FE1-49DA-BBC8-28E2774E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1FE0-6922-42C8-B35E-B82504F4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A32-301A-401C-976F-08AA65A9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F544-DA14-473F-AA45-DDDBD38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168-4117-4DDA-B829-2C58942D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EAA0-6433-4E37-AE97-B7FEABF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4F7E-F5E6-4AD3-98D0-65A3E0A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1065-BE4B-45AA-88FD-D9491E17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BC06-589D-4789-93E6-5C1519F3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FA5A-7D98-4576-AA86-8FED74FF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E213-79D0-4601-9CA4-419AADD2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0692-11BF-4349-BF77-7520BA0E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047BB-B719-4BD7-AE76-098613A5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AE03-AA1C-45AC-AC85-F6489B91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0C73-4E98-43DE-9948-FA3A081D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89F-9556-4D57-912E-B9A4B9D7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43E5D-3A27-491B-8AAD-A22DB377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F360-41CA-4725-9F23-4CA290B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3382-75FC-4688-84CE-717EA8B5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7259-F671-4B93-9E28-26D7A03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6F54-6CAB-4C15-A32D-41822421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938B-878D-4B68-9DED-F04AA736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7BD8-E039-49A0-B98F-3EE9E695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1EC6-2656-4D35-9B19-73908229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3753-2A34-41A6-BDF1-73DA8421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8B78-3B93-4F93-AEBD-FB1B3579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CF0-AF98-4D7E-9B51-6358CA32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F0CAE-1419-4125-8C7F-C9575043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39B4-05D9-4CCA-9B2F-565CA3E5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9FB7A-7458-4293-85CE-226A552F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159BD-39F8-499C-A786-FEA0C114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71AB-876A-4C9A-9A68-C6982797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EFAB-EEC9-43D4-9BA9-7FCBD6C3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9DED-6D05-4D92-91EC-CB66D1B7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F905-70FB-4D98-86CD-ECF9AD7A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E781-3251-4710-9DB5-57A63E88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604B6-C5A3-437B-9A1B-CAF0397D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3EE-BFB6-4E31-B4D0-22E819C1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E0CC-599B-4AD3-A360-60E52C44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AFE7-5394-4959-8ABE-95D029C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87148-2904-4423-8BB3-63879DC9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079B5-E108-4E4B-B7B9-89673B4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8D8C4-4E84-4104-9286-89AF5D87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7E318-093C-4810-99CE-255D8449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8C9D-268D-41E5-BBDE-79378E0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FB11E-2A5A-4A8A-A810-50D1F33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4B2F-8D13-4359-97B3-233248AE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376A6-03C4-40FF-9F1E-E2CD8B43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CFF-4575-4624-BC2B-0937AFC4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B44D-EB30-44FA-8DA7-599740F7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17F-A263-4529-B60A-7A7CCA92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0A4-5816-4E1F-99B8-3FFADEA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44A-C01B-4FF3-B264-9356AB4A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7EF3-9E6C-4A2E-A60A-0756FACBB26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12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36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44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47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6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61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2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3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1"/>
          <p:cNvGrpSpPr/>
          <p:nvPr/>
        </p:nvGrpSpPr>
        <p:grpSpPr>
          <a:xfrm>
            <a:off x="573120" y="1066680"/>
            <a:ext cx="2293920" cy="3157560"/>
            <a:chOff x="573120" y="1066680"/>
            <a:chExt cx="2293920" cy="3157560"/>
          </a:xfrm>
        </p:grpSpPr>
        <p:sp>
          <p:nvSpPr>
            <p:cNvPr id="97" name="Rectangle 6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9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2f5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3" descr="Логотип НФПК"/>
          <p:cNvPicPr/>
          <p:nvPr/>
        </p:nvPicPr>
        <p:blipFill>
          <a:blip r:embed="rId3"/>
          <a:stretch/>
        </p:blipFill>
        <p:spPr>
          <a:xfrm>
            <a:off x="289080" y="268200"/>
            <a:ext cx="1546200" cy="106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B8B4-46E8-4E26-973E-59CB393D365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6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Скругленный прямоугольник 61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50" name="Скругленный прямоугольник 61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Прямоугольник 62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3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5793-C8FA-42F8-AD29-7A1C4687E6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203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227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235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238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Прямоугольник 6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61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70EF-BA06-4871-93DB-C45D7D1E92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295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319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327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330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Прямоугольник 6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6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A220-AA30-493D-8BE8-0AA85430E64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osnovanija.narod.ru/History/Spas/T1_1.djvu" TargetMode="External"/><Relationship Id="rId2" Type="http://schemas.openxmlformats.org/officeDocument/2006/relationships/hyperlink" Target="http://osnovanija.narod.ru/History/Spas/T1_2.djvu" TargetMode="External"/><Relationship Id="rId3" Type="http://schemas.openxmlformats.org/officeDocument/2006/relationships/hyperlink" Target="http://osnovanija.narod.ru/History/Spas/T2_1.djv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Прямоугольник 3" descr=""/>
          <p:cNvPicPr/>
          <p:nvPr/>
        </p:nvPicPr>
        <p:blipFill>
          <a:blip r:embed="rId1"/>
          <a:stretch/>
        </p:blipFill>
        <p:spPr>
          <a:xfrm>
            <a:off x="-407880" y="237960"/>
            <a:ext cx="959472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2"/>
          <p:cNvPicPr/>
          <p:nvPr/>
        </p:nvPicPr>
        <p:blipFill>
          <a:blip r:embed="rId1"/>
          <a:stretch/>
        </p:blipFill>
        <p:spPr>
          <a:xfrm>
            <a:off x="789120" y="361800"/>
            <a:ext cx="757692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3"/>
          <p:cNvPicPr/>
          <p:nvPr/>
        </p:nvPicPr>
        <p:blipFill>
          <a:blip r:embed="rId1"/>
          <a:stretch/>
        </p:blipFill>
        <p:spPr>
          <a:xfrm>
            <a:off x="868320" y="628560"/>
            <a:ext cx="69548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4"/>
          <p:cNvPicPr/>
          <p:nvPr/>
        </p:nvPicPr>
        <p:blipFill>
          <a:blip r:embed="rId1"/>
          <a:stretch/>
        </p:blipFill>
        <p:spPr>
          <a:xfrm>
            <a:off x="374760" y="441360"/>
            <a:ext cx="81039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вес 1"/>
          <p:cNvPicPr/>
          <p:nvPr/>
        </p:nvPicPr>
        <p:blipFill>
          <a:blip r:embed="rId1"/>
          <a:stretch/>
        </p:blipFill>
        <p:spPr>
          <a:xfrm>
            <a:off x="457200" y="325440"/>
            <a:ext cx="761832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вес 22bmp"/>
          <p:cNvPicPr/>
          <p:nvPr/>
        </p:nvPicPr>
        <p:blipFill>
          <a:blip r:embed="rId1"/>
          <a:stretch/>
        </p:blipFill>
        <p:spPr>
          <a:xfrm>
            <a:off x="447840" y="271440"/>
            <a:ext cx="807372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вес 3"/>
          <p:cNvPicPr/>
          <p:nvPr/>
        </p:nvPicPr>
        <p:blipFill>
          <a:blip r:embed="rId1"/>
          <a:stretch/>
        </p:blipFill>
        <p:spPr>
          <a:xfrm>
            <a:off x="458640" y="272880"/>
            <a:ext cx="783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Силы, с которыми тела взаимодействуют друг с другом, равны по модулю и направлены вдоль одной прямой в противоположные стороны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9" name="Picture 5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21" name="Picture 3" descr="Иллюстрация третьего закона Ньютона учениками на роликовых коньках"/>
          <p:cNvPicPr/>
          <p:nvPr/>
        </p:nvPicPr>
        <p:blipFill>
          <a:blip r:embed="rId1"/>
          <a:stretch/>
        </p:blipFill>
        <p:spPr>
          <a:xfrm>
            <a:off x="1130400" y="914400"/>
            <a:ext cx="73659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23" name="Picture 3" descr="Иллюстрация третьего закона Ньютона с помощью магнитов на тележках"/>
          <p:cNvPicPr/>
          <p:nvPr/>
        </p:nvPicPr>
        <p:blipFill>
          <a:blip r:embed="rId1"/>
          <a:stretch/>
        </p:blipFill>
        <p:spPr>
          <a:xfrm>
            <a:off x="1193760" y="922320"/>
            <a:ext cx="721368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25" name="Picture 6" descr="Иллюстрация третьего закон Ньютона с помощью двух динамометров"/>
          <p:cNvPicPr/>
          <p:nvPr/>
        </p:nvPicPr>
        <p:blipFill>
          <a:blip r:embed="rId1"/>
          <a:stretch/>
        </p:blipFill>
        <p:spPr>
          <a:xfrm>
            <a:off x="1038240" y="965160"/>
            <a:ext cx="75344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ервый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Если на тело не действуют силы или их действие скомпенсировано, то данное тело находится в состоянии покоя или равномерного прямолинейного движения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1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Силы, возникающие при взаимодействии двух тел, приложены к разным телам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8" name="Picture 4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5"/>
          <p:cNvPicPr/>
          <p:nvPr/>
        </p:nvPicPr>
        <p:blipFill>
          <a:blip r:embed="rId1"/>
          <a:stretch/>
        </p:blipFill>
        <p:spPr>
          <a:xfrm>
            <a:off x="517680" y="461880"/>
            <a:ext cx="775620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6"/>
          <p:cNvPicPr/>
          <p:nvPr/>
        </p:nvPicPr>
        <p:blipFill>
          <a:blip r:embed="rId1"/>
          <a:stretch/>
        </p:blipFill>
        <p:spPr>
          <a:xfrm>
            <a:off x="555480" y="461880"/>
            <a:ext cx="74455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7"/>
          <p:cNvPicPr/>
          <p:nvPr/>
        </p:nvPicPr>
        <p:blipFill>
          <a:blip r:embed="rId1"/>
          <a:stretch/>
        </p:blipFill>
        <p:spPr>
          <a:xfrm>
            <a:off x="514440" y="428760"/>
            <a:ext cx="781992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8"/>
          <p:cNvPicPr/>
          <p:nvPr/>
        </p:nvPicPr>
        <p:blipFill>
          <a:blip r:embed="rId1"/>
          <a:stretch/>
        </p:blipFill>
        <p:spPr>
          <a:xfrm>
            <a:off x="600120" y="596880"/>
            <a:ext cx="71467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9"/>
          <p:cNvPicPr/>
          <p:nvPr/>
        </p:nvPicPr>
        <p:blipFill>
          <a:blip r:embed="rId1"/>
          <a:stretch/>
        </p:blipFill>
        <p:spPr>
          <a:xfrm>
            <a:off x="474840" y="628560"/>
            <a:ext cx="7488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-7-2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1-9-2"/>
          <p:cNvPicPr/>
          <p:nvPr/>
        </p:nvPicPr>
        <p:blipFill>
          <a:blip r:embed="rId1"/>
          <a:stretch/>
        </p:blipFill>
        <p:spPr>
          <a:xfrm>
            <a:off x="0" y="660240"/>
            <a:ext cx="914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37" name="Picture 5" descr="законы Ньютона К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пасский Б. И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 История физики. М., «Высшая школа», 1977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1"/>
              </a:rPr>
              <a:t>Том 1. Часть 1-я;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2"/>
              </a:rPr>
              <a:t>Часть 2-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3"/>
              </a:rPr>
              <a:t>Том 2. Часть 1-я;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Часть 2-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удрявцев П. С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Курс истории физики. — М.: Просвещение, 1974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Тарг С. М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Ньютона законы механики //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изическая энциклопед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ервый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Существуют такие системы отсчета, относительно которых поступательно движущееся тело сохраняет свою скорость постоянной, если на него не действуют другие тела (или действия других тел компенсируется)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4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ервый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2920" y="1884240"/>
            <a:ext cx="6346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Первый закон Ньютона называют законом инерции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0680" indent="-490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Системы отсчета, относительно которых тела движутся с постоянной скоростью при компенсации внешних воздействий на них, называются инерциальными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7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284880" y="3656160"/>
            <a:ext cx="2683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торо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2560" y="1883880"/>
            <a:ext cx="663876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Ускорение тела прямо пропорционально равнодействующей сил, приложенных к телу, и обратно пропорционально его массе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0" name="Picture 5" descr="Второй закон Ньютона"/>
          <p:cNvPicPr/>
          <p:nvPr/>
        </p:nvPicPr>
        <p:blipFill>
          <a:blip r:embed="rId1"/>
          <a:stretch/>
        </p:blipFill>
        <p:spPr>
          <a:xfrm>
            <a:off x="6743880" y="391176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торо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Если два тела взаимодействуют друг с другом, то ускорения этих тел обратно пропорциональны их массам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3" name="Picture 5" descr="1-9-1"/>
          <p:cNvPicPr/>
          <p:nvPr/>
        </p:nvPicPr>
        <p:blipFill>
          <a:blip r:embed="rId1"/>
          <a:stretch/>
        </p:blipFill>
        <p:spPr>
          <a:xfrm>
            <a:off x="2990880" y="3606840"/>
            <a:ext cx="593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торо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6"/>
              <p:cNvSpPr txBox="1"/>
              <p:nvPr/>
            </p:nvSpPr>
            <p:spPr>
              <a:xfrm>
                <a:off x="1749600" y="2451240"/>
                <a:ext cx="553860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торо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9" name="Picture 4" descr="втор закон"/>
          <p:cNvPicPr/>
          <p:nvPr/>
        </p:nvPicPr>
        <p:blipFill>
          <a:blip r:embed="rId1"/>
          <a:stretch/>
        </p:blipFill>
        <p:spPr>
          <a:xfrm>
            <a:off x="879480" y="1822320"/>
            <a:ext cx="69264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1"/>
          <p:cNvPicPr/>
          <p:nvPr/>
        </p:nvPicPr>
        <p:blipFill>
          <a:blip r:embed="rId1"/>
          <a:stretch/>
        </p:blipFill>
        <p:spPr>
          <a:xfrm>
            <a:off x="836640" y="461880"/>
            <a:ext cx="75074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2:51:15Z</dcterms:created>
  <dc:creator>khmelds</dc:creator>
  <dc:description/>
  <dc:language>en-US</dc:language>
  <cp:lastModifiedBy>Гимназия 20</cp:lastModifiedBy>
  <dcterms:modified xsi:type="dcterms:W3CDTF">2015-10-20T04:11:29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49</vt:lpwstr>
  </property>
</Properties>
</file>