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A59-D8F5-4780-A2E2-4C7F5197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B30-11F8-40CC-A477-E16DA673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11A-3418-47A5-AE54-B24D4FF3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993-B0CB-42FA-891F-F37AD4DA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B84-9C3D-4353-9D1B-79B6883E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E4A-9F4C-4206-9795-69A1973B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9D8-418A-4A35-B433-77AF556C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411-9D5B-44B4-973D-8B94BA09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BEE-AADE-4A14-BFB5-C61677FC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70E-6933-47CA-B9DD-013C766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C44-EC0B-4D85-96EC-C389A29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76C-7095-4ADB-90AC-A336339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179-D3ED-441E-BE65-B64CF81FC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Цель : 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рассмотреть процесс становления Древнерусского государства, охарактеризовать систему управления, а также внутреннюю и внешнюю политику первых  князей</a:t>
            </a:r>
            <a:br>
              <a:rPr sz="6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09480"/>
            <a:ext cx="784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ервые киевские князь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945 – 957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Месть Ольг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евлянам з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ерть му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Муд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ая рефор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ила систему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бора да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в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гос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места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бора дани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ро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точны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мер  дани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38480" y="2406600"/>
            <a:ext cx="48769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Свят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57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крещ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ягини Ольги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тантинополе 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ра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ятой Соф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я в православии -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л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33320" y="1676520"/>
            <a:ext cx="316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ему народна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молва нарекл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княгиню Ольг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удро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ятою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изменения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внесла в управл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Древнерусским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государством княгин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Ольга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687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Святослав Игоревич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57 – 97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лубоглазый силач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днего роста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ычайно широкий 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ечах, с могучей шеей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 брил голову, оставля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шь прядь волос на лб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носил в одном ухе серьгу из двух жемчужин и рубин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200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лександр Македонский Восточной Европ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рачный и свиреп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презирал люб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добства, спал п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ытым небом 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место подушки клал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 голову сед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Иду на Вы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524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соедини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последний восточно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славянский союз -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ятич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2. Разорил зем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жских Булга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5-96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громи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лавн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зарские го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тиль, Семендер и Сарке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а Таманском полуостров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усск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мутараканское княже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6480" y="609480"/>
            <a:ext cx="2867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ходы на Дуна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7 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– война с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гар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яславец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иден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тосл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9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тор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ход на Дуна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70-97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Русско-византийская войн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43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Чем отличалось правлени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вятослава от деятельности других князей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Что было общего в деятельности первых русских князе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становите хронологическую последовательность правления первых русских княз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) Игорь                  Б) Святосла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) Ольга                  Г) Оле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334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br>
              <a:rPr sz="44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. Деятельность князя Олега (879-912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. Правление князя Игоря и Ольги Мудрая (Святая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. Походы князя Святослав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57-972)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ите соответствие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жду именами князей и временем 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Олег          а) 912 – 945 гг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Игорь        б) 882 – 912 г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Ольга        в) 957 – 972 гг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Святослав г) 945 – 957 г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Восстание древлян в 945 г. было вызва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межплеменной рознью древлян и вятич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попыткой князя Игоря вторично взять дань с древля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нежеланием древлян принять участие в походах князя Святосл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кажите имя князя, который всегда предупреждал своего противника о наступлении фразой «Иду на Вы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) Игорь                Б) Ол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) Рюрик               Г) Святосла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кажите имя князя, чей щит был прибит на воротах Константино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) Игорь                Б) Ол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) Рюрик               Г) Святосла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вильные ответ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, А, В, 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Б, 2А, 3Г, 4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4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опросы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учить новые определ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поддержание торговых связей с другими государствами и защита торговых путей от против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8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цели деятельности первых киевских князе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14600"/>
            <a:ext cx="7391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объединение всех восточнославянских племен под властью киевского князя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Олег Вещий (879 –91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2403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восточных славя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ожил дан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городских словен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вич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принял походы на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евлян, северян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дими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кнулся с Хаза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34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ходы на Визант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7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торговый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говор, который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л выгод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русских купц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лов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1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перв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сьменный догово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657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лег придал княжеской власти невиданный авторитет и международный престиж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7752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ое значение для Древнерусского государства имела деятельность князя Олега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ие изменения в положении княжеской власти произошли в годы его правления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Игорь Стары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12-94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Вернул древлян по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сть Ки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Предотврати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асность со сторо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ченег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Совершил походы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зантию 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4 г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. погиб 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лкновении с древля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26:13Z</dcterms:created>
  <dc:creator>Стас</dc:creator>
  <dc:description/>
  <dc:language>en-US</dc:language>
  <cp:lastModifiedBy>Берт-Дагская средняя</cp:lastModifiedBy>
  <dcterms:modified xsi:type="dcterms:W3CDTF">2012-01-23T08:31:13Z</dcterms:modified>
  <cp:revision>40</cp:revision>
  <dc:subject/>
  <dc:title>Презентация PowerPoint</dc:title>
</cp:coreProperties>
</file>