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005D-9935-4E64-AE1E-B3ACF47C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1D31-51D4-4BD0-8473-35E1AE92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07A9-122F-4629-BD5D-5E758A9A2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A788-A74E-4CE5-8305-CD59A0F0F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5388-6C6B-4D2D-9EC9-5F555F40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5673-0FF5-45B4-976E-6A4FAFE6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A16A-F561-434C-8DB4-7CCAB717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5329-09E8-4BDB-8849-4EF24849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76BB-A4C8-4378-B9D5-992F13E8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8F94-35C8-4378-87F2-103CD39F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64AE-5A06-4910-80E1-B4F4B412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EFAD-189E-4101-93A5-65966E42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9D2D-3A6A-4F21-8A07-92440453E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Цель : </a:t>
            </a:r>
            <a:r>
              <a:rPr b="0" i="1" lang="en-US" sz="4000" spc="-1" strike="noStrike">
                <a:solidFill>
                  <a:srgbClr val="000000"/>
                </a:solidFill>
                <a:latin typeface="Monotype Corsiva"/>
              </a:rPr>
              <a:t>рассмотреть процесс становления Древнерусского государства, охарактеризовать систему управления, а также внутреннюю и внешнюю политику первых  князей</a:t>
            </a:r>
            <a:br>
              <a:rPr sz="66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609480"/>
            <a:ext cx="7848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Monotype Corsiva"/>
              </a:rPr>
              <a:t>Первые киевские князья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нягиня Ольга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945 – 957)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Месть Ольги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ревлянам за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мерть муж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3886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нягиня Ольга Мудра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вая реформ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менила систему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бора дан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вел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гост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места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бора дани 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рок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точный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змер  дани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038480" y="2406600"/>
            <a:ext cx="4876920" cy="37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нягиня Ольга Свята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57 г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крещ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нягини Ольги 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нстантинополе в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храм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вятой Софии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мя в православии -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Еле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33320" y="1676520"/>
            <a:ext cx="31622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чему народная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молва нарекла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княгиню Ольгу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Мудро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вятою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2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ие изменения     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внесла в управлени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Древнерусским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государством княгиня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Ольга?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26877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нязь Святослав Игоревич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957 – 97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Голубоглазый силач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реднего роста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еобычайно широкий в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лечах, с могучей шеей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н брил голову, оставляя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ишь прядь волос на лбу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 носил в одном ухе серьгу из двух жемчужин и рубина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20040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лександр Македонский Восточной Европ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рачный и свирепый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н презирал любы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добства, спал под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крытым небом и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место подушки клал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д голову седло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«Иду на Вы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3524400" cy="47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соединил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последний восточно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славянский союз -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ятиче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2. Разорил земл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лжских Булгар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3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65-969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згроми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главны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азарские город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Итиль, Семендер и Сарке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На Таманском полуостров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разова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усско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мутараканское княжеств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36480" y="609480"/>
            <a:ext cx="2867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ходы на Дуна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67 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– война с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лгари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яславец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ал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зиденци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ятосла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69 г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втор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ход на Дуна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70-97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Русско-византийская война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514368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Чем отличалось правление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вятослава от деятельности других князей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Что было общего в деятельности первых русских князей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роверь себя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Установите хронологическую последовательность правления первых русских князе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А) Игорь                  Б) Святослав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) Ольга                  Г) Олег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5334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лан урока:</a:t>
            </a:r>
            <a:br>
              <a:rPr sz="44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. Деятельность князя Олега (879-912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. Правление князя Игоря и Ольги Мудрая (Святая)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. Походы князя Святослава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957-972)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становите соответствие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жду именами князей и временем правлени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Олег          а) 912 – 945 гг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Игорь        б) 882 – 912 гг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Ольга        в) 957 – 972 гг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Святослав г) 945 – 957 гг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Восстание древлян в 945 г. было вызван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) межплеменной рознью древлян и вятиче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Б) попыткой князя Игоря вторично взять дань с древля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) нежеланием древлян принять участие в походах князя Святосла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Укажите имя князя, который всегда предупреждал своего противника о наступлении фразой «Иду на Вы»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) Игорь                Б) Оле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) Рюрик               Г) Святослав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кажите имя князя, чей щит был прибит на воротах Константинопол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) Игорь                Б) Оле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) Рюрик               Г) Святосла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авильные ответ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Г, А, В, 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Б, 2А, 3Г, 4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4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вопросы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выучить новые определен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СПАСИБО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З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УРО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69608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поддержание торговых связей с другими государствами и защита торговых путей от противн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380880"/>
            <a:ext cx="7086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цели деятельности первых киевских князей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2514600"/>
            <a:ext cx="7391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объединение всех восточнославянских племен под властью киевского князя;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нязь Олег Вещий (879 –912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724032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ъединение восточных славя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ложил дань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вгородских словен 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ривичей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дпринял походы на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ревлян, северян,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димич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олкнулся с Хазари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2346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ходы на Византи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07 г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торговый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оговор, который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держал выгодны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ля русских купцо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слов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11 г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первы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исьменный договор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657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лег придал княжеской власти невиданный авторитет и международный престиж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77528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акое значение для Древнерусского государства имела деятельность князя Олега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акие изменения в положении княжеской власти произошли в годы его правления?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нязь Игорь Старый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912-94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Вернул древлян под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ласть Ки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Предотвратил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пасность со сторон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еченег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Совершил походы на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изантию в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4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44 гг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В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45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г. погиб в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толкновении с древлян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352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13:26:13Z</dcterms:created>
  <dc:creator>Стас</dc:creator>
  <dc:description/>
  <dc:language>en-US</dc:language>
  <cp:lastModifiedBy>Берт-Дагская средняя</cp:lastModifiedBy>
  <dcterms:modified xsi:type="dcterms:W3CDTF">2012-01-23T08:31:13Z</dcterms:modified>
  <cp:revision>40</cp:revision>
  <dc:subject/>
  <dc:title>Презентация PowerPoint</dc:title>
</cp:coreProperties>
</file>