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792B-896B-4DEA-A229-344381D31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DF1D-9982-483C-A3F3-7DFEFB3D4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FD1C-6DEB-4CA2-86DB-32CDC2861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EAE0-C28B-456A-8BDF-1A0BA4745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7185D-79AA-4A7C-98C5-C21BF5D95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D9D04-C583-4AA1-B362-AC1077F88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2CE1C-93DA-4000-AADB-CF7194F6A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DA3FE-2FA1-4C90-B238-1A2462890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364DA-AE61-4003-A2AD-1DDA3B799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E1D2F-57F2-40B2-8B17-FA35ECB6C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3C4DB-7A8C-407E-8FA2-1D75DB813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DA6A-B993-45AE-BD78-B2D19932D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77CEF-D614-4A73-BC1A-C7A4AF0DE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A7B08-C6F7-481D-B80D-3C115CD8A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3B2AE-4442-4EEE-A7D9-865E884CA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A53A3-2D71-45E1-83CD-8535D555D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3B2E8-9A6C-49A9-A4CC-E8B16FAF4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9996-6A3C-44A0-933D-D572FF486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17DB-FA30-4FD7-89EB-77B5AE7D9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9AAB-771C-40DF-9A1E-9AFC1971F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43F0-DAE8-4471-B5BF-03417CD73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29BA-760C-4EF4-8778-AD8CC5CC5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1E32-9F04-4C33-BB24-21B17FEDB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EE8C-7346-4EB6-9BB1-2843590AA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80C4D-8C31-4F39-993E-1BBF2EECFF59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4ED1F-2600-43DB-ADC9-4646A404134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58560" y="2133360"/>
            <a:ext cx="6697800" cy="19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663300"/>
                </a:solidFill>
                <a:latin typeface="Arial"/>
              </a:rPr>
              <a:t>Внеклассное мероприятие по физике в </a:t>
            </a:r>
            <a:r>
              <a:rPr b="1" i="1" lang="en-US" sz="4800" spc="-1" strike="noStrike">
                <a:solidFill>
                  <a:srgbClr val="663300"/>
                </a:solidFill>
                <a:latin typeface="Arial"/>
              </a:rPr>
              <a:t>8-</a:t>
            </a:r>
            <a:r>
              <a:rPr b="1" i="1" lang="ru-RU" sz="4800" spc="-1" strike="noStrike">
                <a:solidFill>
                  <a:srgbClr val="663300"/>
                </a:solidFill>
                <a:latin typeface="Arial"/>
              </a:rPr>
              <a:t>9 классах.</a:t>
            </a:r>
            <a:br>
              <a:rPr sz="4800"/>
            </a:br>
            <a:r>
              <a:rPr b="1" i="1" lang="ru-RU" sz="4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4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0" lang="ru-RU" sz="4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0" lang="ru-RU" sz="4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0" lang="ru-RU" sz="4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0" lang="ru-RU" sz="4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0" lang="ru-RU" sz="48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48920" y="4346280"/>
            <a:ext cx="6094440" cy="12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1187280" y="4365720"/>
            <a:ext cx="720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“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Физика руками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i="1" lang="ru-RU" sz="40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VI </a:t>
            </a: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рубеж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змерение толщины проволок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змерено линейкой с точностью до 1мм-1 балл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змерено штангенциркулем с точностью до 0.1мм-2 балл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змерено микрометром с точностью до 0.01мм-3 балл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змерено способом рядов-3 балл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Max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3 балл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Picture 4" descr="DSC07892"/>
          <p:cNvPicPr/>
          <p:nvPr/>
        </p:nvPicPr>
        <p:blipFill>
          <a:blip r:embed="rId1"/>
          <a:stretch/>
        </p:blipFill>
        <p:spPr>
          <a:xfrm>
            <a:off x="5364000" y="4022640"/>
            <a:ext cx="378000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VII </a:t>
            </a: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рубеж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Решите задачу: почему передняя ось телеги больше стирается и чаще загорается, чем задняя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ах-4 балл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0" name="Picture 5" descr="Обсуждение: Импичмент близится - по Екатеринбургу продолжают возить телеги с компроматом / 22.10.04 / Екатеринбург / РИА &quot;Новый"/>
          <p:cNvPicPr/>
          <p:nvPr/>
        </p:nvPicPr>
        <p:blipFill>
          <a:blip r:embed="rId1"/>
          <a:stretch/>
        </p:blipFill>
        <p:spPr>
          <a:xfrm>
            <a:off x="3564000" y="2671920"/>
            <a:ext cx="5580000" cy="41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VIII </a:t>
            </a: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рубеж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айка проводов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борудование: паяльники-2, источник питания, канифоль, припой, зажигалка-2шт., нож-2 шт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ровода зачищены от изоляции-1 балл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ровода облужены-1 балл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ровода спаены-1 балл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роведена изоляция-1 балл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ах-4 балла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3" name="Picture 4" descr="DSC07895"/>
          <p:cNvPicPr/>
          <p:nvPr/>
        </p:nvPicPr>
        <p:blipFill>
          <a:blip r:embed="rId1"/>
          <a:stretch/>
        </p:blipFill>
        <p:spPr>
          <a:xfrm>
            <a:off x="3780000" y="2833560"/>
            <a:ext cx="5364000" cy="40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IX </a:t>
            </a: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рубеж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борка электрической цеп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борудование: источник питания, ключ, провода, реостат, лампочка, амперметр, вольтметр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Цепь собрана-1 балл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Лампа горит-1 балл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Накал лампы регулируется-1 балл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змерительные приборы подключены правильно-1 балл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ах-4 балл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6" name="Picture 4" descr="DSC07893"/>
          <p:cNvPicPr/>
          <p:nvPr/>
        </p:nvPicPr>
        <p:blipFill>
          <a:blip r:embed="rId1"/>
          <a:stretch/>
        </p:blipFill>
        <p:spPr>
          <a:xfrm>
            <a:off x="4572000" y="3427560"/>
            <a:ext cx="4572000" cy="34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Вопросы для болельщиков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о время работы команд болельщикам задаются вопросы. За правильный ответ выдается жетон-1 балл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Баллы, полученные болельщиками, добавляются к баллам команды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Загадки "Явления природы":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Что без огня горит? (солнце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Что четыре раза в году переодевается? (земля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Голубой шатер весь мир накрыл. (небо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се ест - не наедается, а попьет - умирает. (огонь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Белая кошка лезет в окошко. (рассвет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Загадки "Заморочки из бочки":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колько яиц можно съесть натощак? (одно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На какое число надо разделить 2, чтобы получить 4? (на 0,5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Если в 12 часов ночи идет дождь, то можно ли через 72 часа ожидать солнечную погоду? (нет, будет опять ночь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Что в горшок кидают перед тем, как варят в нем еду? (взгляд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акое целое число делится без остатка на любое целое число? (ноль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дно яйцо варят 4 минуты. Сколько минут нужно варить 5 яиц? (4мин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Три курицы за 3 дня снесли три яйца. Сколько яиц снесут 12 кур за 12 дней? (48 яиц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50560" y="259920"/>
            <a:ext cx="856908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опросы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1. Какой узел нельзя развязать? (Железнодорожный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2. В каком геометрическом теле может закипеть вода? (В кубе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3. Какая река самая страшная? (Река Тигр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4. Какой месяц короче всех? (Май – три буквы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5. Где край света? (Там, где начинается тень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6. Может ли страус назвать себя птицей? (Нет, так как он не умеет говорить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7. Когда строят новый дом, во что вбивают первый гвоздь? (В шляпку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8. Что у человека под ногами, когда он идет по мосту? (Подошва обуви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9. Что с земли легко поднимешь, но далеко не закинешь? (Пух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10. Сколько горошин может войти в один стакан? (Ни одной – все надо положить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11. Каким гребнем голову не расчешешь? (Петушиным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12. Что стоит между окном и дверью? (Буква "и"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13. Что можно приготовить, но нельзя съесть? (Уроки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14. Как можно поместить два литр молока в литровую банку? (Надо из молока сварить сгущенку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15. Если пять кошек ловят пять мышей за пять минут, то сколько времени нужно одной кошке, чтобы поймать одну мышку? (Пять минут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Жюри подводит итоги, команды награждаются грамотами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ероприятие разработал учитель физики и математики-Медведев Николай Викторович МБОУ «Коневская СОШ» Архангельская область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Цели :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- Развитие интереса учащихся к физик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-Привлечение уч-ся к научно- исследовательской работе по физике посредством практической деятельно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-Расширение кругозор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Задач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Развитие творческих способност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Развитие умения работать в коллектив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Научиться слушать собеседников при обсуждении вопросов, задавать правильно сформулированный вопрос, поддержать члена команды при выполнении зада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Класс делим на две команды по 6 ученик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редставляем участников игры и членов судейской комиссии. Остальные учащиеся остаются в качестве болельщиков. Команды придумывают название и девиз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55280" y="188640"/>
            <a:ext cx="74898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I рубеж. "Интеллектуальная разминка"</a:t>
            </a: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1.Единица силы (Ньютон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.Как называется число, стоящее перед переменной? (коэффициент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3.Температура кипения воды при нормальных условиях (1000С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4.Отрезок, соединяющий вершину треугольника с серединой противолежащей стороны (медиана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5.Прибор для измерения объема жидкости (мензурка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6.Хорда, проходящая через центр окружности (диаметр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7.Изменение формы и объема тела (деформация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8.Как называется в математике определенная программа действий, порядок ходов, выполняемых при решении чего-либо (алгоритм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9.Какие детали используют в машинах для уменьшения трения (подшипники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10.Линия, которую описывает тело в процессе движения (траектория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11.Отрезок, соединяющий точку окружности с ее центром (радиус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12.Как называется запись, составленная из чисел, переменных и знаков арифметических действий (алгебраическое выражение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ах-6 баллов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II </a:t>
            </a: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рубеж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змерение массы тела на рычажных весах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борудование: весы, разновесы, тело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змерено – 1 бал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 точностью до грамма- 1 балл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 точностью до 10 мг-1 балл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ереведено в систему СИ- кг -1 балл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ах-4 балл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7" descr="DSC07888"/>
          <p:cNvPicPr/>
          <p:nvPr/>
        </p:nvPicPr>
        <p:blipFill>
          <a:blip r:embed="rId1"/>
          <a:stretch/>
        </p:blipFill>
        <p:spPr>
          <a:xfrm>
            <a:off x="3492360" y="3321000"/>
            <a:ext cx="565164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III </a:t>
            </a: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рубеж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змерение объема тел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борудование: мензурка, стакан с водой, тело,проволока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змерено-1 балл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 точностью до 2 см3 -1 балл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ереведено в систему СИ-м3-1 балл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ах-3 балл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Picture 4" descr="DSC07889"/>
          <p:cNvPicPr/>
          <p:nvPr/>
        </p:nvPicPr>
        <p:blipFill>
          <a:blip r:embed="rId1"/>
          <a:stretch/>
        </p:blipFill>
        <p:spPr>
          <a:xfrm>
            <a:off x="4032360" y="3024360"/>
            <a:ext cx="5111640" cy="38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IV</a:t>
            </a: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 рубеж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змерение плотности тел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пределение вещества, из которого сделано тело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змерено-1 балл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ещество определено-1 балл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ах-2 балл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Picture 4" descr="DSC07897"/>
          <p:cNvPicPr/>
          <p:nvPr/>
        </p:nvPicPr>
        <p:blipFill>
          <a:blip r:embed="rId1"/>
          <a:stretch/>
        </p:blipFill>
        <p:spPr>
          <a:xfrm>
            <a:off x="3708360" y="2782800"/>
            <a:ext cx="5435640" cy="40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V </a:t>
            </a: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рубеж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зготовление мыльного пузыря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риготовлен раствор и сделана попытка (малый размер пузыря)-1 балл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узырь больших размеров (радужная окраска) -1 балл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ах-2 балл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Picture 4" descr="DSC07894"/>
          <p:cNvPicPr/>
          <p:nvPr/>
        </p:nvPicPr>
        <p:blipFill>
          <a:blip r:embed="rId1"/>
          <a:stretch/>
        </p:blipFill>
        <p:spPr>
          <a:xfrm>
            <a:off x="3419640" y="2563920"/>
            <a:ext cx="5724360" cy="42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4T17:18:27Z</dcterms:created>
  <dc:creator>Admin</dc:creator>
  <dc:description/>
  <cp:keywords/>
  <dc:language>en-US</dc:language>
  <cp:lastModifiedBy>Admin</cp:lastModifiedBy>
  <dcterms:modified xsi:type="dcterms:W3CDTF">2015-03-28T14:37:38Z</dcterms:modified>
  <cp:revision>14</cp:revision>
  <dc:subject/>
  <dc:title>Внеклассное мероприятие по физике в 9 классе.      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083861049</vt:lpwstr>
  </property>
</Properties>
</file>