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4BC-EB00-4E4A-A3C1-F82579EE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4E9-7A28-435C-BE38-BCC50852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4BF-FA18-4824-9F0C-CE84EE89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8C6-3FE3-480B-B71D-A0335657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BC6-3916-499A-9577-F55939E0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2CBC-334B-4F91-B7FA-6B90666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03A-808E-4ED9-A365-71C29E3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F65-0E58-4F05-823B-B5B4825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F650-31F4-449A-9A25-A1ED2B44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CFA1-4A47-465F-87C5-23B0F0E9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96E-313B-43D9-81CC-5E3420A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446-FA44-4180-BC90-E2E3175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0A4-8C19-4B72-956E-432A2DD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712-F046-4008-ACD7-FA57AA3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687-9C22-4E1D-80A2-B324CB4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D5E-5F59-42F9-BAB9-B0DC75CB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49C-00DE-41B3-922E-51810628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9BD-0F4B-40CD-847C-1436107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8F2-82E5-407F-BBAD-B8F32AA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5D5-DD29-4C56-8C53-61B2E73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0B5-BCBC-4C08-8C40-D32710C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264-D036-4F7E-BB48-6130C3B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F9D-95C4-4DEB-BB67-6ABA298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B30-8AF6-480F-A555-6451FE2A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235B-C236-4BD2-BFD9-CDE23DE9C1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98D-A32F-4E48-86AC-6EF33BD390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697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Внеклассное мероприятие по физике в </a:t>
            </a:r>
            <a:r>
              <a:rPr b="1" i="1" lang="en-US" sz="4800" spc="-1" strike="noStrike">
                <a:solidFill>
                  <a:srgbClr val="663300"/>
                </a:solidFill>
                <a:latin typeface="Arial"/>
              </a:rPr>
              <a:t>8-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9 классах.</a:t>
            </a:r>
            <a:br>
              <a:rPr sz="4800"/>
            </a:b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48920" y="4346280"/>
            <a:ext cx="609444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87280" y="4365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зика рукам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толщины проволо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линейкой с точностью до 1мм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штангенциркулем с точностью до 0.1мм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микрометром с точностью до 0.01мм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способом рядов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x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DSC07892"/>
          <p:cNvPicPr/>
          <p:nvPr/>
        </p:nvPicPr>
        <p:blipFill>
          <a:blip r:embed="rId1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ите задачу: почему передняя ось телеги больше стирается и чаще загорается, чем задняя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Обсуждение: Импичмент близится - по Екатеринбургу продолжают возить телеги с компроматом / 22.10.04 / Екатеринбург / РИА &quot;Новый"/>
          <p:cNvPicPr/>
          <p:nvPr/>
        </p:nvPicPr>
        <p:blipFill>
          <a:blip r:embed="rId1"/>
          <a:stretch/>
        </p:blipFill>
        <p:spPr>
          <a:xfrm>
            <a:off x="3564000" y="267192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I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йка прово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паяльники-2, источник питания, канифоль, припой, зажигалка-2шт., нож-2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зачищены от изоляции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облужены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ода спаены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едена изоляция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DSC07895"/>
          <p:cNvPicPr/>
          <p:nvPr/>
        </p:nvPicPr>
        <p:blipFill>
          <a:blip r:embed="rId1"/>
          <a:stretch/>
        </p:blipFill>
        <p:spPr>
          <a:xfrm>
            <a:off x="3780000" y="283356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X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борка электрической цеп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источник питания, ключ, провода, реостат, лампочка, амперметр, вольтмет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пь собрана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мпа горит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кал лампы регулируется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ительные приборы подключены правиль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DSC07893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 для болельщико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ремя работы команд болельщикам задаются вопросы. За правильный ответ выдается жетон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ллы, полученные болельщиками, добавляются к баллам коман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гадки "Явления природы"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без огня горит? (солнц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четыре раза в году переодевается? (земл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лубой шатер весь мир накрыл. (небо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ест - не наедается, а попьет - умирает.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лая кошка лезет в окошко. (рассве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гадки "Заморочки из бочки"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олько яиц можно съесть натощак? (одно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какое число надо разделить 2, чтобы получить 4? (на 0,5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12 часов ночи идет дождь, то можно ли через 72 часа ожидать солнечную погоду? (нет, будет опять ноч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то в горшок кидают перед тем, как варят в нем еду? (взгляд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ое целое число делится без остатка на любое целое число? (но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 яйцо варят 4 минуты. Сколько минут нужно варить 5 яиц? (4ми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и курицы за 3 дня снесли три яйца. Сколько яиц снесут 12 кур за 12 дней? (48 яиц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56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Какой узел нельзя развязать? (Железнодорожный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В каком геометрическом теле может закипеть вода? (В куб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Какая река самая страшная? (Река Тигр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Какой месяц короче всех? (Май – три букв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Где край света? (Там, где начинается тен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Может ли страус назвать себя птицей? (Нет, так как он не умеет говори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Когда строят новый дом, во что вбивают первый гвоздь? (В шляпк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. Что у человека под ногами, когда он идет по мосту? (Подошва обув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9. Что с земли легко поднимешь, но далеко не закинешь? (Пух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0. Сколько горошин может войти в один стакан? (Ни одной – все надо положи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1. Каким гребнем голову не расчешешь? (Петушиным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. Что стоит между окном и дверью? (Буква "и"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. Что можно приготовить, но нельзя съесть? (Уро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4. Как можно поместить два литр молока в литровую банку? (Надо из молока сварить сгущенк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5. Если пять кошек ловят пять мышей за пять минут, то сколько времени нужно одной кошке, чтобы поймать одну мышку? (Пять мину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юри подводит итоги, команды награждаются грамот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роприятие разработал учитель физики и математики-Медведев Николай Викторович МБОУ «Коневская СОШ» Архангель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Развитие интереса учащихся к физ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Привлечение уч-ся к научно- исследовательской работе по физике посредством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Расширение кругоз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витие творческих способ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витие умения работать в коллекти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учиться слушать собеседников при обсуждении вопросов, задавать правильно сформулированный вопрос, поддержать члена команды при выполнении з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 делим на две команды по 6 уче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ем участников игры и членов судейской комиссии. Остальные учащиеся остаются в качестве болельщиков. Команды придумывают название и деви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I рубеж. "Интеллектуальная разминка"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Единица силы (Ньюто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Как называется число, стоящее перед переменной? (коэффициен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Температура кипения воды при нормальных условиях (1000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Отрезок, соединяющий вершину треугольника с серединой противолежащей стороны (медиан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Прибор для измерения объема жидкости (мензур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.Хорда, проходящая через центр окружности (диамет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.Изменение формы и объема тела (деформаци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8.Как называется в математике определенная программа действий, порядок ходов, выполняемых при решении чего-либо (алгоритм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9.Какие детали используют в машинах для уменьшения трения (подшипник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0.Линия, которую описывает тело в процессе движения (траектория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1.Отрезок, соединяющий точку окружности с ее центром (радиу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.Как называется запись, составленная из чисел, переменных и знаков арифметических действий (алгебраическое выражени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х-6 бал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массы тела на рычажных вес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весы, разновесы,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 – 1 бал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грамма- 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10 мг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едено в систему СИ- кг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4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7" descr="DSC07888"/>
          <p:cNvPicPr/>
          <p:nvPr/>
        </p:nvPicPr>
        <p:blipFill>
          <a:blip r:embed="rId1"/>
          <a:stretch/>
        </p:blipFill>
        <p:spPr>
          <a:xfrm>
            <a:off x="3492360" y="3321000"/>
            <a:ext cx="56516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объема т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орудование: мензурка, стакан с водой, тело,проволо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точностью до 2 см3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едено в систему СИ-м3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3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DSC07889"/>
          <p:cNvPicPr/>
          <p:nvPr/>
        </p:nvPicPr>
        <p:blipFill>
          <a:blip r:embed="rId1"/>
          <a:stretch/>
        </p:blipFill>
        <p:spPr>
          <a:xfrm>
            <a:off x="4032360" y="30243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ие плотности т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ие вещества, из которого сделано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р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ество определено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DSC07897"/>
          <p:cNvPicPr/>
          <p:nvPr/>
        </p:nvPicPr>
        <p:blipFill>
          <a:blip r:embed="rId1"/>
          <a:stretch/>
        </p:blipFill>
        <p:spPr>
          <a:xfrm>
            <a:off x="3708360" y="2782800"/>
            <a:ext cx="5435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убе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готовление мыльного пузы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готовлен раствор и сделана попытка (малый размер пузыря)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узырь больших размеров (радужная окраска) -1 бал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х-2 бал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DSC07894"/>
          <p:cNvPicPr/>
          <p:nvPr/>
        </p:nvPicPr>
        <p:blipFill>
          <a:blip r:embed="rId1"/>
          <a:stretch/>
        </p:blipFill>
        <p:spPr>
          <a:xfrm>
            <a:off x="3419640" y="256392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7:18:27Z</dcterms:created>
  <dc:creator>Admin</dc:creator>
  <dc:description/>
  <cp:keywords/>
  <dc:language>en-US</dc:language>
  <cp:lastModifiedBy>Admin</cp:lastModifiedBy>
  <dcterms:modified xsi:type="dcterms:W3CDTF">2015-03-28T14:37:38Z</dcterms:modified>
  <cp:revision>14</cp:revision>
  <dc:subject/>
  <dc:title>Внеклассное мероприятие по физике в 9 классе.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3861049</vt:lpwstr>
  </property>
</Properties>
</file>