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D62F-652C-4C48-BA81-C6317B5D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D22D-A8AE-4AA1-9047-D9E5C2A9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64F-3803-446A-8D67-90B6BCAF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B95-E827-48A2-B7C8-0CCFBF4F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793E-50FE-44A1-830C-7FB768B0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3501-7D6E-4B72-AF58-1B286DA9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CCE0-3163-456C-9DCC-2F3AD228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C833-AADA-453F-A5FE-CAE7E2D8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1858-8654-4165-B686-F77A7B02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A480-5FE2-41DF-B014-249034B7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43DD-793F-4BD0-B538-EBDA27B0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403B-5E87-4B0E-8D7E-FED6C29A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5990-CEE5-416B-BF88-9A2CEDBE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12BE-3309-4D7E-ADA2-1F6EF96C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C0C9-155E-4188-B5D2-61F17015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0AF2-C091-4276-85A7-52307E18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FE05-418F-4AB4-BBFF-769E7DE5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87DF-5FE4-4EDF-A986-605757C9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4F6-DA89-4B91-A231-9D9A7ECF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DE8D-919B-4F90-8121-C616B86C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FCA-B346-4443-AF18-D003FF0E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850D-C76D-416B-B298-5011F371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ECD-7101-496E-AA10-EBDE4BBD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533-1723-4C9B-BFC9-EA72DA35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DDBF-08BB-487D-93B8-EFBC5DEDD19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929A-CA7A-4F3E-B912-1C8E999A4FD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          </a:t>
            </a: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УРОК – ЭКСКУРСИЯ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                 ПО МИРОВОЙ ХУДОЖЕСТВЕННОЙ КУЛЬТУРЕ   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                                 10 класс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СОШ с.Элег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онгуш Г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ыртык – Кар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рус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литерату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овой художественн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Япония – страна Восходящего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                    Солнца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й отпечаток на самобытность культуры наложило географическое положение страны. Япония расположена на четырех крупных островах и ряда мелких  островов, которые омываются Тихим океаном и морями. Мелкий контур ландшафта и его большая пестрота отразились на формах японского искусства – оно утонченно и изыска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Что в себе таит загадочная японская культура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Загадочная и таинственная культура таит в себе духовные и нравственные ценности. Здесь эти понятия основаны на религии. В стране параллельно исповедуются две религии: синтоизм и будд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         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Синтоизм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пную роль в синтоизме играет семейно-родовой культ предков, напоминающий конфуцианский в Китае. Считается, что каждый умерший превращается в ками, и глава семьи, глава рода совершает ежедневные моления им и приносит жертвы. В каждом доме имеется семейный алтарь - ками-дана - с небольшим шкафчиком для табличек умерш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   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Буддизм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Буддисты ввели обряд трупосожжения; в древности умерших в Японии зарывали в землю. Обе религии начали постепенно сближаться. Внутри буддистских храмов отводили уголки для синтоистских богов - ками; иногда этих ками даже просто отожествляли с буддистскими божествами. С другой стороны, и синтоистский пантеон пополнялся буддистскими божест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В чем своебразие архитектуры Японии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отсутствии их строгости и свободном расположении построек. У пагоды символическое значение - 5 ярусов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 дер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ого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. 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.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5. желез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 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агода Хорюдз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2 метровая пагода Хорюдзи –   сочетание мощи с легкой грацией контуров и деталей, спокойный ритм, величественность и теплота зд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Сад камней – это абсолютно незнакомый  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                               вам жанр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д Реандзи – один из знаменитых садов В Японии.. В нем нет ни воды, ни травы, ни деревц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ынешняя форма сада сложилась в 1488 году. Любоваться садом можно только с веранды до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Сад Рёандзи представляет собой небольшую прямоугольную  площадку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д расположен перед домом настоятеля монастыря, что его можно созерцать находясь на веранде д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ет два типа сада в зависимости от характера почв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ейзажный сад с холмами- «цукия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лоский сад- «хиранив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Светская живопись – имато –э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357440" y="1599840"/>
            <a:ext cx="4329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диционная восточная живопись в Японии нашла свое выражение в гравюре на дереве, в частности в жанре укиёэ, который представляют такие знаменитые художники, как Судзуки Харунобу, Китагава Утамаро, Кацусика Хокусай, Утагава Хиросигэ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i?id=5522382&amp;tov=3"/>
          <p:cNvPicPr/>
          <p:nvPr/>
        </p:nvPicPr>
        <p:blipFill>
          <a:blip r:embed="rId1"/>
          <a:stretch/>
        </p:blipFill>
        <p:spPr>
          <a:xfrm>
            <a:off x="1285920" y="2071800"/>
            <a:ext cx="23461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691920"/>
            <a:ext cx="77724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удожники на ширмах, на шелке и бумаге яркими красками с добавлением золота рисовали пейзажи, придворные сце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7 -19 веках появляются городские гравюры, которые печатались с деревянных досок на тонкой бумаге и были более доступны для простых японцев, чем сви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713880"/>
            <a:ext cx="6629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Тема: Культура Японии.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                   Чайная церемония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142720"/>
            <a:ext cx="6858000" cy="34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уро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богащать словарный запас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Развивать фантазию и творческое начало, музыкальный слух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оспитывать интерес и уважение к культуре других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ь общее представление о культуре Япо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рыть своебразие и уникальность культуры Япо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накомить с особенностями чайной церемонии и других видов искус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img397"/>
          <p:cNvPicPr/>
          <p:nvPr/>
        </p:nvPicPr>
        <p:blipFill>
          <a:blip r:embed="rId1"/>
          <a:stretch/>
        </p:blipFill>
        <p:spPr>
          <a:xfrm>
            <a:off x="571680" y="500040"/>
            <a:ext cx="3429000" cy="5643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img399"/>
          <p:cNvPicPr/>
          <p:nvPr/>
        </p:nvPicPr>
        <p:blipFill>
          <a:blip r:embed="rId2"/>
          <a:stretch/>
        </p:blipFill>
        <p:spPr>
          <a:xfrm>
            <a:off x="4500720" y="571680"/>
            <a:ext cx="357156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img405"/>
          <p:cNvPicPr/>
          <p:nvPr/>
        </p:nvPicPr>
        <p:blipFill>
          <a:blip r:embed="rId1"/>
          <a:stretch/>
        </p:blipFill>
        <p:spPr>
          <a:xfrm>
            <a:off x="714240" y="571680"/>
            <a:ext cx="3429000" cy="5594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img396"/>
          <p:cNvPicPr/>
          <p:nvPr/>
        </p:nvPicPr>
        <p:blipFill>
          <a:blip r:embed="rId2"/>
          <a:stretch/>
        </p:blipFill>
        <p:spPr>
          <a:xfrm>
            <a:off x="4857840" y="571680"/>
            <a:ext cx="380664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Что привлекает слушателя в японской </a:t>
            </a:r>
            <a:br>
              <a:rPr sz="3200"/>
            </a:b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                        поэзии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асота, изысканность созданных образов, возможность дорисовать картину самим слушат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img402"/>
          <p:cNvPicPr/>
          <p:nvPr/>
        </p:nvPicPr>
        <p:blipFill>
          <a:blip r:embed="rId1"/>
          <a:stretch/>
        </p:blipFill>
        <p:spPr>
          <a:xfrm>
            <a:off x="3286080" y="2786040"/>
            <a:ext cx="46436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кку (хайку) – трехстишие, состоящее из                                                            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17 слогов, рассказывающее о миниатюрных портретах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т выплыла лу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самый мелкий куст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 праздник приглаш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ка – пятистишие, состояще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из 31 с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abic Typesetting"/>
              </a:rPr>
              <a:t>Стоит зима – вдруг совсем неждан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abic Typesetting"/>
              </a:rPr>
              <a:t>Между деревьями увидел я цветы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abic Typesetting"/>
              </a:rPr>
              <a:t>Так показалось мн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abic Typesetting"/>
              </a:rPr>
              <a:t>А это хлопья снег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abic Typesetting"/>
              </a:rPr>
              <a:t>Сверкая белизной, летели с высоты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0" name="Picture 4" descr="img398"/>
          <p:cNvPicPr/>
          <p:nvPr/>
        </p:nvPicPr>
        <p:blipFill>
          <a:blip r:embed="rId1"/>
          <a:stretch/>
        </p:blipFill>
        <p:spPr>
          <a:xfrm>
            <a:off x="928800" y="1600200"/>
            <a:ext cx="3143160" cy="4530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img406"/>
          <p:cNvPicPr/>
          <p:nvPr/>
        </p:nvPicPr>
        <p:blipFill>
          <a:blip r:embed="rId2"/>
          <a:stretch/>
        </p:blipFill>
        <p:spPr>
          <a:xfrm>
            <a:off x="5572080" y="1600200"/>
            <a:ext cx="2909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Кимоно – традиционный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            японский   костюм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3" name="Picture 4" descr="126175641"/>
          <p:cNvPicPr/>
          <p:nvPr/>
        </p:nvPicPr>
        <p:blipFill>
          <a:blip r:embed="rId1"/>
          <a:stretch/>
        </p:blipFill>
        <p:spPr>
          <a:xfrm>
            <a:off x="1214280" y="1571760"/>
            <a:ext cx="3032280" cy="45306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3"/>
          <p:cNvSpPr/>
          <p:nvPr/>
        </p:nvSpPr>
        <p:spPr>
          <a:xfrm>
            <a:off x="5286240" y="1643040"/>
            <a:ext cx="3286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я о о традициях японской культуры нельзя не сказать и о традиционной одежде  - кимоно. Его носят и женщины и мужчины. Кимоно – это длинный прямой халат без застежек с широкими рукавами и поя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1143000" y="857160"/>
            <a:ext cx="4286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циональная одежда кимоно по рисунку должна соответствовать времени году, а по цвету - возрасту, характеру и даже настроению владельца. Пояса для кимоно (оби), как правило, отличаются сочетанием неярких тонов и утонченным изображением цветов, птиц, веток, вееров. С развитием национального костюма связано появление специфического вида декоративного искусства - нэцке, в котором как бы завершилась скульптурная традиция веков. Японский костюм не имеет карманов, поэтому чтобы к поясу на шнурке прикрепить необходимые предметы, стали использовать нэцке - брелок - пугови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-tmb-0x" descr="i?id=34794152&amp;tov=3"/>
          <p:cNvPicPr/>
          <p:nvPr/>
        </p:nvPicPr>
        <p:blipFill>
          <a:blip r:embed="rId1"/>
          <a:stretch/>
        </p:blipFill>
        <p:spPr>
          <a:xfrm>
            <a:off x="5857920" y="500040"/>
            <a:ext cx="280836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571680" y="357120"/>
            <a:ext cx="600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вайте вновь «настроимся» на тишину, почувствуем ее очарование и подумаем: какие же открытия совершили мы во время нашей экскурс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шина. Музыка. Горячий чай. Атмосфера «полутонов». Тихий разговор. Покой и умиротвор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2286000" y="310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т такая она. Япония. Самобытная и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неповторим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3"/>
          <p:cNvSpPr/>
          <p:nvPr/>
        </p:nvSpPr>
        <p:spPr>
          <a:xfrm>
            <a:off x="2286000" y="43578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по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аинственная, совершен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зерцает, верит, любу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лушивается в недосказанно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рана Восходящего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В чем же загадочность японской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          культуры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лушиваться в несказанно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матриваться в невидимое - вот основы японского мировосприят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составить кроссворд о культуре Япо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очинить стихотворение в жанре хайку или та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делать фигурку какого – нибудь животного или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040" y="1142640"/>
            <a:ext cx="66294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МИННАСАН КОННИЧИ ВА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858000" cy="2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М ЗДРАВСТВУЙ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пасибо за урок. До свидания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ЦУКАРЕСАМА  ДЕШТ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ЁНАР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Уважаемые гости!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щаю ваше внимание на серьезное отношение ко всему здесь происходящему, т.е. соблюдать внутреннюю тишину, настроить себя на стремление пережить «чувство тишины» для более глубокого понимания японской куль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Чайный домик - тясицу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Picture 4" descr="i?id=206474704&amp;tov=2"/>
          <p:cNvPicPr/>
          <p:nvPr/>
        </p:nvPicPr>
        <p:blipFill>
          <a:blip r:embed="rId1"/>
          <a:stretch/>
        </p:blipFill>
        <p:spPr>
          <a:xfrm>
            <a:off x="571680" y="1600200"/>
            <a:ext cx="3429000" cy="4530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i?id=121280404&amp;tov=7"/>
          <p:cNvPicPr/>
          <p:nvPr/>
        </p:nvPicPr>
        <p:blipFill>
          <a:blip r:embed="rId2"/>
          <a:stretch/>
        </p:blipFill>
        <p:spPr>
          <a:xfrm>
            <a:off x="5000760" y="1600200"/>
            <a:ext cx="35719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«Тядзин» - мастер чая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ядо» – путь чая, искусство чайной церемо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Тя – но –ю» – торжественный ритуал чаеп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способа приготовления ч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ой – тя» - густой чай 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усу- тя» -- жидкий ч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Чай появился сначала как лекарство, а потом вырос в напиток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итае в 8 веке он вошел в царство поэзии как один из утонченных видов развлечения, а в 13 веке он попадает в Японию. Постепенно чайная церемония переходит в искусство. Цель чайной церемонии – человек становится восприимчивым к прекрасному, готов к его эмоциональному и интуитивному постиж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         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Чайная церемония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йная церемония, и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тяною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никальна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ь эстетики прошлого Японии, представляет собой способ оригинальной заварки и угощ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тт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змельченным в пудру зеленым чаем). Чай был завезен в Японию приблизительно в VIII в., однако не получил широкого распространения вплоть до конца XII в. Практика проведения светских раутов для угощения маття появилась в высших слоях общества в конце XIV в. Наиболее важным поводом для этих раутов, которые устраивали в кабинетах «сёин», было ознакомление с произведениями искусств и ремесел Китая в располагающей к тому спокойной обстанов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-10368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836640"/>
            <a:ext cx="77724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звучание ветряных колокольчиков мы переносимся в мир удивительной восточн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и культуры Япо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ияние природы (климат Япон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собленность Японии и ее удаленность от мат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ое развитие культа пред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07:58:31Z</dcterms:created>
  <dc:creator>User</dc:creator>
  <dc:description/>
  <dc:language>en-US</dc:language>
  <cp:lastModifiedBy>Igrok</cp:lastModifiedBy>
  <dcterms:modified xsi:type="dcterms:W3CDTF">2015-10-20T09:07:22Z</dcterms:modified>
  <cp:revision>19</cp:revision>
  <dc:subject/>
  <dc:title>                           УРОК – ПУТЕШЕСТВИЕ                       ПО МИРОВОЙ ХУДОЖЕСТВЕННОЙ КУЛЬТУРЕ                                          10 класс                 </dc:title>
</cp:coreProperties>
</file>