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D60-458C-45FF-B89B-FA9493A2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3B3-E115-45AD-83C0-7E926DDF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61-0CAB-43AA-B6B1-C1E79D3C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BF0-A020-419D-9424-372FF849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0FC-0A0E-406E-98B5-87F5B96F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67CA-F893-4F81-87C0-CA17C905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C80-C304-4B59-B858-83347C7F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F804-079C-4A59-B769-E4F5908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D462-5F88-401F-A478-1DDF3158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2E7-ECF3-4978-BC5A-FE779CA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9114-2982-4FB0-9466-67631DD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9F5-BEEF-40B7-8B1E-9C8A1EDE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F2B-DB54-4313-8DC1-73F94C3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959-47AB-4031-99E4-CF725E7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5F0C-A993-4131-B896-8A4579A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F5D-18B5-4C95-917A-28B651EB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505B-C482-456F-97D3-7A2F723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D4B-4CAD-47B9-95A6-04A875F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B05-AEFA-4C9C-9700-BF807B1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717-0F8E-4212-9D31-9FD01608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FDE-630F-4556-9526-2E54810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AEF-9A7C-406C-8E97-93C9020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5AC-B825-4B8E-8EB7-15FC2484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505-CE38-479D-A669-CC8ACE4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0AB2-A4DE-4FE1-94D4-F795C00B7F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E1D-E338-4579-ACE2-68367463BF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УРОК – ЭКСКУРСИЯ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                 ПО МИРОВОЙ ХУДОЖЕСТВЕННОЙ КУЛЬТУРЕ   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10 класс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с.Элег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нгуш Г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ртык – Кар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итерату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ой художестве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Япония – страна Восходящего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        Солнц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 отпечаток на самобытность культуры наложило географическое положение страны. Япония расположена на четырех крупных островах и ряда мелких  островов, которые омываются Тихим океаном и морями. Мелкий контур ландшафта и его большая пестрота отразились на формах японского искусства – оно утонченно и изыска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то в себе таит загадочная японская культура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агадочная и таинственная культура таит в себе духовные и нравственные ценности. Здесь эти понятия основаны на религии. В стране параллельно исповедуются две религии: синтоизм и будд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интоизм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ую роль в синтоизме играет семейно-родовой культ предков, напоминающий конфуцианский в Китае. Считается, что каждый умерший превращается в ками, и глава семьи, глава рода совершает ежедневные моления им и приносит жертвы. В каждом доме имеется семейный алтарь - ками-дана - с небольшим шкафчиком для табличек уме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Буддизм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Буддисты ввели обряд трупосожжения; в древности умерших в Японии зарывали в землю. Обе религии начали постепенно сближаться. Внутри буддистских храмов отводили уголки для синтоистских богов - ками; иногда этих ками даже просто отожествляли с буддистскими божествами. С другой стороны, и синтоистский пантеон пополнялся буддистскими бож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чем своебразие архитектуры Япони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тсутствии их строгости и свободном расположении построек. У пагоды символическое значение - 5 ярусов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дер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желе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года Хорюдз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2 метровая пагода Хорюдзи –   сочетание мощи с легкой грацией контуров и деталей, спокойный ритм, величественность и теплота зд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ад камней – это абсолютно незнакомый  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                           вам жанр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д Реандзи – один из знаменитых садов В Японии.. В нем нет ни воды, ни травы, ни дерев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ынешняя форма сада сложилась в 1488 году. Любоваться садом можно только с веранды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ад Рёандзи представляет собой небольшую прямоугольную  площадку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д расположен перед домом настоятеля монастыря, что его можно созерцать находясь на веранде д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два типа сада в зависимости от характера поч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ейзажный сад с холмами- «цукия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лоский сад- «хирани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ветская живопись – имато –э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57440" y="1599840"/>
            <a:ext cx="43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ая восточная живопись в Японии нашла свое выражение в гравюре на дереве, в частности в жанре укиёэ, который представляют такие знаменитые художники, как Судзуки Харунобу, Китагава Утамаро, Кацусика Хокусай, Утагава Хиросигэ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i?id=5522382&amp;tov=3"/>
          <p:cNvPicPr/>
          <p:nvPr/>
        </p:nvPicPr>
        <p:blipFill>
          <a:blip r:embed="rId1"/>
          <a:stretch/>
        </p:blipFill>
        <p:spPr>
          <a:xfrm>
            <a:off x="1285920" y="2071800"/>
            <a:ext cx="2346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ники на ширмах, на шелке и бумаге яркими красками с добавлением золота рисовали пейзажи, придворные сц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 -19 веках появляются городские гравюры, которые печатались с деревянных досок на тонкой бумаге и были более доступны для простых японцев, чем св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713880"/>
            <a:ext cx="6629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Тема: Культура Японии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               Чайная церемония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142720"/>
            <a:ext cx="6858000" cy="34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огащать словарный запас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вивать фантазию и творческое начало, музыкальный слух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спитывать интерес и уважение к культуре друг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бщее представление о культуре Япо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воебразие и уникальность культуры Япо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с особенностями чайной церемонии и других видов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g397"/>
          <p:cNvPicPr/>
          <p:nvPr/>
        </p:nvPicPr>
        <p:blipFill>
          <a:blip r:embed="rId1"/>
          <a:stretch/>
        </p:blipFill>
        <p:spPr>
          <a:xfrm>
            <a:off x="571680" y="500040"/>
            <a:ext cx="3429000" cy="564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img399"/>
          <p:cNvPicPr/>
          <p:nvPr/>
        </p:nvPicPr>
        <p:blipFill>
          <a:blip r:embed="rId2"/>
          <a:stretch/>
        </p:blipFill>
        <p:spPr>
          <a:xfrm>
            <a:off x="4500720" y="571680"/>
            <a:ext cx="35715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img405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5594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img396"/>
          <p:cNvPicPr/>
          <p:nvPr/>
        </p:nvPicPr>
        <p:blipFill>
          <a:blip r:embed="rId2"/>
          <a:stretch/>
        </p:blipFill>
        <p:spPr>
          <a:xfrm>
            <a:off x="4857840" y="571680"/>
            <a:ext cx="3806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Что привлекает слушателя в японской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                        поэзи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сота, изысканность созданных образов, возможность дорисовать картину самим слуш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mg402"/>
          <p:cNvPicPr/>
          <p:nvPr/>
        </p:nvPicPr>
        <p:blipFill>
          <a:blip r:embed="rId1"/>
          <a:stretch/>
        </p:blipFill>
        <p:spPr>
          <a:xfrm>
            <a:off x="3286080" y="2786040"/>
            <a:ext cx="4643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кку (хайку) – трехстишие, состоящее из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17 слогов, рассказывающее о миниатюрных портретах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выплыла лу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самый мелкий кус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праздник пригла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ка – пятистишие, состоящ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из 31 с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Стоит зима – вдруг совсем неждан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Между деревьями увидел я цвет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Так показалось м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А это хлопья сне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abic Typesetting"/>
              </a:rPr>
              <a:t>Сверкая белизной, летели с высот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Picture 4" descr="img398"/>
          <p:cNvPicPr/>
          <p:nvPr/>
        </p:nvPicPr>
        <p:blipFill>
          <a:blip r:embed="rId1"/>
          <a:stretch/>
        </p:blipFill>
        <p:spPr>
          <a:xfrm>
            <a:off x="928800" y="1600200"/>
            <a:ext cx="3143160" cy="453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mg406"/>
          <p:cNvPicPr/>
          <p:nvPr/>
        </p:nvPicPr>
        <p:blipFill>
          <a:blip r:embed="rId2"/>
          <a:stretch/>
        </p:blipFill>
        <p:spPr>
          <a:xfrm>
            <a:off x="5572080" y="1600200"/>
            <a:ext cx="2909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имоно – традиционный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японский   костю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Picture 4" descr="126175641"/>
          <p:cNvPicPr/>
          <p:nvPr/>
        </p:nvPicPr>
        <p:blipFill>
          <a:blip r:embed="rId1"/>
          <a:stretch/>
        </p:blipFill>
        <p:spPr>
          <a:xfrm>
            <a:off x="1214280" y="1571760"/>
            <a:ext cx="3032280" cy="45306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286240" y="1643040"/>
            <a:ext cx="328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я о о традициях японской культуры нельзя не сказать и о традиционной одежде  - кимоно. Его носят и женщины и мужчины. Кимоно – это длинный прямой халат без застежек с широкими рукавами и поя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143000" y="857160"/>
            <a:ext cx="428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циональная одежда кимоно по рисунку должна соответствовать времени году, а по цвету - возрасту, характеру и даже настроению владельца. Пояса для кимоно (оби), как правило, отличаются сочетанием неярких тонов и утонченным изображением цветов, птиц, веток, вееров. С развитием национального костюма связано появление специфического вида декоративного искусства - нэцке, в котором как бы завершилась скульптурная традиция веков. Японский костюм не имеет карманов, поэтому чтобы к поясу на шнурке прикрепить необходимые предметы, стали использовать нэцке - брелок - пугов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-tmb-0x" descr="i?id=34794152&amp;tov=3"/>
          <p:cNvPicPr/>
          <p:nvPr/>
        </p:nvPicPr>
        <p:blipFill>
          <a:blip r:embed="rId1"/>
          <a:stretch/>
        </p:blipFill>
        <p:spPr>
          <a:xfrm>
            <a:off x="5857920" y="500040"/>
            <a:ext cx="28083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571680" y="357120"/>
            <a:ext cx="600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вновь «настроимся» на тишину, почувствуем ее очарование и подумаем: какие же открытия совершили мы во время нашей экскур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шина. Музыка. Горячий чай. Атмосфера «полутонов». Тихий разговор. Покой и умиротво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т такая она. Япония. Самобытная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неповтори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286000" y="4357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инственная, соверш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ерцает, верит, люб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лушивается в недосказан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ана Восходящег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В чем же загадочность японской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культуры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лушиваться в несказан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матриваться в невидимое - вот основы японского мировосприя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ставить кроссворд о культуре Яп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чинить стихотворение в жанре хайку или т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делать фигурку какого – нибудь животного или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МИННАСАН КОННИЧИ В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858000" cy="2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М ЗДРАВСТВУ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пасибо за урок. До свидани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УКАРЕСАМА  ДЕШ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ЁН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важаемые гости!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ю ваше внимание на серьезное отношение ко всему здесь происходящему, т.е. соблюдать внутреннюю тишину, настроить себя на стремление пережить «чувство тишины» для более глубокого понимания японск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ный домик - тясицу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4" descr="i?id=206474704&amp;tov=2"/>
          <p:cNvPicPr/>
          <p:nvPr/>
        </p:nvPicPr>
        <p:blipFill>
          <a:blip r:embed="rId1"/>
          <a:stretch/>
        </p:blipFill>
        <p:spPr>
          <a:xfrm>
            <a:off x="571680" y="1600200"/>
            <a:ext cx="3429000" cy="453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?id=121280404&amp;tov=7"/>
          <p:cNvPicPr/>
          <p:nvPr/>
        </p:nvPicPr>
        <p:blipFill>
          <a:blip r:embed="rId2"/>
          <a:stretch/>
        </p:blipFill>
        <p:spPr>
          <a:xfrm>
            <a:off x="5000760" y="1600200"/>
            <a:ext cx="3571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«Тядзин» - мастер чая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до» – путь чая, искусство чайной церем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я – но –ю» – торжественный ритуал чаеп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способа приготовления ч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й – тя» - густой чай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у- тя» -- жидкий ч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 появился сначала как лекарство, а потом вырос в напиток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итае в 8 веке он вошел в царство поэзии как один из утонченных видов развлечения, а в 13 веке он попадает в Японию. Постепенно чайная церемония переходит в искусство. Цель чайной церемонии – человек становится восприимчивым к прекрасному, готов к его эмоциональному и интуитивному пости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айная церемония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ая церемония,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яною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никальна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ь эстетики прошлого Японии, представляет собой способ оригинальной заварки и угощ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мельченным в пудру зеленым чаем). Чай был завезен в Японию приблизительно в VIII в., однако не получил широкого распространения вплоть до конца XII в. Практика проведения светских раутов для угощения маття появилась в высших слоях общества в конце XIV в. Наиболее важным поводом для этих раутов, которые устраивали в кабинетах «сёин», было ознакомление с произведениями искусств и ремесел Китая в располагающей к тому спокойной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03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836640"/>
            <a:ext cx="77724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звучание ветряных колокольчиков мы переносимся в мир удивительной восточ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культуры Япо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природы (климат Япон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обленность Японии и ее удаленность от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развитие культа пре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7:58:31Z</dcterms:created>
  <dc:creator>User</dc:creator>
  <dc:description/>
  <dc:language>en-US</dc:language>
  <cp:lastModifiedBy>Igrok</cp:lastModifiedBy>
  <dcterms:modified xsi:type="dcterms:W3CDTF">2015-10-20T09:07:22Z</dcterms:modified>
  <cp:revision>19</cp:revision>
  <dc:subject/>
  <dc:title>                           УРОК – ПУТЕШЕСТВИЕ                       ПО МИРОВОЙ ХУДОЖЕСТВЕННОЙ КУЛЬТУРЕ                                          10 класс                 </dc:title>
</cp:coreProperties>
</file>