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1F8-DC94-4EA1-913C-D52735E7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C03-C6CE-45D2-8584-F6CC10D6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440-59FF-42F3-8E1F-27025821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AFE-10AA-445E-B21D-E1DBDC8E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7F76-F3D6-48C9-8B3C-CFDBC83C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98C9-22AC-45F6-B898-6E94CD51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AB3E-9F1B-406B-B266-C8DC2390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5FB8-0FE9-4E83-963F-ACC96A6B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B1AF-1881-461B-BAB0-DE1DB2AC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692A-C49F-4DF5-8473-EB68FEDB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B839-5B1A-4A91-A283-D7C6D4CA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87B-F2DA-4F46-8943-2C25DBF0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6E58-75A3-440E-8A3F-005FDE61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AEDA-4114-452D-9C76-9D6B4C61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704D-2FA1-40B4-9FA0-7785AE0F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C7FF-D684-4575-A7EE-E18EB467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BCD6-85F3-4D3F-8730-820D1D2A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A977-6A99-4482-999B-5D6B11FB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8494-CD98-423A-A7A5-BE51CB02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B32B-C877-4F93-8E9E-9F5D69C9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605A-9430-47EA-B92A-90576687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E009-1D31-43B0-9472-1675B85C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A22-CA4B-45FF-AB4B-7A80806D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377F-84CB-4140-AD1F-300A2B50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8AE44-21F2-4C77-BA81-EDF05571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9FA7-E566-4F0B-9065-6DACBE11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FF5B-B10E-4BF5-93A8-CE6D71F2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6730-5794-458D-B298-756B0F30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D4B6A-61B8-499C-9A8D-5363CC2C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86534-0161-45D6-8622-7ECA9C87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B8F8-9C78-4D5C-8DB5-87B8C9DF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DA3EE-AC54-413D-BA51-6C444394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286DE-29D0-4279-89F7-C2708F8F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D1E-70F1-472F-B781-526D877C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972A-84B0-45B5-AF4F-DFD67384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C937D-56BE-4B6F-9C40-C171E5DC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B8C1-5FB5-4914-8CE0-629386B9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73671-0BF3-4097-AF51-815533A7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42F32-A5A1-4A20-87BD-D7F1354B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7149-A12A-40EF-8962-7676E746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2382A-D7F4-4136-8D32-09FDA15E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9F3A3-D7DE-408E-B8F9-42B0B0B2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4C38-4B6B-4989-86CA-ED03F9C1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5A481-4571-46A8-ACE1-5CABDDF7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8CD-BD3C-4868-9597-C0C6FA4F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9C094-3F57-416E-84F7-D440180C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BC91D-60A9-479C-817C-13D6EDDA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19D53-E449-43B6-98AE-BE559E77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F377-76FA-403A-A338-C266893D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ECD4B-157B-4400-9A5D-FA05A768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1B1FD-BCBE-4859-A8DA-6516D282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BCAA2-BD4F-48B8-A731-D02E1193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C70B5-36FF-4418-85BF-9AB42184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3E806-E497-4423-9053-69490A05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CA7B-98C9-4875-9BE7-DC43F2E8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BF1-58AA-423D-BAC4-6EF7AF2E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3643-831B-4E31-A431-0BB6DE6F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4BD-174F-4171-91BF-C15FE3BF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900-C57D-407B-8D84-6494CC13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A87-7F5E-4B92-9B6A-FC0CAA9B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4454-40C6-45C5-BBB6-1B68AC1EE74E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A84B-C71F-4993-B319-FA0B4A3B5B5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BF72-1E6F-444B-9EF6-EC9C78B87DD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0C4D-8119-4CE6-8F39-D87E495A12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1468-CFBC-43FE-9312-62813CD8FF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5643720" y="2500200"/>
            <a:ext cx="3286080" cy="335772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6" descr=""/>
          <p:cNvPicPr/>
          <p:nvPr/>
        </p:nvPicPr>
        <p:blipFill>
          <a:blip r:embed="rId2"/>
          <a:stretch/>
        </p:blipFill>
        <p:spPr>
          <a:xfrm>
            <a:off x="2987640" y="836640"/>
            <a:ext cx="3218040" cy="2803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Содержимое 13"/>
          <p:cNvGrpSpPr/>
          <p:nvPr/>
        </p:nvGrpSpPr>
        <p:grpSpPr>
          <a:xfrm>
            <a:off x="420840" y="480960"/>
            <a:ext cx="4017960" cy="5084640"/>
            <a:chOff x="420840" y="480960"/>
            <a:chExt cx="4017960" cy="5084640"/>
          </a:xfrm>
        </p:grpSpPr>
        <p:pic>
          <p:nvPicPr>
            <p:cNvPr id="239" name="Содержимое 13" descr=""/>
            <p:cNvPicPr/>
            <p:nvPr/>
          </p:nvPicPr>
          <p:blipFill>
            <a:blip r:embed="rId1"/>
            <a:stretch/>
          </p:blipFill>
          <p:spPr>
            <a:xfrm>
              <a:off x="420840" y="480960"/>
              <a:ext cx="401796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00040" y="571680"/>
              <a:ext cx="3521160" cy="46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Русский язык в умелых руках и в опытных устах красив, певуч, выразителен, гибок, послушен, ловок и вместителен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                  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А.Купри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4214520" y="2332080"/>
            <a:ext cx="3521160" cy="452592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Дивишься драгоценности нашего языка: что ни звук, то и подарок, все зернисто, крупно, как сам жемчуг, и право, иное название еще драгоценнее самой вещ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Н.Гогол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6840" y="1999800"/>
            <a:ext cx="26859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езентац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Шоу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онсенсус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оммуникабель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зитив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Менталитет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нтегрирова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мидж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анкц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Бартер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Абстракт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актуаль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214960" y="2142720"/>
            <a:ext cx="26798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лик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ычаи-привычк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едставле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аж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глаше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азрешение-указа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ъедини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твлечен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Зрелищ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щитель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мен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ложитель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Прямоугольник 4" descr=""/>
          <p:cNvPicPr/>
          <p:nvPr/>
        </p:nvPicPr>
        <p:blipFill>
          <a:blip r:embed="rId1"/>
          <a:stretch/>
        </p:blipFill>
        <p:spPr>
          <a:xfrm>
            <a:off x="573120" y="426960"/>
            <a:ext cx="7570800" cy="1096920"/>
          </a:xfrm>
          <a:prstGeom prst="rect">
            <a:avLst/>
          </a:prstGeom>
          <a:ln w="0">
            <a:noFill/>
          </a:ln>
        </p:spPr>
      </p:pic>
      <p:sp>
        <p:nvSpPr>
          <p:cNvPr id="245" name="Двойная стрелка влево/вправо 8"/>
          <p:cNvSpPr/>
          <p:nvPr/>
        </p:nvSpPr>
        <p:spPr>
          <a:xfrm>
            <a:off x="3071880" y="3214800"/>
            <a:ext cx="1643040" cy="92844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00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4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7510320" cy="3511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D:\Documents and Settings\All Users\Документы\Мои рисунки\Образцы рисунков\Focus\Educational Cartoons\BOOK1.WMF"/>
          <p:cNvPicPr/>
          <p:nvPr/>
        </p:nvPicPr>
        <p:blipFill>
          <a:blip r:embed="rId2"/>
          <a:stretch/>
        </p:blipFill>
        <p:spPr>
          <a:xfrm>
            <a:off x="2714760" y="4714920"/>
            <a:ext cx="21430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рьте,есть ли у вас трудности с произношением некоторых звуков (упр.98,скороговорки)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енность произношения сочетаний согласных (упр.99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 103  Работа в паре.                                                                                          Понаблюдайте за произношением слов.                                         Что,чтение,конечно,солнечный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полните примерами из текста на стр.131 (последний абзац), запишите транскрипцию этого слова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нинг    (упр.101)                                        а) списать слова;                                                                            б) поставить ударение;                                                                       в) проверьте по аудиозапис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3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7242120" cy="609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2571480" y="928800"/>
            <a:ext cx="2786040" cy="5929200"/>
          </a:xfrm>
          <a:prstGeom prst="rect">
            <a:avLst/>
          </a:prstGeom>
          <a:noFill/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Свекл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Догово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Каталог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Обеспечени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Кварта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Ходатайствовать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Пулове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Торт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Столя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Досуг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Языковые средств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Жалюз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Звонит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Красиве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Щавель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Балую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Намерени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Каучук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Премировать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августовска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6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7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7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7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7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7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70"/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70" fill="hold"/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784760" y="212760"/>
            <a:ext cx="3043080" cy="6778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785880" y="1142640"/>
            <a:ext cx="31147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в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гов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тал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есп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е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варт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од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айствова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ул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т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тол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с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14520" y="1356840"/>
            <a:ext cx="352116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зыков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 ср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ств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алюз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вон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рас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Щав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ал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м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уч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миров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густовска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ворите правильно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Учитесь, стремитесь к лучшему, идите вслед за радостью и удача станет вашей постоянной и приятной спутницей.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научился…                                                                              Я смог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20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Arial"/>
              </a:rPr>
              <a:t>Законы языка?                                                                              Литературные нормы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Содержимое 5"/>
          <p:cNvGrpSpPr/>
          <p:nvPr/>
        </p:nvGrpSpPr>
        <p:grpSpPr>
          <a:xfrm>
            <a:off x="444600" y="738360"/>
            <a:ext cx="7424640" cy="5046480"/>
            <a:chOff x="444600" y="738360"/>
            <a:chExt cx="7424640" cy="5046480"/>
          </a:xfrm>
        </p:grpSpPr>
        <p:pic>
          <p:nvPicPr>
            <p:cNvPr id="264" name="Содержимое 5" descr=""/>
            <p:cNvPicPr/>
            <p:nvPr/>
          </p:nvPicPr>
          <p:blipFill>
            <a:blip r:embed="rId1"/>
            <a:stretch/>
          </p:blipFill>
          <p:spPr>
            <a:xfrm>
              <a:off x="444600" y="738360"/>
              <a:ext cx="7424640" cy="50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00040" y="8571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r>
                <a:rPr b="0" lang="en-US" sz="3600" spc="-1" strike="noStrike">
                  <a:solidFill>
                    <a:srgbClr val="ffffff"/>
                  </a:solidFill>
                  <a:latin typeface="Monotype Corsiva"/>
                </a:rPr>
                <a:t>Истинная любовь к своей стране немыслима без любви к своему языку. Человек, равнодушный к своему языку,- дикарь. Его безразличие к языку объясняется полнейшим безразличием к прошлому, настоящему и будущему своего народа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onotype Corsiva"/>
                </a:rPr>
                <a:t>                           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Monotype Corsiva"/>
                </a:rPr>
                <a:t>К.Паустовски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Словарь : патриот…                                                                               Кого можно назвать патриотом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4" marL="1584000" indent="-175680">
              <a:lnSpc>
                <a:spcPct val="10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рмы русского литературного языка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ъект исследования?                                   Общие признаки…                                     Различия…                                                          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3400" y="3073320"/>
            <a:ext cx="592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владеть нормами                                                    литературн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ем погру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чь человека может повлиять на отношение к нему окружающих?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именить к обсуждаемой теме пословицу:»По одежке встречают,по уму провожают»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в текст на стр.128,объясните,в чем заключается главная особенность литературн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142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Литературные нормы</a:t>
            </a: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Фонетические.                                                                                 Орфоэпические.                                                                                    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-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-ответ (стр.129) Работа в па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ый вопрос урока?                                              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Орфоэпические трудности… Как их преодолеть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52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Подсказки писателей-классиков русской литератур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/з :п.16(гл.2),упр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5:35:04Z</dcterms:created>
  <dc:creator>Admin</dc:creator>
  <dc:description/>
  <dc:language>en-US</dc:language>
  <cp:lastModifiedBy>User</cp:lastModifiedBy>
  <dcterms:modified xsi:type="dcterms:W3CDTF">2015-10-20T16:27:53Z</dcterms:modified>
  <cp:revision>21</cp:revision>
  <dc:subject/>
  <dc:title>Слайд 1</dc:title>
</cp:coreProperties>
</file>