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85A-8A2E-4632-B9B0-ED6DC097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4B9-95CA-46CF-8096-E56F3522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A1C-0F04-4D78-882F-D299A36F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DF3-9449-4960-A49D-4DD0E1FF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66C9-4148-4217-A175-29900191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0B04-BE15-422E-A6D9-53C3131D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72F7-E397-43E0-A47F-0A7A46A4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10D3-1E0C-46BC-80B2-CC5A132C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0F2E-17BF-4641-A2AF-30E6F3A6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0DD3-541B-433E-A9A5-BA5C975D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3871-C633-4AA6-8534-C2E3E95A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6473-90AE-4DCE-8313-B3F6E9C6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3EA1-CBFA-425A-9EDC-F0B1D738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7EC0-4E59-4AB5-899F-B742D29A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DD59-8C35-4CC3-9F91-17831C2B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D673-7EE8-4E68-B33E-9799C536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775D-FB64-4C5E-8F95-BD7B0573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C3CEC-CC0F-4C27-B53B-2B75A945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043A-A7A3-44BB-8921-4B23BDBF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D577A-9827-4CF3-9F34-4A836F45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CA700-6065-4D5F-AE5D-16824177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5C704-BE29-47B6-878F-82A37C3C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FCB-E00B-4B6F-A9E7-7B9190B2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86922-E214-48A5-BC25-9B631A25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E9AE2-E7A8-4F0F-8077-90670365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BA53B-2DF6-4C31-A209-0F263099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A3655-CC81-48A5-B568-2F0DEC58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C7317-B12E-4FE8-84EF-6B5732C0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3B0B-53B0-4905-AFE3-93D5A8FA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C42D-C3BE-4AA3-8ABB-56704E77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46BA4-B096-4EE8-A37F-F5860437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620F-0A58-4BA8-8835-53CFAF04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3C979-4C13-4544-A49F-A0CE3BEA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531-ED0B-4E55-9A90-808D64F4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DCC9C-8DBA-4264-A718-C868E19D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8260E-3420-4710-B385-3157D692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49D65-AA9B-4C13-BE77-031C66EB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E3FC1-F3F2-41BC-A76F-64157228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7573F-23BE-41DB-A6BF-E427506A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9DB24-2202-40CD-AD34-11518771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58080-85A7-44B5-82CE-753A96D7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D9DB8-645E-463D-B33D-524CD314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C021A-DD12-4BAA-B7B1-E508C607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76868-3A35-490B-8273-A2AE0538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EE2-65AE-4365-96EE-8A2D3598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B5F2F-9ACC-4A25-AADB-EE757C17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0F261-85F2-47CD-8D2A-723C3378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45936-7A99-4F04-A77A-4EF32DBB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00E2B-DC34-48DE-A3E7-D624F532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4C9EB-A3EF-4E11-A93E-9EDBB5E5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ADEB3-EF74-4C18-AB21-464FAB13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26DB1-0B0A-45A6-B34B-E8CD1273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75CC5-8312-41B5-BFB0-22772EC4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ADE75-5F13-46E7-8A6D-FC750B01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A324E-AF74-4F52-BE25-CD751E4F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68E-6FB6-4825-9B7F-D164FD86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E620C-69A6-4467-BB7F-A2769C2B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9A2-7869-4128-8C1E-C3CAF2C3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788-BDCA-4208-9DB4-781DD45B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063-8D96-4216-B689-37DDC219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C7BF-409F-438D-8789-EA55B08069A2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EFCC-9F66-4EB2-B384-D798C1C4AE3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2B7A-87C5-4228-BE14-A2BBAD45B1B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AA41-B7B0-4CAA-8C66-B7C0124D09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DEE1-01BC-44CB-AC52-5E1EA8FC70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5643720" y="2500200"/>
            <a:ext cx="3286080" cy="3357720"/>
          </a:xfrm>
          <a:prstGeom prst="rect">
            <a:avLst/>
          </a:prstGeom>
          <a:ln w="0">
            <a:noFill/>
          </a:ln>
        </p:spPr>
      </p:pic>
      <p:pic>
        <p:nvPicPr>
          <p:cNvPr id="220" name="Заголовок 6" descr=""/>
          <p:cNvPicPr/>
          <p:nvPr/>
        </p:nvPicPr>
        <p:blipFill>
          <a:blip r:embed="rId2"/>
          <a:stretch/>
        </p:blipFill>
        <p:spPr>
          <a:xfrm>
            <a:off x="2987640" y="836640"/>
            <a:ext cx="3218040" cy="2803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Содержимое 13"/>
          <p:cNvGrpSpPr/>
          <p:nvPr/>
        </p:nvGrpSpPr>
        <p:grpSpPr>
          <a:xfrm>
            <a:off x="420840" y="480960"/>
            <a:ext cx="4017960" cy="5084640"/>
            <a:chOff x="420840" y="480960"/>
            <a:chExt cx="4017960" cy="5084640"/>
          </a:xfrm>
        </p:grpSpPr>
        <p:pic>
          <p:nvPicPr>
            <p:cNvPr id="239" name="Содержимое 13" descr=""/>
            <p:cNvPicPr/>
            <p:nvPr/>
          </p:nvPicPr>
          <p:blipFill>
            <a:blip r:embed="rId1"/>
            <a:stretch/>
          </p:blipFill>
          <p:spPr>
            <a:xfrm>
              <a:off x="420840" y="480960"/>
              <a:ext cx="4017960" cy="50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00040" y="571680"/>
              <a:ext cx="3521160" cy="46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b13f9a"/>
                </a:buClr>
                <a:buSzPct val="73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Русский язык в умелых руках и в опытных устах красив, певуч, выразителен, гибок, послушен, ловок и вместителен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                         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А.Купри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 txBox="1"/>
          <p:nvPr/>
        </p:nvSpPr>
        <p:spPr>
          <a:xfrm>
            <a:off x="4214520" y="2332080"/>
            <a:ext cx="3521160" cy="452592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Дивишься драгоценности нашего языка: что ни звук, то и подарок, все зернисто, крупно, как сам жемчуг, и право, иное название еще драгоценнее самой вещ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Н.Гогол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6840" y="1999800"/>
            <a:ext cx="26859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езентац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Шоу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онсенсус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оммуникабель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зитив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Менталитет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нтегрироват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мидж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анкц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Бартер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Абстракт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актуаль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214960" y="2142720"/>
            <a:ext cx="26798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лик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ычаи-привычк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едставлен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аж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оглашен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азрешение-указан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ъединит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твлечен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Зрелищ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щитель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мен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ложитель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Прямоугольник 4" descr=""/>
          <p:cNvPicPr/>
          <p:nvPr/>
        </p:nvPicPr>
        <p:blipFill>
          <a:blip r:embed="rId1"/>
          <a:stretch/>
        </p:blipFill>
        <p:spPr>
          <a:xfrm>
            <a:off x="573120" y="426960"/>
            <a:ext cx="7570800" cy="1096920"/>
          </a:xfrm>
          <a:prstGeom prst="rect">
            <a:avLst/>
          </a:prstGeom>
          <a:ln w="0">
            <a:noFill/>
          </a:ln>
        </p:spPr>
      </p:pic>
      <p:sp>
        <p:nvSpPr>
          <p:cNvPr id="245" name="Двойная стрелка влево/вправо 8"/>
          <p:cNvSpPr/>
          <p:nvPr/>
        </p:nvSpPr>
        <p:spPr>
          <a:xfrm>
            <a:off x="3071880" y="3214800"/>
            <a:ext cx="1643040" cy="928440"/>
          </a:xfrm>
          <a:prstGeom prst="leftRight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100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4" descr=""/>
          <p:cNvPicPr/>
          <p:nvPr/>
        </p:nvPicPr>
        <p:blipFill>
          <a:blip r:embed="rId1"/>
          <a:stretch/>
        </p:blipFill>
        <p:spPr>
          <a:xfrm>
            <a:off x="281160" y="1279440"/>
            <a:ext cx="7510320" cy="3511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D:\Documents and Settings\All Users\Документы\Мои рисунки\Образцы рисунков\Focus\Educational Cartoons\BOOK1.WMF"/>
          <p:cNvPicPr/>
          <p:nvPr/>
        </p:nvPicPr>
        <p:blipFill>
          <a:blip r:embed="rId2"/>
          <a:stretch/>
        </p:blipFill>
        <p:spPr>
          <a:xfrm>
            <a:off x="2714760" y="4714920"/>
            <a:ext cx="21430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ерьте,есть ли у вас трудности с произношением некоторых звуков (упр.98,скороговорки)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бенность произношения сочетаний согласных (упр.99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пр 103  Работа в паре.                                                                                          Понаблюдайте за произношением слов.                                         Что,чтение,конечно,солнечный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полните примерами из текста на стр.131 (последний абзац), запишите транскрипцию этого слова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енинг    (упр.101)                                        а) списать слова;                                                                            б) поставить ударение;                                                                       в) проверьте по аудиозапис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3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7242120" cy="609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2571480" y="928800"/>
            <a:ext cx="2786040" cy="5929200"/>
          </a:xfrm>
          <a:prstGeom prst="rect">
            <a:avLst/>
          </a:prstGeom>
          <a:noFill/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Свекл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Договор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Каталог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Обеспечени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Квартал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Ходатайствовать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Пуловер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Торт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Столяр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Досуг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Языковые средств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Жалюз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Звонит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Красиве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Щавель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Балую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Намерени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Каучук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Премировать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августовска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6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6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7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7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77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77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77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77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77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77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77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77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7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7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7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7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770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770" fill="hold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7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70" fill="hold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770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770" fill="hold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770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770" fill="hold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770"/>
                                        <p:tgtEl>
                                          <p:spTgt spid="2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770" fill="hold"/>
                                        <p:tgtEl>
                                          <p:spTgt spid="2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2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2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4784760" y="212760"/>
            <a:ext cx="3043080" cy="6778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785880" y="1142640"/>
            <a:ext cx="31147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в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л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огов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тал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есп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е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варт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од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айствова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ул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е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т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тол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ос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214520" y="1356840"/>
            <a:ext cx="352116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Языков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ы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е ср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ств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алюз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вон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рас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е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Щав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л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ал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м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е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уч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миров</a:t>
            </a: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густовска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dissolv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ворите правильно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Учитесь, стремитесь к лучшему, идите вслед за радостью и удача станет вашей постоянной и приятной спутницей.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научился…                                                                              Я смог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2024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Arial"/>
              </a:rPr>
              <a:t>Законы языка?                                                                              Литературные нормы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Содержимое 5"/>
          <p:cNvGrpSpPr/>
          <p:nvPr/>
        </p:nvGrpSpPr>
        <p:grpSpPr>
          <a:xfrm>
            <a:off x="444600" y="738360"/>
            <a:ext cx="7424640" cy="5046480"/>
            <a:chOff x="444600" y="738360"/>
            <a:chExt cx="7424640" cy="5046480"/>
          </a:xfrm>
        </p:grpSpPr>
        <p:pic>
          <p:nvPicPr>
            <p:cNvPr id="264" name="Содержимое 5" descr=""/>
            <p:cNvPicPr/>
            <p:nvPr/>
          </p:nvPicPr>
          <p:blipFill>
            <a:blip r:embed="rId1"/>
            <a:stretch/>
          </p:blipFill>
          <p:spPr>
            <a:xfrm>
              <a:off x="444600" y="738360"/>
              <a:ext cx="7424640" cy="50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00040" y="8571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r>
                <a:rPr b="0" lang="en-US" sz="3600" spc="-1" strike="noStrike">
                  <a:solidFill>
                    <a:srgbClr val="ffffff"/>
                  </a:solidFill>
                  <a:latin typeface="Monotype Corsiva"/>
                </a:rPr>
                <a:t>Истинная любовь к своей стране немыслима без любви к своему языку. Человек, равнодушный к своему языку,- дикарь. Его безразличие к языку объясняется полнейшим безразличием к прошлому, настоящему и будущему своего народа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Monotype Corsiva"/>
                </a:rPr>
                <a:t>                           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Monotype Corsiva"/>
                </a:rPr>
                <a:t>К.Паустовский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Словарь : патриот…                                                                               Кого можно назвать патриотом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4" marL="1584000" indent="-175680">
              <a:lnSpc>
                <a:spcPct val="10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рмы русского литературного языка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ъект исследования?                                   Общие признаки…                                     Различия…                                                           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3400" y="3073320"/>
            <a:ext cx="592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владеть нормами                                                    литературного язы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ем погру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ечь человека может повлиять на отношение к нему окружающих?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именить к обсуждаемой теме пословицу:»По одежке встречают,по уму провожают»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в текст на стр.128,объясните,в чем заключается главная особенность литературн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142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Литературные нормы</a:t>
            </a: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Фонетические.                                                                                 Орфоэпические.                                                                                    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-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-ответ (стр.129) Работа в па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ый вопрос урока?                                                                   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Орфоэпические трудности… Как их преодолеть…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525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Подсказки писателей-классиков русской литературы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/з :п.16(гл.2),упр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5:35:04Z</dcterms:created>
  <dc:creator>Admin</dc:creator>
  <dc:description/>
  <dc:language>en-US</dc:language>
  <cp:lastModifiedBy>User</cp:lastModifiedBy>
  <dcterms:modified xsi:type="dcterms:W3CDTF">2015-10-20T16:27:53Z</dcterms:modified>
  <cp:revision>21</cp:revision>
  <dc:subject/>
  <dc:title>Слайд 1</dc:title>
</cp:coreProperties>
</file>