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C54-9A05-4F17-9517-4A6CBBBF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5A3-3379-4233-B5B3-C5093EC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89C-C446-4176-9CC0-C83C05A5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3B5-C754-41D8-A77C-24AA6F21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486-EC83-4F64-B153-45E87A6A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136-1FAE-4EED-BF26-4C1A90C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4E8-2DE3-4147-AFAD-9F7BFDF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5C3-F9EE-4459-9908-F06D9BC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676-FD2D-4760-9156-05678C14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999-21A2-47FA-B809-AF7BFB4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327-C366-4BC6-870E-DE5B3C5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B95-C237-4BDA-BE4B-A4BA2AD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4ED-5BA5-44D6-AF2E-6B59D952FE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24349"/>
          <p:cNvPicPr/>
          <p:nvPr/>
        </p:nvPicPr>
        <p:blipFill>
          <a:blip r:embed="rId2"/>
          <a:stretch/>
        </p:blipFill>
        <p:spPr>
          <a:xfrm>
            <a:off x="6072120" y="321480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citronu_bummbas_l_0"/>
          <p:cNvPicPr/>
          <p:nvPr/>
        </p:nvPicPr>
        <p:blipFill>
          <a:blip r:embed="rId3"/>
          <a:stretch/>
        </p:blipFill>
        <p:spPr>
          <a:xfrm>
            <a:off x="3286080" y="328608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29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4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5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39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0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4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49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0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4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5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59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0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4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5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59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1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0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7667640" y="1268280"/>
              <a:ext cx="358920" cy="72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0-02-12T17:42:30Z</dcterms:modified>
  <cp:revision>8</cp:revision>
  <dc:subject/>
  <dc:title>PowerPoint Presentation</dc:title>
</cp:coreProperties>
</file>