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F5A-BA23-4405-B5B5-6D272FD8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A13-3CC9-4ABB-BCCC-5181725C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409-36F7-4E63-A5DE-ACEEDDED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9E6-0273-4775-8129-CDC940D7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7F4-28A1-4EA5-9B7B-B02C8A8B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95C-EA2D-46B3-BD26-473277A6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C54-FC8A-485B-A122-CA973D84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1CC-9A22-415E-B4D8-E7B20F1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685-CB62-4ED0-9B8A-AACC6AD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5D2-2218-485F-BB0C-3692F04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D43-C984-40D7-82C7-AF48D26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8E2-372D-4D6B-A5E6-3DA5351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49B2-ABE9-4431-AB3F-8D9448BCA8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3080" y="917280"/>
            <a:ext cx="4822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24349"/>
          <p:cNvPicPr/>
          <p:nvPr/>
        </p:nvPicPr>
        <p:blipFill>
          <a:blip r:embed="rId2"/>
          <a:stretch/>
        </p:blipFill>
        <p:spPr>
          <a:xfrm>
            <a:off x="6072120" y="321480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citronu_bummbas_l_0"/>
          <p:cNvPicPr/>
          <p:nvPr/>
        </p:nvPicPr>
        <p:blipFill>
          <a:blip r:embed="rId3"/>
          <a:stretch/>
        </p:blipFill>
        <p:spPr>
          <a:xfrm>
            <a:off x="3286080" y="328608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5"/>
          <p:cNvSpPr/>
          <p:nvPr/>
        </p:nvSpPr>
        <p:spPr>
          <a:xfrm>
            <a:off x="5183280" y="20001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29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4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5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7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39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0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4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5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49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0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4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5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59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0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2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4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5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59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0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1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5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0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8" name="AutoShape 7"/>
            <p:cNvSpPr/>
            <p:nvPr/>
          </p:nvSpPr>
          <p:spPr>
            <a:xfrm>
              <a:off x="7667640" y="1268280"/>
              <a:ext cx="358920" cy="72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0-02-12T17:42:30Z</dcterms:modified>
  <cp:revision>8</cp:revision>
  <dc:subject/>
  <dc:title>PowerPoint Presentation</dc:title>
</cp:coreProperties>
</file>