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2706-A167-4A80-84D4-6FD341E492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E580-C676-468D-AAED-9618AFE38A5E}" type="slidenum">
              <a:rPr b="0" lang="ru-RU" sz="1200" spc="-1" strike="noStrike">
                <a:solidFill>
                  <a:srgbClr val="ffcc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966D-2846-4C3F-9BF8-E1A490B73887}" type="slidenum">
              <a:rPr b="0" lang="ru-RU" sz="1200" spc="-1" strike="noStrike">
                <a:solidFill>
                  <a:srgbClr val="ffcc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9E94-71EF-4DE1-AE17-1589270746E2}" type="slidenum">
              <a:rPr b="0" lang="ru-RU" sz="1200" spc="-1" strike="noStrike">
                <a:solidFill>
                  <a:srgbClr val="ffcc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A7E2-2728-45E2-BAD4-11B4F1EE3944}" type="slidenum">
              <a:rPr b="0" lang="ru-RU" sz="1200" spc="-1" strike="noStrike">
                <a:solidFill>
                  <a:srgbClr val="ffcc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A10B-1A0C-4AA8-A7F8-67E09C2E5DAB}" type="slidenum">
              <a:rPr b="0" lang="ru-RU" sz="1200" spc="-1" strike="noStrike">
                <a:solidFill>
                  <a:srgbClr val="ffcc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0236-E9CB-42BB-81EC-6EABCFAFE0C3}" type="slidenum">
              <a:rPr b="0" lang="ru-RU" sz="1200" spc="-1" strike="noStrike">
                <a:solidFill>
                  <a:srgbClr val="ffcc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EED6-A673-4435-85D4-7D1855D65052}" type="slidenum">
              <a:rPr b="0" lang="ru-RU" sz="1200" spc="-1" strike="noStrike">
                <a:solidFill>
                  <a:srgbClr val="ffcc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094C-08CD-46DC-9EC3-35EC4C62239B}" type="slidenum">
              <a:rPr b="0" lang="ru-RU" sz="1200" spc="-1" strike="noStrike">
                <a:solidFill>
                  <a:srgbClr val="ffcc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F83B-8B6F-40D5-8386-710216C21700}" type="slidenum">
              <a:rPr b="0" lang="ru-RU" sz="1200" spc="-1" strike="noStrike">
                <a:solidFill>
                  <a:srgbClr val="ffcc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CF24-8638-4AA9-B00C-A45E75C69F9B}" type="slidenum">
              <a:rPr b="0" lang="ru-RU" sz="1200" spc="-1" strike="noStrike">
                <a:solidFill>
                  <a:srgbClr val="ffcc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0AB8-2635-4900-846E-8C866997E241}" type="slidenum">
              <a:rPr b="0" lang="ru-RU" sz="1200" spc="-1" strike="noStrike">
                <a:solidFill>
                  <a:srgbClr val="ffcc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8D81-66DF-424D-93FF-5A6E300C583D}" type="slidenum">
              <a:rPr b="0" lang="ru-RU" sz="1200" spc="-1" strike="noStrike">
                <a:solidFill>
                  <a:srgbClr val="ffcc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352B-3D1E-472E-986E-95E8D1261CA1}" type="slidenum">
              <a:rPr b="0" lang="ru-RU" sz="1200" spc="-1" strike="noStrike">
                <a:solidFill>
                  <a:srgbClr val="ffcc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11E4-8EA0-423F-9B52-251F805F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7F53-FE57-4746-88AD-7CE8EF41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7B62-CEF1-4663-A730-26C528F6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8E41-CE5F-458C-A7E3-0AABCB16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CD5B-33F7-477D-BB02-31B7E08B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8510-13CB-4ED1-A80F-997A14EF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C5D3-7EB9-46C3-8B84-00564ACE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0E4D-C68D-4938-8252-D31065BB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CCF8-B00F-4C0E-9AF6-27E75528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537E-8677-4252-BDA7-2A5E15A8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EEA6-A4AE-4467-BC67-9F2B8BDF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D3A4-4BBD-4AB1-99D6-6104B247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EA3D-7828-4337-82E6-D6C9110E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A18F-0DE9-4F2D-86C9-36408ED4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75EA-915E-426D-A37A-0E7F036F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FB36-70E9-4F19-A04F-7AFA7CFB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94E3-CF36-4A01-BB36-EA6BC7B1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41669-DDB2-428F-9DCA-D75CD0D1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B2D3A-1EAD-4D21-A8D6-F3FF6D93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B6734-9043-4342-B34C-F85AEBC9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87EA5-48F7-4E07-A0FC-768F2F47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C7C4C-93E9-4B1D-84EF-E3B36FFF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9C8D-5AFF-4967-8B0E-D299BAD4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1176F-7412-4E71-9229-E453557B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98AB1-94BA-4509-8B54-8CCBD74B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2E1CF-5AEA-431C-838E-48007FD9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59743-7FF5-454E-B426-7873DAC5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83F51-FD01-46A8-AE3F-C667AA83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2EF74-17FD-4106-8C79-B5271651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DA12C-6DAE-4C58-B96B-A1A8E09E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1435-698F-41CA-B662-454F223D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4C5-29D8-45E2-847D-14934B6B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A063-6916-474A-ADC0-FE146251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7A1C-9EFB-428F-AF6F-4246CFD8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9C73-0409-4F3F-B285-835F1115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2A84-835C-485E-BDA8-6A3D3C74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2760"/>
                  <a:ext cx="1063800" cy="1141200"/>
                  <a:chOff x="7833960" y="842760"/>
                  <a:chExt cx="106380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160" y="1132920"/>
                    <a:ext cx="8856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7080" y="1603440"/>
                    <a:ext cx="47124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8840"/>
                    <a:ext cx="42516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400"/>
                  <a:ext cx="983880" cy="327240"/>
                  <a:chOff x="784584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46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5120" y="456120"/>
                    <a:ext cx="338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400" y="906120"/>
                  <a:ext cx="1060920" cy="1141560"/>
                  <a:chOff x="6539400" y="906120"/>
                  <a:chExt cx="106092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920" y="1194840"/>
                    <a:ext cx="879840" cy="1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360"/>
                    <a:ext cx="47160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30600"/>
                  <a:ext cx="915480" cy="1248480"/>
                  <a:chOff x="6710760" y="930600"/>
                  <a:chExt cx="91548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4040" y="1259640"/>
                    <a:ext cx="8928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7760"/>
                    <a:ext cx="4744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560"/>
                  <a:ext cx="618120" cy="1248120"/>
                  <a:chOff x="7014960" y="979560"/>
                  <a:chExt cx="61812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7600" y="1311840"/>
                    <a:ext cx="82656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480"/>
                    <a:ext cx="43812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600" cy="1217160"/>
                  <a:chOff x="7312320" y="1001160"/>
                  <a:chExt cx="363600" cy="121716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7320"/>
                    <a:ext cx="7837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1480" y="1877760"/>
                    <a:ext cx="422280" cy="22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000"/>
                  <a:chOff x="7756920" y="1005120"/>
                  <a:chExt cx="51048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5520" y="1352160"/>
                    <a:ext cx="8229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6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9520" y="1404360"/>
                    <a:ext cx="7437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6920" y="1927440"/>
                    <a:ext cx="39816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08B1-2AF3-4165-A969-C9C39980955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7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8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2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8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5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6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8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8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8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90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91" name="Group 17"/>
                <p:cNvGrpSpPr/>
                <p:nvPr/>
              </p:nvGrpSpPr>
              <p:grpSpPr>
                <a:xfrm>
                  <a:off x="7834320" y="842760"/>
                  <a:ext cx="1063440" cy="1140840"/>
                  <a:chOff x="7834320" y="842760"/>
                  <a:chExt cx="1063440" cy="1140840"/>
                </a:xfrm>
              </p:grpSpPr>
              <p:sp>
                <p:nvSpPr>
                  <p:cNvPr id="192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3" name="Freeform 19"/>
                  <p:cNvSpPr/>
                  <p:nvPr/>
                </p:nvSpPr>
                <p:spPr>
                  <a:xfrm rot="2711400">
                    <a:off x="8407080" y="1603440"/>
                    <a:ext cx="4716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4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5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6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7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98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9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0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01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2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3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04" name="Freeform 30"/>
                  <p:cNvSpPr/>
                  <p:nvPr/>
                </p:nvSpPr>
                <p:spPr>
                  <a:xfrm rot="463200">
                    <a:off x="7859880" y="709920"/>
                    <a:ext cx="792000" cy="16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5" name="Freeform 31"/>
                  <p:cNvSpPr/>
                  <p:nvPr/>
                </p:nvSpPr>
                <p:spPr>
                  <a:xfrm rot="463200">
                    <a:off x="8636040" y="798480"/>
                    <a:ext cx="42516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6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207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8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9" name="Group 35"/>
                <p:cNvGrpSpPr/>
                <p:nvPr/>
              </p:nvGrpSpPr>
              <p:grpSpPr>
                <a:xfrm>
                  <a:off x="7845840" y="419760"/>
                  <a:ext cx="984240" cy="326880"/>
                  <a:chOff x="7845840" y="419760"/>
                  <a:chExt cx="984240" cy="326880"/>
                </a:xfrm>
              </p:grpSpPr>
              <p:sp>
                <p:nvSpPr>
                  <p:cNvPr id="210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1" name="Freeform 37"/>
                  <p:cNvSpPr/>
                  <p:nvPr/>
                </p:nvSpPr>
                <p:spPr>
                  <a:xfrm rot="20797200">
                    <a:off x="8474760" y="456480"/>
                    <a:ext cx="339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2" name="Group 38"/>
                <p:cNvGrpSpPr/>
                <p:nvPr/>
              </p:nvGrpSpPr>
              <p:grpSpPr>
                <a:xfrm>
                  <a:off x="6539400" y="905400"/>
                  <a:ext cx="1061280" cy="1142280"/>
                  <a:chOff x="6539400" y="905400"/>
                  <a:chExt cx="1061280" cy="1142280"/>
                </a:xfrm>
              </p:grpSpPr>
              <p:sp>
                <p:nvSpPr>
                  <p:cNvPr id="213" name="Freeform 39"/>
                  <p:cNvSpPr/>
                  <p:nvPr/>
                </p:nvSpPr>
                <p:spPr>
                  <a:xfrm flipH="1" rot="18888600">
                    <a:off x="6793920" y="1194120"/>
                    <a:ext cx="88020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4" name="Freeform 40"/>
                  <p:cNvSpPr/>
                  <p:nvPr/>
                </p:nvSpPr>
                <p:spPr>
                  <a:xfrm flipH="1" rot="18888600">
                    <a:off x="6559200" y="1665720"/>
                    <a:ext cx="47160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5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216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8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219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0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1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222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3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4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225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6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7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228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9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0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231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2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3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234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5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6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237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8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9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40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1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2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43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4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5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246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7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8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249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1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252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3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5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55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256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257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8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9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60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1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2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63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4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5" name="Group 91"/>
                <p:cNvGrpSpPr/>
                <p:nvPr/>
              </p:nvGrpSpPr>
              <p:grpSpPr>
                <a:xfrm>
                  <a:off x="6711120" y="930600"/>
                  <a:ext cx="915120" cy="1247760"/>
                  <a:chOff x="6711120" y="930600"/>
                  <a:chExt cx="915120" cy="1247760"/>
                </a:xfrm>
              </p:grpSpPr>
              <p:sp>
                <p:nvSpPr>
                  <p:cNvPr id="266" name="Freeform 92"/>
                  <p:cNvSpPr/>
                  <p:nvPr/>
                </p:nvSpPr>
                <p:spPr>
                  <a:xfrm flipH="1" rot="18336000">
                    <a:off x="6854760" y="1259280"/>
                    <a:ext cx="8917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7" name="Freeform 93"/>
                  <p:cNvSpPr/>
                  <p:nvPr/>
                </p:nvSpPr>
                <p:spPr>
                  <a:xfrm flipH="1" rot="18336000">
                    <a:off x="6713640" y="178704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8" name="Group 94"/>
                <p:cNvGrpSpPr/>
                <p:nvPr/>
              </p:nvGrpSpPr>
              <p:grpSpPr>
                <a:xfrm>
                  <a:off x="7014960" y="979200"/>
                  <a:ext cx="617400" cy="1248120"/>
                  <a:chOff x="7014960" y="979200"/>
                  <a:chExt cx="617400" cy="1248120"/>
                </a:xfrm>
              </p:grpSpPr>
              <p:sp>
                <p:nvSpPr>
                  <p:cNvPr id="269" name="Freeform 95"/>
                  <p:cNvSpPr/>
                  <p:nvPr/>
                </p:nvSpPr>
                <p:spPr>
                  <a:xfrm flipH="1" rot="17543400">
                    <a:off x="6987600" y="1311120"/>
                    <a:ext cx="8254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0" name="Freeform 96"/>
                  <p:cNvSpPr/>
                  <p:nvPr/>
                </p:nvSpPr>
                <p:spPr>
                  <a:xfrm flipH="1" rot="17543400">
                    <a:off x="6995520" y="1851480"/>
                    <a:ext cx="4374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1" name="Group 97"/>
                <p:cNvGrpSpPr/>
                <p:nvPr/>
              </p:nvGrpSpPr>
              <p:grpSpPr>
                <a:xfrm>
                  <a:off x="7311960" y="1001160"/>
                  <a:ext cx="364320" cy="1217520"/>
                  <a:chOff x="7311960" y="1001160"/>
                  <a:chExt cx="364320" cy="1217520"/>
                </a:xfrm>
              </p:grpSpPr>
              <p:sp>
                <p:nvSpPr>
                  <p:cNvPr id="272" name="Freeform 98"/>
                  <p:cNvSpPr/>
                  <p:nvPr/>
                </p:nvSpPr>
                <p:spPr>
                  <a:xfrm flipH="1" rot="16870800">
                    <a:off x="7136640" y="1327320"/>
                    <a:ext cx="784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3" name="Freeform 99"/>
                  <p:cNvSpPr/>
                  <p:nvPr/>
                </p:nvSpPr>
                <p:spPr>
                  <a:xfrm flipH="1" rot="16870800">
                    <a:off x="7252200" y="1877400"/>
                    <a:ext cx="42120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4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75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6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7" name="Group 103"/>
                <p:cNvGrpSpPr/>
                <p:nvPr/>
              </p:nvGrpSpPr>
              <p:grpSpPr>
                <a:xfrm>
                  <a:off x="7786800" y="956160"/>
                  <a:ext cx="732960" cy="1262160"/>
                  <a:chOff x="7786800" y="956160"/>
                  <a:chExt cx="732960" cy="1262160"/>
                </a:xfrm>
              </p:grpSpPr>
              <p:sp>
                <p:nvSpPr>
                  <p:cNvPr id="278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9" name="Freeform 105"/>
                  <p:cNvSpPr/>
                  <p:nvPr/>
                </p:nvSpPr>
                <p:spPr>
                  <a:xfrm rot="3745200">
                    <a:off x="8079840" y="1839960"/>
                    <a:ext cx="45468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0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81" name="Freeform 107"/>
                  <p:cNvSpPr/>
                  <p:nvPr/>
                </p:nvSpPr>
                <p:spPr>
                  <a:xfrm rot="4286400">
                    <a:off x="7536240" y="1351800"/>
                    <a:ext cx="82188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2" name="Freeform 108"/>
                  <p:cNvSpPr/>
                  <p:nvPr/>
                </p:nvSpPr>
                <p:spPr>
                  <a:xfrm rot="4286400">
                    <a:off x="7882560" y="190764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3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284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5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6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287" name="Freeform 113"/>
                  <p:cNvSpPr/>
                  <p:nvPr/>
                </p:nvSpPr>
                <p:spPr>
                  <a:xfrm rot="5755200">
                    <a:off x="7320240" y="1403640"/>
                    <a:ext cx="7423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Freeform 114"/>
                  <p:cNvSpPr/>
                  <p:nvPr/>
                </p:nvSpPr>
                <p:spPr>
                  <a:xfrm rot="5755200">
                    <a:off x="7397280" y="1927800"/>
                    <a:ext cx="3974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289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0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2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3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9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10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E270-4AC3-4341-8DD1-B70ACE4D99E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2011320" y="245160"/>
            <a:ext cx="6895080" cy="5452560"/>
            <a:chOff x="2011320" y="245160"/>
            <a:chExt cx="6895080" cy="5452560"/>
          </a:xfrm>
        </p:grpSpPr>
        <p:grpSp>
          <p:nvGrpSpPr>
            <p:cNvPr id="353" name="Group 3"/>
            <p:cNvGrpSpPr/>
            <p:nvPr/>
          </p:nvGrpSpPr>
          <p:grpSpPr>
            <a:xfrm>
              <a:off x="3471480" y="957960"/>
              <a:ext cx="947880" cy="708120"/>
              <a:chOff x="3471480" y="957960"/>
              <a:chExt cx="947880" cy="708120"/>
            </a:xfrm>
          </p:grpSpPr>
          <p:sp>
            <p:nvSpPr>
              <p:cNvPr id="354" name="Oval 4"/>
              <p:cNvSpPr/>
              <p:nvPr/>
            </p:nvSpPr>
            <p:spPr>
              <a:xfrm>
                <a:off x="3471480" y="957960"/>
                <a:ext cx="947880" cy="7081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55" name="Oval 5"/>
              <p:cNvSpPr/>
              <p:nvPr/>
            </p:nvSpPr>
            <p:spPr>
              <a:xfrm>
                <a:off x="3812040" y="1269000"/>
                <a:ext cx="230760" cy="131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356" name="Group 6"/>
            <p:cNvGrpSpPr/>
            <p:nvPr/>
          </p:nvGrpSpPr>
          <p:grpSpPr>
            <a:xfrm>
              <a:off x="2011320" y="245160"/>
              <a:ext cx="6895080" cy="5452560"/>
              <a:chOff x="2011320" y="245160"/>
              <a:chExt cx="6895080" cy="5452560"/>
            </a:xfrm>
          </p:grpSpPr>
          <p:grpSp>
            <p:nvGrpSpPr>
              <p:cNvPr id="357" name="Group 7"/>
              <p:cNvGrpSpPr/>
              <p:nvPr/>
            </p:nvGrpSpPr>
            <p:grpSpPr>
              <a:xfrm>
                <a:off x="2011320" y="245160"/>
                <a:ext cx="6887880" cy="5452560"/>
                <a:chOff x="2011320" y="245160"/>
                <a:chExt cx="6887880" cy="5452560"/>
              </a:xfrm>
            </p:grpSpPr>
            <p:grpSp>
              <p:nvGrpSpPr>
                <p:cNvPr id="358" name="Group 8"/>
                <p:cNvGrpSpPr/>
                <p:nvPr/>
              </p:nvGrpSpPr>
              <p:grpSpPr>
                <a:xfrm>
                  <a:off x="3733920" y="1267560"/>
                  <a:ext cx="3598200" cy="2651040"/>
                  <a:chOff x="3733920" y="1267560"/>
                  <a:chExt cx="3598200" cy="2651040"/>
                </a:xfrm>
              </p:grpSpPr>
              <p:sp>
                <p:nvSpPr>
                  <p:cNvPr id="359" name="Oval 9"/>
                  <p:cNvSpPr/>
                  <p:nvPr/>
                </p:nvSpPr>
                <p:spPr>
                  <a:xfrm>
                    <a:off x="3733920" y="1267560"/>
                    <a:ext cx="359820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0" name="Oval 10"/>
                  <p:cNvSpPr/>
                  <p:nvPr/>
                </p:nvSpPr>
                <p:spPr>
                  <a:xfrm>
                    <a:off x="5109840" y="2236680"/>
                    <a:ext cx="71280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1" name="Group 11"/>
                <p:cNvGrpSpPr/>
                <p:nvPr/>
              </p:nvGrpSpPr>
              <p:grpSpPr>
                <a:xfrm>
                  <a:off x="2011320" y="245160"/>
                  <a:ext cx="6887880" cy="5452560"/>
                  <a:chOff x="2011320" y="245160"/>
                  <a:chExt cx="6887880" cy="5452560"/>
                </a:xfrm>
              </p:grpSpPr>
              <p:grpSp>
                <p:nvGrpSpPr>
                  <p:cNvPr id="362" name="Group 12"/>
                  <p:cNvGrpSpPr/>
                  <p:nvPr/>
                </p:nvGrpSpPr>
                <p:grpSpPr>
                  <a:xfrm>
                    <a:off x="5762160" y="2319120"/>
                    <a:ext cx="2553480" cy="2745720"/>
                    <a:chOff x="5762160" y="2319120"/>
                    <a:chExt cx="2553480" cy="2745720"/>
                  </a:xfrm>
                </p:grpSpPr>
                <p:sp>
                  <p:nvSpPr>
                    <p:cNvPr id="363" name="Freeform 13"/>
                    <p:cNvSpPr/>
                    <p:nvPr/>
                  </p:nvSpPr>
                  <p:spPr>
                    <a:xfrm rot="2711400">
                      <a:off x="5584680" y="3015360"/>
                      <a:ext cx="21229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4" name="Freeform 14"/>
                    <p:cNvSpPr/>
                    <p:nvPr/>
                  </p:nvSpPr>
                  <p:spPr>
                    <a:xfrm rot="2711400">
                      <a:off x="7129800" y="4143600"/>
                      <a:ext cx="1137960" cy="60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5" name="Group 15"/>
                  <p:cNvGrpSpPr/>
                  <p:nvPr/>
                </p:nvGrpSpPr>
                <p:grpSpPr>
                  <a:xfrm>
                    <a:off x="5785920" y="2148120"/>
                    <a:ext cx="3040200" cy="2526840"/>
                    <a:chOff x="5785920" y="2148120"/>
                    <a:chExt cx="3040200" cy="2526840"/>
                  </a:xfrm>
                </p:grpSpPr>
                <p:sp>
                  <p:nvSpPr>
                    <p:cNvPr id="366" name="Freeform 16"/>
                    <p:cNvSpPr/>
                    <p:nvPr/>
                  </p:nvSpPr>
                  <p:spPr>
                    <a:xfrm rot="2103600">
                      <a:off x="5705280" y="275148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7" name="Freeform 17"/>
                    <p:cNvSpPr/>
                    <p:nvPr/>
                  </p:nvSpPr>
                  <p:spPr>
                    <a:xfrm rot="2103600">
                      <a:off x="7541280" y="3720600"/>
                      <a:ext cx="1200960" cy="67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8" name="Group 18"/>
                  <p:cNvGrpSpPr/>
                  <p:nvPr/>
                </p:nvGrpSpPr>
                <p:grpSpPr>
                  <a:xfrm>
                    <a:off x="5776200" y="2063520"/>
                    <a:ext cx="3096000" cy="1994760"/>
                    <a:chOff x="5776200" y="2063520"/>
                    <a:chExt cx="3096000" cy="1994760"/>
                  </a:xfrm>
                </p:grpSpPr>
                <p:sp>
                  <p:nvSpPr>
                    <p:cNvPr id="369" name="Freeform 19"/>
                    <p:cNvSpPr/>
                    <p:nvPr/>
                  </p:nvSpPr>
                  <p:spPr>
                    <a:xfrm rot="1582800">
                      <a:off x="5747760" y="2519280"/>
                      <a:ext cx="2140200" cy="37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0" name="Freeform 20"/>
                    <p:cNvSpPr/>
                    <p:nvPr/>
                  </p:nvSpPr>
                  <p:spPr>
                    <a:xfrm rot="1582800">
                      <a:off x="7649640" y="3245400"/>
                      <a:ext cx="115164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1" name="Group 21"/>
                  <p:cNvGrpSpPr/>
                  <p:nvPr/>
                </p:nvGrpSpPr>
                <p:grpSpPr>
                  <a:xfrm>
                    <a:off x="5767920" y="1969200"/>
                    <a:ext cx="3131280" cy="1606320"/>
                    <a:chOff x="5767920" y="1969200"/>
                    <a:chExt cx="3131280" cy="1606320"/>
                  </a:xfrm>
                </p:grpSpPr>
                <p:sp>
                  <p:nvSpPr>
                    <p:cNvPr id="372" name="Freeform 22"/>
                    <p:cNvSpPr/>
                    <p:nvPr/>
                  </p:nvSpPr>
                  <p:spPr>
                    <a:xfrm rot="1080000">
                      <a:off x="5780520" y="2279160"/>
                      <a:ext cx="2072520" cy="41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3" name="Freeform 23"/>
                    <p:cNvSpPr/>
                    <p:nvPr/>
                  </p:nvSpPr>
                  <p:spPr>
                    <a:xfrm rot="1080000">
                      <a:off x="7716600" y="2772000"/>
                      <a:ext cx="1109520" cy="64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4" name="Group 24"/>
                  <p:cNvGrpSpPr/>
                  <p:nvPr/>
                </p:nvGrpSpPr>
                <p:grpSpPr>
                  <a:xfrm>
                    <a:off x="5806800" y="1878120"/>
                    <a:ext cx="2937960" cy="1003320"/>
                    <a:chOff x="5806800" y="1878120"/>
                    <a:chExt cx="2937960" cy="1003320"/>
                  </a:xfrm>
                </p:grpSpPr>
                <p:sp>
                  <p:nvSpPr>
                    <p:cNvPr id="375" name="Freeform 25"/>
                    <p:cNvSpPr/>
                    <p:nvPr/>
                  </p:nvSpPr>
                  <p:spPr>
                    <a:xfrm rot="463200">
                      <a:off x="5824080" y="2004120"/>
                      <a:ext cx="1904760" cy="38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6" name="Freeform 26"/>
                    <p:cNvSpPr/>
                    <p:nvPr/>
                  </p:nvSpPr>
                  <p:spPr>
                    <a:xfrm rot="463200">
                      <a:off x="7683120" y="2212560"/>
                      <a:ext cx="1025640" cy="60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7" name="Group 27"/>
                  <p:cNvGrpSpPr/>
                  <p:nvPr/>
                </p:nvGrpSpPr>
                <p:grpSpPr>
                  <a:xfrm>
                    <a:off x="5851080" y="1815480"/>
                    <a:ext cx="2659680" cy="443160"/>
                    <a:chOff x="5851080" y="1815480"/>
                    <a:chExt cx="2659680" cy="443160"/>
                  </a:xfrm>
                </p:grpSpPr>
                <p:sp>
                  <p:nvSpPr>
                    <p:cNvPr id="378" name="Freeform 28"/>
                    <p:cNvSpPr/>
                    <p:nvPr/>
                  </p:nvSpPr>
                  <p:spPr>
                    <a:xfrm rot="21515400">
                      <a:off x="5853960" y="1851120"/>
                      <a:ext cx="173232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9" name="Freeform 29"/>
                    <p:cNvSpPr/>
                    <p:nvPr/>
                  </p:nvSpPr>
                  <p:spPr>
                    <a:xfrm rot="21515400">
                      <a:off x="7576920" y="1826640"/>
                      <a:ext cx="928440" cy="42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0" name="Group 30"/>
                  <p:cNvGrpSpPr/>
                  <p:nvPr/>
                </p:nvGrpSpPr>
                <p:grpSpPr>
                  <a:xfrm>
                    <a:off x="5788080" y="1305000"/>
                    <a:ext cx="2363760" cy="786240"/>
                    <a:chOff x="5788080" y="1305000"/>
                    <a:chExt cx="2363760" cy="786240"/>
                  </a:xfrm>
                </p:grpSpPr>
                <p:sp>
                  <p:nvSpPr>
                    <p:cNvPr id="381" name="Freeform 31"/>
                    <p:cNvSpPr/>
                    <p:nvPr/>
                  </p:nvSpPr>
                  <p:spPr>
                    <a:xfrm rot="20797200">
                      <a:off x="5797800" y="1653480"/>
                      <a:ext cx="151956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2" name="Freeform 32"/>
                    <p:cNvSpPr/>
                    <p:nvPr/>
                  </p:nvSpPr>
                  <p:spPr>
                    <a:xfrm rot="20797200">
                      <a:off x="7298640" y="1393560"/>
                      <a:ext cx="8157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3" name="Group 33"/>
                  <p:cNvGrpSpPr/>
                  <p:nvPr/>
                </p:nvGrpSpPr>
                <p:grpSpPr>
                  <a:xfrm>
                    <a:off x="2648520" y="2472480"/>
                    <a:ext cx="2549880" cy="2741400"/>
                    <a:chOff x="2648520" y="2472480"/>
                    <a:chExt cx="2549880" cy="2741400"/>
                  </a:xfrm>
                </p:grpSpPr>
                <p:sp>
                  <p:nvSpPr>
                    <p:cNvPr id="384" name="Freeform 34"/>
                    <p:cNvSpPr/>
                    <p:nvPr/>
                  </p:nvSpPr>
                  <p:spPr>
                    <a:xfrm flipH="1" rot="18888600">
                      <a:off x="3251160" y="3168720"/>
                      <a:ext cx="21240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5" name="Freeform 35"/>
                    <p:cNvSpPr/>
                    <p:nvPr/>
                  </p:nvSpPr>
                  <p:spPr>
                    <a:xfrm flipH="1" rot="18888600">
                      <a:off x="2694600" y="4294440"/>
                      <a:ext cx="113976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6" name="Group 36"/>
                  <p:cNvGrpSpPr/>
                  <p:nvPr/>
                </p:nvGrpSpPr>
                <p:grpSpPr>
                  <a:xfrm>
                    <a:off x="2085840" y="2364120"/>
                    <a:ext cx="3039480" cy="2536920"/>
                    <a:chOff x="2085840" y="2364120"/>
                    <a:chExt cx="3039480" cy="2536920"/>
                  </a:xfrm>
                </p:grpSpPr>
                <p:sp>
                  <p:nvSpPr>
                    <p:cNvPr id="387" name="Freeform 37"/>
                    <p:cNvSpPr/>
                    <p:nvPr/>
                  </p:nvSpPr>
                  <p:spPr>
                    <a:xfrm flipH="1" rot="19496400">
                      <a:off x="2963160" y="2968560"/>
                      <a:ext cx="2241360" cy="43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8" name="Freeform 38"/>
                    <p:cNvSpPr/>
                    <p:nvPr/>
                  </p:nvSpPr>
                  <p:spPr>
                    <a:xfrm flipH="1" rot="19496400">
                      <a:off x="2170440" y="3939840"/>
                      <a:ext cx="1204560" cy="67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9" name="Group 39"/>
                  <p:cNvGrpSpPr/>
                  <p:nvPr/>
                </p:nvGrpSpPr>
                <p:grpSpPr>
                  <a:xfrm>
                    <a:off x="2041200" y="2282760"/>
                    <a:ext cx="3092400" cy="1989720"/>
                    <a:chOff x="2041200" y="2282760"/>
                    <a:chExt cx="3092400" cy="1989720"/>
                  </a:xfrm>
                </p:grpSpPr>
                <p:sp>
                  <p:nvSpPr>
                    <p:cNvPr id="390" name="Freeform 40"/>
                    <p:cNvSpPr/>
                    <p:nvPr/>
                  </p:nvSpPr>
                  <p:spPr>
                    <a:xfrm flipH="1" rot="20017200">
                      <a:off x="3023640" y="2738160"/>
                      <a:ext cx="2138040" cy="37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1" name="Freeform 41"/>
                    <p:cNvSpPr/>
                    <p:nvPr/>
                  </p:nvSpPr>
                  <p:spPr>
                    <a:xfrm flipH="1" rot="20017200">
                      <a:off x="2110680" y="3463200"/>
                      <a:ext cx="114768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2" name="Group 42"/>
                  <p:cNvGrpSpPr/>
                  <p:nvPr/>
                </p:nvGrpSpPr>
                <p:grpSpPr>
                  <a:xfrm>
                    <a:off x="2011320" y="2188440"/>
                    <a:ext cx="3132720" cy="1606320"/>
                    <a:chOff x="2011320" y="2188440"/>
                    <a:chExt cx="3132720" cy="1606320"/>
                  </a:xfrm>
                </p:grpSpPr>
                <p:sp>
                  <p:nvSpPr>
                    <p:cNvPr id="393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120" cy="41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4" name="Freeform 44"/>
                    <p:cNvSpPr/>
                    <p:nvPr/>
                  </p:nvSpPr>
                  <p:spPr>
                    <a:xfrm flipH="1" rot="20520000">
                      <a:off x="2084040" y="2989800"/>
                      <a:ext cx="110880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5" name="Group 45"/>
                  <p:cNvGrpSpPr/>
                  <p:nvPr/>
                </p:nvGrpSpPr>
                <p:grpSpPr>
                  <a:xfrm>
                    <a:off x="2168280" y="2097360"/>
                    <a:ext cx="2938680" cy="1002600"/>
                    <a:chOff x="2168280" y="2097360"/>
                    <a:chExt cx="2938680" cy="1002600"/>
                  </a:xfrm>
                </p:grpSpPr>
                <p:sp>
                  <p:nvSpPr>
                    <p:cNvPr id="396" name="Freeform 46"/>
                    <p:cNvSpPr/>
                    <p:nvPr/>
                  </p:nvSpPr>
                  <p:spPr>
                    <a:xfrm flipH="1" rot="21136800">
                      <a:off x="3181680" y="2223360"/>
                      <a:ext cx="1907280" cy="38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7" name="Freeform 47"/>
                    <p:cNvSpPr/>
                    <p:nvPr/>
                  </p:nvSpPr>
                  <p:spPr>
                    <a:xfrm flipH="1" rot="21136800">
                      <a:off x="2203920" y="2429280"/>
                      <a:ext cx="10256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8" name="Group 48"/>
                  <p:cNvGrpSpPr/>
                  <p:nvPr/>
                </p:nvGrpSpPr>
                <p:grpSpPr>
                  <a:xfrm>
                    <a:off x="2403720" y="2031480"/>
                    <a:ext cx="2657160" cy="446400"/>
                    <a:chOff x="2403720" y="2031480"/>
                    <a:chExt cx="2657160" cy="446400"/>
                  </a:xfrm>
                </p:grpSpPr>
                <p:sp>
                  <p:nvSpPr>
                    <p:cNvPr id="399" name="Freeform 49"/>
                    <p:cNvSpPr/>
                    <p:nvPr/>
                  </p:nvSpPr>
                  <p:spPr>
                    <a:xfrm flipH="1" rot="84600">
                      <a:off x="3327120" y="2066760"/>
                      <a:ext cx="1730160" cy="27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0" name="Freeform 50"/>
                    <p:cNvSpPr/>
                    <p:nvPr/>
                  </p:nvSpPr>
                  <p:spPr>
                    <a:xfrm flipH="1" rot="84600">
                      <a:off x="2408400" y="2042640"/>
                      <a:ext cx="92808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1" name="Group 51"/>
                  <p:cNvGrpSpPr/>
                  <p:nvPr/>
                </p:nvGrpSpPr>
                <p:grpSpPr>
                  <a:xfrm>
                    <a:off x="2758320" y="1523160"/>
                    <a:ext cx="2365200" cy="784800"/>
                    <a:chOff x="2758320" y="1523160"/>
                    <a:chExt cx="2365200" cy="784800"/>
                  </a:xfrm>
                </p:grpSpPr>
                <p:sp>
                  <p:nvSpPr>
                    <p:cNvPr id="402" name="Freeform 52"/>
                    <p:cNvSpPr/>
                    <p:nvPr/>
                  </p:nvSpPr>
                  <p:spPr>
                    <a:xfrm flipH="1" rot="802800">
                      <a:off x="3593160" y="18705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3" name="Freeform 53"/>
                    <p:cNvSpPr/>
                    <p:nvPr/>
                  </p:nvSpPr>
                  <p:spPr>
                    <a:xfrm flipH="1" rot="802800">
                      <a:off x="2795040" y="1611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4" name="Group 54"/>
                  <p:cNvGrpSpPr/>
                  <p:nvPr/>
                </p:nvGrpSpPr>
                <p:grpSpPr>
                  <a:xfrm>
                    <a:off x="2888280" y="1237320"/>
                    <a:ext cx="2323800" cy="1082520"/>
                    <a:chOff x="2888280" y="1237320"/>
                    <a:chExt cx="2323800" cy="1082520"/>
                  </a:xfrm>
                </p:grpSpPr>
                <p:sp>
                  <p:nvSpPr>
                    <p:cNvPr id="405" name="Freeform 55"/>
                    <p:cNvSpPr/>
                    <p:nvPr/>
                  </p:nvSpPr>
                  <p:spPr>
                    <a:xfrm flipH="1" rot="1278000">
                      <a:off x="3695400" y="178740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6" name="Freeform 56"/>
                    <p:cNvSpPr/>
                    <p:nvPr/>
                  </p:nvSpPr>
                  <p:spPr>
                    <a:xfrm flipH="1" rot="1278000">
                      <a:off x="2935080" y="1370880"/>
                      <a:ext cx="815040" cy="41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7" name="Group 57"/>
                  <p:cNvGrpSpPr/>
                  <p:nvPr/>
                </p:nvGrpSpPr>
                <p:grpSpPr>
                  <a:xfrm>
                    <a:off x="3158640" y="829080"/>
                    <a:ext cx="2172600" cy="1509840"/>
                    <a:chOff x="3158640" y="829080"/>
                    <a:chExt cx="2172600" cy="1509840"/>
                  </a:xfrm>
                </p:grpSpPr>
                <p:sp>
                  <p:nvSpPr>
                    <p:cNvPr id="408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9" name="Freeform 59"/>
                    <p:cNvSpPr/>
                    <p:nvPr/>
                  </p:nvSpPr>
                  <p:spPr>
                    <a:xfrm flipH="1" rot="2028600">
                      <a:off x="3205080" y="1020600"/>
                      <a:ext cx="81504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0" name="Group 60"/>
                  <p:cNvGrpSpPr/>
                  <p:nvPr/>
                </p:nvGrpSpPr>
                <p:grpSpPr>
                  <a:xfrm>
                    <a:off x="3434400" y="435960"/>
                    <a:ext cx="1990080" cy="1832760"/>
                    <a:chOff x="3434400" y="435960"/>
                    <a:chExt cx="1990080" cy="1832760"/>
                  </a:xfrm>
                </p:grpSpPr>
                <p:sp>
                  <p:nvSpPr>
                    <p:cNvPr id="411" name="Freeform 61"/>
                    <p:cNvSpPr/>
                    <p:nvPr/>
                  </p:nvSpPr>
                  <p:spPr>
                    <a:xfrm flipH="1" rot="2664600">
                      <a:off x="4009320" y="1501920"/>
                      <a:ext cx="154260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2" name="Freeform 62"/>
                    <p:cNvSpPr/>
                    <p:nvPr/>
                  </p:nvSpPr>
                  <p:spPr>
                    <a:xfrm flipH="1" rot="2664600">
                      <a:off x="3462480" y="665640"/>
                      <a:ext cx="82728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3" name="Group 63"/>
                  <p:cNvGrpSpPr/>
                  <p:nvPr/>
                </p:nvGrpSpPr>
                <p:grpSpPr>
                  <a:xfrm>
                    <a:off x="4026960" y="330480"/>
                    <a:ext cx="1458000" cy="1890000"/>
                    <a:chOff x="4026960" y="330480"/>
                    <a:chExt cx="1458000" cy="1890000"/>
                  </a:xfrm>
                </p:grpSpPr>
                <p:sp>
                  <p:nvSpPr>
                    <p:cNvPr id="414" name="Freeform 64"/>
                    <p:cNvSpPr/>
                    <p:nvPr/>
                  </p:nvSpPr>
                  <p:spPr>
                    <a:xfrm flipH="1" rot="3474000">
                      <a:off x="4335120" y="1443600"/>
                      <a:ext cx="13546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5" name="Freeform 65"/>
                    <p:cNvSpPr/>
                    <p:nvPr/>
                  </p:nvSpPr>
                  <p:spPr>
                    <a:xfrm flipH="1" rot="3474000">
                      <a:off x="4032360" y="54108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6" name="Group 66"/>
                  <p:cNvGrpSpPr/>
                  <p:nvPr/>
                </p:nvGrpSpPr>
                <p:grpSpPr>
                  <a:xfrm>
                    <a:off x="4446360" y="245160"/>
                    <a:ext cx="1124640" cy="1948320"/>
                    <a:chOff x="4446360" y="245160"/>
                    <a:chExt cx="1124640" cy="1948320"/>
                  </a:xfrm>
                </p:grpSpPr>
                <p:sp>
                  <p:nvSpPr>
                    <p:cNvPr id="417" name="Freeform 67"/>
                    <p:cNvSpPr/>
                    <p:nvPr/>
                  </p:nvSpPr>
                  <p:spPr>
                    <a:xfrm flipH="1" rot="4126800">
                      <a:off x="4554720" y="1401840"/>
                      <a:ext cx="13111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8" name="Freeform 68"/>
                    <p:cNvSpPr/>
                    <p:nvPr/>
                  </p:nvSpPr>
                  <p:spPr>
                    <a:xfrm flipH="1" rot="4126800">
                      <a:off x="4415760" y="439560"/>
                      <a:ext cx="70164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9" name="Group 69"/>
                  <p:cNvGrpSpPr/>
                  <p:nvPr/>
                </p:nvGrpSpPr>
                <p:grpSpPr>
                  <a:xfrm>
                    <a:off x="5662800" y="949320"/>
                    <a:ext cx="2315880" cy="1112040"/>
                    <a:chOff x="5662800" y="949320"/>
                    <a:chExt cx="2315880" cy="1112040"/>
                  </a:xfrm>
                </p:grpSpPr>
                <p:sp>
                  <p:nvSpPr>
                    <p:cNvPr id="420" name="Freeform 70"/>
                    <p:cNvSpPr/>
                    <p:nvPr/>
                  </p:nvSpPr>
                  <p:spPr>
                    <a:xfrm rot="20274000">
                      <a:off x="5656680" y="151992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1" name="Freeform 71"/>
                    <p:cNvSpPr/>
                    <p:nvPr/>
                  </p:nvSpPr>
                  <p:spPr>
                    <a:xfrm rot="20274000">
                      <a:off x="7115040" y="1087200"/>
                      <a:ext cx="81504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22" name="Group 72"/>
                  <p:cNvGrpSpPr/>
                  <p:nvPr/>
                </p:nvGrpSpPr>
                <p:grpSpPr>
                  <a:xfrm>
                    <a:off x="5529240" y="622800"/>
                    <a:ext cx="2198160" cy="1454040"/>
                    <a:chOff x="5529240" y="622800"/>
                    <a:chExt cx="2198160" cy="1454040"/>
                  </a:xfrm>
                </p:grpSpPr>
                <p:sp>
                  <p:nvSpPr>
                    <p:cNvPr id="423" name="Freeform 73"/>
                    <p:cNvSpPr/>
                    <p:nvPr/>
                  </p:nvSpPr>
                  <p:spPr>
                    <a:xfrm rot="19678800">
                      <a:off x="5483520" y="1429560"/>
                      <a:ext cx="151920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4" name="Freeform 74"/>
                    <p:cNvSpPr/>
                    <p:nvPr/>
                  </p:nvSpPr>
                  <p:spPr>
                    <a:xfrm rot="19678800">
                      <a:off x="6863760" y="807120"/>
                      <a:ext cx="81540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425" name="Freeform 75"/>
                  <p:cNvSpPr/>
                  <p:nvPr/>
                </p:nvSpPr>
                <p:spPr>
                  <a:xfrm flipH="1" rot="4578600">
                    <a:off x="4765680" y="1466640"/>
                    <a:ext cx="126324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6" name="Freeform 76"/>
                  <p:cNvSpPr/>
                  <p:nvPr/>
                </p:nvSpPr>
                <p:spPr>
                  <a:xfrm flipH="1" rot="4578600">
                    <a:off x="4790880" y="535680"/>
                    <a:ext cx="679680" cy="28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427" name="Group 77"/>
                  <p:cNvGrpSpPr/>
                  <p:nvPr/>
                </p:nvGrpSpPr>
                <p:grpSpPr>
                  <a:xfrm>
                    <a:off x="5353560" y="264960"/>
                    <a:ext cx="1197000" cy="1902240"/>
                    <a:chOff x="5353560" y="264960"/>
                    <a:chExt cx="1197000" cy="1902240"/>
                  </a:xfrm>
                </p:grpSpPr>
                <p:sp>
                  <p:nvSpPr>
                    <p:cNvPr id="428" name="Freeform 78"/>
                    <p:cNvSpPr/>
                    <p:nvPr/>
                  </p:nvSpPr>
                  <p:spPr>
                    <a:xfrm rot="17742000">
                      <a:off x="5084280" y="1413000"/>
                      <a:ext cx="1311840" cy="22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9" name="Freeform 79"/>
                    <p:cNvSpPr/>
                    <p:nvPr/>
                  </p:nvSpPr>
                  <p:spPr>
                    <a:xfrm rot="17742000">
                      <a:off x="5884560" y="480240"/>
                      <a:ext cx="703440" cy="35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0" name="Group 80"/>
                  <p:cNvGrpSpPr/>
                  <p:nvPr/>
                </p:nvGrpSpPr>
                <p:grpSpPr>
                  <a:xfrm>
                    <a:off x="5346720" y="385200"/>
                    <a:ext cx="1895040" cy="1799280"/>
                    <a:chOff x="5346720" y="385200"/>
                    <a:chExt cx="1895040" cy="1799280"/>
                  </a:xfrm>
                </p:grpSpPr>
                <p:sp>
                  <p:nvSpPr>
                    <p:cNvPr id="431" name="Freeform 81"/>
                    <p:cNvSpPr/>
                    <p:nvPr/>
                  </p:nvSpPr>
                  <p:spPr>
                    <a:xfrm rot="18822600">
                      <a:off x="5247000" y="1386720"/>
                      <a:ext cx="1425960" cy="33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32" name="Freeform 82"/>
                    <p:cNvSpPr/>
                    <p:nvPr/>
                  </p:nvSpPr>
                  <p:spPr>
                    <a:xfrm rot="18822600">
                      <a:off x="6404040" y="581400"/>
                      <a:ext cx="767160" cy="52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3" name="Group 83"/>
                  <p:cNvGrpSpPr/>
                  <p:nvPr/>
                </p:nvGrpSpPr>
                <p:grpSpPr>
                  <a:xfrm>
                    <a:off x="5460120" y="290160"/>
                    <a:ext cx="419040" cy="1795680"/>
                    <a:chOff x="5460120" y="290160"/>
                    <a:chExt cx="419040" cy="1795680"/>
                  </a:xfrm>
                </p:grpSpPr>
                <p:sp>
                  <p:nvSpPr>
                    <p:cNvPr id="434" name="Freeform 84"/>
                    <p:cNvSpPr/>
                    <p:nvPr/>
                  </p:nvSpPr>
                  <p:spPr>
                    <a:xfrm rot="16696200">
                      <a:off x="5007960" y="1443600"/>
                      <a:ext cx="1176840" cy="10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35" name="Freeform 85"/>
                    <p:cNvSpPr/>
                    <p:nvPr/>
                  </p:nvSpPr>
                  <p:spPr>
                    <a:xfrm rot="16696200">
                      <a:off x="5437080" y="531000"/>
                      <a:ext cx="629640" cy="16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6" name="Group 86"/>
                  <p:cNvGrpSpPr/>
                  <p:nvPr/>
                </p:nvGrpSpPr>
                <p:grpSpPr>
                  <a:xfrm>
                    <a:off x="3063240" y="2529720"/>
                    <a:ext cx="2195640" cy="3000960"/>
                    <a:chOff x="3063240" y="2529720"/>
                    <a:chExt cx="2195640" cy="3000960"/>
                  </a:xfrm>
                </p:grpSpPr>
                <p:sp>
                  <p:nvSpPr>
                    <p:cNvPr id="437" name="Freeform 87"/>
                    <p:cNvSpPr/>
                    <p:nvPr/>
                  </p:nvSpPr>
                  <p:spPr>
                    <a:xfrm flipH="1" rot="18336000">
                      <a:off x="3421440" y="3312720"/>
                      <a:ext cx="21243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38" name="Freeform 88"/>
                    <p:cNvSpPr/>
                    <p:nvPr/>
                  </p:nvSpPr>
                  <p:spPr>
                    <a:xfrm flipH="1" rot="18336000">
                      <a:off x="3070440" y="458928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9" name="Group 89"/>
                  <p:cNvGrpSpPr/>
                  <p:nvPr/>
                </p:nvGrpSpPr>
                <p:grpSpPr>
                  <a:xfrm>
                    <a:off x="3790080" y="2646720"/>
                    <a:ext cx="1484280" cy="3004560"/>
                    <a:chOff x="3790080" y="2646720"/>
                    <a:chExt cx="1484280" cy="3004560"/>
                  </a:xfrm>
                </p:grpSpPr>
                <p:sp>
                  <p:nvSpPr>
                    <p:cNvPr id="440" name="Freeform 90"/>
                    <p:cNvSpPr/>
                    <p:nvPr/>
                  </p:nvSpPr>
                  <p:spPr>
                    <a:xfrm flipH="1" rot="17543400">
                      <a:off x="3736800" y="3437280"/>
                      <a:ext cx="19684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41" name="Freeform 91"/>
                    <p:cNvSpPr/>
                    <p:nvPr/>
                  </p:nvSpPr>
                  <p:spPr>
                    <a:xfrm flipH="1" rot="17543400">
                      <a:off x="3742200" y="4748040"/>
                      <a:ext cx="105336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42" name="Group 92"/>
                  <p:cNvGrpSpPr/>
                  <p:nvPr/>
                </p:nvGrpSpPr>
                <p:grpSpPr>
                  <a:xfrm>
                    <a:off x="4502160" y="2698200"/>
                    <a:ext cx="868320" cy="2922840"/>
                    <a:chOff x="4502160" y="2698200"/>
                    <a:chExt cx="868320" cy="2922840"/>
                  </a:xfrm>
                </p:grpSpPr>
                <p:sp>
                  <p:nvSpPr>
                    <p:cNvPr id="443" name="Freeform 93"/>
                    <p:cNvSpPr/>
                    <p:nvPr/>
                  </p:nvSpPr>
                  <p:spPr>
                    <a:xfrm flipH="1" rot="16870800">
                      <a:off x="4073760" y="3483000"/>
                      <a:ext cx="1886040" cy="34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44" name="Freeform 94"/>
                    <p:cNvSpPr/>
                    <p:nvPr/>
                  </p:nvSpPr>
                  <p:spPr>
                    <a:xfrm flipH="1" rot="16870800">
                      <a:off x="4360680" y="4800600"/>
                      <a:ext cx="101124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45" name="Group 95"/>
                  <p:cNvGrpSpPr/>
                  <p:nvPr/>
                </p:nvGrpSpPr>
                <p:grpSpPr>
                  <a:xfrm>
                    <a:off x="5674320" y="2481840"/>
                    <a:ext cx="2281320" cy="2955960"/>
                    <a:chOff x="5674320" y="2481840"/>
                    <a:chExt cx="2281320" cy="2955960"/>
                  </a:xfrm>
                </p:grpSpPr>
                <p:sp>
                  <p:nvSpPr>
                    <p:cNvPr id="446" name="Freeform 96"/>
                    <p:cNvSpPr/>
                    <p:nvPr/>
                  </p:nvSpPr>
                  <p:spPr>
                    <a:xfrm rot="3144000">
                      <a:off x="5411160" y="3250080"/>
                      <a:ext cx="21290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47" name="Freeform 97"/>
                    <p:cNvSpPr/>
                    <p:nvPr/>
                  </p:nvSpPr>
                  <p:spPr>
                    <a:xfrm rot="3144000">
                      <a:off x="6796440" y="4497120"/>
                      <a:ext cx="1140840" cy="60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48" name="Group 98"/>
                  <p:cNvGrpSpPr/>
                  <p:nvPr/>
                </p:nvGrpSpPr>
                <p:grpSpPr>
                  <a:xfrm>
                    <a:off x="5643360" y="2595600"/>
                    <a:ext cx="1760760" cy="3030480"/>
                    <a:chOff x="5643360" y="2595600"/>
                    <a:chExt cx="1760760" cy="3030480"/>
                  </a:xfrm>
                </p:grpSpPr>
                <p:sp>
                  <p:nvSpPr>
                    <p:cNvPr id="449" name="Freeform 99"/>
                    <p:cNvSpPr/>
                    <p:nvPr/>
                  </p:nvSpPr>
                  <p:spPr>
                    <a:xfrm rot="3745200">
                      <a:off x="5260680" y="3396960"/>
                      <a:ext cx="203184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0" name="Freeform 100"/>
                    <p:cNvSpPr/>
                    <p:nvPr/>
                  </p:nvSpPr>
                  <p:spPr>
                    <a:xfrm rot="3745200">
                      <a:off x="6350760" y="4720320"/>
                      <a:ext cx="1089000" cy="57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51" name="Group 101"/>
                  <p:cNvGrpSpPr/>
                  <p:nvPr/>
                </p:nvGrpSpPr>
                <p:grpSpPr>
                  <a:xfrm>
                    <a:off x="5574960" y="2708280"/>
                    <a:ext cx="1225800" cy="2989440"/>
                    <a:chOff x="5574960" y="2708280"/>
                    <a:chExt cx="1225800" cy="2989440"/>
                  </a:xfrm>
                </p:grpSpPr>
                <p:sp>
                  <p:nvSpPr>
                    <p:cNvPr id="452" name="Freeform 102"/>
                    <p:cNvSpPr/>
                    <p:nvPr/>
                  </p:nvSpPr>
                  <p:spPr>
                    <a:xfrm rot="4286400">
                      <a:off x="5046120" y="3539520"/>
                      <a:ext cx="197172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3" name="Freeform 103"/>
                    <p:cNvSpPr/>
                    <p:nvPr/>
                  </p:nvSpPr>
                  <p:spPr>
                    <a:xfrm rot="4286400">
                      <a:off x="5875920" y="4880520"/>
                      <a:ext cx="1059840" cy="47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54" name="Group 104"/>
                  <p:cNvGrpSpPr/>
                  <p:nvPr/>
                </p:nvGrpSpPr>
                <p:grpSpPr>
                  <a:xfrm>
                    <a:off x="5520240" y="2839320"/>
                    <a:ext cx="697320" cy="2777040"/>
                    <a:chOff x="5520240" y="2839320"/>
                    <a:chExt cx="697320" cy="2777040"/>
                  </a:xfrm>
                </p:grpSpPr>
                <p:sp>
                  <p:nvSpPr>
                    <p:cNvPr id="455" name="Freeform 105"/>
                    <p:cNvSpPr/>
                    <p:nvPr/>
                  </p:nvSpPr>
                  <p:spPr>
                    <a:xfrm rot="4898400">
                      <a:off x="4894200" y="3607560"/>
                      <a:ext cx="1814040" cy="30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6" name="Freeform 106"/>
                    <p:cNvSpPr/>
                    <p:nvPr/>
                  </p:nvSpPr>
                  <p:spPr>
                    <a:xfrm rot="4898400">
                      <a:off x="5424840" y="4862880"/>
                      <a:ext cx="974880" cy="4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57" name="Group 107"/>
                  <p:cNvGrpSpPr/>
                  <p:nvPr/>
                </p:nvGrpSpPr>
                <p:grpSpPr>
                  <a:xfrm>
                    <a:off x="4959720" y="2886480"/>
                    <a:ext cx="667440" cy="2719080"/>
                    <a:chOff x="4959720" y="2886480"/>
                    <a:chExt cx="667440" cy="2719080"/>
                  </a:xfrm>
                </p:grpSpPr>
                <p:sp>
                  <p:nvSpPr>
                    <p:cNvPr id="458" name="Freeform 108"/>
                    <p:cNvSpPr/>
                    <p:nvPr/>
                  </p:nvSpPr>
                  <p:spPr>
                    <a:xfrm rot="5755200">
                      <a:off x="4533840" y="3664440"/>
                      <a:ext cx="177336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9" name="Freeform 109"/>
                    <p:cNvSpPr/>
                    <p:nvPr/>
                  </p:nvSpPr>
                  <p:spPr>
                    <a:xfrm rot="5755200">
                      <a:off x="4712760" y="4932000"/>
                      <a:ext cx="95184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460" name="Group 110"/>
              <p:cNvGrpSpPr/>
              <p:nvPr/>
            </p:nvGrpSpPr>
            <p:grpSpPr>
              <a:xfrm>
                <a:off x="2175120" y="679320"/>
                <a:ext cx="6731280" cy="4523040"/>
                <a:chOff x="2175120" y="679320"/>
                <a:chExt cx="6731280" cy="4523040"/>
              </a:xfrm>
            </p:grpSpPr>
            <p:grpSp>
              <p:nvGrpSpPr>
                <p:cNvPr id="461" name="Group 111"/>
                <p:cNvGrpSpPr/>
                <p:nvPr/>
              </p:nvGrpSpPr>
              <p:grpSpPr>
                <a:xfrm>
                  <a:off x="2175120" y="679320"/>
                  <a:ext cx="6731280" cy="4523040"/>
                  <a:chOff x="2175120" y="679320"/>
                  <a:chExt cx="6731280" cy="4523040"/>
                </a:xfrm>
              </p:grpSpPr>
              <p:sp>
                <p:nvSpPr>
                  <p:cNvPr id="462" name="Arc 112"/>
                  <p:cNvSpPr/>
                  <p:nvPr/>
                </p:nvSpPr>
                <p:spPr>
                  <a:xfrm flipV="1">
                    <a:off x="5742720" y="852120"/>
                    <a:ext cx="3163680" cy="2526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3" name="Arc 113"/>
                  <p:cNvSpPr/>
                  <p:nvPr/>
                </p:nvSpPr>
                <p:spPr>
                  <a:xfrm flipH="1">
                    <a:off x="2565000" y="2266560"/>
                    <a:ext cx="2483280" cy="29358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4" name="Arc 114"/>
                  <p:cNvSpPr/>
                  <p:nvPr/>
                </p:nvSpPr>
                <p:spPr>
                  <a:xfrm>
                    <a:off x="5820120" y="1747440"/>
                    <a:ext cx="1755720" cy="2938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5" name="Arc 115"/>
                  <p:cNvSpPr/>
                  <p:nvPr/>
                </p:nvSpPr>
                <p:spPr>
                  <a:xfrm flipH="1">
                    <a:off x="2174760" y="1294560"/>
                    <a:ext cx="3130920" cy="29358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6" name="Arc 116"/>
                  <p:cNvSpPr/>
                  <p:nvPr/>
                </p:nvSpPr>
                <p:spPr>
                  <a:xfrm flipH="1">
                    <a:off x="3059640" y="679320"/>
                    <a:ext cx="228096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7" name="Arc 117"/>
                  <p:cNvSpPr/>
                  <p:nvPr/>
                </p:nvSpPr>
                <p:spPr>
                  <a:xfrm>
                    <a:off x="5491080" y="1873080"/>
                    <a:ext cx="93816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8" name="Freeform 118"/>
                  <p:cNvSpPr/>
                  <p:nvPr/>
                </p:nvSpPr>
                <p:spPr>
                  <a:xfrm flipH="1">
                    <a:off x="4304160" y="830880"/>
                    <a:ext cx="516600" cy="18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69" name="Freeform 119"/>
                <p:cNvSpPr/>
                <p:nvPr/>
              </p:nvSpPr>
              <p:spPr>
                <a:xfrm rot="20253000">
                  <a:off x="6129720" y="2176200"/>
                  <a:ext cx="543600" cy="10339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470" name="Group 120"/>
            <p:cNvGrpSpPr/>
            <p:nvPr/>
          </p:nvGrpSpPr>
          <p:grpSpPr>
            <a:xfrm>
              <a:off x="2329200" y="736200"/>
              <a:ext cx="6426360" cy="4700520"/>
              <a:chOff x="2329200" y="736200"/>
              <a:chExt cx="6426360" cy="4700520"/>
            </a:xfrm>
          </p:grpSpPr>
          <p:sp>
            <p:nvSpPr>
              <p:cNvPr id="471" name="Freeform 121"/>
              <p:cNvSpPr/>
              <p:nvPr/>
            </p:nvSpPr>
            <p:spPr>
              <a:xfrm flipH="1">
                <a:off x="4459680" y="3254040"/>
                <a:ext cx="599400" cy="1820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2" name="Arc 122"/>
              <p:cNvSpPr/>
              <p:nvPr/>
            </p:nvSpPr>
            <p:spPr>
              <a:xfrm flipH="1">
                <a:off x="3372480" y="2599920"/>
                <a:ext cx="2620800" cy="283680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3" name="Arc 123"/>
              <p:cNvSpPr/>
              <p:nvPr/>
            </p:nvSpPr>
            <p:spPr>
              <a:xfrm flipH="1">
                <a:off x="3633840" y="2143440"/>
                <a:ext cx="1537560" cy="29289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4" name="Arc 124"/>
              <p:cNvSpPr/>
              <p:nvPr/>
            </p:nvSpPr>
            <p:spPr>
              <a:xfrm flipH="1">
                <a:off x="2329200" y="1760400"/>
                <a:ext cx="2937600" cy="29289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5" name="Arc 125"/>
              <p:cNvSpPr/>
              <p:nvPr/>
            </p:nvSpPr>
            <p:spPr>
              <a:xfrm>
                <a:off x="5581800" y="2171880"/>
                <a:ext cx="472320" cy="29289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6" name="Arc 126"/>
              <p:cNvSpPr/>
              <p:nvPr/>
            </p:nvSpPr>
            <p:spPr>
              <a:xfrm>
                <a:off x="5704560" y="2158200"/>
                <a:ext cx="1243440" cy="29289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7" name="Freeform 127"/>
              <p:cNvSpPr/>
              <p:nvPr/>
            </p:nvSpPr>
            <p:spPr>
              <a:xfrm>
                <a:off x="6149520" y="3565800"/>
                <a:ext cx="599400" cy="1820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8" name="Freeform 128"/>
              <p:cNvSpPr/>
              <p:nvPr/>
            </p:nvSpPr>
            <p:spPr>
              <a:xfrm flipV="1" rot="19660800">
                <a:off x="5218200" y="2966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9" name="Freeform 129"/>
              <p:cNvSpPr/>
              <p:nvPr/>
            </p:nvSpPr>
            <p:spPr>
              <a:xfrm flipH="1">
                <a:off x="2673000" y="3403080"/>
                <a:ext cx="1338840" cy="187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0" name="Freeform 130"/>
              <p:cNvSpPr/>
              <p:nvPr/>
            </p:nvSpPr>
            <p:spPr>
              <a:xfrm flipH="1">
                <a:off x="3305880" y="1420560"/>
                <a:ext cx="858960" cy="187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1" name="Freeform 131"/>
              <p:cNvSpPr/>
              <p:nvPr/>
            </p:nvSpPr>
            <p:spPr>
              <a:xfrm>
                <a:off x="7510680" y="3127320"/>
                <a:ext cx="1244880" cy="196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2" name="Freeform 132"/>
              <p:cNvSpPr/>
              <p:nvPr/>
            </p:nvSpPr>
            <p:spPr>
              <a:xfrm>
                <a:off x="6862680" y="2130840"/>
                <a:ext cx="1879200" cy="13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3" name="Freeform 133"/>
              <p:cNvSpPr/>
              <p:nvPr/>
            </p:nvSpPr>
            <p:spPr>
              <a:xfrm>
                <a:off x="6933240" y="736200"/>
                <a:ext cx="820800" cy="1765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4" name="Freeform 134"/>
              <p:cNvSpPr/>
              <p:nvPr/>
            </p:nvSpPr>
            <p:spPr>
              <a:xfrm flipH="1" rot="1347000">
                <a:off x="4172760" y="2175120"/>
                <a:ext cx="543960" cy="1030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B692-A2CA-409D-8428-EC2CB07EAE5B}" type="slidenum">
              <a:rPr b="0" lang="ru-RU" sz="1400" spc="-1" strike="noStrike">
                <a:solidFill>
                  <a:srgbClr val="ffcc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3286080" y="5229360"/>
            <a:ext cx="585792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оспитатели МБДОУ «Детский сад комбинированного вида № 14»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Фомина Анна Евгеньевн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Балтабаева Татьяна Аркадьевн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4" name="Picture 7" descr="6"/>
          <p:cNvPicPr/>
          <p:nvPr/>
        </p:nvPicPr>
        <p:blipFill>
          <a:blip r:embed="rId1"/>
          <a:stretch/>
        </p:blipFill>
        <p:spPr>
          <a:xfrm>
            <a:off x="539640" y="4869000"/>
            <a:ext cx="3311640" cy="15843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6" descr="55"/>
          <p:cNvPicPr/>
          <p:nvPr/>
        </p:nvPicPr>
        <p:blipFill>
          <a:blip r:embed="rId2"/>
          <a:stretch/>
        </p:blipFill>
        <p:spPr>
          <a:xfrm>
            <a:off x="0" y="1052640"/>
            <a:ext cx="90280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23640" y="2133720"/>
            <a:ext cx="828036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Blackadder ITC"/>
                <a:ea typeface="Arabic Typesetting"/>
              </a:rPr>
              <a:t>    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  <a:ea typeface="Arabic Typesetting"/>
              </a:rPr>
              <a:t>      </a:t>
            </a:r>
            <a:r>
              <a:rPr b="1" lang="ru-RU" sz="2400" spc="-1" strike="noStrike">
                <a:solidFill>
                  <a:srgbClr val="ffcc00"/>
                </a:solidFill>
                <a:latin typeface="Blackadder ITC"/>
                <a:ea typeface="Arabic Typesetting"/>
              </a:rPr>
              <a:t>ДЕТЯМ ЗАДАЛ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  <a:ea typeface="Arabic Typesetting"/>
              </a:rPr>
              <a:t>А В</a:t>
            </a:r>
            <a:r>
              <a:rPr b="1" lang="ru-RU" sz="2400" spc="-1" strike="noStrike">
                <a:solidFill>
                  <a:srgbClr val="ffcc00"/>
                </a:solidFill>
                <a:latin typeface="Blackadder ITC"/>
                <a:ea typeface="Arabic Typesetting"/>
              </a:rPr>
              <a:t>ОПРОСЫ: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Blackadder ITC"/>
                <a:ea typeface="Arabic Typesetting"/>
              </a:rPr>
              <a:t>1. ЗНАЕШЬ ЛИ ТЫ, ЧТО ТАКОЕ ВЕЛИКАЯ ОТЕЧЕСТВЕННАЯ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  <a:ea typeface="Arabic Typesetting"/>
              </a:rPr>
              <a:t>  </a:t>
            </a:r>
            <a:r>
              <a:rPr b="1" lang="ru-RU" sz="2400" spc="-1" strike="noStrike">
                <a:solidFill>
                  <a:srgbClr val="ffcc00"/>
                </a:solidFill>
                <a:latin typeface="Blackadder ITC"/>
                <a:ea typeface="Arabic Typesetting"/>
              </a:rPr>
              <a:t>ВОЙНА?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Blackadder ITC"/>
                <a:ea typeface="Arabic Typesetting"/>
              </a:rPr>
              <a:t>2 .КОГДА ОНА БЫЛА? (ДАВНО ИЛИ НЕДАВНО)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Blackadder ITC"/>
                <a:ea typeface="Arabic Typesetting"/>
              </a:rPr>
              <a:t>3. КАКИЕ СТРАНЫ В НЕЙ УЧАСТВОВАЛИ?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Blackadder ITC"/>
                <a:ea typeface="Arabic Typesetting"/>
              </a:rPr>
              <a:t>4 .КТО ОДЕРЖАЛ ПОБЕДУ?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Blackadder ITC"/>
                <a:ea typeface="Arabic Typesetting"/>
              </a:rPr>
              <a:t>5. КТО-ТО ИЗ ТВОИХ РОДСТВЕННИКОВ        УЧАСТВОВАЛ В ЭТОЙ ВОЙНЕ?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Blackadder ITC"/>
                <a:ea typeface="Arabic Typesetting"/>
              </a:rPr>
              <a:t>6 .КАКОЙ ПРАЗДНИК ОТМЕЧАЕТСЯ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  <a:ea typeface="Arabic Typesetting"/>
              </a:rPr>
              <a:t> 9 </a:t>
            </a:r>
            <a:r>
              <a:rPr b="1" lang="ru-RU" sz="2400" spc="-1" strike="noStrike">
                <a:solidFill>
                  <a:srgbClr val="ffcc00"/>
                </a:solidFill>
                <a:latin typeface="Blackadder ITC"/>
                <a:ea typeface="Arabic Typesetting"/>
              </a:rPr>
              <a:t>МАЯ?</a:t>
            </a: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24000" y="549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Интервьюирование детей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Прямоугольник 3"/>
          <p:cNvSpPr/>
          <p:nvPr/>
        </p:nvSpPr>
        <p:spPr>
          <a:xfrm>
            <a:off x="611280" y="5589720"/>
            <a:ext cx="71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учение литературы по теме проекта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1770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056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роектный этап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056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(май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Знакомить детей с художественной литературой  и стихами о Великой Отечественной войне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Проведение занятий по теме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Просмотр видео песен «Вставай страна огромная», «Три  танкиста», «Этот день Победы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Проведение бесед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Выставка детских работ по всем видам ИЗО деятельности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Экскурсия к обелиску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Совместное проведение  музыкального и спортивного досуг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539640" y="714240"/>
            <a:ext cx="77724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Разработка перспективного планирования по героико-патриотическому воспитанию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Проведение   консультаций по проблеме проекта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Оформление книжных уголков, чтение художественной и методической литературы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Папка-передвижка   «День  Победы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Blackadder ITC"/>
              </a:rPr>
              <a:t>Подготовка рекомендаций для родителей «Этот памятный день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Мероприятия проводимы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            с    детьми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Blackadder ITC"/>
              </a:rPr>
              <a:t>	</a:t>
            </a:r>
            <a:r>
              <a:rPr b="1" i="1" lang="ru-RU" sz="1600" spc="-1" strike="noStrike" u="sng">
                <a:solidFill>
                  <a:srgbClr val="ffcc00"/>
                </a:solidFill>
                <a:uFillTx/>
                <a:latin typeface="Blackadder ITC"/>
              </a:rPr>
              <a:t>Занятия</a:t>
            </a:r>
            <a:r>
              <a:rPr b="1" i="1" lang="ru-RU" sz="3200" spc="-1" strike="noStrike">
                <a:solidFill>
                  <a:srgbClr val="ffcc00"/>
                </a:solidFill>
                <a:latin typeface="Blackadder ITC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Blackadder ITC"/>
              </a:rPr>
              <a:t>Обучение рассказыванию  «День победы»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Blackadder ITC"/>
              </a:rPr>
              <a:t>Интегрированное тематическое занятие  «Песни фронтовые»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Blackadder ITC"/>
              </a:rPr>
              <a:t>Просмотр  видео песен: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Blackadder ITC"/>
              </a:rPr>
              <a:t>«Вставай страна Огромная»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Blackadder ITC"/>
              </a:rPr>
              <a:t>«Три танкиста»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Blackadder ITC"/>
              </a:rPr>
              <a:t>«Этот День Победы»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cc00"/>
                </a:solidFill>
                <a:uFillTx/>
                <a:latin typeface="Blackadder ITC"/>
              </a:rPr>
              <a:t>Беседы о войне: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Великая Отечественная Войн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Почему война называется Великой Отечественной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Дети и Войн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Праздник  «День Победы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Побед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685800" y="500040"/>
            <a:ext cx="777240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cc00"/>
                </a:solidFill>
                <a:uFillTx/>
                <a:latin typeface="Blackadder ITC"/>
              </a:rPr>
              <a:t>Чтение художественной литературы</a:t>
            </a:r>
            <a:r>
              <a:rPr b="1" i="1" lang="ru-RU" sz="1800" spc="-1" strike="noStrike">
                <a:solidFill>
                  <a:srgbClr val="ffcc00"/>
                </a:solidFill>
                <a:latin typeface="Blackadder ITC"/>
              </a:rPr>
              <a:t>: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Особое задание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О блокадном Ленинграде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Никто не забыт и ничто не забыто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cc00"/>
                </a:solidFill>
                <a:uFillTx/>
                <a:latin typeface="Blackadder ITC"/>
              </a:rPr>
              <a:t>Заучивание стихов: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Солдат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День победы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Как хорошо, что мы войны не знаем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cc00"/>
                </a:solidFill>
                <a:uFillTx/>
                <a:latin typeface="Blackadder ITC"/>
              </a:rPr>
              <a:t>Художественное творчество: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Поделки из бумаги «Открытка ко Дню Победы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Рисование  «Война глазами детей», «Праздничный салют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Лепка «Военная техника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cc00"/>
                </a:solidFill>
                <a:uFillTx/>
                <a:latin typeface="Blackadder ITC"/>
              </a:rPr>
              <a:t>Работа с родителями: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Подготовка рекомендаций для родителей «Этот памятный день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Blackadder ITC"/>
              </a:rPr>
              <a:t>Оформление выставки памяти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685800" y="714240"/>
            <a:ext cx="77724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Результативный этап (май 2015 г.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Blackadder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Blackadder ITC"/>
              </a:rPr>
              <a:t>Экскурсия к обелиску , </a:t>
            </a: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cc00"/>
                </a:solidFill>
                <a:latin typeface="Blackadder ITC"/>
              </a:rPr>
              <a:t>возложение цветов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Blackadder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Blackadder ITC"/>
              </a:rPr>
              <a:t>Проведение музыкально-спортивного досуга, посвящённого  Дню Победы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Blackadder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Blackadder ITC"/>
              </a:rPr>
              <a:t>Анкетирование родителей и детей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Blackadder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Blackadder ITC"/>
              </a:rPr>
              <a:t>Анализ, обобщение и распространение результатов проекта: выступление на педсовете,  размещение материала проекта  в сети Интернет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3" descr="F:\DCIM\101NIKON\DSCN3228.JPG"/>
          <p:cNvPicPr/>
          <p:nvPr/>
        </p:nvPicPr>
        <p:blipFill>
          <a:blip r:embed="rId1"/>
          <a:stretch/>
        </p:blipFill>
        <p:spPr>
          <a:xfrm>
            <a:off x="250920" y="476280"/>
            <a:ext cx="4416480" cy="33130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5" descr="F:\DCIM\101NIKON\DSCN3155.JPG"/>
          <p:cNvPicPr/>
          <p:nvPr/>
        </p:nvPicPr>
        <p:blipFill>
          <a:blip r:embed="rId2"/>
          <a:stretch/>
        </p:blipFill>
        <p:spPr>
          <a:xfrm>
            <a:off x="4427640" y="3429000"/>
            <a:ext cx="427356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57120" y="213840"/>
            <a:ext cx="85010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66" name="Picture 2" descr="F:\DCIM\101NIKON\DSCN3149.JPG"/>
          <p:cNvPicPr/>
          <p:nvPr/>
        </p:nvPicPr>
        <p:blipFill>
          <a:blip r:embed="rId1"/>
          <a:stretch/>
        </p:blipFill>
        <p:spPr>
          <a:xfrm>
            <a:off x="4610160" y="3340080"/>
            <a:ext cx="4282920" cy="3213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" descr="F:\DCIM\101NIKON\DSCN3120.JPG"/>
          <p:cNvPicPr/>
          <p:nvPr/>
        </p:nvPicPr>
        <p:blipFill>
          <a:blip r:embed="rId2"/>
          <a:stretch/>
        </p:blipFill>
        <p:spPr>
          <a:xfrm>
            <a:off x="322200" y="198360"/>
            <a:ext cx="4187880" cy="314172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1" descr=""/>
          <p:cNvPicPr/>
          <p:nvPr/>
        </p:nvPicPr>
        <p:blipFill>
          <a:blip r:embed="rId3"/>
          <a:stretch/>
        </p:blipFill>
        <p:spPr>
          <a:xfrm>
            <a:off x="555480" y="3581280"/>
            <a:ext cx="3579840" cy="30574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F:\DCIM\101NIKON\DSCN3223.JPG"/>
          <p:cNvPicPr/>
          <p:nvPr/>
        </p:nvPicPr>
        <p:blipFill>
          <a:blip r:embed="rId4"/>
          <a:stretch/>
        </p:blipFill>
        <p:spPr>
          <a:xfrm>
            <a:off x="4576680" y="949320"/>
            <a:ext cx="2357640" cy="23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72" name="Picture 2" descr="C:\Users\полянка\Desktop\Серебрякова\фото обелиск\101_0638.JPG"/>
          <p:cNvPicPr/>
          <p:nvPr/>
        </p:nvPicPr>
        <p:blipFill>
          <a:blip r:embed="rId1"/>
          <a:stretch/>
        </p:blipFill>
        <p:spPr>
          <a:xfrm>
            <a:off x="468360" y="83016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" descr="F:\DCIM\101NIKON\DSCN3152.JPG"/>
          <p:cNvPicPr/>
          <p:nvPr/>
        </p:nvPicPr>
        <p:blipFill>
          <a:blip r:embed="rId2"/>
          <a:stretch/>
        </p:blipFill>
        <p:spPr>
          <a:xfrm>
            <a:off x="611280" y="3573360"/>
            <a:ext cx="3457440" cy="25923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" descr="C:\Users\полянка\Desktop\Серебрякова\фото обелиск\101_0644.JPG"/>
          <p:cNvPicPr/>
          <p:nvPr/>
        </p:nvPicPr>
        <p:blipFill>
          <a:blip r:embed="rId3"/>
          <a:stretch/>
        </p:blipFill>
        <p:spPr>
          <a:xfrm>
            <a:off x="4303800" y="327024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77" name="Picture 5" descr="F:\DCIM\101NIKON\DSCN3196.JPG"/>
          <p:cNvPicPr/>
          <p:nvPr/>
        </p:nvPicPr>
        <p:blipFill>
          <a:blip r:embed="rId1"/>
          <a:stretch/>
        </p:blipFill>
        <p:spPr>
          <a:xfrm>
            <a:off x="4427640" y="3317760"/>
            <a:ext cx="4194000" cy="31449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2" descr="C:\Users\полянка\Desktop\Серебрякова\фото обелиск\101_0676.JPG"/>
          <p:cNvPicPr/>
          <p:nvPr/>
        </p:nvPicPr>
        <p:blipFill>
          <a:blip r:embed="rId2"/>
          <a:stretch/>
        </p:blipFill>
        <p:spPr>
          <a:xfrm>
            <a:off x="179280" y="29376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" descr="F:\DCIM\101NIKON\DSCN3220.JPG"/>
          <p:cNvPicPr/>
          <p:nvPr/>
        </p:nvPicPr>
        <p:blipFill>
          <a:blip r:embed="rId3"/>
          <a:stretch/>
        </p:blipFill>
        <p:spPr>
          <a:xfrm>
            <a:off x="434880" y="357336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Актуальность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4360" y="1356840"/>
            <a:ext cx="77724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Дети, начиная с дошкольного возраста, страдают дефицитом знаний о родном крае, стране, особенностях русских традиций, мало знают о подвиге русского народа в борьбе с фашизмом в годы Великой Отечественной войны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Равнодушное отношение к близким людям, товарищам, недостаток сочувствия и сострадания к  чужому горю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Недостаточно сформирована система  работы с родителями по проблеме нравственного и героико-патриотического воспитания в семье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82" name="Picture 2" descr="C:\Users\полянка\Desktop\Серебрякова\фото обелиск\101_0650.JPG"/>
          <p:cNvPicPr/>
          <p:nvPr/>
        </p:nvPicPr>
        <p:blipFill>
          <a:blip r:embed="rId1"/>
          <a:stretch/>
        </p:blipFill>
        <p:spPr>
          <a:xfrm>
            <a:off x="539640" y="3324240"/>
            <a:ext cx="4380120" cy="32846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" descr="F:\DCIM\101NIKON\DSCN3092.JPG"/>
          <p:cNvPicPr/>
          <p:nvPr/>
        </p:nvPicPr>
        <p:blipFill>
          <a:blip r:embed="rId2"/>
          <a:stretch/>
        </p:blipFill>
        <p:spPr>
          <a:xfrm>
            <a:off x="716040" y="692280"/>
            <a:ext cx="32353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23640" y="2421000"/>
            <a:ext cx="7343640" cy="34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Blackadder ITC"/>
              </a:rPr>
              <a:t>Герой не гибнет умирая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Blackadder ITC"/>
              </a:rPr>
              <a:t>Двойная жизнь ему дана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Blackadder ITC"/>
              </a:rPr>
              <a:t>И эта жизнь его вторая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Blackadder ITC"/>
              </a:rPr>
              <a:t>Бессмертной славою полн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85" name="Picture 6" descr="55"/>
          <p:cNvPicPr/>
          <p:nvPr/>
        </p:nvPicPr>
        <p:blipFill>
          <a:blip r:embed="rId1"/>
          <a:stretch/>
        </p:blipFill>
        <p:spPr>
          <a:xfrm>
            <a:off x="-757080" y="-316080"/>
            <a:ext cx="90280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685800" y="785880"/>
            <a:ext cx="77724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Blackadder ITC"/>
              </a:rPr>
              <a:t>Тип проекта: групповой, краткосрочный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Blackadder ITC"/>
              </a:rPr>
              <a:t>По содержанию: познавательный творческий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Blackadder ITC"/>
              </a:rPr>
              <a:t>Участники проекта: дети  подготовительной  группы, родители, воспитатели , специалисты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Blackadder ITC"/>
              </a:rPr>
              <a:t>Срок реализации: две недели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-6127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Цель проекта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618920" y="1988640"/>
            <a:ext cx="6481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Blackadder ITC"/>
              </a:rPr>
              <a:t>Сформировать у детей чувства исторической сопричастности к своему роду, восстановление утраченных связей между поколениями, способствовать формированию убеждения о недопустимости повторения войн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41" name="Picture 8" descr="40"/>
          <p:cNvPicPr/>
          <p:nvPr/>
        </p:nvPicPr>
        <p:blipFill>
          <a:blip r:embed="rId1"/>
          <a:stretch/>
        </p:blipFill>
        <p:spPr>
          <a:xfrm>
            <a:off x="0" y="3500280"/>
            <a:ext cx="41385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Задачи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Blackadder ITC"/>
              </a:rPr>
              <a:t>Обобщить и расширить знания детей о Великой Отечественной </a:t>
            </a:r>
            <a:r>
              <a:rPr b="0" i="1" lang="ru-RU" sz="2400" spc="-1" strike="noStrike">
                <a:solidFill>
                  <a:srgbClr val="ffcc00"/>
                </a:solidFill>
                <a:latin typeface="Arial"/>
              </a:rPr>
              <a:t>В</a:t>
            </a:r>
            <a:r>
              <a:rPr b="0" i="1" lang="ru-RU" sz="2400" spc="-1" strike="noStrike">
                <a:solidFill>
                  <a:srgbClr val="ffcc00"/>
                </a:solidFill>
                <a:latin typeface="Blackadder ITC"/>
              </a:rPr>
              <a:t>ойне: городах-героях, героях войны, боевых наградах, о работе в тылу и т.д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Blackadder ITC"/>
              </a:rPr>
              <a:t>Выработать систему воспитательно-образовательной работы по теме «ВОВ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Blackadder ITC"/>
              </a:rPr>
              <a:t>Наладить взаимодействие с родителями в воспитании у дошкольников патриотических чувств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Blackadder ITC"/>
              </a:rPr>
              <a:t>Воспитывать патриотические чувства через художественную литературу, театральную деятельность, средствами музыкального и художественно-эстетического воспитани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Blackadder ITC"/>
              </a:rPr>
              <a:t>Воспитывать уважение к ратным подвигам бойцов, гордость за свой народ, любовь а Родине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Условия успешной реализации проект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9898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"/>
              </a:rPr>
              <a:t>Создание условий для детской деятельности в рамках проект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"/>
              </a:rPr>
              <a:t>Готовность педагога реализации мероприятий проект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"/>
              </a:rPr>
              <a:t>Личностно - ориентированное взаимодействие взрослого и ребёнка в процессе осуществления проект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"/>
              </a:rPr>
              <a:t>Активное участие родителей в проектной деятельност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Comic Sans MS"/>
              </a:rPr>
              <a:t>Целевые группы проект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268000" y="1341000"/>
            <a:ext cx="64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lackadder ITC"/>
              </a:rPr>
              <a:t>Дети</a:t>
            </a:r>
            <a:r>
              <a:rPr b="0" i="1" lang="ru-RU" sz="2400" spc="-1" strike="noStrike">
                <a:solidFill>
                  <a:srgbClr val="ffffff"/>
                </a:solidFill>
                <a:latin typeface="Blackadder ITC"/>
              </a:rPr>
              <a:t>: специально организованная деятельность, совместная деятельность педагога и ребенка , самостоятельная детская деятельность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lackadder ITC"/>
              </a:rPr>
              <a:t>Педагоги</a:t>
            </a:r>
            <a:r>
              <a:rPr b="0" i="1" lang="ru-RU" sz="2400" spc="-1" strike="noStrike">
                <a:solidFill>
                  <a:srgbClr val="ffffff"/>
                </a:solidFill>
                <a:latin typeface="Blackadder ITC"/>
              </a:rPr>
              <a:t>: активная методическая работа, интеграция деятельности по формированию патриотизм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lackadder ITC"/>
              </a:rPr>
              <a:t>Родители</a:t>
            </a:r>
            <a:r>
              <a:rPr b="0" i="1" lang="ru-RU" sz="2400" spc="-1" strike="noStrike">
                <a:solidFill>
                  <a:srgbClr val="ffffff"/>
                </a:solidFill>
                <a:latin typeface="Blackadder ITC"/>
              </a:rPr>
              <a:t>: оказание консультативной помощи, содействие педагогам по теме проекта, участие в мероприятиях ДОУ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48" name="Picture 4" descr="CRCTR058"/>
          <p:cNvPicPr/>
          <p:nvPr/>
        </p:nvPicPr>
        <p:blipFill>
          <a:blip r:embed="rId1"/>
          <a:stretch/>
        </p:blipFill>
        <p:spPr>
          <a:xfrm flipH="1">
            <a:off x="1187280" y="1413000"/>
            <a:ext cx="898560" cy="1224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" descr="CRCTR004"/>
          <p:cNvPicPr/>
          <p:nvPr/>
        </p:nvPicPr>
        <p:blipFill>
          <a:blip r:embed="rId2"/>
          <a:stretch/>
        </p:blipFill>
        <p:spPr>
          <a:xfrm flipH="1">
            <a:off x="1187280" y="4292640"/>
            <a:ext cx="897120" cy="14400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6" descr="CRCTR291"/>
          <p:cNvPicPr/>
          <p:nvPr/>
        </p:nvPicPr>
        <p:blipFill>
          <a:blip r:embed="rId3"/>
          <a:stretch/>
        </p:blipFill>
        <p:spPr>
          <a:xfrm flipH="1">
            <a:off x="1258560" y="2744640"/>
            <a:ext cx="70308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редполагаемые результат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Систематизированный литературный и иллюстрированный материал по теме «ВОВ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Составленные конспекты занятий, досугов и праздников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Оформленные выставки детских работ,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Активное участие родителей в реализации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Blackadder ITC"/>
              </a:rPr>
              <a:t>Разработанные рекомендации для родителей (какие книги читать детям, стихи для заучивани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777240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редпроектный этап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(апрель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"/>
                <a:ea typeface="Aharoni"/>
              </a:rPr>
              <a:t>     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  <a:ea typeface="Aharoni"/>
              </a:rPr>
              <a:t>Проведение анкетирования родителей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"/>
                <a:ea typeface="Aharoni"/>
              </a:rPr>
              <a:t>     </a:t>
            </a:r>
            <a:r>
              <a:rPr b="0" i="1" lang="ru-RU" sz="2400" spc="-1" strike="noStrike">
                <a:solidFill>
                  <a:srgbClr val="ffcc00"/>
                </a:solidFill>
                <a:latin typeface="Arial"/>
                <a:ea typeface="Aharoni"/>
              </a:rPr>
              <a:t>а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  <a:ea typeface="Aharoni"/>
              </a:rPr>
              <a:t>нкета для родителей содержала вопросы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  <a:ea typeface="Aharoni"/>
              </a:rPr>
              <a:t>Есть ли (были) в Вашей семье участники Великой Отечественной войны (участники трудового фронта, бывшие узники концлагерей)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  <a:ea typeface="Aharoni"/>
              </a:rPr>
              <a:t>Знаете ли Вы, где они воевали (трудились, пребывали в заключении)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  <a:ea typeface="Aharoni"/>
              </a:rPr>
              <a:t>Есть ли у них награды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0:23:14Z</dcterms:created>
  <dc:creator>Ирина</dc:creator>
  <dc:description/>
  <dc:language>en-US</dc:language>
  <cp:lastModifiedBy>Юрий</cp:lastModifiedBy>
  <dcterms:modified xsi:type="dcterms:W3CDTF">2015-10-22T14:56:29Z</dcterms:modified>
  <cp:revision>47</cp:revision>
  <dc:subject/>
  <dc:title>«Этих дней не смолкнет слава»</dc:title>
</cp:coreProperties>
</file>