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CAC-D96C-4F4B-8C4E-27FE1B9D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24C-C244-44D4-B369-04EDD076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A80-D737-4010-A886-84975216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BD8-3D2D-467F-AA51-33A436A6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44462-1550-45BC-AF9C-497746E8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765FD-CF59-41DF-AC38-5D574993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E7AED-E350-4F46-9EC8-660D2800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CEE4D-DB61-404F-A7AD-AD7F66B2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2775-7B19-48E0-BE2C-D439DF91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756C8-51E5-4818-806F-0C67F93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03A49-FD33-451D-A1AC-FEC2E91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D3D-6FD2-478B-B568-0D3C6AF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4C71-8609-484E-82FF-D27B887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544F1-DC81-4F3E-AC87-854EFA6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4EA18-F9E7-4AE6-8C49-FD9EF7F3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B03CD-8341-4866-91CD-F814CDBA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5735E-349B-4650-88DC-1724E15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277-F4E7-4431-8EBC-7707F9F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70F-8880-49E9-B685-2A6A99EB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665-9C9E-47C8-99AA-9FC7919E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C40-2BA2-4A35-A178-E4DBEBC3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089-90DB-44A3-A593-9A89B39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C7D-1591-40B1-8AE8-2BBCA237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2F1-5D97-4C86-9616-DB96AB07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43D-D89C-4BF7-8D18-DD2473CC3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949-BA80-43B6-A10C-76ACE9AAD9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истема работы по внедрению метода проектов в образовательный процесс ДОУ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00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ирнова Марина Павловна, старший воспитатель МБДОУ «Детский сад комбинированного вида №14».г. Горо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жидаемые результа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 и специалисты ДОУ владеют методом проектной деятельности, используют данную технологию в работе с детьми; сформировано позитивное отношение педагогов к проектной деятель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школьники проявляют самостоятельность, активность и любознательность при решении поставленных задач, интересуются новым, задают вопросы, любят экспериментировать, ощущают себя значимыми в группе сверстников, видят свой вклад в общее дело, радуются своим успехам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тели активно участвуют в образовательном процессе: являются не только источником информации, реальной помощи и поддержки ребенку и педагогу в процессе работы над проектом , но и сами являются непосредственными участниками образовательного процесса, обогащая свой педагогический опыт, испытывают чувство сопричастности и удовлетворения от своих успехов и успехов ребе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туальность проекта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ГОС Д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ние активной, любознательной, творческой личности, умеющей мыслить, самостоятельно добывать зн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социальной ситуации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средственное общение с каждым ребенк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ая деятельность на основе взаимодействия взрослого с детьми, ориентир на его интересы и возмож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держка индивидуальности и инициативы через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выбора: деятельности, партнеров, места, материала и др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принятия решений, выражения чувств и мыс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ирективная помощь детям, поддержка инициативы и самостоятельности в разных видах деятельности. Вариативность развивающего образования в ЗБ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ие с родителями: просвещение; включение в образовательный проце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овать систему работы с педагогическими кадрами по внедрению в образовательный процесс ДОУ новой технологии – «метод проектов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и: старший воспитатель, педагоги ДОУ,  роди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овать систему работы по освоению педагогами метода проекта в дошкольном образов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развитию у дошкольников любознательности, активности, умения самостоятельно действовать в различных видах детской деятельности, экспериментировать, применять усвоенные знания и способы деятельности для решения нов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овать целенаправленную просветительскую работу с родителями с целью привлечения их к активному участию в проект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апы про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Схема 4" descr=""/>
          <p:cNvPicPr/>
          <p:nvPr/>
        </p:nvPicPr>
        <p:blipFill>
          <a:blip r:embed="rId1"/>
          <a:stretch/>
        </p:blipFill>
        <p:spPr>
          <a:xfrm>
            <a:off x="969840" y="1152360"/>
            <a:ext cx="7418520" cy="51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8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ализация проек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150920" y="208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619280" y="76500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онно-подготовительный эта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197000"/>
          <a:ext cx="8785440" cy="5472000"/>
        </p:xfrm>
        <a:graphic>
          <a:graphicData uri="http://schemas.openxmlformats.org/drawingml/2006/table">
            <a:tbl>
              <a:tblPr/>
              <a:tblGrid>
                <a:gridCol w="463680"/>
                <a:gridCol w="2541600"/>
                <a:gridCol w="2774880"/>
                <a:gridCol w="1271520"/>
                <a:gridCol w="173376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8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дбор методической, справочной литературы по проектному метод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вышение собствен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офессиональной компетен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 данной проблем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-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.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07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Разработка нормативно-правовой базы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ложение о Проектном совете или Проектной деятельност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ложение о Временных творческих групп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оздание методической баз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аведующая, 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6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нкетирование педагогов; опрос родите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ыявление уровня владения педагогами проектным методом и готовности родителей к совместной работ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едагог-психолог, 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79280" y="620640"/>
          <a:ext cx="8713800" cy="6016680"/>
        </p:xfrm>
        <a:graphic>
          <a:graphicData uri="http://schemas.openxmlformats.org/drawingml/2006/table">
            <a:tbl>
              <a:tblPr/>
              <a:tblGrid>
                <a:gridCol w="459000"/>
                <a:gridCol w="2520720"/>
                <a:gridCol w="2752920"/>
                <a:gridCol w="1262160"/>
                <a:gridCol w="1719000"/>
              </a:tblGrid>
              <a:tr h="37800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932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еминар «Метод проектов в ДОУ как инновационная педагогическая технолог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вышение уровня теоретической подготовки педаго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 данной проблем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.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7012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Тематика проектов в разновозрастных группа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Создание пространственной в соответствии с требованиями метода проект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«Участие родителей в проектной деятельности»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вышение уровня теоретической подготовки педаго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о данной проблем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5084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Родительское собрание «Разностороннее развитие ребенка в познавательно-исследовательской деятельн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осветительская работа с родителями , привлечение их к активному участию в проектной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6840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Знакомство с опытом работы других 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( посещение методических объединен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акопление практических навыков проектной деятельности у педаго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2"/>
          <p:cNvSpPr/>
          <p:nvPr/>
        </p:nvSpPr>
        <p:spPr>
          <a:xfrm>
            <a:off x="3493080" y="14508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I. Основной этап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460440"/>
                <a:gridCol w="2520720"/>
                <a:gridCol w="2752920"/>
                <a:gridCol w="1260360"/>
                <a:gridCol w="1719360"/>
              </a:tblGrid>
              <a:tr h="60804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9396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еминар-практикум «Разработка групповых проект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акопление практических навыков проектной деятельности у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2552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Коллективные просмотры итоговых мероприятий в рамках реализации 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Накопление практических навыков проектной деятельности у педагог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Февраль-ап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, 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481200"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едсовет «Работаем по методу проекто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езентации проектов</a:t>
                      </a: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едставление накопленного опыта на уровне ДО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предоставить педагогам возможность  публичного выступления, самовыражения для повышения престижности выполнения проектов, обучения умению презентовать себя и свою работ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, воспит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765000"/>
          <a:ext cx="8785440" cy="5832720"/>
        </p:xfrm>
        <a:graphic>
          <a:graphicData uri="http://schemas.openxmlformats.org/drawingml/2006/table">
            <a:tbl>
              <a:tblPr/>
              <a:tblGrid>
                <a:gridCol w="463680"/>
                <a:gridCol w="2541600"/>
                <a:gridCol w="2774880"/>
                <a:gridCol w="1271520"/>
                <a:gridCol w="1733760"/>
              </a:tblGrid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о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07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.Анкетирование педаго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ыявление уровня овладения проектным методом и  проявления и реализации своих профессиональных и личностных качест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7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анкетирование родителей</a:t>
                      </a: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Выявление уровня удовлетворенности родителей инновационной деятельностью 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3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Обобщение опыта работы по проектной деятельности и распространение на уровне рай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20"/>
          <p:cNvSpPr/>
          <p:nvPr/>
        </p:nvSpPr>
        <p:spPr>
          <a:xfrm>
            <a:off x="3247920" y="7452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III заключительный этап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7:39:48Z</dcterms:created>
  <dc:creator>admin</dc:creator>
  <dc:description/>
  <dc:language>en-US</dc:language>
  <cp:lastModifiedBy>Юрий</cp:lastModifiedBy>
  <dcterms:modified xsi:type="dcterms:W3CDTF">2014-04-24T11:37:00Z</dcterms:modified>
  <cp:revision>40</cp:revision>
  <dc:subject/>
  <dc:title>Организация системы работы по внедрению метода проектов в образовательный процесс ДОУ.  Авторы: Петроченко Г.М Поспелова Н.А.</dc:title>
</cp:coreProperties>
</file>