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4D5-A5BB-4F74-8878-47BAE188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12B-A587-40ED-B842-0279E3BA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0CD-7A27-4F68-A4C2-BA0530A9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D3C-2368-49A0-98CC-F7B40C94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2AA92-37D4-4C1C-8304-68ECBC3A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2DE3C-AA4B-4952-836A-FE785F3B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5EE7B-E9CF-4ECD-AE52-1BB3E080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65058-421E-4FDF-BE9F-6D6B3519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017CB-838D-4F88-AF0C-E9359732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A9A09-D2D6-41A0-96F5-639C525F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9D818-9BE9-4D2C-AC86-23CF7663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689-A57D-400E-BD32-31B0C88C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5A27D-AF77-4708-9A31-1B91A503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F828B-B96C-49FA-992D-0E92F462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23B2C-B01C-4B76-BC8E-D551256F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A361F-5BBE-4337-AF13-0F03FE3B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AECFC-37C9-4DFD-949B-910DC611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3A8-D358-4617-8717-CF144FF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F14-862C-4CBA-88FC-AF30FEBB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072-93E1-4DBF-8653-2E2FC22A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E66-F0E9-4F83-B438-367446BA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0C3-DAF9-4E92-9995-E655BA54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E81-C432-4E21-9A2E-8A3B3455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06F-BA23-43F7-A378-B77B4532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A8D4-9213-4125-99D9-2CB289958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04FB-E316-4D15-BC17-81CA796DB3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истема работы по внедрению метода проектов в образовательный процесс ДОУ.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00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ирнова Марина Павловна, старший воспитатель МБДОУ «Детский сад комбинированного вида №14».г. Город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жидаемые результа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дагоги и специалисты ДОУ владеют методом проектной деятельности, используют данную технологию в работе с детьми; сформировано позитивное отношение педагогов к проектной деятель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школьники проявляют самостоятельность, активность и любознательность при решении поставленных задач, интересуются новым, задают вопросы, любят экспериментировать, ощущают себя значимыми в группе сверстников, видят свой вклад в общее дело, радуются своим успехам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тели активно участвуют в образовательном процессе: являются не только источником информации, реальной помощи и поддержки ребенку и педагогу в процессе работы над проектом , но и сами являются непосредственными участниками образовательного процесса, обогащая свой педагогический опыт, испытывают чувство сопричастности и удовлетворения от своих успехов и успехов ребе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ктуальность проекта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ГОС Д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ание активной, любознательной, творческой личности, умеющей мыслить, самостоятельно добывать зн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социальной ситуации разви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осредственное общение с каждым ребенк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ая деятельность на основе взаимодействия взрослого с детьми, ориентир на его интересы и возмож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ка индивидуальности и инициативы через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выбора: деятельности, партнеров, места, материала и др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принятия решений, выражения чувств и мыс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ирективная помощь детям, поддержка инициативы и самостоятельности в разных видах деятельности. Вариативность развивающего образования в ЗБ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действие с родителями: просвещение; включение в образовательный проце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овать систему работы с педагогическими кадрами по внедрению в образовательный процесс ДОУ новой технологии – «метод проектов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ники: старший воспитатель, педагоги ДОУ,  роди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овать систему работы по освоению педагогами метода проекта в дошкольном образов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развитию у дошкольников любознательности, активности, умения самостоятельно действовать в различных видах детской деятельности, экспериментировать, применять усвоенные знания и способы деятельности для решения новых зад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овать целенаправленную просветительскую работу с родителями с целью привлечения их к активному участию в проект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апы проект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Схема 4" descr=""/>
          <p:cNvPicPr/>
          <p:nvPr/>
        </p:nvPicPr>
        <p:blipFill>
          <a:blip r:embed="rId1"/>
          <a:stretch/>
        </p:blipFill>
        <p:spPr>
          <a:xfrm>
            <a:off x="969840" y="1152360"/>
            <a:ext cx="7418520" cy="51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78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ализация проек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1150920" y="208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619280" y="76500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ганизационно-подготовительный эта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197000"/>
          <a:ext cx="8785440" cy="5472000"/>
        </p:xfrm>
        <a:graphic>
          <a:graphicData uri="http://schemas.openxmlformats.org/drawingml/2006/table">
            <a:tbl>
              <a:tblPr/>
              <a:tblGrid>
                <a:gridCol w="463680"/>
                <a:gridCol w="2541600"/>
                <a:gridCol w="2774880"/>
                <a:gridCol w="1271520"/>
                <a:gridCol w="173376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18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дбор методической, справочной литературы по проектному метод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вышение собственн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рофессиональной компетен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 данной проблем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Май-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.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207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Разработка нормативно-правовой базы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ложение о Проектном совете или Проектной деятельности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ложение о Временных творческих групп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оздание методической баз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Заведующая, старший 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6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Анкетирование педагогов; опрос родите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ыявление уровня владения педагогами проектным методом и готовности родителей к совместной работ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едагог-психолог, воспит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79280" y="620640"/>
          <a:ext cx="8713800" cy="6016680"/>
        </p:xfrm>
        <a:graphic>
          <a:graphicData uri="http://schemas.openxmlformats.org/drawingml/2006/table">
            <a:tbl>
              <a:tblPr/>
              <a:tblGrid>
                <a:gridCol w="459000"/>
                <a:gridCol w="2520720"/>
                <a:gridCol w="2752920"/>
                <a:gridCol w="1262160"/>
                <a:gridCol w="1719000"/>
              </a:tblGrid>
              <a:tr h="378000"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9320"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еминар «Метод проектов в ДОУ как инновационная педагогическая технолог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вышение уровня теоретической подготовки педаго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 данной проблем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.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2670120"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Консуль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«Тематика проектов в разновозрастных групп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«Создание пространственной в соответствии с требованиями метода проект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«Участие родителей в проектной деятельности»</a:t>
                      </a: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вышение уровня теоретической подготовки педаго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 данной проблем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50840"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Родительское собрание «Разностороннее развитие ребенка в познавательно-исследовательской деятельност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росветительская работа с родителями , привлечение их к активному участию в проектной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68400"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Знакомство с опытом работы других 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( посещение методических объединени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акопление практических навыков проектной деятельности у педаго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2"/>
          <p:cNvSpPr/>
          <p:nvPr/>
        </p:nvSpPr>
        <p:spPr>
          <a:xfrm>
            <a:off x="3493080" y="14508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II. Основной этап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50920" y="260280"/>
          <a:ext cx="8713800" cy="6408720"/>
        </p:xfrm>
        <a:graphic>
          <a:graphicData uri="http://schemas.openxmlformats.org/drawingml/2006/table">
            <a:tbl>
              <a:tblPr/>
              <a:tblGrid>
                <a:gridCol w="460440"/>
                <a:gridCol w="2520720"/>
                <a:gridCol w="2752920"/>
                <a:gridCol w="1260360"/>
                <a:gridCol w="1719360"/>
              </a:tblGrid>
              <a:tr h="608040"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93960"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еминар-практикум «Разработка групповых проекто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акопление практических навыков проектной деятельности у педагог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25520"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Коллективные просмотры итоговых мероприятий в рамках реализации проек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акопление практических навыков проектной деятельности у педагог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Февраль-апр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, воспит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481200"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едсовет «Работаем по методу проекто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резентации проектов</a:t>
                      </a: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редставление накопленного опыта на уровне ДО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редоставить педагогам возможность  публичного выступления, самовыражения для повышения престижности выполнения проектов, обучения умению презентовать себя и свою работ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, воспит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9280" y="765000"/>
          <a:ext cx="8785440" cy="5832720"/>
        </p:xfrm>
        <a:graphic>
          <a:graphicData uri="http://schemas.openxmlformats.org/drawingml/2006/table">
            <a:tbl>
              <a:tblPr/>
              <a:tblGrid>
                <a:gridCol w="463680"/>
                <a:gridCol w="2541600"/>
                <a:gridCol w="2774880"/>
                <a:gridCol w="1271520"/>
                <a:gridCol w="1733760"/>
              </a:tblGrid>
              <a:tr h="64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07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.Анкетирование педаго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ыявление уровня овладения проектным методом и  проявления и реализации своих профессиональных и личностных качест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Май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7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анкетирование родителей</a:t>
                      </a: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ыявление уровня удовлетворенности родителей инновационной деятельностью 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73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Обобщение опыта работы по проектной деятельности и распространение на уровне рай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20"/>
          <p:cNvSpPr/>
          <p:nvPr/>
        </p:nvSpPr>
        <p:spPr>
          <a:xfrm>
            <a:off x="3247920" y="7452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III заключительный этап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7:39:48Z</dcterms:created>
  <dc:creator>admin</dc:creator>
  <dc:description/>
  <dc:language>en-US</dc:language>
  <cp:lastModifiedBy>Юрий</cp:lastModifiedBy>
  <dcterms:modified xsi:type="dcterms:W3CDTF">2014-04-24T11:37:00Z</dcterms:modified>
  <cp:revision>40</cp:revision>
  <dc:subject/>
  <dc:title>Организация системы работы по внедрению метода проектов в образовательный процесс ДОУ.  Авторы: Петроченко Г.М Поспелова Н.А.</dc:title>
</cp:coreProperties>
</file>