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712-0855-4EC7-9191-BA4B4151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4B2-ACAE-4C93-B760-06EE6A6C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B99-F484-4DB6-AA4D-1287F965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E03-D8D5-4FBC-BB6A-6FE57CB9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419-6DC5-4D46-9FDC-FAE0B95E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456-C6F2-43B4-9EFD-AEFC27FD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801-AA47-4BB1-9DBD-8B50F6A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C76-27E9-4291-8B32-AEF659EE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06B-2AA7-4799-B619-37205A46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79A-AACE-444E-9D2F-618B94FD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B11-91BA-49F4-BE0B-7BCEEF02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088-6E16-4AE1-8D65-30CE342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7ff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A730-B107-4128-A1F9-1B1054C0F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гнитные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явл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гн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гнитное п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гниты</a:t>
            </a:r>
            <a:br>
              <a:rPr sz="4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ела, имеющие свойство притягивать железо и некоторые другие ве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2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8285400" cy="4005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0" descr="http://im0-tub-ru.yandex.net/i?id=468904948-51-72&amp;n=21"/>
          <p:cNvPicPr/>
          <p:nvPr/>
        </p:nvPicPr>
        <p:blipFill>
          <a:blip r:embed="rId2"/>
          <a:srcRect l="2211" t="3023" r="2230" b="3049"/>
          <a:stretch/>
        </p:blipFill>
        <p:spPr>
          <a:xfrm>
            <a:off x="900000" y="414972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i?id=20109096-00-72&amp;n=21"/>
          <p:cNvPicPr/>
          <p:nvPr/>
        </p:nvPicPr>
        <p:blipFill>
          <a:blip r:embed="rId3"/>
          <a:stretch/>
        </p:blipFill>
        <p:spPr>
          <a:xfrm>
            <a:off x="5219640" y="436572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иды постоянных магни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908000"/>
            <a:ext cx="8242560" cy="4224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7" descr="http://im4-tub-ru.yandex.net/i?id=45518848-12-72&amp;n=21"/>
          <p:cNvPicPr/>
          <p:nvPr/>
        </p:nvPicPr>
        <p:blipFill>
          <a:blip r:embed="rId2"/>
          <a:stretch/>
        </p:blipFill>
        <p:spPr>
          <a:xfrm>
            <a:off x="971640" y="3716280"/>
            <a:ext cx="1871640" cy="1719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6" descr="http://im3-tub-ru.yandex.net/i?id=42029527-26-72&amp;n=21"/>
          <p:cNvPicPr/>
          <p:nvPr/>
        </p:nvPicPr>
        <p:blipFill>
          <a:blip r:embed="rId3"/>
          <a:stretch/>
        </p:blipFill>
        <p:spPr>
          <a:xfrm>
            <a:off x="3635280" y="3716280"/>
            <a:ext cx="180036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interlavka.narod.ru/stats/im_fr02/01.jpg"/>
          <p:cNvPicPr/>
          <p:nvPr/>
        </p:nvPicPr>
        <p:blipFill>
          <a:blip r:embed="rId4"/>
          <a:stretch/>
        </p:blipFill>
        <p:spPr>
          <a:xfrm>
            <a:off x="6372360" y="37162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 магнитов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тягивают железные предмет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сегда имеют два полюс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. северный 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2. южный 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заимодействуют друг с друг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талки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ноименными полюс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тягиваю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ноименными полю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64" descr="http://im4-tub-ru.yandex.net/i?id=55577188-28-72&amp;n=21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867280" y="1989000"/>
            <a:ext cx="1944720" cy="1430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http://im0-tub-ru.yandex.net/i?id=9120214-41-72&amp;n=21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796000" y="4005360"/>
            <a:ext cx="2062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гнитное поле </a:t>
            </a:r>
            <a:br>
              <a:rPr sz="40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собый вид материи, посредством которого осуществляются магнитные взаимодействия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(изображается в виде магнитных силовых лин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00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гнитные силовые лин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то воображаемые линии, вдоль которых ориентируются железные опилки, помещенные в магнитное поле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 магнитных лин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 направление магнитных линий принято направл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гнитной стрелки, указывающей на сев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гнитные линии выходят из северного полюса магнита и входят в южный полю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гнитные линии не имеют начала и конца –  замк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valtar.ru/images/MagSc/p_9_05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219640" y="2997360"/>
            <a:ext cx="288144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malayna-dawn.typepad.com/.a/6a00e54fccf67e8834011169012da6970c-320wi"/>
          <p:cNvPicPr/>
          <p:nvPr/>
        </p:nvPicPr>
        <p:blipFill>
          <a:blip r:embed="rId2"/>
          <a:stretch/>
        </p:blipFill>
        <p:spPr>
          <a:xfrm>
            <a:off x="971640" y="2997360"/>
            <a:ext cx="291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ображение магнитного п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362800" cy="4421160"/>
        </p:xfrm>
        <a:graphic>
          <a:graphicData uri="http://schemas.openxmlformats.org/drawingml/2006/table">
            <a:tbl>
              <a:tblPr/>
              <a:tblGrid>
                <a:gridCol w="2044800"/>
                <a:gridCol w="2136600"/>
                <a:gridCol w="2090880"/>
                <a:gridCol w="2090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сового магн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гообразного магн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аимодействующ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ни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талк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т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2" name="Рисунок 79" descr="http://im2-tub-ru.yandex.net/i?id=435427176-41-72&amp;n=21"/>
          <p:cNvPicPr/>
          <p:nvPr/>
        </p:nvPicPr>
        <p:blipFill>
          <a:blip r:embed="rId1">
            <a:lum contrast="40000"/>
          </a:blip>
          <a:srcRect l="0" t="13311" r="61010" b="6756"/>
          <a:stretch/>
        </p:blipFill>
        <p:spPr>
          <a:xfrm>
            <a:off x="539640" y="3573360"/>
            <a:ext cx="1871640" cy="1656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8" descr="http://im4-tub-ru.yandex.net/i?id=218283711-12-72&amp;n=21"/>
          <p:cNvPicPr/>
          <p:nvPr/>
        </p:nvPicPr>
        <p:blipFill>
          <a:blip r:embed="rId2">
            <a:lum contrast="-30000"/>
          </a:blip>
          <a:srcRect l="6582" t="8163" r="16985" b="0"/>
          <a:stretch/>
        </p:blipFill>
        <p:spPr>
          <a:xfrm>
            <a:off x="2987640" y="357336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9" descr="http://im2-tub-ru.yandex.net/i?id=435427176-41-72&amp;n=21"/>
          <p:cNvPicPr/>
          <p:nvPr/>
        </p:nvPicPr>
        <p:blipFill>
          <a:blip r:embed="rId3">
            <a:lum contrast="40000"/>
          </a:blip>
          <a:srcRect l="68607" t="20000" r="0" b="0"/>
          <a:stretch/>
        </p:blipFill>
        <p:spPr>
          <a:xfrm>
            <a:off x="4716360" y="3716280"/>
            <a:ext cx="187164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9" descr="http://im2-tub-ru.yandex.net/i?id=435427176-41-72&amp;n=21"/>
          <p:cNvPicPr/>
          <p:nvPr/>
        </p:nvPicPr>
        <p:blipFill>
          <a:blip r:embed="rId4">
            <a:lum contrast="40000"/>
          </a:blip>
          <a:srcRect l="38952" t="20000" r="29655" b="0"/>
          <a:stretch/>
        </p:blipFill>
        <p:spPr>
          <a:xfrm>
            <a:off x="6875640" y="364500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гнитное поле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30" descr="http://www.newscientist.com/data/images/ns/cms/dn11545/dn11545-1_566.jpg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545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1" descr="http://im4-tub-ru.yandex.net/i?id=155903082-32-72&amp;n=21"/>
          <p:cNvPicPr/>
          <p:nvPr/>
        </p:nvPicPr>
        <p:blipFill>
          <a:blip r:embed="rId2"/>
          <a:stretch/>
        </p:blipFill>
        <p:spPr>
          <a:xfrm>
            <a:off x="611280" y="1052640"/>
            <a:ext cx="2520720" cy="1751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3" descr="http://im8-tub-ru.yandex.net/i?id=225314665-10-72&amp;n=21"/>
          <p:cNvPicPr/>
          <p:nvPr/>
        </p:nvPicPr>
        <p:blipFill>
          <a:blip r:embed="rId3"/>
          <a:stretch/>
        </p:blipFill>
        <p:spPr>
          <a:xfrm>
            <a:off x="6156360" y="4508640"/>
            <a:ext cx="2440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писок сообщ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гнитное поле Зем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гнитное поле живых организмов (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а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история изобретения, устройство и принцип рабо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гнитные аномал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асность магнитного п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§ 18 п.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§ 19 п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сооб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0:38:10Z</dcterms:created>
  <dc:creator>Папа Мама</dc:creator>
  <dc:description/>
  <dc:language>en-US</dc:language>
  <cp:lastModifiedBy>Папа Мама</cp:lastModifiedBy>
  <dcterms:modified xsi:type="dcterms:W3CDTF">2013-03-12T19:55:26Z</dcterms:modified>
  <cp:revision>31</cp:revision>
  <dc:subject/>
  <dc:title>Магнитные явления</dc:title>
</cp:coreProperties>
</file>