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png" ContentType="image/png"/>
  <Override PartName="/ppt/media/image7.png" ContentType="image/png"/>
  <Override PartName="/ppt/media/image13.png" ContentType="image/png"/>
  <Override PartName="/ppt/media/image18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jpeg" ContentType="image/jpeg"/>
  <Override PartName="/ppt/media/image4.png" ContentType="image/png"/>
  <Override PartName="/ppt/media/image10.jpeg" ContentType="image/jpeg"/>
  <Override PartName="/ppt/media/image8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7873D-59BF-4942-B1AD-103EB269F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8757F-A366-4B54-ADB6-498AAC0A1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22E17-22F7-4EF6-BF11-B4BFA994E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A6D83-1502-4582-984C-C8BFF60B1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A1129-BB2B-434B-BB8D-BFD3F7CBF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E2E94-8D9D-4EB7-BBA2-F2110DC93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5EB99-0640-425F-A0E3-A3C26BFB5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0C991-C236-4734-8B37-8AF04AFF1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4E71D-7650-4C23-BE20-F7F2F82FA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5915A-DFE7-4AE9-B666-8014F7ED4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49512-AE96-4CFD-B3CD-F243F0A4B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C1B0B-9590-40BD-9D6F-3CD965FF0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7f7ff"/>
            </a:gs>
            <a:gs pos="100000">
              <a:srgbClr val="e1e8f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3AD0E-8FBA-4405-A57A-02C5DDA8844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20640"/>
            <a:ext cx="7772400" cy="24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 </a:t>
            </a:r>
            <a:r>
              <a:rPr b="1" i="1" lang="ru-RU" sz="54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Магнитные</a:t>
            </a:r>
            <a:r>
              <a:rPr b="1" i="1" lang="ru-RU" sz="5400" spc="-1" strike="noStrike" u="sng">
                <a:solidFill>
                  <a:srgbClr val="000000"/>
                </a:solidFill>
                <a:uFillTx/>
                <a:latin typeface="Calibri"/>
              </a:rPr>
              <a:t>  </a:t>
            </a:r>
            <a:r>
              <a:rPr b="1" i="1" lang="ru-RU" sz="54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явления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Магнит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Магнитное пол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Магниты</a:t>
            </a:r>
            <a:br>
              <a:rPr sz="4400"/>
            </a:br>
            <a:r>
              <a:rPr b="0" i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- тела, имеющие свойство притягивать железо и некоторые другие веществ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Содержимое 2" descr=""/>
          <p:cNvPicPr/>
          <p:nvPr/>
        </p:nvPicPr>
        <p:blipFill>
          <a:blip r:embed="rId1"/>
          <a:stretch/>
        </p:blipFill>
        <p:spPr>
          <a:xfrm>
            <a:off x="450720" y="2127240"/>
            <a:ext cx="8285400" cy="4005360"/>
          </a:xfrm>
          <a:prstGeom prst="rect">
            <a:avLst/>
          </a:prstGeom>
          <a:ln w="0">
            <a:noFill/>
          </a:ln>
        </p:spPr>
      </p:pic>
      <p:pic>
        <p:nvPicPr>
          <p:cNvPr id="45" name="Рисунок 40" descr="http://im0-tub-ru.yandex.net/i?id=468904948-51-72&amp;n=21"/>
          <p:cNvPicPr/>
          <p:nvPr/>
        </p:nvPicPr>
        <p:blipFill>
          <a:blip r:embed="rId2"/>
          <a:srcRect l="2211" t="3023" r="2230" b="3049"/>
          <a:stretch/>
        </p:blipFill>
        <p:spPr>
          <a:xfrm>
            <a:off x="900000" y="4149720"/>
            <a:ext cx="3095640" cy="22320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i?id=20109096-00-72&amp;n=21"/>
          <p:cNvPicPr/>
          <p:nvPr/>
        </p:nvPicPr>
        <p:blipFill>
          <a:blip r:embed="rId3"/>
          <a:stretch/>
        </p:blipFill>
        <p:spPr>
          <a:xfrm>
            <a:off x="5219640" y="4365720"/>
            <a:ext cx="295128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Виды постоянных магнит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Содержимое 2" descr=""/>
          <p:cNvPicPr/>
          <p:nvPr/>
        </p:nvPicPr>
        <p:blipFill>
          <a:blip r:embed="rId1"/>
          <a:stretch/>
        </p:blipFill>
        <p:spPr>
          <a:xfrm>
            <a:off x="450720" y="1908000"/>
            <a:ext cx="8242560" cy="422460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67" descr="http://im4-tub-ru.yandex.net/i?id=45518848-12-72&amp;n=21"/>
          <p:cNvPicPr/>
          <p:nvPr/>
        </p:nvPicPr>
        <p:blipFill>
          <a:blip r:embed="rId2"/>
          <a:stretch/>
        </p:blipFill>
        <p:spPr>
          <a:xfrm>
            <a:off x="971640" y="3716280"/>
            <a:ext cx="1871640" cy="171936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76" descr="http://im3-tub-ru.yandex.net/i?id=42029527-26-72&amp;n=21"/>
          <p:cNvPicPr/>
          <p:nvPr/>
        </p:nvPicPr>
        <p:blipFill>
          <a:blip r:embed="rId3"/>
          <a:stretch/>
        </p:blipFill>
        <p:spPr>
          <a:xfrm>
            <a:off x="3635280" y="3716280"/>
            <a:ext cx="1800360" cy="17287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http://interlavka.narod.ru/stats/im_fr02/01.jpg"/>
          <p:cNvPicPr/>
          <p:nvPr/>
        </p:nvPicPr>
        <p:blipFill>
          <a:blip r:embed="rId4"/>
          <a:stretch/>
        </p:blipFill>
        <p:spPr>
          <a:xfrm>
            <a:off x="6372360" y="3716280"/>
            <a:ext cx="172872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00"/>
                </a:solidFill>
                <a:uFillTx/>
                <a:latin typeface="Calibri"/>
              </a:rPr>
              <a:t>Основные свойства магнитов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95280" y="1413000"/>
            <a:ext cx="829152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притягивают железные предметы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всегда имеют два полюса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: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1. северный (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2. южный (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взаимодействуют друг с другом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отталкиваются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одноименными полюсами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притягиваются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разноименными полюсам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Рисунок 64" descr="http://im4-tub-ru.yandex.net/i?id=55577188-28-72&amp;n=21"/>
          <p:cNvPicPr/>
          <p:nvPr/>
        </p:nvPicPr>
        <p:blipFill>
          <a:blip r:embed="rId1">
            <a:lum bright="-10000"/>
          </a:blip>
          <a:stretch/>
        </p:blipFill>
        <p:spPr>
          <a:xfrm>
            <a:off x="5867280" y="1989000"/>
            <a:ext cx="1944720" cy="143064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22" descr="http://im0-tub-ru.yandex.net/i?id=9120214-41-72&amp;n=21"/>
          <p:cNvPicPr/>
          <p:nvPr/>
        </p:nvPicPr>
        <p:blipFill>
          <a:blip r:embed="rId2">
            <a:lum bright="-10000"/>
          </a:blip>
          <a:stretch/>
        </p:blipFill>
        <p:spPr>
          <a:xfrm>
            <a:off x="5796000" y="4005360"/>
            <a:ext cx="206208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Магнитное поле </a:t>
            </a:r>
            <a:br>
              <a:rPr sz="4000"/>
            </a:br>
            <a:r>
              <a:rPr b="0" i="1" lang="ru-RU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- особый вид материи, посредством которого осуществляются магнитные взаимодействия</a:t>
            </a:r>
            <a:br>
              <a:rPr sz="2200"/>
            </a:br>
            <a:r>
              <a:rPr b="0" i="1" lang="ru-RU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 (изображается в виде магнитных силовых линий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700280"/>
            <a:ext cx="83628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Магнитные силовые линии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это воображаемые линии, вдоль которых ориентируются железные опилки, помещенные в магнитное поле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Основные свойства магнитных линий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за направление магнитных линий принято направление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магнитной стрелки, указывающей на север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магнитные линии выходят из северного полюса магнита и входят в южный полюс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магнитные линии не имеют начала и конца –  замкнут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4" descr="http://www.valtar.ru/images/MagSc/p_9_05.jpg"/>
          <p:cNvPicPr/>
          <p:nvPr/>
        </p:nvPicPr>
        <p:blipFill>
          <a:blip r:embed="rId1">
            <a:lum bright="-10000"/>
          </a:blip>
          <a:stretch/>
        </p:blipFill>
        <p:spPr>
          <a:xfrm>
            <a:off x="5219640" y="2997360"/>
            <a:ext cx="2881440" cy="13683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8" descr="http://malayna-dawn.typepad.com/.a/6a00e54fccf67e8834011169012da6970c-320wi"/>
          <p:cNvPicPr/>
          <p:nvPr/>
        </p:nvPicPr>
        <p:blipFill>
          <a:blip r:embed="rId2"/>
          <a:stretch/>
        </p:blipFill>
        <p:spPr>
          <a:xfrm>
            <a:off x="971640" y="2997360"/>
            <a:ext cx="291600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Изображение магнитного пол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457200" y="1600200"/>
          <a:ext cx="8362800" cy="4421160"/>
        </p:xfrm>
        <a:graphic>
          <a:graphicData uri="http://schemas.openxmlformats.org/drawingml/2006/table">
            <a:tbl>
              <a:tblPr/>
              <a:tblGrid>
                <a:gridCol w="2044800"/>
                <a:gridCol w="2136600"/>
                <a:gridCol w="2090880"/>
                <a:gridCol w="209052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лосового магнит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угообразного магнит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заимодействующи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гнито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2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тталкива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итяже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62" name="Рисунок 79" descr="http://im2-tub-ru.yandex.net/i?id=435427176-41-72&amp;n=21"/>
          <p:cNvPicPr/>
          <p:nvPr/>
        </p:nvPicPr>
        <p:blipFill>
          <a:blip r:embed="rId1">
            <a:lum contrast="40000"/>
          </a:blip>
          <a:srcRect l="0" t="13311" r="61010" b="6756"/>
          <a:stretch/>
        </p:blipFill>
        <p:spPr>
          <a:xfrm>
            <a:off x="539640" y="3573360"/>
            <a:ext cx="1871640" cy="1656000"/>
          </a:xfrm>
          <a:prstGeom prst="rect">
            <a:avLst/>
          </a:prstGeom>
          <a:ln w="0">
            <a:noFill/>
          </a:ln>
        </p:spPr>
      </p:pic>
      <p:pic>
        <p:nvPicPr>
          <p:cNvPr id="63" name="Рисунок 88" descr="http://im4-tub-ru.yandex.net/i?id=218283711-12-72&amp;n=21"/>
          <p:cNvPicPr/>
          <p:nvPr/>
        </p:nvPicPr>
        <p:blipFill>
          <a:blip r:embed="rId2">
            <a:lum contrast="-30000"/>
          </a:blip>
          <a:srcRect l="6582" t="8163" r="16985" b="0"/>
          <a:stretch/>
        </p:blipFill>
        <p:spPr>
          <a:xfrm>
            <a:off x="2987640" y="3573360"/>
            <a:ext cx="1440000" cy="158436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79" descr="http://im2-tub-ru.yandex.net/i?id=435427176-41-72&amp;n=21"/>
          <p:cNvPicPr/>
          <p:nvPr/>
        </p:nvPicPr>
        <p:blipFill>
          <a:blip r:embed="rId3">
            <a:lum contrast="40000"/>
          </a:blip>
          <a:srcRect l="68607" t="20000" r="0" b="0"/>
          <a:stretch/>
        </p:blipFill>
        <p:spPr>
          <a:xfrm>
            <a:off x="4716360" y="3716280"/>
            <a:ext cx="1871640" cy="1657440"/>
          </a:xfrm>
          <a:prstGeom prst="rect">
            <a:avLst/>
          </a:prstGeom>
          <a:ln w="0">
            <a:noFill/>
          </a:ln>
        </p:spPr>
      </p:pic>
      <p:pic>
        <p:nvPicPr>
          <p:cNvPr id="65" name="Рисунок 79" descr="http://im2-tub-ru.yandex.net/i?id=435427176-41-72&amp;n=21"/>
          <p:cNvPicPr/>
          <p:nvPr/>
        </p:nvPicPr>
        <p:blipFill>
          <a:blip r:embed="rId4">
            <a:lum contrast="40000"/>
          </a:blip>
          <a:srcRect l="38952" t="20000" r="29655" b="0"/>
          <a:stretch/>
        </p:blipFill>
        <p:spPr>
          <a:xfrm>
            <a:off x="6875640" y="3645000"/>
            <a:ext cx="187308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Calibri"/>
              </a:rPr>
              <a:t>Магнитное поле Земл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Рисунок 130" descr="http://www.newscientist.com/data/images/ns/cms/dn11545/dn11545-1_566.jpg"/>
          <p:cNvPicPr/>
          <p:nvPr/>
        </p:nvPicPr>
        <p:blipFill>
          <a:blip r:embed="rId1"/>
          <a:stretch/>
        </p:blipFill>
        <p:spPr>
          <a:xfrm>
            <a:off x="468360" y="907920"/>
            <a:ext cx="8280360" cy="5545440"/>
          </a:xfrm>
          <a:prstGeom prst="rect">
            <a:avLst/>
          </a:prstGeom>
          <a:ln w="0">
            <a:noFill/>
          </a:ln>
        </p:spPr>
      </p:pic>
      <p:pic>
        <p:nvPicPr>
          <p:cNvPr id="69" name="Рисунок 121" descr="http://im4-tub-ru.yandex.net/i?id=155903082-32-72&amp;n=21"/>
          <p:cNvPicPr/>
          <p:nvPr/>
        </p:nvPicPr>
        <p:blipFill>
          <a:blip r:embed="rId2"/>
          <a:stretch/>
        </p:blipFill>
        <p:spPr>
          <a:xfrm>
            <a:off x="611280" y="1052640"/>
            <a:ext cx="2520720" cy="1751040"/>
          </a:xfrm>
          <a:prstGeom prst="rect">
            <a:avLst/>
          </a:prstGeom>
          <a:ln w="0">
            <a:noFill/>
          </a:ln>
        </p:spPr>
      </p:pic>
      <p:pic>
        <p:nvPicPr>
          <p:cNvPr id="70" name="Рисунок 133" descr="http://im8-tub-ru.yandex.net/i?id=225314665-10-72&amp;n=21"/>
          <p:cNvPicPr/>
          <p:nvPr/>
        </p:nvPicPr>
        <p:blipFill>
          <a:blip r:embed="rId3"/>
          <a:stretch/>
        </p:blipFill>
        <p:spPr>
          <a:xfrm>
            <a:off x="6156360" y="4508640"/>
            <a:ext cx="2440080" cy="18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00"/>
                </a:solidFill>
                <a:uFillTx/>
                <a:latin typeface="Calibri"/>
              </a:rPr>
              <a:t>Список сообщений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Магнитное поле Земл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Магнитное поле живых организмов (человека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Компас 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(история изобретения, устройство и принцип работы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Магнитные аномали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Опасность магнитного пол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Домашнее задание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- § 18 п.1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              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- § 19 п.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              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- сообще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2T10:38:10Z</dcterms:created>
  <dc:creator>Папа Мама</dc:creator>
  <dc:description/>
  <dc:language>en-US</dc:language>
  <cp:lastModifiedBy>Папа Мама</cp:lastModifiedBy>
  <dcterms:modified xsi:type="dcterms:W3CDTF">2013-03-12T19:55:26Z</dcterms:modified>
  <cp:revision>31</cp:revision>
  <dc:subject/>
  <dc:title>Магнитные явления</dc:title>
</cp:coreProperties>
</file>