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6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DD67-4D78-480C-A484-A6441712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C552-3268-48F7-9F60-72C5BAAB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50259-32E3-4B3B-9084-7740C528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6C2F1-8FA4-4796-A58E-94BA3D13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2B792-A27F-4D3E-B66C-228C57FE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DFA98-5500-4257-B495-06F527E4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AF05E-70E7-4E7C-AE8B-80924F8D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95ED6-FAB0-4B76-A194-64745C21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C140F-BD1D-4E39-96E3-03C72ED6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8E125-2543-4D4E-8396-F055D156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B7997-175D-4516-90D8-0ADD95B9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878-34EF-4071-8F39-3CC5D443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F77-F98B-4308-9F2D-FEEC9896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14DC-70A2-4568-BDB4-01F61E2E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26F9-6729-435A-BB02-33289C65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8F73-E95A-43F3-8284-F0AC0755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FCC5-B559-4785-9B11-5CA6F4C0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FCF8-99FE-4214-83C4-A58675FB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B0A5-480B-4119-9327-BD46C1DE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5157-DC41-44E2-9138-6F61D741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1ABE-4C7C-40DE-81F9-754D3472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4265-3BCA-47B9-8F84-67909450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5F97-B173-4A5B-910D-279765FF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6E16-9BF7-4870-A219-18E6613A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5CA5-02F4-4F95-B67A-FC5BD3F1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C235-8E3E-4B5D-8474-41F9DB21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773C7-2A49-4B85-96BC-66A1B607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46CC8-868E-4C6E-A46A-1D00A273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4E879-BFBD-4F4F-8B9F-E5B300DA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EAEC5-6BF3-4C97-B9C1-361A8E3F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20637-75B6-498C-85D9-22E84A4D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5BB-859D-4B0C-9ECF-F86B6367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32A0F-7C29-4382-9F3C-80C756A5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F966A-9062-4288-A8BF-AB21736F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D7927-2B23-431A-9C7B-0260A280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859A2-6490-4E80-987C-72134C5E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2BFEC-7770-4C6A-8611-F79B1F0C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7291D-D593-4ACE-985C-60B33D82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5EDB2-6BD7-45D6-87EF-7170CF9A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DFB7A-9E6F-4555-8FBB-DD61A764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B3CF7-89D1-4878-A6AB-1C01FC52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035A7-324F-46F9-AA47-6B6C3577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848-8A90-461E-9B7A-2AB0A9AD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DE239-ECAF-4C87-9937-BAA52380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8F037-23BA-437F-BFB0-D4DC9678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E075B-179F-4833-B85D-0212E78D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F3BFF-9812-4557-A8D8-523EB99D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8E8ED-A333-46F2-82CF-A6A20E29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2E222-D94E-45F8-AD94-5CE33727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EDC23-2CDD-411C-AC04-1FD4F9D4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8019F-6BD5-4E67-A1B6-59FDD8D1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6CDEB-276C-456E-8DB9-0A9B1823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410EF-6178-4B7A-9143-014D597B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888-3C5D-4B55-9D0C-990406FC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11213-2139-401F-A479-5B5CDE06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1F697-04E8-4ED0-B1B7-6A46FC42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7AE0E-ED0F-4F74-AD71-31BCA108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D8A45-43D1-415D-9AD1-8156C8F8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826FE-A756-4A16-96DD-4AC5E00C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B3370-DE74-4341-8231-3ACFA797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67A8C-5905-4D5C-BEC1-91655673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7AAD8-13AC-45F7-9911-00591EAE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78305-1B5D-45E4-89B0-E452FAB8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BB966-3878-42FB-92D5-1BF4C1CB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44C1-4F28-4A5C-9AB8-9DAB54F9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5649C-DDAF-4BF8-BFFF-26F0DDF8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9F457-70C2-4C04-967C-67E179C2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9D7F0-E020-4974-A734-4D38809A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81846-397C-409C-BE8B-AF9CCE52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C8D37-E2E5-42C2-9068-48454FD6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8A869-37CF-409B-9287-1690EA44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FF77B-0CB0-4642-93FB-6BD37B69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3B67F-7534-4EEC-B564-ABBF57B8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DC86B-67FC-44A8-AF57-9C83EDD4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A0396-D1B2-408B-A93D-3FF13DF2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A6D-DBB0-468E-90EE-D73AB984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8557E-A2CF-4180-937B-8B02A0B8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7CF2A-68E2-43BC-B19A-12DBBB29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9E596-F96D-46C7-915D-F149082D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F8415-EAB0-4064-9264-5F96C218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E19F7-5A18-48EE-A6BF-A53E1C44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B754D-BF19-4499-99B2-0223DB78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BE1EF-2A29-43CF-B460-489FAF10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F3EFC-7BA2-4565-A5F7-5E847C0F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C4872-7B1E-4482-B9AF-77A4E422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3EA3D-2ED4-4D85-A6EC-F6748996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DD7-BBB5-45D9-A3ED-C5E3E8AB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B053E-0E2B-4283-A3AC-33AB0DDB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39BD4-51D3-4FCF-8024-5B21024D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0E368-6899-463D-80B9-8F7D714D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A4AD4-41B5-45BB-ADF3-68AB2E43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E9B9E-BA6A-4848-B811-BEEACE10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F81ED-C9DB-4FCF-BBC3-B5277B47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5069D-E071-4176-AD32-FE6D4BD6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77CFA-4873-42BB-8406-85709A42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310D4-DF71-42C1-9347-7295344B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73AE5-7494-4496-9E92-74A02DCB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293A-2AFB-4613-87BA-B2F50EF5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5F18F-71F1-440B-A03A-3A45D31F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57CE6-DB6A-4184-AB80-B846442D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A8A34-296F-4799-A599-8E3D8B5F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6AA48-412A-44EF-9C9F-B563AB0F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3F128-A408-4714-AA2B-06BD0CCA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3316E-2F9E-43EF-8043-F15E233B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DD133-277B-4EB3-A86C-3259B443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57C7B-47A9-4264-8CBF-A33199C6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170BE-5EFB-4C17-9E93-C5F19F34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7C2E4-CB62-4427-9E68-B09F6E71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F745-AEA1-4146-9B42-87683ECDBCB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391B-1E8C-4D2B-BF84-6F8ABCA076A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1813-3BC1-401F-B5F6-4E328468657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E319-E334-4E0D-9CB7-1A6342F85B4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EA70-DD1F-4E52-B18A-74EE702BD60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B5D8-4E3F-4AF6-AFD3-DE5D5D70DA8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8FE7-8426-4138-A82C-42D31018099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3928-0ADF-4751-A17E-6BD5D87728E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C8BD-5088-44B0-9E98-A951EFD1962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53880" y="2840040"/>
            <a:ext cx="8466120" cy="15238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28400" y="10000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43329"/>
                </a:solidFill>
                <a:latin typeface="Franklin Gothic Book"/>
              </a:rPr>
              <a:t>Сказка «Куйгорож».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2" name="Содержимое 3" descr="0_5624f_8464acec_L.jpg"/>
          <p:cNvPicPr/>
          <p:nvPr/>
        </p:nvPicPr>
        <p:blipFill>
          <a:blip r:embed="rId1"/>
          <a:stretch/>
        </p:blipFill>
        <p:spPr>
          <a:xfrm>
            <a:off x="3059280" y="1554120"/>
            <a:ext cx="3178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4" name="Содержимое 3" descr="2_html_m39337697.png"/>
          <p:cNvPicPr/>
          <p:nvPr/>
        </p:nvPicPr>
        <p:blipFill>
          <a:blip r:embed="rId1"/>
          <a:stretch/>
        </p:blipFill>
        <p:spPr>
          <a:xfrm>
            <a:off x="2500200" y="1143000"/>
            <a:ext cx="41436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6" name="Содержимое 3" descr="381506889.jpg"/>
          <p:cNvPicPr/>
          <p:nvPr/>
        </p:nvPicPr>
        <p:blipFill>
          <a:blip r:embed="rId1"/>
          <a:stretch/>
        </p:blipFill>
        <p:spPr>
          <a:xfrm>
            <a:off x="2930400" y="1143000"/>
            <a:ext cx="4141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Заботливое, уважительное отношение к природе, трепетное отношение ко всему живому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0" name="Содержимое 3" descr="1_89_18911_1305551680.jpg"/>
          <p:cNvPicPr/>
          <p:nvPr/>
        </p:nvPicPr>
        <p:blipFill>
          <a:blip r:embed="rId1"/>
          <a:stretch/>
        </p:blipFill>
        <p:spPr>
          <a:xfrm>
            <a:off x="2357280" y="121428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15177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285840" y="20001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Лень, завистливость ,желание разбогатеть за счет чужого труда.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457200" y="1714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Нельзя быть …, нужно всего добиваться своим трудом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 мордовского народа слагается из таких качеств, как: трудолюбие, владение ремеслами, мастерство, мудрость, доброта, отзывчивость, готовность прийти на помощь, уважение к старшим, осуждение лени, алчности, завистливости, желания разбогатеть за счет чужого труд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Сюкпря тейнт!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Няемозонк!!!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знакомить с жанром народной сказки как с духовным наследием мордовского народа, кладезем знаний о быте, нравах, обычаях,верованиях мокши и эрзя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познакомить с такой философской категорией, как нравственность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ссоздать образ народа (на материале мордовских народных сказо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4" name="Picture 3" descr="C:\Documents and Settings\Оксана\Рабочий стол\картинки морд\2140981.jpg"/>
          <p:cNvPicPr/>
          <p:nvPr/>
        </p:nvPicPr>
        <p:blipFill>
          <a:blip r:embed="rId1"/>
          <a:stretch/>
        </p:blipFill>
        <p:spPr>
          <a:xfrm>
            <a:off x="1584360" y="1554120"/>
            <a:ext cx="6127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6" name="Содержимое 3" descr="6183ae6d6bbd.jpg"/>
          <p:cNvPicPr/>
          <p:nvPr/>
        </p:nvPicPr>
        <p:blipFill>
          <a:blip r:embed="rId1"/>
          <a:stretch/>
        </p:blipFill>
        <p:spPr>
          <a:xfrm>
            <a:off x="2286000" y="285840"/>
            <a:ext cx="40719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57168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В сказках виден «быт народа, его домашняя жизнь, его нравственные понятия и ум»…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                                 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В.Г. Белинский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Сказка-ложь, да в нее намек - добрым молодцам урок!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                                   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А.С. Пушкин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Только сказка может научить безошибочно распознать добро и зло , истину и ложь, красоту и безобразие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                                   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Л. Леонов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Черные онучи», «Горячие сани», «Как собака себе друга искала», «Как портной пиво варил», «Охотник», «Варда», «Сураля», «Обещанный сын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2" name="Содержимое 3" descr="Mifologija.jpg"/>
          <p:cNvPicPr/>
          <p:nvPr/>
        </p:nvPicPr>
        <p:blipFill>
          <a:blip r:embed="rId1"/>
          <a:stretch/>
        </p:blipFill>
        <p:spPr>
          <a:xfrm>
            <a:off x="1077840" y="2908440"/>
            <a:ext cx="959040" cy="136656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4" descr="1000534283.jpg"/>
          <p:cNvPicPr/>
          <p:nvPr/>
        </p:nvPicPr>
        <p:blipFill>
          <a:blip r:embed="rId2"/>
          <a:stretch/>
        </p:blipFill>
        <p:spPr>
          <a:xfrm>
            <a:off x="1096920" y="2401920"/>
            <a:ext cx="1219320" cy="181116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5" descr="cut_300_381_52b7431b1377a327c13856eebe3228d7.jpg"/>
          <p:cNvPicPr/>
          <p:nvPr/>
        </p:nvPicPr>
        <p:blipFill>
          <a:blip r:embed="rId3"/>
          <a:stretch/>
        </p:blipFill>
        <p:spPr>
          <a:xfrm>
            <a:off x="500040" y="500040"/>
            <a:ext cx="3714840" cy="56437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C:\Documents and Settings\Оксана\Рабочий стол\картинки морд\1000534283.jpg"/>
          <p:cNvPicPr/>
          <p:nvPr/>
        </p:nvPicPr>
        <p:blipFill>
          <a:blip r:embed="rId4"/>
          <a:stretch/>
        </p:blipFill>
        <p:spPr>
          <a:xfrm>
            <a:off x="4500720" y="500040"/>
            <a:ext cx="39668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Трудолюбие, владение ремеслами, мастерство, мудрость, доброта,  отзывчивость, готовность прийти на помощь, уважение к старшим, почтительность. Заботливое и уважительное отношение к природе, трепетное отношение ко всему живому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9" name="Содержимое 3" descr="Mifologija.jpg"/>
          <p:cNvPicPr/>
          <p:nvPr/>
        </p:nvPicPr>
        <p:blipFill>
          <a:blip r:embed="rId1"/>
          <a:stretch/>
        </p:blipFill>
        <p:spPr>
          <a:xfrm>
            <a:off x="357120" y="285840"/>
            <a:ext cx="4143600" cy="5715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cuments and Settings\Оксана\Рабочий стол\картинки морд\59331.gif"/>
          <p:cNvPicPr/>
          <p:nvPr/>
        </p:nvPicPr>
        <p:blipFill>
          <a:blip r:embed="rId2"/>
          <a:stretch/>
        </p:blipFill>
        <p:spPr>
          <a:xfrm>
            <a:off x="4929120" y="285840"/>
            <a:ext cx="39290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6:28:52Z</dcterms:created>
  <dc:creator>Оксана</dc:creator>
  <dc:description/>
  <dc:language>en-US</dc:language>
  <cp:lastModifiedBy>Оксана</cp:lastModifiedBy>
  <dcterms:modified xsi:type="dcterms:W3CDTF">2013-03-12T18:18:46Z</dcterms:modified>
  <cp:revision>18</cp:revision>
  <dc:subject/>
  <dc:title>Знакомство с героями мордовских народных сказок.</dc:title>
</cp:coreProperties>
</file>