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5A7-0F3C-4BFC-9EF5-1FEF55F4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637-036A-4BC5-B527-8D8A5845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B78B3-13AB-4F6F-ABB2-9739C88E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ED3C3-0434-428C-8439-C72DBCE4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AD9CC-3910-45C7-8DB7-7862210B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2DA4F-0782-44E0-990C-5818AD8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6B72D-809A-4468-AF0A-ECE52BBF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08B84-7154-4693-9678-1E1CDD3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2CE32-A055-4349-9353-F3B744CC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1086E-D80A-4CA0-82A3-5F1E049B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81189-2415-4346-977F-BFB82C89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E922B-E6C1-4EB0-B5E3-7DF375F9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148-FF5E-498B-844A-F098CB9B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C52F2-C6CE-4E11-96C7-1B6A62C5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C1A6E-4388-4937-B5CA-120C13C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16391-F790-4255-8A47-061D6371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2F405-4524-413D-B36F-F944D4D8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8C5D7-65FB-42A6-BB34-E9FD2762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3F53C-497E-4494-BEF4-4CD10B54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38B3C-43DC-4E44-B886-B5B4934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0FB25-B5B3-4354-B76C-06C2F3B2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8D9FA-8A54-4136-9784-BCFFE8C8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33324-6080-441B-8DC7-9AE5C5C1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42F-8A97-400A-B0E9-24B5427F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168B1-E49F-450F-82B9-68584C11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DBBF2-4627-4441-87FB-1BAAB106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FC65D-7289-41AD-A72C-4DAC5F9B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AB263-3CF2-43EC-B178-BFD39891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80051-8604-4534-BF8D-C4B3E451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AFD12-3EF5-4BA8-B31C-B2A8B4D0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FF14E-E6CB-4934-8825-2D31BB89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DE7E8-4D95-4890-90E4-542464D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DC621-B2DF-4543-8EAA-EC01CD0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FB37C-AB0D-44C2-97AB-E3FD29F1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7F60-AE01-482D-A018-4D16138D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AD16F-F882-4DC8-834B-422D26C2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DD84B-A294-4732-A344-21377C40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4FA4C-08C0-4F7B-B1A4-3DB0EDD6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1CDB1-1A54-44E6-B48A-BBD72D1A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6597E-4CF8-41A0-B23B-9406ECC6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2B21E-26F2-40DE-AEB3-813DD7EA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7B98C-6241-46DC-AA72-9BC6681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3169B-BD64-4B22-9135-47E0C022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A5983-EE1B-4FDD-9611-E786139F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7783C-0EF7-4C7D-9AC9-231EE773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ECD6-80C7-4A7D-A2C1-869A9486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3037F-8DC8-4032-8FB9-8DF94D2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186F0-C1FD-4355-9092-19D53D1C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8F632-2B1E-4AFD-A90F-8D86864D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2CB96-2480-4297-9F0D-835F170A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A79D5-E241-4D96-8071-E060B96D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3DF02-92DC-445B-8949-BE2CA0CB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C57C9-E3CB-4DC1-8BD8-B6AADE74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4152E-116A-45F1-ADC8-FB09FEBE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C52A7-1242-4479-A74A-C04D573E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7A93D-F29B-4B45-884C-5F0D25BC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72D9-A99C-4E3A-B45E-7CAE2C76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5FFCD-4EB2-48E7-92A0-C0159AB6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B9410-24E1-424D-B44B-0E16DB2A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2B883-9514-4947-997D-41BCBF6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49B0A-C403-4443-BE89-053A1547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20A2F-5BF2-43B5-9270-5D8B0EE6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252D3-6E35-4A99-BE88-75B35298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C7252-500C-4EA1-A87A-835D49AE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5D117-55EF-450E-B258-D8C67EEE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4A034-97D2-43F8-93E8-F3D051EB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F53C3-437B-4145-BC97-01F958B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31C7-3485-40E9-A339-491C030C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40513-1212-4237-A9EF-96F86439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AC67F-86D4-4C0E-8630-D9B8824A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50E24-1032-4390-B3FA-9AA2E2C8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A84B1-88FD-424D-9BD7-4366816E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FEEBB-6A27-4686-A648-BB55804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67F0B-8F45-4D3E-8C4F-FA2A5FC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E3AD6-3D5A-4D95-B2B2-2CF22724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AB858-023B-4FE4-80EB-30BCB7B9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24E30-38CD-4F09-B7AB-15D73899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A87A4-9C52-495A-892F-F54620C1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9086-E8EA-4087-9102-D0483224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49A6D-1962-4D77-BAAD-FF36C241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B60AF-096E-4DCA-8248-F91850AC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3275B-1564-4AAA-ADB0-F6B8490A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BE99D-EB51-4321-94F6-5949B629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57867-6A27-4702-93B6-32619FBD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99BA2-43E9-47E7-A49D-F1B8796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CB25C-009F-4EBF-889D-A6696E3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31D3C-15F2-4DD9-86B3-A01F140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9DE834-A3C5-4BF5-B7DD-C25B631E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142C1-396B-42B5-B9E6-41F0B109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BFC3-C4FE-47F2-8C67-FDE96FB5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9D09B-330E-4820-9DBC-91594082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284EF-828C-4F47-8ED9-BABE48A9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70B1C-0BE3-412E-A43C-19A96584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31AB3-A9A2-4159-9C95-24C4A0B8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B5D73-4EE1-4CCB-8B9D-2C607957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61743-80B5-4226-8AB4-227AEF60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A4D92-C7D1-4184-A5BA-CE1F063D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AA90F-B156-4704-A288-98828706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D8AE4-3219-45E4-A1A2-77611E08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BA26D-F28B-484F-85AA-CAFB69F0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9EA0-EA7B-41D8-90D9-3470BD3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BE059-0FEB-4E71-B7A2-AAE5258E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0F92A-2B0C-4A62-8FEA-44A02EFF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9AA84-FE02-4C96-BB09-5708C70A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D5C-61E8-4E76-AE16-8743D0A8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F429-6CE4-4232-8A2B-F5D169D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EEF2-0869-48D7-9774-5EDA52C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2540-B792-4B12-990E-F8442F73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0211-9ADD-4A60-B598-210C610B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EA86-9497-4491-B3CC-4B2A601A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A8BC3-FB42-4923-B060-700BE6B4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85288-7CD7-4E8A-8EB4-251C6A0B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ABACA-1BF6-4D0C-8F8F-3CDB935C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FBB80-EB37-441F-AC85-CD4DA0B0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C9DF9-D9FB-4E40-9C64-1674D6F5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929-774E-4C7F-8C00-0F93EFE8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688FF-6169-4DC7-9080-F985EEBF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0AD35-715F-4482-8BBC-5154F7A2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8C2F0-2D24-4946-95E7-7C03B869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D8F76-8A10-41D0-A75C-1F5AE612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FC8A8-6AAB-456F-8235-B6C8D8DA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AE38A-0785-497B-BBFC-2666D063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DAC53-06DE-4E13-8493-83875A73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E7DB-2240-40F9-998F-152399E3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B265-759A-41C0-A82C-22D97469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002FC-C714-4B1A-A2A1-F4F4D9C3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E43-FEB9-4211-B299-8AC03774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EE263-4B3C-4433-AEDB-7F224CC2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0054-BD2B-4043-9ADE-5044F1A5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8D51-5100-4B5E-82DA-A034E174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EF06-9EAB-4EF0-A220-837E721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0F379-112E-4AC8-8E4F-715D93F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C7AA-097C-451A-B354-906A737C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7805-8F97-471C-A814-0EE891BF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CA2B-B3E0-434C-B4F6-07B94429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C49B-06F0-4FB8-B2A2-5623383B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BD828-BDBB-4148-ABD6-FCA7B594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F4A-725D-4C7D-9006-628F2C66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538E1-6849-4446-8E74-C5D26568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FDB4-5A34-4609-AFF5-B21CF3DE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1BA7-DEDE-44C9-A67F-BD5A4E79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A4CAE-70B9-4513-9FDD-AC030AA6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D33A4-3536-46D0-8548-40B3930A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FCEF8-5BA7-4ECE-B1D1-D2E2073C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CC4E-6AEE-420B-AE0B-B5DDE8E9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CAC54-23B3-4789-AEA3-4992220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2E9E-6AAA-4F29-B356-79C1A2D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6A480-E0F3-4A66-B8BE-F2ED7482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7C7-B032-40DA-9DA9-E013BD50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DD373-6153-4C27-92E6-491927CD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F84B1-7776-441C-BAC6-827441C5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6781C-7AF1-4093-BC08-5B6E7DFA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45839-3895-4875-A798-ED2075FC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B2EDE-891A-47E0-B174-911AF2DC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5A11-0982-41B1-A4D5-420AD5FD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459BA-1C0D-4A50-931F-39CCA96B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24551-B72D-4BCE-9551-59E99DA2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DFEAB-77CF-4BCF-8BDA-77CD5F70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6CBF-59EA-4ABD-B23F-7FC3B7FF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ECF-A7D3-4AD2-B5E4-C0C5494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73EE0-1185-4FE3-B9DF-727AE4F9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BA5A9-B9FD-4135-B43D-3617FF78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5A6A-B002-440F-916E-0215A1DE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D08C4-DAE2-41A8-949A-A04D7EEE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4CBF2-ACF1-4FF4-B7F7-2793643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43622-E91F-429E-BA49-25064443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5F8F-0382-40F0-AE21-3AC092B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404E3-A37D-4189-9A22-BC3E3AB7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B7355-0DAA-411F-B747-53B57FB0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3215B-1F78-4734-B0F6-70A57A11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F4F-46C5-4103-8455-8B67E51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8BBC9-558F-4140-9BB6-AA4AFBC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F13BD-22F7-4F6D-B437-06E140F1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A2049-C171-47D9-AF1C-5DD2585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3BE01-BECC-44F9-A955-22215085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4349D-F7C3-480E-AE67-8FA4836C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40DC-BD41-4204-9B4C-45870FAE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6EFE-6628-49CC-84BC-4639C8F7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02577-5A1A-4D46-9C6D-67029AC0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28F41-B8FE-40B0-AED5-E48F96A1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E0161-686F-4C51-8818-EA6AE5B7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B88-E574-425D-BF5A-C996C88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45ED4-F0D5-4B82-9BAA-1E1060B1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92B6-D068-4D03-B2F4-36921E4E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5A393-D803-4BE4-AD4C-035D4497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1CC0C-A664-4D49-A4F2-036C4199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84E00-3137-4667-AB55-820569EC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850D1-32B5-4AA5-9810-DA9155BB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24B0C-A006-47A7-91A4-22653293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93672-50A9-4827-BEA9-29761F01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10133-A78C-45F2-BE65-96FC60FF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3914E-4866-4A38-9EC2-A85749BC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E1A-151B-42AA-A48D-CB9D88955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CE81-ADF3-4281-BD0B-0F77E8096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62CB-B8F6-4892-B214-9046A20CC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011-365F-4FE4-A024-038873274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3C26-6590-42D0-892D-106564145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F8E4-F14C-4871-96C9-E138E08B8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A6F-9E09-446E-8A16-3EBDC6D0F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60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61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68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74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675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8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679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2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683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4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6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687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8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9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90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691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3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94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D094-4E75-4D40-88B9-37A1D2E90F6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91B0-68A6-401A-8F5B-6B215DC2BD5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344-837F-4EA9-B9AF-82628945E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C816-662F-4793-80F5-4A1690B5F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FCE5-4101-41E7-99B5-4D3C5429F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88F2-A830-4355-B3E9-D8B482BD2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717-F11C-4309-A48E-1F474E1AA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732A-ECCF-45BE-8733-CD742E6CC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39C6-F891-4D21-A669-5CD4EB62A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спользование информационно - коммуникативных технологий (ИКТ) в педагогическом процесс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539640" y="3357360"/>
            <a:ext cx="81360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казка творит чудеса»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Консультация для р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«Сказка ложь, да в ней намек. Добрым молодцам урок!». Сказка не только развлекает, она воспитывает, знакомит ребенка с окружающим миром.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 помощью сказки можно дать определенные знания. Например можем дать понятие как «Организм и среда» («Репка» - что нужно чтобы репка выросла). Можно познакомить с состоянием воды («Заюшкина избушка»). Дать понятие, что в природе все взаимосвязано, за зимой приходит весна, за весной лето и т.д.(«Двенадцать месяцев»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Читайте сказки на природе, задавайте детям      вопросы, объясняйте непонятные явления, выражения, делайте различные эксперименты,чтоб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ребенок на собственном опыте постигал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таинства прир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AutoShape 5"/>
          <p:cNvSpPr/>
          <p:nvPr/>
        </p:nvSpPr>
        <p:spPr>
          <a:xfrm rot="247200">
            <a:off x="169920" y="-1440"/>
            <a:ext cx="8972640" cy="2058840"/>
          </a:xfrm>
          <a:prstGeom prst="irregularSeal2">
            <a:avLst/>
          </a:prstGeom>
          <a:solidFill>
            <a:srgbClr val="99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Text Box 7"/>
          <p:cNvSpPr/>
          <p:nvPr/>
        </p:nvSpPr>
        <p:spPr>
          <a:xfrm>
            <a:off x="2392200" y="40464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Tahoma"/>
              </a:rPr>
              <a:t>Экологическ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Tahoma"/>
              </a:rPr>
              <a:t>воспит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2484000" y="1844640"/>
            <a:ext cx="6048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1.Двигательно – творческие занятия,основан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на одном из видов устного народного творче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2.Сюжетно – физкультурные занятия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«вкраплением» элементов сказ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3.Театрализированные физкультурные заня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4.Музыкально – ритмические занятия,основан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на играх, плясках, танцах, хоровод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5.Игравые физкультурные занятия (народные игры со сказочными героям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6.Интегрированные физические занят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очетающие фольклор и физические упражн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7.Пальчиковые иг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ahoma"/>
              </a:rPr>
              <a:t>Совет!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Больше движений, не сидите 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месте! Только вперед и только все вмес</a:t>
            </a:r>
            <a:r>
              <a:rPr b="1" lang="ru-RU" sz="1600" spc="-1" strike="noStrike">
                <a:solidFill>
                  <a:srgbClr val="6600cc"/>
                </a:solidFill>
                <a:latin typeface="Tahoma"/>
              </a:rPr>
              <a:t>те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2" name="Picture 7" descr="28112011155"/>
          <p:cNvPicPr/>
          <p:nvPr/>
        </p:nvPicPr>
        <p:blipFill>
          <a:blip r:embed="rId1"/>
          <a:stretch/>
        </p:blipFill>
        <p:spPr>
          <a:xfrm>
            <a:off x="0" y="2637000"/>
            <a:ext cx="2484360" cy="2304720"/>
          </a:xfrm>
          <a:prstGeom prst="rect">
            <a:avLst/>
          </a:prstGeom>
          <a:ln w="0">
            <a:noFill/>
          </a:ln>
        </p:spPr>
      </p:pic>
      <p:sp>
        <p:nvSpPr>
          <p:cNvPr id="793" name="AutoShape 8"/>
          <p:cNvSpPr/>
          <p:nvPr/>
        </p:nvSpPr>
        <p:spPr>
          <a:xfrm>
            <a:off x="0" y="0"/>
            <a:ext cx="7667640" cy="1628640"/>
          </a:xfrm>
          <a:prstGeom prst="verticalScroll">
            <a:avLst>
              <a:gd name="adj" fmla="val 19250"/>
            </a:avLst>
          </a:prstGeom>
          <a:solidFill>
            <a:srgbClr val="f6e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447840" y="41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0" y="347760"/>
            <a:ext cx="723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Сказку можно использовать во всех форм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работы 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физическому воспита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WordArt 4"/>
          <p:cNvSpPr txBox="1"/>
          <p:nvPr/>
        </p:nvSpPr>
        <p:spPr>
          <a:xfrm rot="5400000">
            <a:off x="-2413440" y="2997360"/>
            <a:ext cx="619308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7" name="Picture 5" descr="iCA7EVZFK"/>
          <p:cNvPicPr/>
          <p:nvPr/>
        </p:nvPicPr>
        <p:blipFill>
          <a:blip r:embed="rId1"/>
          <a:stretch/>
        </p:blipFill>
        <p:spPr>
          <a:xfrm>
            <a:off x="1258920" y="0"/>
            <a:ext cx="3600360" cy="29973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6"/>
          <p:cNvSpPr/>
          <p:nvPr/>
        </p:nvSpPr>
        <p:spPr>
          <a:xfrm>
            <a:off x="4714200" y="192240"/>
            <a:ext cx="440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казкотерапия</a:t>
            </a:r>
            <a:r>
              <a:rPr b="1" lang="ru-RU" sz="36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для детей – э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целое на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в психологии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1887480" y="3030480"/>
            <a:ext cx="725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ahoma"/>
              </a:rPr>
              <a:t>Сказкотерапия направлена не только на развитие ребенка, но и на направленную помощь в трудных жизненных ситуа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ahoma"/>
              </a:rPr>
              <a:t>Она позволяет вытащить из сказочной истории весь ее скрытый потенциал и использовать его во бла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WordArt 4"/>
          <p:cNvSpPr txBox="1"/>
          <p:nvPr/>
        </p:nvSpPr>
        <p:spPr>
          <a:xfrm rot="5400000">
            <a:off x="-2521800" y="303300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1" name="AutoShape 26"/>
          <p:cNvSpPr/>
          <p:nvPr/>
        </p:nvSpPr>
        <p:spPr>
          <a:xfrm>
            <a:off x="1332000" y="1268280"/>
            <a:ext cx="2952720" cy="486000"/>
          </a:xfrm>
          <a:prstGeom prst="rightArrow">
            <a:avLst>
              <a:gd name="adj1" fmla="val 50000"/>
              <a:gd name="adj2" fmla="val 15188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4284720" y="98100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диагностирующ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AutoShape 28"/>
          <p:cNvSpPr/>
          <p:nvPr/>
        </p:nvSpPr>
        <p:spPr>
          <a:xfrm>
            <a:off x="1403280" y="3429000"/>
            <a:ext cx="2808360" cy="576360"/>
          </a:xfrm>
          <a:prstGeom prst="rightArrow">
            <a:avLst>
              <a:gd name="adj1" fmla="val 50000"/>
              <a:gd name="adj2" fmla="val 12181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4479840" y="3166920"/>
            <a:ext cx="45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воздействующ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AutoShape 30"/>
          <p:cNvSpPr/>
          <p:nvPr/>
        </p:nvSpPr>
        <p:spPr>
          <a:xfrm>
            <a:off x="1403280" y="5661000"/>
            <a:ext cx="2952720" cy="576360"/>
          </a:xfrm>
          <a:prstGeom prst="rightArrow">
            <a:avLst>
              <a:gd name="adj1" fmla="val 50000"/>
              <a:gd name="adj2" fmla="val 12807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4462920" y="5472000"/>
            <a:ext cx="35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ahoma"/>
              </a:rPr>
              <a:t>развивающ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WordArt 4"/>
          <p:cNvSpPr txBox="1"/>
          <p:nvPr/>
        </p:nvSpPr>
        <p:spPr>
          <a:xfrm rot="5400000">
            <a:off x="-2520720" y="2960640"/>
            <a:ext cx="63356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8" name="Picture 7" descr="0_5afc0_37e534b0_XL"/>
          <p:cNvPicPr/>
          <p:nvPr/>
        </p:nvPicPr>
        <p:blipFill>
          <a:blip r:embed="rId1"/>
          <a:stretch/>
        </p:blipFill>
        <p:spPr>
          <a:xfrm>
            <a:off x="5580000" y="0"/>
            <a:ext cx="3960720" cy="349740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8"/>
          <p:cNvSpPr/>
          <p:nvPr/>
        </p:nvSpPr>
        <p:spPr>
          <a:xfrm>
            <a:off x="1527120" y="49320"/>
            <a:ext cx="4916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казкотерап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основана на том, что ребенок отождествляет себя главным героем сказки, учится на его ошиб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1235880" y="3317760"/>
            <a:ext cx="7750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Обратите внимание на то, кому и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персонажей сказки симпатизирует в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ребенок. Если это отрицатель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персонаж – попробуйте вместе 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ребенком найти в его характе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хорошие чер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WordArt 4"/>
          <p:cNvSpPr txBox="1"/>
          <p:nvPr/>
        </p:nvSpPr>
        <p:spPr>
          <a:xfrm rot="5400000">
            <a:off x="-2521800" y="303300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е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2" name="Picture 5" descr="iCAU03T7Y"/>
          <p:cNvPicPr/>
          <p:nvPr/>
        </p:nvPicPr>
        <p:blipFill>
          <a:blip r:embed="rId1"/>
          <a:stretch/>
        </p:blipFill>
        <p:spPr>
          <a:xfrm>
            <a:off x="1332000" y="115920"/>
            <a:ext cx="3456000" cy="280836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6"/>
          <p:cNvSpPr/>
          <p:nvPr/>
        </p:nvSpPr>
        <p:spPr>
          <a:xfrm>
            <a:off x="4859280" y="6480"/>
            <a:ext cx="428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Очень хорош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придумать с ребен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личную сказ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которая буд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максима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приближенна к реальной ситу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1600200" y="3246480"/>
            <a:ext cx="744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ahoma"/>
              </a:rPr>
              <a:t>Пройдя этот путь в своем воображени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ahoma"/>
              </a:rPr>
              <a:t>ребенку будет легче справляться 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ahoma"/>
              </a:rPr>
              <a:t>проблемой в реальной жи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WordArt 4"/>
          <p:cNvSpPr txBox="1"/>
          <p:nvPr/>
        </p:nvSpPr>
        <p:spPr>
          <a:xfrm rot="5400000">
            <a:off x="-2447640" y="2960640"/>
            <a:ext cx="63356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6" name="Picture 5" descr="d8a579a41f29f375ab67554a543"/>
          <p:cNvPicPr/>
          <p:nvPr/>
        </p:nvPicPr>
        <p:blipFill>
          <a:blip r:embed="rId1"/>
          <a:stretch/>
        </p:blipFill>
        <p:spPr>
          <a:xfrm>
            <a:off x="5867280" y="189000"/>
            <a:ext cx="3276720" cy="648000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6"/>
          <p:cNvSpPr/>
          <p:nvPr/>
        </p:nvSpPr>
        <p:spPr>
          <a:xfrm>
            <a:off x="1476360" y="57240"/>
            <a:ext cx="446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казкотерап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спользуется и в борь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 негативными качест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характера. На помощ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ходят всем изве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художественные сказ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апример вас   расстраивает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бенок жаднич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очитайте ему сказ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.С. Пушкина «Сказка 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ыбаке и рыбке», пу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бенок увидит к че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водит жад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4"/>
          <p:cNvSpPr txBox="1"/>
          <p:nvPr/>
        </p:nvSpPr>
        <p:spPr>
          <a:xfrm rot="5400000">
            <a:off x="-2484360" y="299736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9" name="Picture 6" descr="09012013436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443700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7"/>
          <p:cNvSpPr/>
          <p:nvPr/>
        </p:nvSpPr>
        <p:spPr>
          <a:xfrm>
            <a:off x="1692360" y="189000"/>
            <a:ext cx="2592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лов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Text Box 8"/>
          <p:cNvSpPr/>
          <p:nvPr/>
        </p:nvSpPr>
        <p:spPr>
          <a:xfrm>
            <a:off x="1546200" y="4441680"/>
            <a:ext cx="7873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едназначена не для лечени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 для профилактики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Желаем успехов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линская Е.В. Сказочные тренинги для дошкольников и младших школьников» - М.,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Зинкевич-Евстигнеева Т.Д. Психология зависимостей, метод сказкотерапии - СПб., 200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Ильин И.А. Духовный мир сказки. - М., 199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околов Д. Сказки и сказкотерапия. - М., 199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Сухомлинский В.А. Сердце отдаю детям. – К., 197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Танникова Е.Б. Формирование речевого творчества дошкольников» (обучение сочинению сказок). – М.,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Фесюкова Л.Б. Воспитание сказкой (для работы с детьми дошкольного возраста) – М., 200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755280" y="981000"/>
            <a:ext cx="80852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«Через сказку, фантазию, игру, через неповторимое детское творчество – верная дорога к сердцу ребенка. Сказка, фантазия – это ключик, с помощью которого можно открыть эти истоки и они забьют животворными ключами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                           </a:t>
            </a:r>
            <a:r>
              <a:rPr b="1" i="1" lang="ru-RU" sz="3200" spc="-1" strike="noStrike">
                <a:solidFill>
                  <a:srgbClr val="9900cc"/>
                </a:solidFill>
                <a:latin typeface="Verdana"/>
              </a:rPr>
              <a:t>В. Сухомлин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AutoShape 4"/>
          <p:cNvSpPr/>
          <p:nvPr/>
        </p:nvSpPr>
        <p:spPr>
          <a:xfrm>
            <a:off x="3995640" y="1341360"/>
            <a:ext cx="576360" cy="1366920"/>
          </a:xfrm>
          <a:prstGeom prst="upArrow">
            <a:avLst>
              <a:gd name="adj1" fmla="val 50000"/>
              <a:gd name="adj2" fmla="val 59291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5580000" y="1341360"/>
            <a:ext cx="863640" cy="1800360"/>
          </a:xfrm>
          <a:custGeom>
            <a:avLst/>
            <a:gdLst>
              <a:gd name="textAreaLeft" fmla="*/ 0 w 863640"/>
              <a:gd name="textAreaRight" fmla="*/ 750960 w 863640"/>
              <a:gd name="textAreaTop" fmla="*/ 149976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17213" y="0"/>
                </a:moveTo>
                <a:lnTo>
                  <a:pt x="12825" y="8319"/>
                </a:lnTo>
                <a:lnTo>
                  <a:pt x="15644" y="8319"/>
                </a:lnTo>
                <a:lnTo>
                  <a:pt x="15644" y="17992"/>
                </a:lnTo>
                <a:lnTo>
                  <a:pt x="0" y="17992"/>
                </a:lnTo>
                <a:lnTo>
                  <a:pt x="0" y="21600"/>
                </a:lnTo>
                <a:lnTo>
                  <a:pt x="18781" y="21600"/>
                </a:lnTo>
                <a:lnTo>
                  <a:pt x="18781" y="8319"/>
                </a:lnTo>
                <a:lnTo>
                  <a:pt x="21600" y="8319"/>
                </a:lnTo>
                <a:lnTo>
                  <a:pt x="17213" y="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AutoShape 6"/>
          <p:cNvSpPr/>
          <p:nvPr/>
        </p:nvSpPr>
        <p:spPr>
          <a:xfrm flipH="1">
            <a:off x="1475640" y="1341360"/>
            <a:ext cx="647640" cy="1727280"/>
          </a:xfrm>
          <a:custGeom>
            <a:avLst/>
            <a:gdLst>
              <a:gd name="textAreaLeft" fmla="*/ 0 w 647640"/>
              <a:gd name="textAreaRight" fmla="*/ 563400 w 647640"/>
              <a:gd name="textAreaTop" fmla="*/ 143892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7213" y="0"/>
                </a:moveTo>
                <a:lnTo>
                  <a:pt x="12825" y="8319"/>
                </a:lnTo>
                <a:lnTo>
                  <a:pt x="15644" y="8319"/>
                </a:lnTo>
                <a:lnTo>
                  <a:pt x="15644" y="17992"/>
                </a:lnTo>
                <a:lnTo>
                  <a:pt x="0" y="17992"/>
                </a:lnTo>
                <a:lnTo>
                  <a:pt x="0" y="21600"/>
                </a:lnTo>
                <a:lnTo>
                  <a:pt x="18781" y="21600"/>
                </a:lnTo>
                <a:lnTo>
                  <a:pt x="18781" y="8319"/>
                </a:lnTo>
                <a:lnTo>
                  <a:pt x="21600" y="8319"/>
                </a:lnTo>
                <a:lnTo>
                  <a:pt x="17213" y="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AutoShape 7"/>
          <p:cNvSpPr/>
          <p:nvPr/>
        </p:nvSpPr>
        <p:spPr>
          <a:xfrm>
            <a:off x="1258920" y="3213000"/>
            <a:ext cx="792000" cy="300240"/>
          </a:xfrm>
          <a:prstGeom prst="leftArrow">
            <a:avLst>
              <a:gd name="adj1" fmla="val 50000"/>
              <a:gd name="adj2" fmla="val 65947"/>
            </a:avLst>
          </a:pr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AutoShape 8"/>
          <p:cNvSpPr/>
          <p:nvPr/>
        </p:nvSpPr>
        <p:spPr>
          <a:xfrm flipH="1">
            <a:off x="5579280" y="3284640"/>
            <a:ext cx="792360" cy="299880"/>
          </a:xfrm>
          <a:prstGeom prst="leftArrow">
            <a:avLst>
              <a:gd name="adj1" fmla="val 50000"/>
              <a:gd name="adj2" fmla="val 66056"/>
            </a:avLst>
          </a:pr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AutoShape 9"/>
          <p:cNvSpPr/>
          <p:nvPr/>
        </p:nvSpPr>
        <p:spPr>
          <a:xfrm flipH="1" flipV="1">
            <a:off x="1402920" y="3645000"/>
            <a:ext cx="720720" cy="1944720"/>
          </a:xfrm>
          <a:custGeom>
            <a:avLst/>
            <a:gdLst>
              <a:gd name="textAreaLeft" fmla="*/ 360 w 720720"/>
              <a:gd name="textAreaRight" fmla="*/ 627120 w 720720"/>
              <a:gd name="textAreaTop" fmla="*/ 1620360 h 1944720"/>
              <a:gd name="textAreaBottom" fmla="*/ 1945440 h 1944720"/>
            </a:gdLst>
            <a:ahLst/>
            <a:rect l="textAreaLeft" t="textAreaTop" r="textAreaRight" b="textAreaBottom"/>
            <a:pathLst>
              <a:path w="21600" h="21600">
                <a:moveTo>
                  <a:pt x="17213" y="0"/>
                </a:moveTo>
                <a:lnTo>
                  <a:pt x="12825" y="8319"/>
                </a:lnTo>
                <a:lnTo>
                  <a:pt x="15644" y="8319"/>
                </a:lnTo>
                <a:lnTo>
                  <a:pt x="15644" y="17992"/>
                </a:lnTo>
                <a:lnTo>
                  <a:pt x="0" y="17992"/>
                </a:lnTo>
                <a:lnTo>
                  <a:pt x="0" y="21600"/>
                </a:lnTo>
                <a:lnTo>
                  <a:pt x="18781" y="21600"/>
                </a:lnTo>
                <a:lnTo>
                  <a:pt x="18781" y="8319"/>
                </a:lnTo>
                <a:lnTo>
                  <a:pt x="21600" y="8319"/>
                </a:lnTo>
                <a:lnTo>
                  <a:pt x="17213" y="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AutoShape 10"/>
          <p:cNvSpPr/>
          <p:nvPr/>
        </p:nvSpPr>
        <p:spPr>
          <a:xfrm flipV="1">
            <a:off x="5651640" y="3859920"/>
            <a:ext cx="792000" cy="1800360"/>
          </a:xfrm>
          <a:custGeom>
            <a:avLst/>
            <a:gdLst>
              <a:gd name="textAreaLeft" fmla="*/ 0 w 792000"/>
              <a:gd name="textAreaRight" fmla="*/ 688680 w 792000"/>
              <a:gd name="textAreaTop" fmla="*/ 1499400 h 1800360"/>
              <a:gd name="textAreaBottom" fmla="*/ 1800360 h 1800360"/>
            </a:gdLst>
            <a:ahLst/>
            <a:rect l="textAreaLeft" t="textAreaTop" r="textAreaRight" b="textAreaBottom"/>
            <a:pathLst>
              <a:path w="21600" h="21600">
                <a:moveTo>
                  <a:pt x="17213" y="0"/>
                </a:moveTo>
                <a:lnTo>
                  <a:pt x="12825" y="8319"/>
                </a:lnTo>
                <a:lnTo>
                  <a:pt x="15644" y="8319"/>
                </a:lnTo>
                <a:lnTo>
                  <a:pt x="15644" y="17992"/>
                </a:lnTo>
                <a:lnTo>
                  <a:pt x="0" y="17992"/>
                </a:lnTo>
                <a:lnTo>
                  <a:pt x="0" y="21600"/>
                </a:lnTo>
                <a:lnTo>
                  <a:pt x="18781" y="21600"/>
                </a:lnTo>
                <a:lnTo>
                  <a:pt x="18781" y="8319"/>
                </a:lnTo>
                <a:lnTo>
                  <a:pt x="21600" y="8319"/>
                </a:lnTo>
                <a:lnTo>
                  <a:pt x="17213" y="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AutoShape 11"/>
          <p:cNvSpPr/>
          <p:nvPr/>
        </p:nvSpPr>
        <p:spPr>
          <a:xfrm flipV="1">
            <a:off x="3995640" y="4365720"/>
            <a:ext cx="505080" cy="1079280"/>
          </a:xfrm>
          <a:prstGeom prst="upArrow">
            <a:avLst>
              <a:gd name="adj1" fmla="val 50000"/>
              <a:gd name="adj2" fmla="val 53421"/>
            </a:avLst>
          </a:pr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2195640" y="2852640"/>
            <a:ext cx="3313080" cy="1477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Ска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развиваю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684360" y="765000"/>
            <a:ext cx="2303280" cy="45972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Воображени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3419640" y="836640"/>
            <a:ext cx="1944360" cy="42912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Мышлен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5724360" y="836640"/>
            <a:ext cx="2016360" cy="429120"/>
          </a:xfrm>
          <a:prstGeom prst="rect">
            <a:avLst/>
          </a:prstGeom>
          <a:solidFill>
            <a:srgbClr val="ebf7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Творчество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250920" y="3213000"/>
            <a:ext cx="1008000" cy="42912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Речь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6443640" y="3068640"/>
            <a:ext cx="2700360" cy="76428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Математические способнос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2916360" y="5661000"/>
            <a:ext cx="2519280" cy="76428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Экологические зна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Text Box 20"/>
          <p:cNvSpPr/>
          <p:nvPr/>
        </p:nvSpPr>
        <p:spPr>
          <a:xfrm>
            <a:off x="5867280" y="5661000"/>
            <a:ext cx="2449800" cy="76428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Нравственные качест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Text Box 21"/>
          <p:cNvSpPr/>
          <p:nvPr/>
        </p:nvSpPr>
        <p:spPr>
          <a:xfrm>
            <a:off x="611280" y="5661000"/>
            <a:ext cx="2089080" cy="76428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Физические   качест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Line 22"/>
          <p:cNvSpPr/>
          <p:nvPr/>
        </p:nvSpPr>
        <p:spPr>
          <a:xfrm>
            <a:off x="3564000" y="306864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Organization Chart 5"/>
          <p:cNvGrpSpPr/>
          <p:nvPr/>
        </p:nvGrpSpPr>
        <p:grpSpPr>
          <a:xfrm>
            <a:off x="539640" y="333360"/>
            <a:ext cx="8146800" cy="5181480"/>
            <a:chOff x="539640" y="333360"/>
            <a:chExt cx="8146800" cy="5181480"/>
          </a:xfrm>
        </p:grpSpPr>
        <p:cxnSp>
          <p:nvCxnSpPr>
            <p:cNvPr id="764" name="_s1028"/>
            <p:cNvCxnSpPr>
              <a:stCxn id="765" idx="0"/>
              <a:endCxn id="766" idx="2"/>
            </p:cNvCxnSpPr>
            <p:nvPr/>
          </p:nvCxnSpPr>
          <p:spPr>
            <a:xfrm flipV="1" rot="16200000">
              <a:off x="5516640" y="1497600"/>
              <a:ext cx="1043640" cy="2851920"/>
            </a:xfrm>
            <a:prstGeom prst="bentConnector3">
              <a:avLst>
                <a:gd name="adj1" fmla="val 1193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7" name="_s1029"/>
            <p:cNvCxnSpPr>
              <a:stCxn id="768" idx="0"/>
              <a:endCxn id="766" idx="2"/>
            </p:cNvCxnSpPr>
            <p:nvPr/>
          </p:nvCxnSpPr>
          <p:spPr>
            <a:xfrm flipV="1">
              <a:off x="4612680" y="2401920"/>
              <a:ext cx="3240" cy="1043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9" name="_s1030"/>
            <p:cNvCxnSpPr>
              <a:stCxn id="770" idx="0"/>
              <a:endCxn id="766" idx="2"/>
            </p:cNvCxnSpPr>
            <p:nvPr/>
          </p:nvCxnSpPr>
          <p:spPr>
            <a:xfrm flipH="1" flipV="1" rot="5400000">
              <a:off x="2665440" y="1497960"/>
              <a:ext cx="1043640" cy="2851920"/>
            </a:xfrm>
            <a:prstGeom prst="bentConnector3">
              <a:avLst>
                <a:gd name="adj1" fmla="val 1193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66" name="_s1031"/>
            <p:cNvSpPr/>
            <p:nvPr/>
          </p:nvSpPr>
          <p:spPr>
            <a:xfrm>
              <a:off x="3390840" y="333360"/>
              <a:ext cx="2444040" cy="2069280"/>
            </a:xfrm>
            <a:prstGeom prst="roundRect">
              <a:avLst>
                <a:gd name="adj" fmla="val 16667"/>
              </a:avLst>
            </a:prstGeom>
            <a:solidFill>
              <a:srgbClr val="fff6a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700" spc="-1" strike="noStrike">
                  <a:solidFill>
                    <a:srgbClr val="ff0066"/>
                  </a:solidFill>
                  <a:latin typeface="Tahoma"/>
                </a:rPr>
                <a:t>Речь</a:t>
              </a:r>
              <a:endParaRPr b="0" lang="en-US" sz="7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_s1032"/>
            <p:cNvSpPr/>
            <p:nvPr/>
          </p:nvSpPr>
          <p:spPr>
            <a:xfrm>
              <a:off x="539640" y="3445560"/>
              <a:ext cx="2444040" cy="2069280"/>
            </a:xfrm>
            <a:prstGeom prst="roundRect">
              <a:avLst>
                <a:gd name="adj" fmla="val 16667"/>
              </a:avLst>
            </a:prstGeom>
            <a:solidFill>
              <a:srgbClr val="fff5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Tahoma"/>
                </a:rPr>
                <a:t>Сказка</a:t>
              </a: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 помогает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строить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правильный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диалог с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собеседником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_s1033"/>
            <p:cNvSpPr/>
            <p:nvPr/>
          </p:nvSpPr>
          <p:spPr>
            <a:xfrm>
              <a:off x="3390840" y="3445560"/>
              <a:ext cx="2444040" cy="2069280"/>
            </a:xfrm>
            <a:prstGeom prst="roundRect">
              <a:avLst>
                <a:gd name="adj" fmla="val 16667"/>
              </a:avLst>
            </a:prstGeom>
            <a:solidFill>
              <a:srgbClr val="fff5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Tahoma"/>
                </a:rPr>
                <a:t>Сказка</a:t>
              </a: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 помогает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развивать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логическую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связную речь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_s1034"/>
            <p:cNvSpPr/>
            <p:nvPr/>
          </p:nvSpPr>
          <p:spPr>
            <a:xfrm>
              <a:off x="6242400" y="3445560"/>
              <a:ext cx="2444040" cy="2069280"/>
            </a:xfrm>
            <a:prstGeom prst="roundRect">
              <a:avLst>
                <a:gd name="adj" fmla="val 16667"/>
              </a:avLst>
            </a:prstGeom>
            <a:solidFill>
              <a:srgbClr val="fff7ab"/>
            </a:solidFill>
            <a:ln w="9360">
              <a:solidFill>
                <a:srgbClr val="fff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Tahoma"/>
                </a:rPr>
                <a:t>Сказка </a:t>
              </a: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помогает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дела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речь красивой,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эмоционально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1" name="AutoShape 18"/>
          <p:cNvSpPr/>
          <p:nvPr/>
        </p:nvSpPr>
        <p:spPr>
          <a:xfrm>
            <a:off x="1835280" y="5373720"/>
            <a:ext cx="6696000" cy="148428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Text Box 19"/>
          <p:cNvSpPr/>
          <p:nvPr/>
        </p:nvSpPr>
        <p:spPr>
          <a:xfrm>
            <a:off x="2001240" y="5678640"/>
            <a:ext cx="62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r>
              <a:rPr b="1" lang="ru-RU" sz="1800" spc="-1" strike="noStrike" u="sng">
                <a:solidFill>
                  <a:srgbClr val="0066ff"/>
                </a:solidFill>
                <a:uFillTx/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Tahoma"/>
              </a:rPr>
              <a:t>Читайте больше сказок! Попросите, что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Tahoma"/>
              </a:rPr>
              <a:t>ребенок пересказал сказку. Разыграйте сказку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ahoma"/>
              </a:rPr>
              <a:t>рол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3" name="Picture 20" descr="21012013482"/>
          <p:cNvPicPr/>
          <p:nvPr/>
        </p:nvPicPr>
        <p:blipFill>
          <a:blip r:embed="rId1"/>
          <a:stretch/>
        </p:blipFill>
        <p:spPr>
          <a:xfrm>
            <a:off x="684360" y="549360"/>
            <a:ext cx="244764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539640" y="1700280"/>
            <a:ext cx="3772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Воображ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Очень полезно и важно для дошкольника: о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делает его жиз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индивидуально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творческ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неповторим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нестандартно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609800" y="1699920"/>
            <a:ext cx="3849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cc00"/>
                </a:solidFill>
                <a:uFillTx/>
                <a:latin typeface="Tahoma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Сказку вовсе не обязательно читать                   пол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Середину или заключение можно   оставить на потом, чтобы ребенок сам          придумал   продолжение или сам сочинил  сказку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Cloud"/>
          <p:cNvSpPr/>
          <p:nvPr/>
        </p:nvSpPr>
        <p:spPr>
          <a:xfrm>
            <a:off x="1332000" y="260280"/>
            <a:ext cx="6048360" cy="1728720"/>
          </a:xfrm>
          <a:custGeom>
            <a:avLst/>
            <a:gdLst>
              <a:gd name="textAreaLeft" fmla="*/ 833400 w 6048360"/>
              <a:gd name="textAreaRight" fmla="*/ 4784760 w 6048360"/>
              <a:gd name="textAreaTop" fmla="*/ 261000 h 1728720"/>
              <a:gd name="textAreaBottom" fmla="*/ 1387800 h 1728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d3a7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2124000" y="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Вообра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85800" y="1413000"/>
            <a:ext cx="7696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   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Tahoma"/>
              </a:rPr>
              <a:t>Сказ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учит  правильно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вести и проявлять определенные черты характера в той или иной ситуации. Так же развивается мышление, когда ребенок играет в различные дидактические игры.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Совет!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Поиграйте с детьми в  дидактические игры: «Из какой сказ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этот герой?», «Кто лишний?»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«Какие сказки перепутались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AutoShape 4"/>
          <p:cNvSpPr/>
          <p:nvPr/>
        </p:nvSpPr>
        <p:spPr>
          <a:xfrm>
            <a:off x="900000" y="0"/>
            <a:ext cx="6048360" cy="1727280"/>
          </a:xfrm>
          <a:prstGeom prst="cloudCallout">
            <a:avLst>
              <a:gd name="adj1" fmla="val -61050"/>
              <a:gd name="adj2" fmla="val 101287"/>
            </a:avLst>
          </a:prstGeom>
          <a:solidFill>
            <a:srgbClr val="fff48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2535120" y="476280"/>
            <a:ext cx="318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ышл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684360" y="1268280"/>
            <a:ext cx="7632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Сказка, как ни что другое, дает определенный полет фантазии и огромную возможность для воображения, а значит и способствует развитию творческого потенциала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е бойтесь чаще давать детям краски, кисточки пластилин, цветную бумагу  для самостоятельной деятельности. Уделяйте   больше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ремени для театраль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WordArt 5"/>
          <p:cNvSpPr txBox="1"/>
          <p:nvPr/>
        </p:nvSpPr>
        <p:spPr>
          <a:xfrm>
            <a:off x="900000" y="18900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ворчество</a:t>
            </a:r>
            <a:endParaRPr b="1" lang="en-US" sz="5400" spc="1" strike="noStrike">
              <a:ln w="12600">
                <a:solidFill>
                  <a:srgbClr val="ff33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685800" y="1828440"/>
            <a:ext cx="7696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Большое место сказка занимает и в та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Области, как математика. Дети, слуш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Сказки, учатся считать, сравнивать, делить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рочитав сказку спросите у ребенка: Сколько в ней было героев (попросите выложить палочки). Сколько зверей? Кого больше? Кого меньше? Сравните зверей. Какие   большие? Какие маленькие? Кому какой мостик построить? (Мишке - широ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зайке – узкий). Как разделить яблок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сыр, апельсин?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AutoShape 5"/>
          <p:cNvSpPr/>
          <p:nvPr/>
        </p:nvSpPr>
        <p:spPr>
          <a:xfrm>
            <a:off x="250920" y="189000"/>
            <a:ext cx="7416720" cy="1584360"/>
          </a:xfrm>
          <a:custGeom>
            <a:avLst/>
            <a:gdLst>
              <a:gd name="textAreaLeft" fmla="*/ 1374120 w 7416720"/>
              <a:gd name="textAreaRight" fmla="*/ 6042600 w 7416720"/>
              <a:gd name="textAreaTop" fmla="*/ 269640 h 1584360"/>
              <a:gd name="textAreaBottom" fmla="*/ 155520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7921"/>
                </a:moveTo>
                <a:arcTo wR="21600" hR="7830" stAng="8872624" swAng="-925680"/>
                <a:lnTo>
                  <a:pt x="4002" y="21202"/>
                </a:lnTo>
                <a:arcTo wR="21600" hR="7830" stAng="7946944" swAng="-5093887"/>
                <a:lnTo>
                  <a:pt x="17598" y="18572"/>
                </a:lnTo>
                <a:arcTo wR="21600" hR="7830" stAng="2853056" swAng="-925680"/>
                <a:lnTo>
                  <a:pt x="18900" y="9438"/>
                </a:lnTo>
                <a:lnTo>
                  <a:pt x="21600" y="0"/>
                </a:lnTo>
                <a:lnTo>
                  <a:pt x="21600" y="0"/>
                </a:lnTo>
                <a:arcTo wR="21600" hR="7830" stAng="1927376" swAng="1788998"/>
                <a:lnTo>
                  <a:pt x="14898" y="3537"/>
                </a:lnTo>
                <a:arcTo wR="21600" hR="7830" stAng="3716374" swAng="3367252"/>
                <a:lnTo>
                  <a:pt x="6702" y="907"/>
                </a:lnTo>
                <a:arcTo wR="21600" hR="7830" stAng="7083626" swAng="1788998"/>
                <a:lnTo>
                  <a:pt x="2700" y="9438"/>
                </a:lnTo>
                <a:close/>
              </a:path>
              <a:path fill="none" w="21600" h="21600">
                <a:moveTo>
                  <a:pt x="6702" y="3537"/>
                </a:moveTo>
                <a:arcTo wR="21600" hR="7830" stAng="7083626" swAng="863318"/>
                <a:lnTo>
                  <a:pt x="6702" y="907"/>
                </a:lnTo>
              </a:path>
              <a:path fill="none" w="21600" h="21600">
                <a:moveTo>
                  <a:pt x="14898" y="3537"/>
                </a:moveTo>
                <a:arcTo wR="21600" hR="7830" stAng="3716374" swAng="-863318"/>
                <a:lnTo>
                  <a:pt x="14898" y="907"/>
                </a:lnTo>
              </a:path>
              <a:path fill="none" w="21600" h="21600">
                <a:moveTo>
                  <a:pt x="4002" y="18572"/>
                </a:moveTo>
                <a:lnTo>
                  <a:pt x="4002" y="3281"/>
                </a:lnTo>
              </a:path>
              <a:path fill="none" w="21600" h="21600">
                <a:moveTo>
                  <a:pt x="17598" y="18572"/>
                </a:moveTo>
                <a:lnTo>
                  <a:pt x="17598" y="3281"/>
                </a:lnTo>
              </a:path>
            </a:pathLst>
          </a:custGeom>
          <a:solidFill>
            <a:srgbClr val="99ccff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e0e51"/>
                </a:solidFill>
                <a:latin typeface="Tahoma"/>
              </a:rPr>
              <a:t>Математическ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e0e51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be0e51"/>
                </a:solidFill>
                <a:latin typeface="Tahoma"/>
              </a:rPr>
              <a:t>способ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1284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Нравственные чувства рождаются в душе ребен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под впечатлением сказочных образов. Сказ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неотделима от красоты, способствует развит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эстетических чувств, без которых немыслим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благородство души, чуткость к человеческому горю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состраданию. Благодаря сказки ребенок познает ми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не только умом, но и сердцем. Выражает св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отношение к добру и з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Совет!</a:t>
            </a:r>
            <a:r>
              <a:rPr b="0" lang="ru-RU" sz="2000" spc="-1" strike="noStrike">
                <a:solidFill>
                  <a:srgbClr val="f4960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Прочитав сказку, побеседуйте с ребенком: 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               </a:t>
            </a: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положительный герой, кто отрицательн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Что победило добро или зло? Как бы ты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поступил на месте героев сказ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AutoShape 4"/>
          <p:cNvSpPr/>
          <p:nvPr/>
        </p:nvSpPr>
        <p:spPr>
          <a:xfrm>
            <a:off x="179280" y="0"/>
            <a:ext cx="7417080" cy="1844640"/>
          </a:xfrm>
          <a:prstGeom prst="horizontalScroll">
            <a:avLst>
              <a:gd name="adj" fmla="val 16009"/>
            </a:avLst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Нравственные кач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5:56:41Z</dcterms:created>
  <dc:creator>ASUS</dc:creator>
  <dc:description/>
  <dc:language>en-US</dc:language>
  <cp:lastModifiedBy>D!akov RePack</cp:lastModifiedBy>
  <dcterms:modified xsi:type="dcterms:W3CDTF">2015-11-10T18:27:00Z</dcterms:modified>
  <cp:revision>42</cp:revision>
  <dc:subject/>
  <dc:title>Сказка творит чудеса                          советы родителям</dc:title>
</cp:coreProperties>
</file>