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BAC-45EC-4C9A-BB7B-AF0A0F82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792-52D6-42A4-8D65-82F6FB8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3089-8EA8-4D01-B7CB-55F070A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9E758-BE83-44CB-9A1B-000B164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C356-7CA2-43F2-9BEE-11323C42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B9C97-C5DB-4560-B3BE-354B09A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9B34F-79D6-413D-8594-32F2689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029C-5E0A-40CB-AE3C-F0C6233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CEB81-48F4-41C3-8369-02D421E4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E457E-BDC4-4E99-A929-BAC78BCB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A765C-1286-4D71-8937-4455FDA9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AFDE1-715E-4F98-AB4B-1B919895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98A-D638-4F5B-B66D-677829F6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3992D-E967-4893-BCF1-4E07F1B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85EF6-6871-4462-B866-9CAA72C5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89F16-8572-46F6-AE7C-4778235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F8AD0-54F4-4CEF-836A-4D1AE69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D974-E9C6-4565-A2AF-B030D4A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167D4-122F-476A-B834-EE5E8AC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E6FF2-209A-4FEC-846E-67207EA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898FC-F672-49FB-B817-245C69E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CF60B-27E1-4AE2-AA83-7C7C4893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F35F8-4A2A-4F59-AE06-2FF53FD7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580-EADB-496E-91AA-AA33B5C9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11A5-4CDE-494B-9C9B-0587052C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2EAAF-BF07-4BBD-8B20-3C7E10F1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FF22-F3C5-4D54-B463-C900BE0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F51B8-5684-4394-A56D-51033B0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CAF7-4AC8-4599-91D3-35AF73E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20DBA-75C8-4AC8-8F9A-7EEA7089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27D1-0C89-44D4-A078-BE28B86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9DF90-D2C6-4068-9CAD-3047130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0C9D-F3E2-46E4-9703-A39708F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A38DD-3F01-487D-A61C-6D20998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5DB-6B86-49DB-85F2-D9CB1889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EA612-DD8D-48ED-874C-105BAE6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25375-C74E-4AC1-AEBA-31629546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1BA58-ACCB-48DE-ABA0-A117191C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92277-A843-4F02-A112-BFB67249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F0EB5-F864-4F5C-9671-8952EB9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C7559-9737-47B2-A268-B206030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8AE29-C17E-402E-BE6A-DE35755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64F42-4848-431E-B7DC-C043AAD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1A5CD-5732-4448-B044-77D24BBF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7125-CEA6-4924-A7F2-BC222D7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84F-98B7-4072-87F6-14E3BDF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E8D13-0CA9-4DBB-8D0B-6A804253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797F0-360F-4883-9FDA-085E3E8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95D9D-E041-4DF4-8E0D-811743C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2A3B1-F498-4A48-8BFC-FCE3DD42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06C7C-E04B-4951-A612-83E988AC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E1219-0B07-40CB-8515-4424D9CE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B53A2-5523-407D-82A5-FBBD887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BDCAD-5EDB-4162-B5C0-C640764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E2165-17E7-44DD-BD27-0CA73A2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BC4E8-6802-4406-A533-03BBEA4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B2D-E503-45B3-BB59-863A06C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8CDB7-E749-4F62-A84A-9C0792E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F50D2-B239-43D4-A78F-BD65C17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714B2-C445-46DE-8702-B1313E3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05BBE-CFC0-4A15-AE2F-52831BD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0F5D9-5D53-44F9-9C2A-E44B5EAA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FC759-E713-4915-8C1B-BB060DA6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6C5D3-439B-4C07-8A1B-842E1038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0347F-05F1-467B-AEF7-42C850C3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66FE5-5B00-4E98-9D1C-A565A18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F0875-7055-4B71-A787-733E896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972-5249-4C1E-BDD4-EC568A63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68512-1905-4BB0-B4B7-99B3D63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7293D-0326-47D9-9805-AA04976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3F788-D509-4156-9394-69B9A45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16D4A-CF22-475B-AC4E-EF38193A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1205D-F430-420C-8D9F-CD27D20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AED06-328E-48DE-AB24-B31DC22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BD0AB-BFC4-496E-97A7-13D1C75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4E92E-EA5B-4570-8949-772F0DB7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98DEC-CC23-4C0B-A90F-617CDD69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E08FB-11E0-435C-B921-C6C8CB2B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F0C-073D-4FB9-82BE-D0FE476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95B59-C35E-4E99-A3B7-EEB0BF67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F74B2-B421-4252-A5A1-F1E7A7A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11F7D-1B4E-4E92-AEFD-8CECF1E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D8EEA-4593-4F93-98FA-3C71B7A1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BB9BF-0366-422C-B97F-C42D080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FDBFC-13B1-4418-A507-97738FF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CA5B3-6BDF-4FAE-856A-D891959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A38F3-CEEF-4ED8-9290-525B03F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FCE02-053D-42AB-9879-6F139C9F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5E967-1DB6-4013-A69B-3FC3F00E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4EDD-B44F-4586-9CD0-5515BB6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7162B-48B0-4A03-80E2-7BD991A9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E515C-2C2B-44B5-8181-3632F3E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16862-0EBA-47D9-BECB-E86DE4B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1A068-BFCF-4DE2-A7B2-C44A5CD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5D31A-237C-4702-A05E-2E0A5FD3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7250E-7A5E-4379-8716-8034BC5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56CB6-1608-4074-8D2E-28D06F0A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15E74-508F-4934-A60D-F22EEB0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79D55-0A67-4866-B9B7-8F4920E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49CC8-795B-4597-BA07-07BD037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783A-D5ED-408C-B93E-3B0532C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12CE9-DC7F-4BD2-81AB-B7AB50B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E2D99-0E2D-4259-91A9-26A9984D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13222-0067-47A3-AFA0-A5D0456C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36-714F-4073-B56D-7684BEC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8D89-F488-4B4A-B936-4460DEE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4A0-7D7A-4D68-9449-8766FF7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805A-EB63-42F8-9BEA-0E68FC6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0A9F-7CF4-42AB-AE9A-F52D4460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39FB-D218-4402-AE30-7ABE5FC4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0F3D0-96B8-4667-AC17-E82AC9F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34544-ABA4-4C19-83D1-9C5F27F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20D97-51F6-4CCA-80AA-044672D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D5EB-85B1-47EE-AD25-F3327BA2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FA62-35F0-4225-9965-005939B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4A3-AE94-4D0D-9636-3B9FD5E3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E9D24-B4F6-4EF7-A020-A26D410D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CD763-4E14-4D5F-8116-9BF8AA6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1EDE2-FDC8-4FB3-BF2E-7F2D061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85F52-7339-4F8E-8D49-61B7D3D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826FC-5563-4789-9478-C8356B5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389ED-D24A-41D7-A7FE-A95C0A4A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B6B3A-7015-4CC4-843D-8AE3832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82FC-D095-4F19-A62E-B694E4AC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35FF-57D6-420A-96E2-6CD0767A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9C45-D509-4C4B-88F9-E50ABC1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357-AF95-413A-83CC-1816A890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CBD5-6BB5-4A77-9CF7-B2E3076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C5A2-ACD2-44BC-A628-731002D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6266-9E38-4293-AD94-196B0EED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F68D-9073-4FCB-80C9-7EB04F0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296C-5D25-429F-B1FF-2816D85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B920-40F2-438A-B763-19B87A4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1712-FD00-4D98-B028-3227551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94FC-8476-4045-BB09-6E5A139A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A99A-B5F8-43B6-A9E7-C06FE160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18AF-CE73-4B9A-96FA-96C11AE7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188-759D-4C80-BA7B-26E3E36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682E-C62C-4EBD-BC19-101CD84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3EDB-0831-4A19-B618-14F7FA4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2BE1-B046-4C55-B55E-1C6B041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7D9A-31B9-450D-948F-0B3A478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2055-A3E7-41FC-83C9-5609978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B165-3CA6-4B6F-BA00-516416B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0187-64D6-4E2E-A43E-4292557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4158-4C3D-4F5F-BB67-5C71743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C670-CD71-4001-88C0-0177F6BE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3F2F-07CE-41B5-9705-488F2369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815-0D83-4CAA-B3BD-C41BE44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AD86-D822-47FB-BAC9-90F3F03D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AC8B-34D7-43C7-8BCF-993928D1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FEF7-35B2-435B-9F10-6F3D6EA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6CB0-0C8B-48E5-872A-F57E48B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A7B1-B888-4790-A76A-07A409C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A308C-B31A-4044-A0B7-BD3E208B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53DC-6C46-49A6-8F60-6304FF5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382BA-FF1E-45F3-8CDD-8F29EBE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A712-9E51-44E5-BF8D-4F628D7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0867-AF7F-4F97-A2DC-5BE4E42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223-9E34-42B6-B744-5149003D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A505E-C814-4E0B-869F-EFEFD3C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35F1-6CCF-4EED-85D8-A23624A7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336D-470E-4FB8-B5F4-665E0C28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EA47-F504-4215-986F-D9B48936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01A2-1669-436B-81BD-4A34032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20B3F-63F2-4340-BF4C-340EC901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57EAB-51DD-4D62-A16A-C66116E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B9F0-650D-44FB-95D9-6154A46C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6F51-600A-4D80-AC6E-309D0E80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142A-94D4-444F-B77C-414429F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045-C3A3-41B1-A984-1560882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98E11-7245-4E3B-A057-5AAB4E9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DD8B-E031-436C-80F4-052C488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D21F-EA6F-481A-9BD3-7F8F194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B5753-F972-43AD-B91B-3D7E37D6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1092-A1B2-40B0-9F18-9A41829E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29CC-C6D1-4FC5-A8C7-8B5A9A26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595D-712D-4079-BA36-3411A36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85CA-1B5D-4128-B7AD-736FA61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9ABC-5C18-4B27-8644-4371BC7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822A-933E-483D-8C7E-25D0B34F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13F-6A78-4810-92CD-E0A1122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B20C-C3FD-4DC9-8480-0EC5638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4B05-DCDD-4B32-936D-B87BC35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B41B-F400-4053-A6AB-18C5561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2F11-A000-4061-9764-BE8C9E1D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50EF-57AC-45A9-87E0-7EE79ED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333C-476E-45F0-B4BF-FC4CD842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D62B1-4238-46DD-9779-6F900B2D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5EA2-434D-4C11-82C6-EF4DFF57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37AC9-4DC8-4940-93D9-1550B756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4972B-580D-44B9-8AC5-DD89411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BE5-2E81-469F-AEAB-E34F5D778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02B-FFF8-49E0-A49F-5A1851AD4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84C5-D0A6-4D88-9108-4B057FE98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969-576C-4B6E-AB49-AF6D9BE3A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F2A-0E15-4BF3-BC9F-0075F341D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4EE0-1951-401D-BA16-C398A7218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73DF-9C55-4E0B-922B-2FB6766F1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60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61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6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7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8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79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2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83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4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8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9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9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9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5D2-38B6-4770-BAF9-59662E61C38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353-21A4-4C3B-96D3-0956B0F1E8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D025-2243-4A7A-BD7C-849F87591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A32C-0258-44D4-949B-01E9B96DD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9223-A362-48B3-B823-0C8AB66B4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A6B-6EEC-4633-B986-6B0343B66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77B-3395-4B04-AB0E-9413F958E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1C4C-B4EF-4E72-880B-7F5C32A87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BE7-E868-4688-8298-CD4111EED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ьзование информационно - коммуникативных технологий (ИКТ) в педагогическом процесс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539640" y="3357360"/>
            <a:ext cx="81360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азка творит чудеса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Консультация для р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«Сказка ложь, да в ней намек. Добрым молодцам урок!». Сказка не только развлекает, она воспитывает, знакомит ребенка с окружающим миром.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 помощью сказки можно дать определенные знания. Например можем дать понятие как «Организм и среда» («Репка» - что нужно чтобы репка выросла). Можно познакомить с состоянием воды («Заюшкина избушка»). Дать понятие, что в природе все взаимосвязано, за зимой приходит весна, за весной лето и т.д.(«Двенадцать месяцев»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Читайте сказки на природе, задавайте детям      вопросы, объясняйте непонятные явления, выражения, делайте различные эксперименты,что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ребенок на собственном опыте постигал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таинства прир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AutoShape 5"/>
          <p:cNvSpPr/>
          <p:nvPr/>
        </p:nvSpPr>
        <p:spPr>
          <a:xfrm rot="247200">
            <a:off x="169920" y="-1440"/>
            <a:ext cx="8972640" cy="2058840"/>
          </a:xfrm>
          <a:prstGeom prst="irregularSeal2">
            <a:avLst/>
          </a:prstGeom>
          <a:solidFill>
            <a:srgbClr val="99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2392200" y="40464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ahoma"/>
              </a:rPr>
              <a:t>Экологичес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ahoma"/>
              </a:rPr>
              <a:t>воспит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484000" y="1844640"/>
            <a:ext cx="60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1.Двигательно – творческие занятия,основа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на одном из видов устного народного творче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2.Сюжетно – физкультурные занятия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«вкраплением» элементов сказ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3.Театрализированные физкультурные заня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4.Музыкально – ритмические занятия,основа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на играх, плясках, танцах, хоровод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5.Игравые физкультурные занятия (народные игры со сказочными героям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6.Интегрированные физические занят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очетающие фольклор и физические упраж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7.Пальчиковые иг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ahoma"/>
              </a:rPr>
              <a:t>Совет!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Больше движений, не сидите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месте! Только вперед и только все вмес</a:t>
            </a:r>
            <a:r>
              <a:rPr b="1" lang="ru-RU" sz="1600" spc="-1" strike="noStrike">
                <a:solidFill>
                  <a:srgbClr val="6600cc"/>
                </a:solidFill>
                <a:latin typeface="Tahoma"/>
              </a:rPr>
              <a:t>те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2" name="Picture 7" descr="28112011155"/>
          <p:cNvPicPr/>
          <p:nvPr/>
        </p:nvPicPr>
        <p:blipFill>
          <a:blip r:embed="rId1"/>
          <a:stretch/>
        </p:blipFill>
        <p:spPr>
          <a:xfrm>
            <a:off x="0" y="2637000"/>
            <a:ext cx="2484360" cy="2304720"/>
          </a:xfrm>
          <a:prstGeom prst="rect">
            <a:avLst/>
          </a:prstGeom>
          <a:ln w="0">
            <a:noFill/>
          </a:ln>
        </p:spPr>
      </p:pic>
      <p:sp>
        <p:nvSpPr>
          <p:cNvPr id="793" name="AutoShape 8"/>
          <p:cNvSpPr/>
          <p:nvPr/>
        </p:nvSpPr>
        <p:spPr>
          <a:xfrm>
            <a:off x="0" y="0"/>
            <a:ext cx="7667640" cy="1628640"/>
          </a:xfrm>
          <a:prstGeom prst="verticalScroll">
            <a:avLst>
              <a:gd name="adj" fmla="val 19250"/>
            </a:avLst>
          </a:prstGeom>
          <a:solidFill>
            <a:srgbClr val="f6e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447840" y="41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0" y="347760"/>
            <a:ext cx="7236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казку можно использовать во всех форм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работы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физическому воспита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4"/>
          <p:cNvSpPr txBox="1"/>
          <p:nvPr/>
        </p:nvSpPr>
        <p:spPr>
          <a:xfrm rot="5400000">
            <a:off x="-2413440" y="2997360"/>
            <a:ext cx="6193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7" name="Picture 5" descr="iCA7EVZFK"/>
          <p:cNvPicPr/>
          <p:nvPr/>
        </p:nvPicPr>
        <p:blipFill>
          <a:blip r:embed="rId1"/>
          <a:stretch/>
        </p:blipFill>
        <p:spPr>
          <a:xfrm>
            <a:off x="1258920" y="0"/>
            <a:ext cx="3600360" cy="29973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6"/>
          <p:cNvSpPr/>
          <p:nvPr/>
        </p:nvSpPr>
        <p:spPr>
          <a:xfrm>
            <a:off x="4714200" y="192240"/>
            <a:ext cx="440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r>
              <a:rPr b="1" lang="ru-RU" sz="36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ля детей – э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целое на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в психологии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887480" y="3030480"/>
            <a:ext cx="725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ahoma"/>
              </a:rPr>
              <a:t>Сказкотерапия направлена не только на развитие ребенка, но и на направленную помощь в трудны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ahoma"/>
              </a:rPr>
              <a:t>Она позволяет вытащить из сказочной истории весь ее скрытый потенциал и использовать его во бл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WordArt 4"/>
          <p:cNvSpPr txBox="1"/>
          <p:nvPr/>
        </p:nvSpPr>
        <p:spPr>
          <a:xfrm rot="5400000">
            <a:off x="-2521800" y="3033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1" name="AutoShape 26"/>
          <p:cNvSpPr/>
          <p:nvPr/>
        </p:nvSpPr>
        <p:spPr>
          <a:xfrm>
            <a:off x="1332000" y="1268280"/>
            <a:ext cx="2952720" cy="486000"/>
          </a:xfrm>
          <a:prstGeom prst="rightArrow">
            <a:avLst>
              <a:gd name="adj1" fmla="val 50000"/>
              <a:gd name="adj2" fmla="val 15188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4284720" y="98100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диагностиру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1403280" y="3429000"/>
            <a:ext cx="2808360" cy="576360"/>
          </a:xfrm>
          <a:prstGeom prst="rightArrow">
            <a:avLst>
              <a:gd name="adj1" fmla="val 50000"/>
              <a:gd name="adj2" fmla="val 12181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4479840" y="3166920"/>
            <a:ext cx="45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воздейству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AutoShape 30"/>
          <p:cNvSpPr/>
          <p:nvPr/>
        </p:nvSpPr>
        <p:spPr>
          <a:xfrm>
            <a:off x="1403280" y="5661000"/>
            <a:ext cx="2952720" cy="576360"/>
          </a:xfrm>
          <a:prstGeom prst="rightArrow">
            <a:avLst>
              <a:gd name="adj1" fmla="val 50000"/>
              <a:gd name="adj2" fmla="val 12807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4462920" y="547200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ahoma"/>
              </a:rPr>
              <a:t>развивающ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WordArt 4"/>
          <p:cNvSpPr txBox="1"/>
          <p:nvPr/>
        </p:nvSpPr>
        <p:spPr>
          <a:xfrm rot="5400000">
            <a:off x="-2520720" y="296064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8" name="Picture 7" descr="0_5afc0_37e534b0_XL"/>
          <p:cNvPicPr/>
          <p:nvPr/>
        </p:nvPicPr>
        <p:blipFill>
          <a:blip r:embed="rId1"/>
          <a:stretch/>
        </p:blipFill>
        <p:spPr>
          <a:xfrm>
            <a:off x="5580000" y="0"/>
            <a:ext cx="3960720" cy="349740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8"/>
          <p:cNvSpPr/>
          <p:nvPr/>
        </p:nvSpPr>
        <p:spPr>
          <a:xfrm>
            <a:off x="1527120" y="49320"/>
            <a:ext cx="4916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основана на том, что ребенок отождествляет себя главным героем сказки, учится на его ошиб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1235880" y="3317760"/>
            <a:ext cx="7750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Обратите внимание на то, кому 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ерсонажей сказки симпатизирует в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бенок. Если это отрицатель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персонаж – попробуйте вместе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бенком найти в его характе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хорошие чер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WordArt 4"/>
          <p:cNvSpPr txBox="1"/>
          <p:nvPr/>
        </p:nvSpPr>
        <p:spPr>
          <a:xfrm rot="5400000">
            <a:off x="-2521800" y="303300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е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2" name="Picture 5" descr="iCAU03T7Y"/>
          <p:cNvPicPr/>
          <p:nvPr/>
        </p:nvPicPr>
        <p:blipFill>
          <a:blip r:embed="rId1"/>
          <a:stretch/>
        </p:blipFill>
        <p:spPr>
          <a:xfrm>
            <a:off x="1332000" y="115920"/>
            <a:ext cx="3456000" cy="28083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6"/>
          <p:cNvSpPr/>
          <p:nvPr/>
        </p:nvSpPr>
        <p:spPr>
          <a:xfrm>
            <a:off x="4859280" y="6480"/>
            <a:ext cx="42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Очень хорош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придумать с ребен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личную сказ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которая бу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максима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приближенна к реальной ситу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1600200" y="3246480"/>
            <a:ext cx="744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Пройдя этот путь в своем воображени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ребенку будет легче справляться 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проблемой в реальной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WordArt 4"/>
          <p:cNvSpPr txBox="1"/>
          <p:nvPr/>
        </p:nvSpPr>
        <p:spPr>
          <a:xfrm rot="5400000">
            <a:off x="-2447640" y="296064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6" name="Picture 5" descr="d8a579a41f29f375ab67554a543"/>
          <p:cNvPicPr/>
          <p:nvPr/>
        </p:nvPicPr>
        <p:blipFill>
          <a:blip r:embed="rId1"/>
          <a:stretch/>
        </p:blipFill>
        <p:spPr>
          <a:xfrm>
            <a:off x="5867280" y="189000"/>
            <a:ext cx="3276720" cy="6480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6"/>
          <p:cNvSpPr/>
          <p:nvPr/>
        </p:nvSpPr>
        <p:spPr>
          <a:xfrm>
            <a:off x="1476360" y="57240"/>
            <a:ext cx="446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казко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ьзуется и в борь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 негативными качест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характера. На помощ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ходят всем изве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художественные сказ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пример вас   расстраивает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бенок жаднич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очитайте ему сказ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.С. Пушкина «Сказка 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ыбаке и рыбке», пу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бенок увидит к ч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водит жад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4"/>
          <p:cNvSpPr txBox="1"/>
          <p:nvPr/>
        </p:nvSpPr>
        <p:spPr>
          <a:xfrm rot="5400000">
            <a:off x="-2484360" y="2997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казкотерап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9" name="Picture 6" descr="09012013436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443700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7"/>
          <p:cNvSpPr/>
          <p:nvPr/>
        </p:nvSpPr>
        <p:spPr>
          <a:xfrm>
            <a:off x="1692360" y="189000"/>
            <a:ext cx="2592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1546200" y="4441680"/>
            <a:ext cx="787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едназначена не для лечени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 для профилактики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линская Е.В. Сказочные тренинги для дошкольников и младших школьников» - М.,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Зинкевич-Евстигнеева Т.Д. Психология зависимостей, метод сказкотерапии - СПб., 200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Ильин И.А. Духовный мир сказки. - М., 199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околов Д. Сказки и сказкотерапия. - М.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Сухомлинский В.А. Сердце отдаю детям. – К., 197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анникова Е.Б. Формирование речевого творчества дошкольников» (обучение сочинению сказок). – М.,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Фесюкова Л.Б. Воспитание сказкой (для работы с детьми дошкольного возраста) – М., 200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808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«Через сказку, фантазию, игру, через неповторимое детское творчество – верная дорога к сердцу ребенка. Сказка, фантазия – это ключик, с помощью которого можно открыть эти истоки и они забьют животворными ключами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                           </a:t>
            </a:r>
            <a:r>
              <a:rPr b="1" i="1" lang="ru-RU" sz="3200" spc="-1" strike="noStrike">
                <a:solidFill>
                  <a:srgbClr val="9900cc"/>
                </a:solidFill>
                <a:latin typeface="Verdana"/>
              </a:rPr>
              <a:t>В. Сухомлин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4"/>
          <p:cNvSpPr/>
          <p:nvPr/>
        </p:nvSpPr>
        <p:spPr>
          <a:xfrm>
            <a:off x="3995640" y="1341360"/>
            <a:ext cx="576360" cy="1366920"/>
          </a:xfrm>
          <a:prstGeom prst="upArrow">
            <a:avLst>
              <a:gd name="adj1" fmla="val 50000"/>
              <a:gd name="adj2" fmla="val 59291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5580000" y="1341360"/>
            <a:ext cx="863640" cy="1800360"/>
          </a:xfrm>
          <a:custGeom>
            <a:avLst/>
            <a:gdLst>
              <a:gd name="textAreaLeft" fmla="*/ 0 w 863640"/>
              <a:gd name="textAreaRight" fmla="*/ 750960 w 863640"/>
              <a:gd name="textAreaTop" fmla="*/ 149976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AutoShape 6"/>
          <p:cNvSpPr/>
          <p:nvPr/>
        </p:nvSpPr>
        <p:spPr>
          <a:xfrm flipH="1">
            <a:off x="1475640" y="1341360"/>
            <a:ext cx="647640" cy="1727280"/>
          </a:xfrm>
          <a:custGeom>
            <a:avLst/>
            <a:gdLst>
              <a:gd name="textAreaLeft" fmla="*/ 0 w 647640"/>
              <a:gd name="textAreaRight" fmla="*/ 563400 w 647640"/>
              <a:gd name="textAreaTop" fmla="*/ 143892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AutoShape 7"/>
          <p:cNvSpPr/>
          <p:nvPr/>
        </p:nvSpPr>
        <p:spPr>
          <a:xfrm>
            <a:off x="1258920" y="3213000"/>
            <a:ext cx="792000" cy="300240"/>
          </a:xfrm>
          <a:prstGeom prst="leftArrow">
            <a:avLst>
              <a:gd name="adj1" fmla="val 50000"/>
              <a:gd name="adj2" fmla="val 65947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AutoShape 8"/>
          <p:cNvSpPr/>
          <p:nvPr/>
        </p:nvSpPr>
        <p:spPr>
          <a:xfrm flipH="1">
            <a:off x="5579280" y="3284640"/>
            <a:ext cx="792360" cy="299880"/>
          </a:xfrm>
          <a:prstGeom prst="leftArrow">
            <a:avLst>
              <a:gd name="adj1" fmla="val 50000"/>
              <a:gd name="adj2" fmla="val 66056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AutoShape 9"/>
          <p:cNvSpPr/>
          <p:nvPr/>
        </p:nvSpPr>
        <p:spPr>
          <a:xfrm flipH="1" flipV="1">
            <a:off x="1402920" y="3645000"/>
            <a:ext cx="720720" cy="1944720"/>
          </a:xfrm>
          <a:custGeom>
            <a:avLst/>
            <a:gdLst>
              <a:gd name="textAreaLeft" fmla="*/ 360 w 720720"/>
              <a:gd name="textAreaRight" fmla="*/ 627120 w 720720"/>
              <a:gd name="textAreaTop" fmla="*/ 1620360 h 1944720"/>
              <a:gd name="textAreaBottom" fmla="*/ 1945440 h 194472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AutoShape 10"/>
          <p:cNvSpPr/>
          <p:nvPr/>
        </p:nvSpPr>
        <p:spPr>
          <a:xfrm flipV="1">
            <a:off x="5651640" y="3859920"/>
            <a:ext cx="792000" cy="1800360"/>
          </a:xfrm>
          <a:custGeom>
            <a:avLst/>
            <a:gdLst>
              <a:gd name="textAreaLeft" fmla="*/ 0 w 792000"/>
              <a:gd name="textAreaRight" fmla="*/ 688680 w 792000"/>
              <a:gd name="textAreaTop" fmla="*/ 1499400 h 1800360"/>
              <a:gd name="textAreaBottom" fmla="*/ 1800360 h 1800360"/>
            </a:gdLst>
            <a:ahLst/>
            <a:rect l="textAreaLeft" t="textAreaTop" r="textAreaRight" b="textAreaBottom"/>
            <a:pathLst>
              <a:path w="21600" h="21600">
                <a:moveTo>
                  <a:pt x="17213" y="0"/>
                </a:moveTo>
                <a:lnTo>
                  <a:pt x="12825" y="8319"/>
                </a:lnTo>
                <a:lnTo>
                  <a:pt x="15644" y="8319"/>
                </a:lnTo>
                <a:lnTo>
                  <a:pt x="15644" y="17992"/>
                </a:lnTo>
                <a:lnTo>
                  <a:pt x="0" y="17992"/>
                </a:lnTo>
                <a:lnTo>
                  <a:pt x="0" y="21600"/>
                </a:lnTo>
                <a:lnTo>
                  <a:pt x="18781" y="21600"/>
                </a:lnTo>
                <a:lnTo>
                  <a:pt x="18781" y="8319"/>
                </a:lnTo>
                <a:lnTo>
                  <a:pt x="21600" y="8319"/>
                </a:lnTo>
                <a:lnTo>
                  <a:pt x="17213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11"/>
          <p:cNvSpPr/>
          <p:nvPr/>
        </p:nvSpPr>
        <p:spPr>
          <a:xfrm flipV="1">
            <a:off x="3995640" y="4365720"/>
            <a:ext cx="505080" cy="1079280"/>
          </a:xfrm>
          <a:prstGeom prst="upArrow">
            <a:avLst>
              <a:gd name="adj1" fmla="val 50000"/>
              <a:gd name="adj2" fmla="val 53421"/>
            </a:avLst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2195640" y="2852640"/>
            <a:ext cx="3313080" cy="1477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Ска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развива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684360" y="765000"/>
            <a:ext cx="2303280" cy="4597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Воображени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3419640" y="836640"/>
            <a:ext cx="194436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Мышле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5724360" y="836640"/>
            <a:ext cx="201636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Творчеств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250920" y="3213000"/>
            <a:ext cx="1008000" cy="42912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Реч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6443640" y="3068640"/>
            <a:ext cx="270036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Математические способнос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2916360" y="5661000"/>
            <a:ext cx="251928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Экологические зн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Text Box 20"/>
          <p:cNvSpPr/>
          <p:nvPr/>
        </p:nvSpPr>
        <p:spPr>
          <a:xfrm>
            <a:off x="5867280" y="5661000"/>
            <a:ext cx="244980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Нравственные качест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Text Box 21"/>
          <p:cNvSpPr/>
          <p:nvPr/>
        </p:nvSpPr>
        <p:spPr>
          <a:xfrm>
            <a:off x="611280" y="5661000"/>
            <a:ext cx="2089080" cy="764280"/>
          </a:xfrm>
          <a:prstGeom prst="rect">
            <a:avLst/>
          </a:prstGeom>
          <a:solidFill>
            <a:srgbClr val="ebf7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Tahoma"/>
              </a:rPr>
              <a:t>Физические   качест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Line 22"/>
          <p:cNvSpPr/>
          <p:nvPr/>
        </p:nvSpPr>
        <p:spPr>
          <a:xfrm>
            <a:off x="3564000" y="306864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Organization Chart 5"/>
          <p:cNvGrpSpPr/>
          <p:nvPr/>
        </p:nvGrpSpPr>
        <p:grpSpPr>
          <a:xfrm>
            <a:off x="539640" y="333360"/>
            <a:ext cx="8146800" cy="5181480"/>
            <a:chOff x="539640" y="333360"/>
            <a:chExt cx="8146800" cy="518148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516640" y="1497600"/>
              <a:ext cx="1043640" cy="2851920"/>
            </a:xfrm>
            <a:prstGeom prst="bentConnector3">
              <a:avLst>
                <a:gd name="adj1" fmla="val 119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>
              <a:off x="4612680" y="2401920"/>
              <a:ext cx="3240" cy="1043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2665440" y="1497960"/>
              <a:ext cx="1043640" cy="2851920"/>
            </a:xfrm>
            <a:prstGeom prst="bentConnector3">
              <a:avLst>
                <a:gd name="adj1" fmla="val 1193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66" name="_s1031"/>
            <p:cNvSpPr/>
            <p:nvPr/>
          </p:nvSpPr>
          <p:spPr>
            <a:xfrm>
              <a:off x="3390840" y="3333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6a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700" spc="-1" strike="noStrike">
                  <a:solidFill>
                    <a:srgbClr val="ff0066"/>
                  </a:solidFill>
                  <a:latin typeface="Tahoma"/>
                </a:rPr>
                <a:t>Речь</a:t>
              </a:r>
              <a:endParaRPr b="0" lang="en-US" sz="7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_s1032"/>
            <p:cNvSpPr/>
            <p:nvPr/>
          </p:nvSpPr>
          <p:spPr>
            <a:xfrm>
              <a:off x="53964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5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помогае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троить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правильный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диалог с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обеседником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_s1033"/>
            <p:cNvSpPr/>
            <p:nvPr/>
          </p:nvSpPr>
          <p:spPr>
            <a:xfrm>
              <a:off x="339084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5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 помогает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развивать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логическу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связную речь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_s1034"/>
            <p:cNvSpPr/>
            <p:nvPr/>
          </p:nvSpPr>
          <p:spPr>
            <a:xfrm>
              <a:off x="6242400" y="3445560"/>
              <a:ext cx="2444040" cy="2069280"/>
            </a:xfrm>
            <a:prstGeom prst="roundRect">
              <a:avLst>
                <a:gd name="adj" fmla="val 16667"/>
              </a:avLst>
            </a:prstGeom>
            <a:solidFill>
              <a:srgbClr val="fff7ab"/>
            </a:solidFill>
            <a:ln w="9360">
              <a:solidFill>
                <a:srgbClr val="fff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ahoma"/>
                </a:rPr>
                <a:t>Сказка </a:t>
              </a: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помогает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дела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речь красивой,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эмоциональн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1" name="AutoShape 18"/>
          <p:cNvSpPr/>
          <p:nvPr/>
        </p:nvSpPr>
        <p:spPr>
          <a:xfrm>
            <a:off x="1835280" y="5373720"/>
            <a:ext cx="6696000" cy="148428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Text Box 19"/>
          <p:cNvSpPr/>
          <p:nvPr/>
        </p:nvSpPr>
        <p:spPr>
          <a:xfrm>
            <a:off x="2001240" y="5678640"/>
            <a:ext cx="62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1" lang="ru-RU" sz="1800" spc="-1" strike="noStrike" u="sng">
                <a:solidFill>
                  <a:srgbClr val="0066ff"/>
                </a:solidFill>
                <a:uFillTx/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Читайте больше сказок! Попросите, что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ребенок пересказал сказку. Разыграйте сказку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ahoma"/>
              </a:rPr>
              <a:t>рол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3" name="Picture 20" descr="21012013482"/>
          <p:cNvPicPr/>
          <p:nvPr/>
        </p:nvPicPr>
        <p:blipFill>
          <a:blip r:embed="rId1"/>
          <a:stretch/>
        </p:blipFill>
        <p:spPr>
          <a:xfrm>
            <a:off x="684360" y="549360"/>
            <a:ext cx="2447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539640" y="1700280"/>
            <a:ext cx="3772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обра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Очень полезно и важно для дошкольника: о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делает его жиз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индивидуально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творческ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неповторим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нестандартн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609800" y="1699920"/>
            <a:ext cx="3849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cc00"/>
                </a:solidFill>
                <a:uFillTx/>
                <a:latin typeface="Tahoma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Сказку вовсе не обязательно читать                   пол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Середину или заключение можно   оставить на потом, чтобы ребенок сам          придумал   продолжение или сам сочинил  сказку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Cloud"/>
          <p:cNvSpPr/>
          <p:nvPr/>
        </p:nvSpPr>
        <p:spPr>
          <a:xfrm>
            <a:off x="1332000" y="260280"/>
            <a:ext cx="6048360" cy="1728720"/>
          </a:xfrm>
          <a:custGeom>
            <a:avLst/>
            <a:gdLst>
              <a:gd name="textAreaLeft" fmla="*/ 833400 w 6048360"/>
              <a:gd name="textAreaRight" fmla="*/ 4784760 w 6048360"/>
              <a:gd name="textAreaTop" fmla="*/ 261000 h 1728720"/>
              <a:gd name="textAreaBottom" fmla="*/ 1387800 h 1728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d3a7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2124000" y="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Вообра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85800" y="1413000"/>
            <a:ext cx="7696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 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Tahoma"/>
              </a:rPr>
              <a:t>Сказ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учит  правильн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вести и проявлять определенные черты характера в той или иной ситуации. Так же развивается мышление, когда ребенок играет в различные дидактические игры.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овет!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Поиграйте с детьми в  дидактические игры: «Из какой сказ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этот герой?», «Кто лишний?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«Какие сказки перепутались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900000" y="0"/>
            <a:ext cx="6048360" cy="1727280"/>
          </a:xfrm>
          <a:prstGeom prst="cloudCallout">
            <a:avLst>
              <a:gd name="adj1" fmla="val -61050"/>
              <a:gd name="adj2" fmla="val 101287"/>
            </a:avLst>
          </a:prstGeom>
          <a:solidFill>
            <a:srgbClr val="fff48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2535120" y="476280"/>
            <a:ext cx="318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ышл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84360" y="1268280"/>
            <a:ext cx="7632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Сказка, как ни что другое, дает определенный полет фантазии и огромную возможность для воображения, а значит и способствует развитию творческого потенциала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е бойтесь чаще давать детям краски, кисточки пластилин, цветную бумагу  для самостоятельной деятельности. Уделяйте   больше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ремени для театраль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WordArt 5"/>
          <p:cNvSpPr txBox="1"/>
          <p:nvPr/>
        </p:nvSpPr>
        <p:spPr>
          <a:xfrm>
            <a:off x="900000" y="18900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рчество</a:t>
            </a:r>
            <a:endParaRPr b="1" lang="en-US" sz="5400" spc="1" strike="noStrike">
              <a:ln w="12600">
                <a:solidFill>
                  <a:srgbClr val="ff33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685800" y="1828440"/>
            <a:ext cx="7696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Большое место сказка занимает и в та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Области, как математика. Дети, слуш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Сказки, учатся считать, сравнивать, делит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рочитав сказку спросите у ребенка: Сколько в ней было героев (попросите выложить палочки). Сколько зверей? Кого больше? Кого меньше? Сравните зверей. Какие   большие? Какие маленькие? Кому какой мостик построить? (Мишке - широ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зайке – узкий). Как разделить яблок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ыр, апельсин?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AutoShape 5"/>
          <p:cNvSpPr/>
          <p:nvPr/>
        </p:nvSpPr>
        <p:spPr>
          <a:xfrm>
            <a:off x="250920" y="189000"/>
            <a:ext cx="7416720" cy="1584360"/>
          </a:xfrm>
          <a:custGeom>
            <a:avLst/>
            <a:gdLst>
              <a:gd name="textAreaLeft" fmla="*/ 1374120 w 7416720"/>
              <a:gd name="textAreaRight" fmla="*/ 6042600 w 7416720"/>
              <a:gd name="textAreaTop" fmla="*/ 269640 h 1584360"/>
              <a:gd name="textAreaBottom" fmla="*/ 1555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921"/>
                </a:moveTo>
                <a:arcTo wR="21600" hR="7830" stAng="8872624" swAng="-925680"/>
                <a:lnTo>
                  <a:pt x="4002" y="21202"/>
                </a:lnTo>
                <a:arcTo wR="21600" hR="7830" stAng="7946944" swAng="-5093887"/>
                <a:lnTo>
                  <a:pt x="17598" y="18572"/>
                </a:lnTo>
                <a:arcTo wR="21600" hR="7830" stAng="2853056" swAng="-925680"/>
                <a:lnTo>
                  <a:pt x="18900" y="9438"/>
                </a:lnTo>
                <a:lnTo>
                  <a:pt x="21600" y="0"/>
                </a:lnTo>
                <a:lnTo>
                  <a:pt x="21600" y="0"/>
                </a:lnTo>
                <a:arcTo wR="21600" hR="7830" stAng="1927376" swAng="1788998"/>
                <a:lnTo>
                  <a:pt x="14898" y="3537"/>
                </a:lnTo>
                <a:arcTo wR="21600" hR="7830" stAng="3716374" swAng="3367252"/>
                <a:lnTo>
                  <a:pt x="6702" y="907"/>
                </a:lnTo>
                <a:arcTo wR="21600" hR="7830" stAng="7083626" swAng="1788998"/>
                <a:lnTo>
                  <a:pt x="2700" y="9438"/>
                </a:lnTo>
                <a:close/>
              </a:path>
              <a:path fill="none" w="21600" h="21600">
                <a:moveTo>
                  <a:pt x="6702" y="3537"/>
                </a:moveTo>
                <a:arcTo wR="21600" hR="7830" stAng="7083626" swAng="863318"/>
                <a:lnTo>
                  <a:pt x="6702" y="907"/>
                </a:lnTo>
              </a:path>
              <a:path fill="none" w="21600" h="21600">
                <a:moveTo>
                  <a:pt x="14898" y="3537"/>
                </a:moveTo>
                <a:arcTo wR="21600" hR="7830" stAng="3716374" swAng="-863318"/>
                <a:lnTo>
                  <a:pt x="14898" y="907"/>
                </a:lnTo>
              </a:path>
              <a:path fill="none" w="21600" h="21600">
                <a:moveTo>
                  <a:pt x="4002" y="18572"/>
                </a:moveTo>
                <a:lnTo>
                  <a:pt x="4002" y="3281"/>
                </a:lnTo>
              </a:path>
              <a:path fill="none" w="21600" h="21600">
                <a:moveTo>
                  <a:pt x="17598" y="18572"/>
                </a:moveTo>
                <a:lnTo>
                  <a:pt x="17598" y="3281"/>
                </a:lnTo>
              </a:path>
            </a:pathLst>
          </a:custGeom>
          <a:solidFill>
            <a:srgbClr val="99cc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Математическ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be0e51"/>
                </a:solidFill>
                <a:latin typeface="Tahoma"/>
              </a:rPr>
              <a:t>способ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1284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равственные чувства рождаются в душе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под впечатлением сказочных образов. Сказ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еотделима от красоты, способствует разви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эстетических чувств, без которых немыслим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благородство души, чуткость к человеческому гор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состраданию. Благодаря сказки ребенок познает ми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не только умом, но и сердцем. Выражает св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1284"/>
                </a:solidFill>
                <a:latin typeface="Tahoma"/>
              </a:rPr>
              <a:t>отношение к добру и з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Совет!</a:t>
            </a:r>
            <a:r>
              <a:rPr b="0" lang="ru-RU" sz="2000" spc="-1" strike="noStrike">
                <a:solidFill>
                  <a:srgbClr val="f4960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рочитав сказку, побеседуйте с ребенком: 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оложительный герой, кто отрицательн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Что победило добро или зло? Как бы ты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72009"/>
                </a:solidFill>
                <a:latin typeface="Tahoma"/>
              </a:rPr>
              <a:t>поступил на месте героев сказ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AutoShape 4"/>
          <p:cNvSpPr/>
          <p:nvPr/>
        </p:nvSpPr>
        <p:spPr>
          <a:xfrm>
            <a:off x="179280" y="0"/>
            <a:ext cx="7417080" cy="1844640"/>
          </a:xfrm>
          <a:prstGeom prst="horizontalScroll">
            <a:avLst>
              <a:gd name="adj" fmla="val 16009"/>
            </a:avLst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Нравственные кач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5:56:41Z</dcterms:created>
  <dc:creator>ASUS</dc:creator>
  <dc:description/>
  <dc:language>en-US</dc:language>
  <cp:lastModifiedBy>D!akov RePack</cp:lastModifiedBy>
  <dcterms:modified xsi:type="dcterms:W3CDTF">2015-11-10T18:27:00Z</dcterms:modified>
  <cp:revision>42</cp:revision>
  <dc:subject/>
  <dc:title>Сказка творит чудеса                          советы родителям</dc:title>
</cp:coreProperties>
</file>