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D4FEB-D2D6-442A-94D6-845FC9CE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9F6AA-1E8A-4827-B0D6-A7839FB9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44BB2-36B1-40F2-A33F-1814DF45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74BE4-9631-4657-8BDB-A76456B2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8470-94EA-4350-8882-6097AE66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BBE5-5315-4A5F-8E47-FDB4EC7D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C569-F92F-4A5C-B585-AC262BE1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836D-1440-40C5-A34C-3C8E4669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4C0F-B02C-465C-805A-8E2CEA54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0C25-8B61-44DA-B2A8-0FE2A411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B7A0-A854-4791-97B4-910B6CFA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ED56B-AA73-4DE2-A7AC-90232E84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7E8D-7BC6-4D75-AEDF-90CC81A6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7A63-74CA-416A-A68B-94223BEC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BAF1-0886-4363-B92F-90E6C0F9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E874-EBE5-4B16-A1A4-5EAA06F2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571A-0028-4AB2-A862-4E68B938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78F14-89AB-4E9B-8405-4B32607A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B27A3-925C-4DE8-8816-EABFFE82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44195-B56C-43CB-B43E-CDC1E0B6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7EA29-2223-4C3E-BF4F-72C90B18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E6396-D30E-4638-BA0B-F70B5C38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A904A-4402-4C7C-8100-F7DCE231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1CB12-BC77-444B-BCE4-9745DEA8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5CA8-7249-4212-8E37-4FAD4D91EA8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55E3-E6EC-4A0D-AF60-2D9F662A0C0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hyperlink" Target="http://www.teatr-agency.ru/zakaz-biletov/zakaz-biletov-cirk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foto.rambler.ru/public/l/e/letovzo/4/11/1-prev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55640" y="549360"/>
            <a:ext cx="6135480" cy="29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Урок-проект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тема: «Наша страничка в учебнике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050560" y="4267080"/>
            <a:ext cx="6712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Руководитель проект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Тогобецкая Екатерина Юрьевн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учитель начальных класс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МБУ СОШ №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хема №3. Тема « Цирк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95640" y="17002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? ( -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1258920" y="1773360"/>
            <a:ext cx="1657440" cy="165564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8"/>
          <p:cNvSpPr/>
          <p:nvPr/>
        </p:nvSpPr>
        <p:spPr>
          <a:xfrm>
            <a:off x="1042920" y="4221000"/>
            <a:ext cx="1800360" cy="18720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2700360" y="3141720"/>
            <a:ext cx="720720" cy="1439640"/>
          </a:xfrm>
          <a:prstGeom prst="upDownArrow">
            <a:avLst>
              <a:gd name="adj1" fmla="val 50000"/>
              <a:gd name="adj2" fmla="val 39765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хема № 4. Тема «Весенние цветы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4"/>
          <p:cNvSpPr/>
          <p:nvPr/>
        </p:nvSpPr>
        <p:spPr>
          <a:xfrm rot="16200000">
            <a:off x="4787280" y="2205720"/>
            <a:ext cx="504720" cy="4176720"/>
          </a:xfrm>
          <a:custGeom>
            <a:avLst/>
            <a:gdLst>
              <a:gd name="textAreaLeft" fmla="*/ 148320 w 504720"/>
              <a:gd name="textAreaRight" fmla="*/ 505080 w 504720"/>
              <a:gd name="textAreaTop" fmla="*/ 173880 h 4176720"/>
              <a:gd name="textAreaBottom" fmla="*/ 4002840 h 41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5"/>
          <p:cNvSpPr/>
          <p:nvPr/>
        </p:nvSpPr>
        <p:spPr>
          <a:xfrm>
            <a:off x="2987640" y="400536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2"/>
          <p:cNvSpPr/>
          <p:nvPr/>
        </p:nvSpPr>
        <p:spPr>
          <a:xfrm flipH="1">
            <a:off x="2916360" y="400536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33"/>
          <p:cNvSpPr/>
          <p:nvPr/>
        </p:nvSpPr>
        <p:spPr>
          <a:xfrm>
            <a:off x="2916360" y="3933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34"/>
          <p:cNvSpPr/>
          <p:nvPr/>
        </p:nvSpPr>
        <p:spPr>
          <a:xfrm>
            <a:off x="7164360" y="3933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35"/>
          <p:cNvSpPr/>
          <p:nvPr/>
        </p:nvSpPr>
        <p:spPr>
          <a:xfrm>
            <a:off x="5940360" y="37162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36"/>
          <p:cNvSpPr/>
          <p:nvPr/>
        </p:nvSpPr>
        <p:spPr>
          <a:xfrm>
            <a:off x="3851280" y="3068640"/>
            <a:ext cx="792000" cy="792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37"/>
          <p:cNvSpPr/>
          <p:nvPr/>
        </p:nvSpPr>
        <p:spPr>
          <a:xfrm>
            <a:off x="4643280" y="4869000"/>
            <a:ext cx="792360" cy="792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в стих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19280" y="1773000"/>
            <a:ext cx="7083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Сивуч – секач говорил, рассужда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Семейка моя совсем небольшая,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, да семь жён, да шестеро детей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колько ж костюмов надо на лет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Семь пеночек сели в одну кормушк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семь – в другую, сыто их брюшкам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т и спрошу я, ребята, у вас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колько птичек мы кормим сейчас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Задали детям в школе урок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ыгали в поле сорок соро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сять взлетели, сели на ел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колько осталось в поле сорок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5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500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5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" dur="500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500"/>
                                        <p:tgtEl>
                                          <p:spTgt spid="1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1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1640" y="234900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Спасибо за внима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А н н о т а ц и я 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оженный урок –проект соответствует требованиям программы обучения во втором класс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ираясь на свой жизненный опыт, учащиеся должны создать страничку в учебнике «Математика 2 класс»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орая будет называться «Задач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тём составления текстов задач развивается воображение, внимание и логическое мышл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создании этой странички подчёркивается роль математики в жизни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ип проекта: практико – ориентирован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j0299125"/>
          <p:cNvPicPr/>
          <p:nvPr/>
        </p:nvPicPr>
        <p:blipFill>
          <a:blip r:embed="rId1"/>
          <a:stretch/>
        </p:blipFill>
        <p:spPr>
          <a:xfrm>
            <a:off x="0" y="2492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Название проекта: «Задачи»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47640" y="1846440"/>
          <a:ext cx="7010640" cy="4357440"/>
        </p:xfrm>
        <a:graphic>
          <a:graphicData uri="http://schemas.openxmlformats.org/drawingml/2006/table">
            <a:tbl>
              <a:tblPr/>
              <a:tblGrid>
                <a:gridCol w="1752840"/>
                <a:gridCol w="876240"/>
                <a:gridCol w="876240"/>
                <a:gridCol w="1752480"/>
                <a:gridCol w="17528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лгосроч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асс: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проекта: коллектив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требность(пробле-ма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подчеркнуть роль математики в жизни челове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4720"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проекта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закрепление, развитие и формирование знаний и умений, приобретённых в процессе обучения и необходимых при составлении текстов задач в соответствии с индивидуальной подготовкой ребёнк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чень формируемых (развиваемых) у учащихся знаний и умений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1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для учащих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расширить знания, умения логически мысли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находить верные пути решения простых задач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рассуждать и делать умозаключения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4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ния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приёмы составления решений простых и сложных задач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ния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выбор действий и пояснений к данным задача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жидаемые результаты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создание новой учебной странички по математик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Сообщение темы. Постановка ц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92000" y="1989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ртина «Солнышко с лучиками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нции – лучик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Почтов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Задавай – 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Посчитай – 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Отдыхай – 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Сами с ус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2050920" y="386064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2340000" y="263700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2340000" y="458136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843280" y="414972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2771640" y="2924280"/>
            <a:ext cx="93672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2771640" y="4508640"/>
            <a:ext cx="86364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6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600"/>
                            </p:stCondLst>
                            <p:childTnLst>
                              <p:par>
                                <p:cTn id="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600"/>
                            </p:stCondLst>
                            <p:childTnLst>
                              <p:par>
                                <p:cTn id="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600"/>
                            </p:stCondLst>
                            <p:childTnLst>
                              <p:par>
                                <p:cTn id="1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6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600"/>
                            </p:stCondLst>
                            <p:childTnLst>
                              <p:par>
                                <p:cTn id="1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учик «Почтовый». Решаем прим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692784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овые выраж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3 + 8 =       67 – 30 =      74 + 6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1 – 2 =       60 – 37 =      43 + 5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ы –дом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 rot="16200000">
            <a:off x="2340720" y="436464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7" y="0"/>
                </a:lnTo>
                <a:lnTo>
                  <a:pt x="21600" y="10800"/>
                </a:lnTo>
                <a:lnTo>
                  <a:pt x="165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9"/>
          <p:cNvSpPr/>
          <p:nvPr/>
        </p:nvSpPr>
        <p:spPr>
          <a:xfrm rot="16200000">
            <a:off x="3390120" y="439488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7" y="0"/>
                </a:lnTo>
                <a:lnTo>
                  <a:pt x="21600" y="10800"/>
                </a:lnTo>
                <a:lnTo>
                  <a:pt x="165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20"/>
          <p:cNvSpPr/>
          <p:nvPr/>
        </p:nvSpPr>
        <p:spPr>
          <a:xfrm rot="16200000">
            <a:off x="4255200" y="446616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7" y="0"/>
                </a:lnTo>
                <a:lnTo>
                  <a:pt x="21600" y="10800"/>
                </a:lnTo>
                <a:lnTo>
                  <a:pt x="165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21"/>
          <p:cNvSpPr/>
          <p:nvPr/>
        </p:nvSpPr>
        <p:spPr>
          <a:xfrm rot="16200000">
            <a:off x="4974480" y="461088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7" y="0"/>
                </a:lnTo>
                <a:lnTo>
                  <a:pt x="21600" y="10800"/>
                </a:lnTo>
                <a:lnTo>
                  <a:pt x="165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22"/>
          <p:cNvSpPr/>
          <p:nvPr/>
        </p:nvSpPr>
        <p:spPr>
          <a:xfrm rot="16200000">
            <a:off x="5695200" y="475380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7" y="0"/>
                </a:lnTo>
                <a:lnTo>
                  <a:pt x="21600" y="10800"/>
                </a:lnTo>
                <a:lnTo>
                  <a:pt x="165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23"/>
          <p:cNvSpPr/>
          <p:nvPr/>
        </p:nvSpPr>
        <p:spPr>
          <a:xfrm rot="16200000">
            <a:off x="6558480" y="482652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7" y="0"/>
                </a:lnTo>
                <a:lnTo>
                  <a:pt x="21600" y="10800"/>
                </a:lnTo>
                <a:lnTo>
                  <a:pt x="165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учик «Задавай – ка».Выбор тем за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1" descr="j0235319"/>
          <p:cNvPicPr/>
          <p:nvPr/>
        </p:nvPicPr>
        <p:blipFill>
          <a:blip r:embed="rId1"/>
          <a:stretch/>
        </p:blipFill>
        <p:spPr>
          <a:xfrm>
            <a:off x="1332000" y="1628640"/>
            <a:ext cx="3527280" cy="182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j0217698"/>
          <p:cNvPicPr/>
          <p:nvPr/>
        </p:nvPicPr>
        <p:blipFill>
          <a:blip r:embed="rId2"/>
          <a:stretch/>
        </p:blipFill>
        <p:spPr>
          <a:xfrm>
            <a:off x="5651640" y="1484280"/>
            <a:ext cx="3241440" cy="169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zakaz-biletov-cir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92360" y="3860640"/>
            <a:ext cx="3024000" cy="2121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1-prev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0360" y="3645000"/>
            <a:ext cx="25192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хемы задач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хема №1. Тема «Школ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-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-?,на       больш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го -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2916360" y="3068640"/>
            <a:ext cx="431640" cy="4316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708360" y="3573360"/>
            <a:ext cx="432000" cy="36036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5796000" y="3068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хема №2. Тема «Книг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ло -     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читал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талось -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ло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читала -     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талось -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2843280" y="2492280"/>
            <a:ext cx="288720" cy="289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635280" y="2492280"/>
            <a:ext cx="289080" cy="289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3708360" y="2924280"/>
            <a:ext cx="358920" cy="36036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6588000" y="2492280"/>
            <a:ext cx="289080" cy="289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7236000" y="2997360"/>
            <a:ext cx="288720" cy="2872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20"/>
          <p:cNvSpPr/>
          <p:nvPr/>
        </p:nvSpPr>
        <p:spPr>
          <a:xfrm>
            <a:off x="7956720" y="2997360"/>
            <a:ext cx="287280" cy="2872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ка решения за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– вариа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.      +       =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стр) -был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      -       =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стр) –осталос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        +        ) -       =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стр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– вариа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.       +      =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 стр) – прочита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.        -      =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 стр ) –осталос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(       +       ) =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 стр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2124000" y="249228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700360" y="249228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3203640" y="249228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124000" y="278136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2700360" y="278136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3203640" y="278136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1908000" y="3716280"/>
            <a:ext cx="216000" cy="2174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2627280" y="3716280"/>
            <a:ext cx="216000" cy="2174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3348000" y="3716280"/>
            <a:ext cx="216000" cy="2174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3924360" y="3716280"/>
            <a:ext cx="216000" cy="2174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3"/>
          <p:cNvSpPr/>
          <p:nvPr/>
        </p:nvSpPr>
        <p:spPr>
          <a:xfrm>
            <a:off x="5724360" y="249228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6300720" y="249228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7"/>
          <p:cNvSpPr/>
          <p:nvPr/>
        </p:nvSpPr>
        <p:spPr>
          <a:xfrm>
            <a:off x="6804000" y="249228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5724360" y="278136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6300720" y="278136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30"/>
          <p:cNvSpPr/>
          <p:nvPr/>
        </p:nvSpPr>
        <p:spPr>
          <a:xfrm>
            <a:off x="6804000" y="278136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4"/>
          <p:cNvSpPr/>
          <p:nvPr/>
        </p:nvSpPr>
        <p:spPr>
          <a:xfrm>
            <a:off x="5580000" y="3645000"/>
            <a:ext cx="216000" cy="2174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5"/>
          <p:cNvSpPr/>
          <p:nvPr/>
        </p:nvSpPr>
        <p:spPr>
          <a:xfrm>
            <a:off x="6227640" y="3645000"/>
            <a:ext cx="216000" cy="2156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6"/>
          <p:cNvSpPr/>
          <p:nvPr/>
        </p:nvSpPr>
        <p:spPr>
          <a:xfrm>
            <a:off x="6804000" y="3645000"/>
            <a:ext cx="216000" cy="2156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7"/>
          <p:cNvSpPr/>
          <p:nvPr/>
        </p:nvSpPr>
        <p:spPr>
          <a:xfrm>
            <a:off x="7524720" y="3645000"/>
            <a:ext cx="216000" cy="2156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10:11:40Z</dcterms:created>
  <dc:creator>учитель</dc:creator>
  <dc:description/>
  <dc:language>en-US</dc:language>
  <cp:lastModifiedBy>katerina</cp:lastModifiedBy>
  <dcterms:modified xsi:type="dcterms:W3CDTF">2015-11-15T09:11:50Z</dcterms:modified>
  <cp:revision>12</cp:revision>
  <dc:subject/>
  <dc:title>Тема:</dc:title>
</cp:coreProperties>
</file>