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A8A65-BA56-426B-9B6B-2AFCF2E0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F372D-96A7-48DC-916E-B22AB232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D5A16-2F09-4D94-9A5B-0DDB9552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1C66E-41A7-4313-B5C0-850465846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979F-3C81-4195-846C-05D4F490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B4AA-CFFA-4268-9342-F823934D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D091-7295-4494-AF28-8A07274A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2DFE-BECA-4949-8513-8A7EEB70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80F9-D004-4263-B202-09FE82EC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71D7-8547-4A3E-A432-630CEA1F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BD82-DC88-4E4E-AFB3-DEEE0C74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2B809-61F8-40EF-9FD4-76485D43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6AEE-2D52-4163-8C29-199D6947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A20C-8CE8-47DA-9D38-BCB89FF3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E0BE-95F2-486B-B1EF-64688472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3B29-18D5-4298-A3CD-0EAD5F40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255C-0ABD-47BF-ADC1-EE57C0F2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2C5B1-1E85-4E95-86EA-1A67DB26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711BC-63E8-4876-9C3E-CDE94571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15FE9-DF7B-4C0A-BD5B-F0D9706A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80120-1AAA-47C5-9746-B24FCB3A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053C9-0F9B-4EB0-98E7-CB780221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C241C-8A5E-4DE0-AE42-6BC07FC7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5A75F-3D5F-48CC-8569-48241494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85FA-022F-41AD-B934-9A4556546AC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1093-29EB-4B4A-94D7-D7AD61427CF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hyperlink" Target="http://www.teatr-agency.ru/zakaz-biletov/zakaz-biletov-cirk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foto.rambler.ru/public/l/e/letovzo/4/11/1-prev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55640" y="549360"/>
            <a:ext cx="6135480" cy="29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Урок-проект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тема: «Наша страничка в учебнике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050560" y="4267080"/>
            <a:ext cx="6712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Руководитель проект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Тогобецкая Екатерина Юрьевн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учитель начальных класс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МБУ СОШ №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хема №3. Тема « Цирк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95640" y="17002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? ( -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1258920" y="1773360"/>
            <a:ext cx="1657440" cy="165564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8"/>
          <p:cNvSpPr/>
          <p:nvPr/>
        </p:nvSpPr>
        <p:spPr>
          <a:xfrm>
            <a:off x="1042920" y="4221000"/>
            <a:ext cx="1800360" cy="18720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3"/>
          <p:cNvSpPr/>
          <p:nvPr/>
        </p:nvSpPr>
        <p:spPr>
          <a:xfrm>
            <a:off x="2700360" y="3141720"/>
            <a:ext cx="720720" cy="1439640"/>
          </a:xfrm>
          <a:prstGeom prst="upDownArrow">
            <a:avLst>
              <a:gd name="adj1" fmla="val 50000"/>
              <a:gd name="adj2" fmla="val 39765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хема № 4. Тема «Весенние цветы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24"/>
          <p:cNvSpPr/>
          <p:nvPr/>
        </p:nvSpPr>
        <p:spPr>
          <a:xfrm rot="16200000">
            <a:off x="4787280" y="2205720"/>
            <a:ext cx="504720" cy="4176720"/>
          </a:xfrm>
          <a:custGeom>
            <a:avLst/>
            <a:gdLst>
              <a:gd name="textAreaLeft" fmla="*/ 148320 w 504720"/>
              <a:gd name="textAreaRight" fmla="*/ 505080 w 504720"/>
              <a:gd name="textAreaTop" fmla="*/ 173880 h 4176720"/>
              <a:gd name="textAreaBottom" fmla="*/ 4002840 h 41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5"/>
          <p:cNvSpPr/>
          <p:nvPr/>
        </p:nvSpPr>
        <p:spPr>
          <a:xfrm>
            <a:off x="2987640" y="4005360"/>
            <a:ext cx="417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32"/>
          <p:cNvSpPr/>
          <p:nvPr/>
        </p:nvSpPr>
        <p:spPr>
          <a:xfrm flipH="1">
            <a:off x="2916360" y="400536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33"/>
          <p:cNvSpPr/>
          <p:nvPr/>
        </p:nvSpPr>
        <p:spPr>
          <a:xfrm>
            <a:off x="2916360" y="3933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34"/>
          <p:cNvSpPr/>
          <p:nvPr/>
        </p:nvSpPr>
        <p:spPr>
          <a:xfrm>
            <a:off x="7164360" y="3933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35"/>
          <p:cNvSpPr/>
          <p:nvPr/>
        </p:nvSpPr>
        <p:spPr>
          <a:xfrm>
            <a:off x="5940360" y="37162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36"/>
          <p:cNvSpPr/>
          <p:nvPr/>
        </p:nvSpPr>
        <p:spPr>
          <a:xfrm>
            <a:off x="3851280" y="3068640"/>
            <a:ext cx="792000" cy="792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37"/>
          <p:cNvSpPr/>
          <p:nvPr/>
        </p:nvSpPr>
        <p:spPr>
          <a:xfrm>
            <a:off x="4643280" y="4869000"/>
            <a:ext cx="792360" cy="792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 в стих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19280" y="1773000"/>
            <a:ext cx="7083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Сивуч – секач говорил, рассужда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Семейка моя совсем небольшая,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Я, да семь жён, да шестеро детей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колько ж костюмов надо на лето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Семь пеночек сели в одну кормушку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семь – в другую, сыто их брюшкам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т и спрошу я, ребята, у вас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колько птичек мы кормим сейчас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Задали детям в школе урок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ыгали в поле сорок сорок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сять взлетели, сели на ел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колько осталось в поле сорок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9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4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" dur="500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" dur="500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" dur="500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2" dur="500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" dur="500"/>
                                        <p:tgtEl>
                                          <p:spTgt spid="1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500"/>
                                        <p:tgtEl>
                                          <p:spTgt spid="1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31640" y="234900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Спасибо за внимани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А н н о т а ц и я 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ложенный урок –проект соответствует требованиям программы обучения во втором класс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ираясь на свой жизненный опыт, учащиеся должны создать страничку в учебнике «Математика 2 класс»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торая будет называться «Задач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тём составления текстов задач развивается воображение, внимание и логическое мышл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создании этой странички подчёркивается роль математики в жизни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ип проекта: практико – ориентирован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j0299125"/>
          <p:cNvPicPr/>
          <p:nvPr/>
        </p:nvPicPr>
        <p:blipFill>
          <a:blip r:embed="rId1"/>
          <a:stretch/>
        </p:blipFill>
        <p:spPr>
          <a:xfrm>
            <a:off x="0" y="24922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Название проекта: «Задачи»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47640" y="1846440"/>
          <a:ext cx="7010640" cy="4357440"/>
        </p:xfrm>
        <a:graphic>
          <a:graphicData uri="http://schemas.openxmlformats.org/drawingml/2006/table">
            <a:tbl>
              <a:tblPr/>
              <a:tblGrid>
                <a:gridCol w="1752840"/>
                <a:gridCol w="876240"/>
                <a:gridCol w="876240"/>
                <a:gridCol w="1752480"/>
                <a:gridCol w="17528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лгосроч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асс: 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проекта: коллектив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требность(пробле-ма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подчеркнуть роль математики в жизни челове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4720"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проекта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закрепление, развитие и формирование знаний и умений, приобретённых в процессе обучения и необходимых при составлении текстов задач в соответствии с индивидуальной подготовкой ребёнк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чень формируемых (развиваемых) у учащихся знаний и умений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1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для учащих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расширить знания, умения логически мысли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находить верные пути решения простых задач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рассуждать и делать умозаключения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4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ния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приёмы составления решений простых и сложных задач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ния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выбор действий и пояснений к данным задача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жидаемые результаты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создание новой учебной странички по математик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Сообщение темы. Постановка ц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92000" y="19890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ртина «Солнышко с лучиками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нции – лучик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Почтов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Задавай – 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Посчитай – 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Отдыхай – 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Сами с ус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2050920" y="3860640"/>
            <a:ext cx="576360" cy="576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2340000" y="263700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2340000" y="458136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2843280" y="414972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V="1">
            <a:off x="2771640" y="2924280"/>
            <a:ext cx="93672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2771640" y="4508640"/>
            <a:ext cx="86364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60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600"/>
                            </p:stCondLst>
                            <p:childTnLst>
                              <p:par>
                                <p:cTn id="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600"/>
                            </p:stCondLst>
                            <p:childTnLst>
                              <p:par>
                                <p:cTn id="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600"/>
                            </p:stCondLst>
                            <p:childTnLst>
                              <p:par>
                                <p:cTn id="1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600"/>
                            </p:stCondLst>
                            <p:childTnLst>
                              <p:par>
                                <p:cTn id="1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600"/>
                            </p:stCondLst>
                            <p:childTnLst>
                              <p:par>
                                <p:cTn id="1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учик «Почтовый». Решаем прим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520" y="1980720"/>
            <a:ext cx="692784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овые выраж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3 + 8 =       67 – 30 =      74 + 6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1 – 2 =       60 – 37 =      43 + 5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веты –доми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1"/>
          <p:cNvSpPr/>
          <p:nvPr/>
        </p:nvSpPr>
        <p:spPr>
          <a:xfrm rot="16200000">
            <a:off x="2340720" y="4364640"/>
            <a:ext cx="976320" cy="486000"/>
          </a:xfrm>
          <a:custGeom>
            <a:avLst/>
            <a:gdLst>
              <a:gd name="textAreaLeft" fmla="*/ 0 w 976320"/>
              <a:gd name="textAreaRight" fmla="*/ 976680 w 976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7" y="0"/>
                </a:lnTo>
                <a:lnTo>
                  <a:pt x="21600" y="10800"/>
                </a:lnTo>
                <a:lnTo>
                  <a:pt x="165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9"/>
          <p:cNvSpPr/>
          <p:nvPr/>
        </p:nvSpPr>
        <p:spPr>
          <a:xfrm rot="16200000">
            <a:off x="3390120" y="4394880"/>
            <a:ext cx="976320" cy="486000"/>
          </a:xfrm>
          <a:custGeom>
            <a:avLst/>
            <a:gdLst>
              <a:gd name="textAreaLeft" fmla="*/ 0 w 976320"/>
              <a:gd name="textAreaRight" fmla="*/ 976680 w 976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7" y="0"/>
                </a:lnTo>
                <a:lnTo>
                  <a:pt x="21600" y="10800"/>
                </a:lnTo>
                <a:lnTo>
                  <a:pt x="165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20"/>
          <p:cNvSpPr/>
          <p:nvPr/>
        </p:nvSpPr>
        <p:spPr>
          <a:xfrm rot="16200000">
            <a:off x="4255200" y="446616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7" y="0"/>
                </a:lnTo>
                <a:lnTo>
                  <a:pt x="21600" y="10800"/>
                </a:lnTo>
                <a:lnTo>
                  <a:pt x="165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21"/>
          <p:cNvSpPr/>
          <p:nvPr/>
        </p:nvSpPr>
        <p:spPr>
          <a:xfrm rot="16200000">
            <a:off x="4974480" y="4610880"/>
            <a:ext cx="976320" cy="486000"/>
          </a:xfrm>
          <a:custGeom>
            <a:avLst/>
            <a:gdLst>
              <a:gd name="textAreaLeft" fmla="*/ 0 w 976320"/>
              <a:gd name="textAreaRight" fmla="*/ 976680 w 976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7" y="0"/>
                </a:lnTo>
                <a:lnTo>
                  <a:pt x="21600" y="10800"/>
                </a:lnTo>
                <a:lnTo>
                  <a:pt x="165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22"/>
          <p:cNvSpPr/>
          <p:nvPr/>
        </p:nvSpPr>
        <p:spPr>
          <a:xfrm rot="16200000">
            <a:off x="5695200" y="4753800"/>
            <a:ext cx="976320" cy="486000"/>
          </a:xfrm>
          <a:custGeom>
            <a:avLst/>
            <a:gdLst>
              <a:gd name="textAreaLeft" fmla="*/ 0 w 976320"/>
              <a:gd name="textAreaRight" fmla="*/ 976680 w 976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7" y="0"/>
                </a:lnTo>
                <a:lnTo>
                  <a:pt x="21600" y="10800"/>
                </a:lnTo>
                <a:lnTo>
                  <a:pt x="165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23"/>
          <p:cNvSpPr/>
          <p:nvPr/>
        </p:nvSpPr>
        <p:spPr>
          <a:xfrm rot="16200000">
            <a:off x="6558480" y="482652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7" y="0"/>
                </a:lnTo>
                <a:lnTo>
                  <a:pt x="21600" y="10800"/>
                </a:lnTo>
                <a:lnTo>
                  <a:pt x="165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333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учик «Задавай – ка».Выбор тем зада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11" descr="j0235319"/>
          <p:cNvPicPr/>
          <p:nvPr/>
        </p:nvPicPr>
        <p:blipFill>
          <a:blip r:embed="rId1"/>
          <a:stretch/>
        </p:blipFill>
        <p:spPr>
          <a:xfrm>
            <a:off x="1332000" y="1628640"/>
            <a:ext cx="3527280" cy="1822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j0217698"/>
          <p:cNvPicPr/>
          <p:nvPr/>
        </p:nvPicPr>
        <p:blipFill>
          <a:blip r:embed="rId2"/>
          <a:stretch/>
        </p:blipFill>
        <p:spPr>
          <a:xfrm>
            <a:off x="5651640" y="1484280"/>
            <a:ext cx="3241440" cy="1693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zakaz-biletov-cir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92360" y="3860640"/>
            <a:ext cx="3024000" cy="2121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1-prev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0360" y="3645000"/>
            <a:ext cx="25192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хемы задач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хема №1. Тема «Школ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-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-?,на       больш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го -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2916360" y="3068640"/>
            <a:ext cx="431640" cy="4316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708360" y="3573360"/>
            <a:ext cx="432000" cy="36036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5796000" y="306864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хема №2. Тема «Книг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ло -     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читал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талось -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ло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читала -     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талось -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2843280" y="2492280"/>
            <a:ext cx="288720" cy="289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635280" y="2492280"/>
            <a:ext cx="289080" cy="289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4"/>
          <p:cNvSpPr/>
          <p:nvPr/>
        </p:nvSpPr>
        <p:spPr>
          <a:xfrm>
            <a:off x="3708360" y="2924280"/>
            <a:ext cx="358920" cy="36036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6588000" y="2492280"/>
            <a:ext cx="289080" cy="289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7236000" y="2997360"/>
            <a:ext cx="288720" cy="2872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20"/>
          <p:cNvSpPr/>
          <p:nvPr/>
        </p:nvSpPr>
        <p:spPr>
          <a:xfrm>
            <a:off x="7956720" y="2997360"/>
            <a:ext cx="287280" cy="2872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рка решения зада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– вариа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.      +       =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стр) -был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      -       =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стр) –осталос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        +        ) -       =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стр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– вариа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.       +      =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 стр) – прочита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.        -      =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 стр ) –осталос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(       +       ) =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 стр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2124000" y="2492280"/>
            <a:ext cx="216000" cy="216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2700360" y="2492280"/>
            <a:ext cx="216000" cy="216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3203640" y="2492280"/>
            <a:ext cx="216000" cy="216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124000" y="2781360"/>
            <a:ext cx="216000" cy="216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2700360" y="2781360"/>
            <a:ext cx="216000" cy="216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3203640" y="2781360"/>
            <a:ext cx="216000" cy="216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1908000" y="3716280"/>
            <a:ext cx="216000" cy="2174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2627280" y="3716280"/>
            <a:ext cx="216000" cy="2174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0"/>
          <p:cNvSpPr/>
          <p:nvPr/>
        </p:nvSpPr>
        <p:spPr>
          <a:xfrm>
            <a:off x="3348000" y="3716280"/>
            <a:ext cx="216000" cy="2174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22"/>
          <p:cNvSpPr/>
          <p:nvPr/>
        </p:nvSpPr>
        <p:spPr>
          <a:xfrm>
            <a:off x="3924360" y="3716280"/>
            <a:ext cx="216000" cy="2174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23"/>
          <p:cNvSpPr/>
          <p:nvPr/>
        </p:nvSpPr>
        <p:spPr>
          <a:xfrm>
            <a:off x="5724360" y="2492280"/>
            <a:ext cx="216000" cy="216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5"/>
          <p:cNvSpPr/>
          <p:nvPr/>
        </p:nvSpPr>
        <p:spPr>
          <a:xfrm>
            <a:off x="6300720" y="2492280"/>
            <a:ext cx="216000" cy="216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27"/>
          <p:cNvSpPr/>
          <p:nvPr/>
        </p:nvSpPr>
        <p:spPr>
          <a:xfrm>
            <a:off x="6804000" y="2492280"/>
            <a:ext cx="216000" cy="216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28"/>
          <p:cNvSpPr/>
          <p:nvPr/>
        </p:nvSpPr>
        <p:spPr>
          <a:xfrm>
            <a:off x="5724360" y="2781360"/>
            <a:ext cx="216000" cy="216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29"/>
          <p:cNvSpPr/>
          <p:nvPr/>
        </p:nvSpPr>
        <p:spPr>
          <a:xfrm>
            <a:off x="6300720" y="2781360"/>
            <a:ext cx="216000" cy="216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30"/>
          <p:cNvSpPr/>
          <p:nvPr/>
        </p:nvSpPr>
        <p:spPr>
          <a:xfrm>
            <a:off x="6804000" y="2781360"/>
            <a:ext cx="216000" cy="216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4"/>
          <p:cNvSpPr/>
          <p:nvPr/>
        </p:nvSpPr>
        <p:spPr>
          <a:xfrm>
            <a:off x="5580000" y="3645000"/>
            <a:ext cx="216000" cy="2174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5"/>
          <p:cNvSpPr/>
          <p:nvPr/>
        </p:nvSpPr>
        <p:spPr>
          <a:xfrm>
            <a:off x="6227640" y="3645000"/>
            <a:ext cx="216000" cy="2156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6"/>
          <p:cNvSpPr/>
          <p:nvPr/>
        </p:nvSpPr>
        <p:spPr>
          <a:xfrm>
            <a:off x="6804000" y="3645000"/>
            <a:ext cx="216000" cy="2156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37"/>
          <p:cNvSpPr/>
          <p:nvPr/>
        </p:nvSpPr>
        <p:spPr>
          <a:xfrm>
            <a:off x="7524720" y="3645000"/>
            <a:ext cx="216000" cy="2156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5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10:11:40Z</dcterms:created>
  <dc:creator>учитель</dc:creator>
  <dc:description/>
  <dc:language>en-US</dc:language>
  <cp:lastModifiedBy>katerina</cp:lastModifiedBy>
  <dcterms:modified xsi:type="dcterms:W3CDTF">2015-11-15T09:11:50Z</dcterms:modified>
  <cp:revision>12</cp:revision>
  <dc:subject/>
  <dc:title>Тема:</dc:title>
</cp:coreProperties>
</file>