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18D-0401-4EC6-9886-BF1DE596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478-9E3C-48D4-9AFD-D2A59E0E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4C0-03BC-42C9-AA29-55AB0664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D1B-9D3A-46D1-9C2D-76E426E0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B686-4EC4-4026-8A54-8BCD111F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A92-EAE5-49E0-BA37-5F0CEDBC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1950-AFB5-47A8-9CEF-BB54D20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0E3C-9581-4195-8992-4A797371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6C2-F538-48EE-8FCA-B1FCE0AA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D029-BAEC-42EB-999F-0AB101B5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FEF8-D3C7-41F4-8BB6-5E4F6F3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7FC-64DF-4074-9088-6BA6B98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0DE-29D7-4499-AA08-42E939E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48C-2830-4D2D-976C-55507F1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9B2E-CCEF-4346-BC91-71F8BC5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7DA9-F7CA-43C0-BB14-A5C6700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35E-44AD-4F62-AB21-7BE8F342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0025-9458-47F2-96D4-8A380925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B9F6-ABA4-478A-B9F0-F06D7228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90AB-5EBD-45BE-8C87-F97CA52C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EFDE-3F89-478E-8E17-2564731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B1DE-C8A4-476A-882A-D910AFA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3A8-E6A8-460A-B25C-BC412AB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6DCE-B046-4859-A557-A6FE2CA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F24F-3570-4AA2-A3EC-451C971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528F-B4AB-467B-8A81-ED164F2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5F7F-EEBD-4A29-A868-50A282E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6DC6-AC35-404D-BC06-E748819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E9D8-C76C-41E1-837F-A1EAAE6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3FF1-6371-46AF-A14D-C6D4B158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B40E-2938-49CA-9DD2-EB7E04E8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F737-4F1E-41C7-BDC5-0F4A60C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A5BE-79E3-4810-A8F5-1A14163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250-BC0C-4A3F-9BB2-F76D34E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56C5-4D8C-4F0F-87FD-8B30133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D86C-8F22-4952-AE1D-C1E9EFB3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2518-14EA-411D-BF8D-AA4858D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07A0-238A-483D-BB0F-E00CE8C3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AC0A-5BFF-41A5-81AE-F16A20C4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5EDD-1CDF-49D6-8367-1C9EC58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3FA0-5D6F-40D7-A1E7-A97BB624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4559-26E1-451C-86B3-3FE6853E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3B15-B667-4D5B-AF94-45A77DAD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32AD-83E8-480F-8A4E-45A766B4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736-561F-4A20-A632-4DB8121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84CA-07DD-4962-ABFF-E90C7D48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E11F-C95D-4ABD-85C0-314F1B6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9CDB-CF2D-4D12-BEB7-7B629F50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75AA-E132-422D-B52E-32FB3BE4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806A-C5D0-43F2-9078-21F32B2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7C91-B11D-408B-8FAE-D399A6E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C80A-B3F3-4E43-86FD-1A39EB9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7298-7A8F-4A73-9E23-808EA6A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32845-2C2E-4759-8FF9-090F8DB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84E5-ED98-423A-B700-8AA7918A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B77-5C8C-4F9F-9D25-B14EE9C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2900-9793-46B8-9400-E7C089D9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899-0D34-48CC-9D6D-355F266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573-58AC-4A7B-964A-0DA24B2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F43-F7E1-4A2C-8199-0CA5AA6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011-BF9F-4DFA-B246-B854DC75E792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2B25-0815-4D22-8F9E-9251E926922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D0F-4A84-4027-80D5-F0EB69D781A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A089-6B88-4C61-B43F-40338529F62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CA4-86E4-44B7-93FB-9C113989D7A2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AD3D-1BDB-46AC-B60C-EEEBDBEE774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1C7-211B-4850-B8A5-7484780D13FD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CA63-C8F8-44AB-B1D2-793A9DBDB32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163C-0C37-492F-BE15-F26CFAEFBBA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3EB9-5554-4BB4-9BA6-1ABEDCF386A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442200" cy="48769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1219320" y="5181480"/>
            <a:ext cx="6014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Детская агре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Постоянные ссоры родителей, физическое насилие родителей по отношению друг к другу, грубость ежедневного общения, унижение, сарказм и ирония, желание постоянно видеть друг в друге плохое и подчеркивать это — ежедневная школа агрессии, в которой ребенок формируется и получает уроки мастер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Требовательный по отношению к себе родитель никогда не будет ждать от своего ребенка то, что им самим в ребенке не заложе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09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Не следует уступать капризам и делать поблажки без нужды, но и не нужно издеваться над ребенком и необдуманно его наказыва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детская агрессия, грубость, конфликты"/>
          <p:cNvPicPr/>
          <p:nvPr/>
        </p:nvPicPr>
        <p:blipFill>
          <a:blip r:embed="rId1"/>
          <a:stretch/>
        </p:blipFill>
        <p:spPr>
          <a:xfrm>
            <a:off x="3276720" y="3429000"/>
            <a:ext cx="213840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Требовательность должна быть разумной и доброжелательной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агрессивность у детей,  детская агрессия"/>
          <p:cNvPicPr/>
          <p:nvPr/>
        </p:nvPicPr>
        <p:blipFill>
          <a:blip r:embed="rId1"/>
          <a:stretch/>
        </p:blipFill>
        <p:spPr>
          <a:xfrm>
            <a:off x="2133720" y="2286000"/>
            <a:ext cx="3886200" cy="32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8089920" cy="63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агрессивный ребенок, детская агрессия, агрессивность"/>
          <p:cNvPicPr/>
          <p:nvPr/>
        </p:nvPicPr>
        <p:blipFill>
          <a:blip r:embed="rId2"/>
          <a:stretch/>
        </p:blipFill>
        <p:spPr>
          <a:xfrm>
            <a:off x="1600200" y="2057400"/>
            <a:ext cx="579132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грессия - это реакция на срыв какой-то деятельности, планов, на ограничения, запреты или неожиданные трудност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963720" y="378000"/>
            <a:ext cx="7265880" cy="1060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20570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сталость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гативное  Самовосприятие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рах (т. н. "защитная агрессия")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еакция на запрет взрослы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ребование внимания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ак называемое «требование границ»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е научени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явление жажды власти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3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6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6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6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3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3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6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6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сновная причина детской агрессии - неудовлетворенная потребность в любви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28240" y="1981080"/>
            <a:ext cx="807732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иперактивно-агрессивный ребенок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обидчивый и истощаем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ый ребенок с оппозиционно-вызывающим поведени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боязлив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грессивно-бесчувственный ребен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834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1. Во-первых, требуется проявление со стороны родителей безусловной любви к ребенку в любой ситуации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2. Родители, если не хотят, чтобы их дети были драчунами и забияками, сами должны контролировать собственные агрессивные импульсы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3. Нельзя подавлять проявление агрессии ребенком, иначе подавленные агрессивные импульсы могут нанести серьезный вред его здоровью. Научите его выражать свои враждебные чувства социально приемлемым способ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4. Если ребенок капризничает, злится, кричит, бросается на вас с кулаками - обнимите его, прижмите к себе. Постепенно он успокоится, придет в себ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. Уважайте личность в вашем ребенке, считайтесь с его мнением, воспринимайте всерьез его чувства. Предоставляйте ребенку достаточную свободу и независимость, за которую ребенок будет сам нести ответственнос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6. Покажите ребенку конечную неэффективность агрессивного поведе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7. Необходимо устанавливать социальные правила поведения в доступной для ребенка форм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8. Не забывайте хвалить ребенка за старательность. Когда дети реагируют должным образом, сделайте все, чтобы закрепить эти усилия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9. Беседовать с ребенком о его поступке надо без свидетелей (класса, родственников, других детей и др.). В беседе стараться использовать меньше эмоциональных слов (стыдно и др.)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0. Надо исключить ситуации, провоцирующие негативное поведение ребенк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1. Надо предоставлять возможность ребенку получить эмоциональную разрядку в игре, спорте и т.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66260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аева Ольга Юрьевна, МОУ Брединская СОШ №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7-10T07:17:4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