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DAF-858D-4804-8559-F30B6CCA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FA1-0E39-4D82-A573-D4B3D23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C2B-C6F5-4B31-9925-86F1A003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0B0-4A5F-45BA-A243-29260CE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D0E-ECE7-483E-9208-8B144F69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338-00B2-495D-9F69-1FD5B936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78FF-F1E0-43EC-88B7-2A89F27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F09-0471-4FD7-9A9C-70D0B75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2EC-CC66-4D40-9CCD-90E1E71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B4FA-484A-4D52-BB90-18B60A8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250-93E9-46C5-8B49-4D2720A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A45-D6C2-45A9-B547-E0F6146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FBB0-BD6F-4F20-A28C-F690CF0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DB6F-9605-448B-91CA-185DD3A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37FA-CB20-488C-9A3F-B6F329A7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030-7185-4CC3-B831-676DFB89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BFA-64CF-49D3-823B-BF5E3C5B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DC3D-8209-4BD6-8A31-CF7F751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9538-1F0E-4B83-BA4F-7AF9393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147C-5444-4FDC-9A47-C00F094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C65E-3D05-4B87-9B0D-BD3C022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24D9-625F-4D4F-B4BC-A26E4B4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6F8-E581-49EF-B006-5801983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3E57-617B-4821-8B3F-E48A0C3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6CAD-51F8-475E-AAE3-133CFB77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D623-4DC2-448F-88BF-3E875BD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6928-21F5-4BF6-975C-7459030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AC59-AB85-4874-A54A-E4C11523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88AD-A15F-4F5A-90CB-0F3EA18A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2F5A-1A94-44ED-9841-1B258216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5026-B94F-48DD-9613-203804F9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441A-7E41-46DB-93C6-45B8110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B5AF-A6F0-41C8-8CEF-F07231B0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4DF-4ACB-4C82-8AE0-EABD013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7774-51AD-4EB8-8498-2E13A27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B1B9-D8D3-48C0-BD7D-1CB473B3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8603-AD2C-4AC1-8151-0F9BCA6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91BB4-05DF-4906-B9BD-F3743444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A86A-78A1-4B96-B9BC-98D33118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E868-FB78-49F0-BFF7-C4E44F8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4F40-1F22-48FB-A488-01A0957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4A2C-7433-4317-B0B7-9ED7DC75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CEF6-CAED-47E3-AF71-7A3BD0C9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8073-6D62-4802-9425-F7D1311B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376-3449-43F7-BE0E-E0351CB3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997A-2D86-4F20-9CBF-EDD65D9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B3AF-D9C2-4C9D-89FF-73FAD0D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756F-EB7A-4D14-89A7-F7381DC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1C20-BBC4-4801-A0C0-C886C82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5CB8-569F-44C4-9CF3-709E83A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4977-8C87-47A2-AAD2-6E4DEE07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0E64-CB2D-4B85-8A6D-345AC49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245D-68CC-4666-B675-9558675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5C16-35D4-43AD-A66F-0AD8BD4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12E3-A41B-4683-9479-E2B3848F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DEB-FD88-4C97-A967-F06392F0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C698-540A-4E39-8E68-81662887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84E-CB9E-4336-9365-58346A2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745-8687-4303-84F2-5EA7E0E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987-AEDA-4A41-B526-EDC3CCE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913-B0AC-4063-8DAC-28D92E24093F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63C-E3CE-4EA1-AE8C-8E514381B86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E76-C299-4431-99AD-26A26492812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C626-10C3-4631-B079-A3B6FDCCEFB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1CB-C8E2-40D0-BBF3-27F151683C76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781-BA1D-474F-B0FC-A17A29FB108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D91-299B-492C-A7E7-C80AF05B6718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26D5-6933-4BC5-99A9-A71A51278DC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267-2B6D-4FE8-AB4E-CB75153EC326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6156-69B8-45B3-9D5B-1A76525AE41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442200" cy="48769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1219320" y="5181480"/>
            <a:ext cx="6014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Детская агре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Постоянные ссоры родителей, физическое насилие родителей по отношению друг к другу, грубость ежедневного общения, унижение, сарказм и ирония, желание постоянно видеть друг в друге плохое и подчеркивать это — ежедневная школа агрессии, в которой ребенок формируется и получает уроки мастер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Требовательный по отношению к себе родитель никогда не будет ждать от своего ребенка то, что им самим в ребенке не заложе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09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Не следует уступать капризам и делать поблажки без нужды, но и не нужно издеваться над ребенком и необдуманно его наказыва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детская агрессия, грубость, конфликты"/>
          <p:cNvPicPr/>
          <p:nvPr/>
        </p:nvPicPr>
        <p:blipFill>
          <a:blip r:embed="rId1"/>
          <a:stretch/>
        </p:blipFill>
        <p:spPr>
          <a:xfrm>
            <a:off x="3276720" y="3429000"/>
            <a:ext cx="213840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Требовательность должна быть разумной и доброжелательно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агрессивность у детей,  детская агрессия"/>
          <p:cNvPicPr/>
          <p:nvPr/>
        </p:nvPicPr>
        <p:blipFill>
          <a:blip r:embed="rId1"/>
          <a:stretch/>
        </p:blipFill>
        <p:spPr>
          <a:xfrm>
            <a:off x="2133720" y="2286000"/>
            <a:ext cx="3886200" cy="32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8089920" cy="63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агрессивный ребенок, детская агрессия, агрессивность"/>
          <p:cNvPicPr/>
          <p:nvPr/>
        </p:nvPicPr>
        <p:blipFill>
          <a:blip r:embed="rId2"/>
          <a:stretch/>
        </p:blipFill>
        <p:spPr>
          <a:xfrm>
            <a:off x="1600200" y="2057400"/>
            <a:ext cx="579132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грессия - это реакция на срыв какой-то деятельности, планов, на ограничения, запреты или неожиданные трудност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963720" y="378000"/>
            <a:ext cx="7265880" cy="1060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20570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сталость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гативное  Самовосприятие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рах (т. н. "защитная агрессия")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еакция на запрет взрослы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ребование внимания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ак называемое «требование границ»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е науче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явление жажды власти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3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6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6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6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3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3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6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6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ная причина детской агрессии - неудовлетворенная потребность в любви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28240" y="1981080"/>
            <a:ext cx="807732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иперактивно-агрессивный ребенок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обидчивый и истощаем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ый ребенок с оппозиционно-вызывающим поведени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боязлив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бесчувственн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834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1. Во-первых, требуется проявление со стороны родителей безусловной любви к ребенку в любой ситуации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2. Родители, если не хотят, чтобы их дети были драчунами и забияками, сами должны контролировать собственные агрессивные импульсы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3. Нельзя подавлять проявление агрессии ребенком, иначе подавленные агрессивные импульсы могут нанести серьезный вред его здоровью. Научите его выражать свои враждебные чувства социально приемлемым способ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4. Если ребенок капризничает, злится, кричит, бросается на вас с кулаками - обнимите его, прижмите к себе. Постепенно он успокоится, придет в себ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. Уважайте личность в вашем ребенке, считайтесь с его мнением, воспринимайте всерьез его чувства. Предоставляйте ребенку достаточную свободу и независимость, за которую ребенок будет сам нести ответственнос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6. Покажите ребенку конечную неэффективность агрессивного поведе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7. Необходимо устанавливать социальные правила поведения в доступной для ребенка форм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8. Не забывайте хвалить ребенка за старательность. Когда дети реагируют должным образом, сделайте все, чтобы закрепить эти усилия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9. Беседовать с ребенком о его поступке надо без свидетелей (класса, родственников, других детей и др.). В беседе стараться использовать меньше эмоциональных слов (стыдно и др.)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0. Надо исключить ситуации, провоцирующие негативное поведение ребенк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1. Надо предоставлять возможность ребенку получить эмоциональную разрядку в игре, спорте и т.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7-10T07:17:4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