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74638-E69E-4C5E-B716-25827D7C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576A5-B6D6-409B-B7CD-E8CB9817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59373-D651-44C6-8FED-80AE86ED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FFF58-BA2A-4A6D-9E31-C28528CE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6499-4897-4765-A419-F9050235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F814-2102-40B5-9314-A1DE5ECE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8F61-4DA1-477A-98EE-07DC3386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C3F5-7E02-4AEE-BF86-A23AB2B2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966F-FBD3-4810-89EA-7935BDCF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C5E2-D814-4824-8A0D-4EDDAC02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0519-4184-4E72-A694-A3CC0289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6C6F4-5BFC-4934-99B0-C55917EE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07A8-09DB-4038-8498-19EDFF5D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28C9-A5BC-47DD-80E5-D0D33EC0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2B37-8C3D-4789-9727-0E67A0DA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446A-81F6-4398-A98F-A9DC7068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99E1-F12A-42B3-9351-5E0738DD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A0EF-EC23-4D53-9F44-737A96C6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F7BE5-BFD0-447D-B4CC-2BAD9799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29C32-6E2E-4E8C-9B68-254C11D6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7C119-9CE8-43B9-9352-8B27F10F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FD4DA-CFF2-49DA-826F-4EED3101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153F2-7AB5-4F8A-81CD-2ECE9144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567C8-A5F6-46CA-9789-4D41E627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0" y="0"/>
            <a:ext cx="9144000" cy="1447920"/>
            <a:chOff x="0" y="0"/>
            <a:chExt cx="9144000" cy="144792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e7f4ce"/>
                </a:gs>
                <a:gs pos="100000">
                  <a:srgbClr val="aad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8"/>
            <p:cNvSpPr/>
            <p:nvPr/>
          </p:nvSpPr>
          <p:spPr>
            <a:xfrm>
              <a:off x="1981080" y="380880"/>
              <a:ext cx="71629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aa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9"/>
            <p:cNvSpPr/>
            <p:nvPr/>
          </p:nvSpPr>
          <p:spPr>
            <a:xfrm>
              <a:off x="0" y="1143000"/>
              <a:ext cx="9144000" cy="304920"/>
            </a:xfrm>
            <a:prstGeom prst="rect">
              <a:avLst/>
            </a:prstGeom>
            <a:solidFill>
              <a:srgbClr val="559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Picture 26" descr="02"/>
          <p:cNvPicPr/>
          <p:nvPr/>
        </p:nvPicPr>
        <p:blipFill>
          <a:blip r:embed="rId2"/>
          <a:stretch/>
        </p:blipFill>
        <p:spPr>
          <a:xfrm>
            <a:off x="7715160" y="77760"/>
            <a:ext cx="1067040" cy="1047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246E-2575-45E9-83FD-569A9DDAAC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24" descr=""/>
          <p:cNvPicPr/>
          <p:nvPr/>
        </p:nvPicPr>
        <p:blipFill>
          <a:blip r:embed="rId3"/>
          <a:stretch/>
        </p:blipFill>
        <p:spPr>
          <a:xfrm>
            <a:off x="8424720" y="95400"/>
            <a:ext cx="673200" cy="564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5" descr=""/>
          <p:cNvPicPr/>
          <p:nvPr/>
        </p:nvPicPr>
        <p:blipFill>
          <a:blip r:embed="rId4"/>
          <a:srcRect l="0" t="0" r="1014" b="0"/>
          <a:stretch/>
        </p:blipFill>
        <p:spPr>
          <a:xfrm>
            <a:off x="8001000" y="311040"/>
            <a:ext cx="914400" cy="7747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45684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a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2514600"/>
            <a:ext cx="91440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a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aad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02"/>
          <p:cNvPicPr/>
          <p:nvPr/>
        </p:nvPicPr>
        <p:blipFill>
          <a:blip r:embed="rId2"/>
          <a:stretch/>
        </p:blipFill>
        <p:spPr>
          <a:xfrm>
            <a:off x="4800600" y="103320"/>
            <a:ext cx="4162320" cy="4087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559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5" descr="02"/>
          <p:cNvPicPr/>
          <p:nvPr/>
        </p:nvPicPr>
        <p:blipFill>
          <a:blip r:embed="rId3"/>
          <a:stretch/>
        </p:blipFill>
        <p:spPr>
          <a:xfrm>
            <a:off x="1066680" y="3048120"/>
            <a:ext cx="1981440" cy="1946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"/>
          <p:cNvPicPr/>
          <p:nvPr/>
        </p:nvPicPr>
        <p:blipFill>
          <a:blip r:embed="rId4"/>
          <a:srcRect l="0" t="0" r="8662" b="0"/>
          <a:stretch/>
        </p:blipFill>
        <p:spPr>
          <a:xfrm>
            <a:off x="6781680" y="1538280"/>
            <a:ext cx="2057400" cy="189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"/>
          <p:cNvPicPr/>
          <p:nvPr/>
        </p:nvPicPr>
        <p:blipFill>
          <a:blip r:embed="rId5"/>
          <a:srcRect l="0" t="0" r="1011" b="0"/>
          <a:stretch/>
        </p:blipFill>
        <p:spPr>
          <a:xfrm>
            <a:off x="4419720" y="2440080"/>
            <a:ext cx="4495680" cy="380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03"/>
          <p:cNvPicPr/>
          <p:nvPr/>
        </p:nvPicPr>
        <p:blipFill>
          <a:blip r:embed="rId6"/>
          <a:stretch/>
        </p:blipFill>
        <p:spPr>
          <a:xfrm>
            <a:off x="0" y="4876920"/>
            <a:ext cx="1382760" cy="198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8001000" y="64152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12949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5724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781680" y="6553080"/>
            <a:ext cx="10670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5EEF-E56E-4CE6-8C9C-3367538FF8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хема 35" descr=""/>
          <p:cNvPicPr/>
          <p:nvPr/>
        </p:nvPicPr>
        <p:blipFill>
          <a:blip r:embed="rId1"/>
          <a:stretch/>
        </p:blipFill>
        <p:spPr>
          <a:xfrm>
            <a:off x="-6480" y="1298520"/>
            <a:ext cx="9156960" cy="5656320"/>
          </a:xfrm>
          <a:prstGeom prst="rect">
            <a:avLst/>
          </a:prstGeom>
          <a:ln w="0">
            <a:noFill/>
          </a:ln>
        </p:spPr>
      </p:pic>
      <p:sp>
        <p:nvSpPr>
          <p:cNvPr id="99" name="Заголовок 1"/>
          <p:cNvSpPr/>
          <p:nvPr/>
        </p:nvSpPr>
        <p:spPr>
          <a:xfrm>
            <a:off x="428760" y="260280"/>
            <a:ext cx="8229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Warm-up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C:\Users\user\Downloads\ке.jpg"/>
          <p:cNvPicPr/>
          <p:nvPr/>
        </p:nvPicPr>
        <p:blipFill>
          <a:blip r:embed="rId2"/>
          <a:stretch/>
        </p:blipFill>
        <p:spPr>
          <a:xfrm>
            <a:off x="0" y="0"/>
            <a:ext cx="2340000" cy="191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:\Users\user\Downloads\вар.jpg"/>
          <p:cNvPicPr/>
          <p:nvPr/>
        </p:nvPicPr>
        <p:blipFill>
          <a:blip r:embed="rId3"/>
          <a:stretch/>
        </p:blipFill>
        <p:spPr>
          <a:xfrm>
            <a:off x="6875640" y="0"/>
            <a:ext cx="2268360" cy="1844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user\Downloads\олд.jpg"/>
          <p:cNvPicPr/>
          <p:nvPr/>
        </p:nvPicPr>
        <p:blipFill>
          <a:blip r:embed="rId4"/>
          <a:stretch/>
        </p:blipFill>
        <p:spPr>
          <a:xfrm>
            <a:off x="7380360" y="2349360"/>
            <a:ext cx="1763640" cy="1943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Users\user\Downloads\цы.jpg"/>
          <p:cNvPicPr/>
          <p:nvPr/>
        </p:nvPicPr>
        <p:blipFill>
          <a:blip r:embed="rId5"/>
          <a:stretch/>
        </p:blipFill>
        <p:spPr>
          <a:xfrm>
            <a:off x="7308720" y="4797360"/>
            <a:ext cx="1835280" cy="180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C:\Users\user\Downloads\шакира.jpg"/>
          <p:cNvPicPr/>
          <p:nvPr/>
        </p:nvPicPr>
        <p:blipFill>
          <a:blip r:embed="rId6"/>
          <a:stretch/>
        </p:blipFill>
        <p:spPr>
          <a:xfrm>
            <a:off x="0" y="4941720"/>
            <a:ext cx="1692360" cy="165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user\Downloads\прр.jpg"/>
          <p:cNvPicPr/>
          <p:nvPr/>
        </p:nvPicPr>
        <p:blipFill>
          <a:blip r:embed="rId7"/>
          <a:stretch/>
        </p:blipFill>
        <p:spPr>
          <a:xfrm>
            <a:off x="0" y="2421000"/>
            <a:ext cx="1763640" cy="1728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8:14:37Z</dcterms:created>
  <dc:creator>Admin</dc:creator>
  <dc:description/>
  <dc:language>en-US</dc:language>
  <cp:lastModifiedBy>Англия</cp:lastModifiedBy>
  <cp:lastPrinted>2015-10-29T06:58:24Z</cp:lastPrinted>
  <dcterms:modified xsi:type="dcterms:W3CDTF">2015-11-21T08:12:10Z</dcterms:modified>
  <cp:revision>147</cp:revision>
  <dc:subject/>
  <dc:title>Themegallery PowerTemplate</dc:title>
</cp:coreProperties>
</file>