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793C-EDDC-44EA-8661-2D574717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3DA7A-6EF7-40DC-BEC2-44C92BB1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3EA5-7D83-4004-B653-57D95C6B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746FD-BDF9-477F-A815-51A33ADF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E5C0-96AF-4E26-99FA-655DE50F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31C3-9666-4B2F-BF18-9C1A3B29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847D-EE41-4C23-B8F0-5C8B92D3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A120-D0B9-4E2E-8D81-FEC070BF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C280-D0F2-4A7B-957B-12D23A78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CCC9-6C54-4BBE-9FE5-32463842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CA15-CA4E-415F-A6B1-F9B2AE97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D269-F085-466F-A242-7C1BEC64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2D67-D324-4733-AEE0-69375A81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1DAB-0F30-4A74-8548-30EAA031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2DCB-63BF-4CF1-81AB-184644D5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91C4-9F49-4531-828A-456C3759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7AA6-DA3B-4B2F-9075-1ECF7790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04E5-808A-412E-A393-FE3113A0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D8B1-8FE0-4955-89E5-65FEC916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E25E-62D4-48EE-8884-CCF9D363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E8BB-7BA9-4810-B95C-B24CAD37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203A-F092-4290-BA90-75BFCD29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EAC2-BB0D-4914-BF56-017BB712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69495-AF3C-46AC-A27C-88350D0A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0" y="0"/>
            <a:ext cx="9144000" cy="1447920"/>
            <a:chOff x="0" y="0"/>
            <a:chExt cx="9144000" cy="144792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e7f4ce"/>
                </a:gs>
                <a:gs pos="100000">
                  <a:srgbClr val="aad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981080" y="380880"/>
              <a:ext cx="71629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a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0" y="1143000"/>
              <a:ext cx="9144000" cy="304920"/>
            </a:xfrm>
            <a:prstGeom prst="rect">
              <a:avLst/>
            </a:prstGeom>
            <a:solidFill>
              <a:srgbClr val="559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26" descr="02"/>
          <p:cNvPicPr/>
          <p:nvPr/>
        </p:nvPicPr>
        <p:blipFill>
          <a:blip r:embed="rId2"/>
          <a:stretch/>
        </p:blipFill>
        <p:spPr>
          <a:xfrm>
            <a:off x="7715160" y="77760"/>
            <a:ext cx="1067040" cy="1047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9AF0-9536-48C7-A009-12FC7E7C45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4" descr=""/>
          <p:cNvPicPr/>
          <p:nvPr/>
        </p:nvPicPr>
        <p:blipFill>
          <a:blip r:embed="rId3"/>
          <a:stretch/>
        </p:blipFill>
        <p:spPr>
          <a:xfrm>
            <a:off x="8424720" y="95400"/>
            <a:ext cx="673200" cy="564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5" descr=""/>
          <p:cNvPicPr/>
          <p:nvPr/>
        </p:nvPicPr>
        <p:blipFill>
          <a:blip r:embed="rId4"/>
          <a:srcRect l="0" t="0" r="1014" b="0"/>
          <a:stretch/>
        </p:blipFill>
        <p:spPr>
          <a:xfrm>
            <a:off x="8001000" y="31104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45684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a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251460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a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02"/>
          <p:cNvPicPr/>
          <p:nvPr/>
        </p:nvPicPr>
        <p:blipFill>
          <a:blip r:embed="rId2"/>
          <a:stretch/>
        </p:blipFill>
        <p:spPr>
          <a:xfrm>
            <a:off x="4800600" y="103320"/>
            <a:ext cx="4162320" cy="4087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559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5" descr="02"/>
          <p:cNvPicPr/>
          <p:nvPr/>
        </p:nvPicPr>
        <p:blipFill>
          <a:blip r:embed="rId3"/>
          <a:stretch/>
        </p:blipFill>
        <p:spPr>
          <a:xfrm>
            <a:off x="1066680" y="3048120"/>
            <a:ext cx="1981440" cy="194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4"/>
          <a:srcRect l="0" t="0" r="8662" b="0"/>
          <a:stretch/>
        </p:blipFill>
        <p:spPr>
          <a:xfrm>
            <a:off x="6781680" y="1538280"/>
            <a:ext cx="2057400" cy="189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"/>
          <p:cNvPicPr/>
          <p:nvPr/>
        </p:nvPicPr>
        <p:blipFill>
          <a:blip r:embed="rId5"/>
          <a:srcRect l="0" t="0" r="1011" b="0"/>
          <a:stretch/>
        </p:blipFill>
        <p:spPr>
          <a:xfrm>
            <a:off x="4419720" y="2440080"/>
            <a:ext cx="4495680" cy="380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03"/>
          <p:cNvPicPr/>
          <p:nvPr/>
        </p:nvPicPr>
        <p:blipFill>
          <a:blip r:embed="rId6"/>
          <a:stretch/>
        </p:blipFill>
        <p:spPr>
          <a:xfrm>
            <a:off x="0" y="4876920"/>
            <a:ext cx="138276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8001000" y="6415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2949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5724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781680" y="6553080"/>
            <a:ext cx="10670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C647-C833-4ECB-A3D1-FB41E4FF2E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хема 35" descr=""/>
          <p:cNvPicPr/>
          <p:nvPr/>
        </p:nvPicPr>
        <p:blipFill>
          <a:blip r:embed="rId1"/>
          <a:stretch/>
        </p:blipFill>
        <p:spPr>
          <a:xfrm>
            <a:off x="-6480" y="1298520"/>
            <a:ext cx="9156960" cy="5656320"/>
          </a:xfrm>
          <a:prstGeom prst="rect">
            <a:avLst/>
          </a:prstGeom>
          <a:ln w="0">
            <a:noFill/>
          </a:ln>
        </p:spPr>
      </p:pic>
      <p:sp>
        <p:nvSpPr>
          <p:cNvPr id="99" name="Заголовок 1"/>
          <p:cNvSpPr/>
          <p:nvPr/>
        </p:nvSpPr>
        <p:spPr>
          <a:xfrm>
            <a:off x="428760" y="260280"/>
            <a:ext cx="8229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Warm-up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C:\Users\user\Downloads\ке.jpg"/>
          <p:cNvPicPr/>
          <p:nvPr/>
        </p:nvPicPr>
        <p:blipFill>
          <a:blip r:embed="rId2"/>
          <a:stretch/>
        </p:blipFill>
        <p:spPr>
          <a:xfrm>
            <a:off x="0" y="0"/>
            <a:ext cx="2340000" cy="191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Users\user\Downloads\вар.jpg"/>
          <p:cNvPicPr/>
          <p:nvPr/>
        </p:nvPicPr>
        <p:blipFill>
          <a:blip r:embed="rId3"/>
          <a:stretch/>
        </p:blipFill>
        <p:spPr>
          <a:xfrm>
            <a:off x="6875640" y="0"/>
            <a:ext cx="2268360" cy="1844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user\Downloads\олд.jpg"/>
          <p:cNvPicPr/>
          <p:nvPr/>
        </p:nvPicPr>
        <p:blipFill>
          <a:blip r:embed="rId4"/>
          <a:stretch/>
        </p:blipFill>
        <p:spPr>
          <a:xfrm>
            <a:off x="7380360" y="2349360"/>
            <a:ext cx="1763640" cy="1943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Users\user\Downloads\цы.jpg"/>
          <p:cNvPicPr/>
          <p:nvPr/>
        </p:nvPicPr>
        <p:blipFill>
          <a:blip r:embed="rId5"/>
          <a:stretch/>
        </p:blipFill>
        <p:spPr>
          <a:xfrm>
            <a:off x="7308720" y="4797360"/>
            <a:ext cx="1835280" cy="18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C:\Users\user\Downloads\шакира.jpg"/>
          <p:cNvPicPr/>
          <p:nvPr/>
        </p:nvPicPr>
        <p:blipFill>
          <a:blip r:embed="rId6"/>
          <a:stretch/>
        </p:blipFill>
        <p:spPr>
          <a:xfrm>
            <a:off x="0" y="4941720"/>
            <a:ext cx="1692360" cy="165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user\Downloads\прр.jpg"/>
          <p:cNvPicPr/>
          <p:nvPr/>
        </p:nvPicPr>
        <p:blipFill>
          <a:blip r:embed="rId7"/>
          <a:stretch/>
        </p:blipFill>
        <p:spPr>
          <a:xfrm>
            <a:off x="0" y="2421000"/>
            <a:ext cx="1763640" cy="172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8:14:37Z</dcterms:created>
  <dc:creator>Admin</dc:creator>
  <dc:description/>
  <dc:language>en-US</dc:language>
  <cp:lastModifiedBy>Англия</cp:lastModifiedBy>
  <cp:lastPrinted>2015-10-29T06:58:24Z</cp:lastPrinted>
  <dcterms:modified xsi:type="dcterms:W3CDTF">2015-11-21T08:12:10Z</dcterms:modified>
  <cp:revision>147</cp:revision>
  <dc:subject/>
  <dc:title>Themegallery PowerTemplate</dc:title>
</cp:coreProperties>
</file>