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FFAEA9-1E43-4D60-9B9F-9E9067ED3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F7E70E-E909-4809-9052-E0D0CCD2C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1BC961-FD24-486E-8F5F-64AE8C555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4D4D9B-FEBC-4E59-B91C-9955D103C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8B95FB-4B9C-46BA-B971-86B25E0A2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A9DF1-2C19-48F2-B5DE-83FA7F211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02C4D-4954-41DA-87D3-A0EFD665D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EDA06F-CA00-4209-BE33-0D47C808F5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7882FC-CD70-4200-8C8C-D68CECE73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FE6604-966B-449A-B469-6D8DC5E59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FA508F-CDFD-4D9D-9B7F-DB5A7CDA6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64704-4F96-4444-83D9-B0A5137D0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E3DC42-1BEB-4E74-844B-1D73B3B0D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F797F7-275D-4760-A4D6-A2A11ED81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97B13C-D127-4121-B20B-99AB25C11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789896-4CF9-4CFB-A0A0-CA49BFFBB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EEF95-F7DD-4DAE-8BD6-662F3C959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4F4FF-F4B6-40D4-B919-B457FB140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17B91-9088-4DFE-B89C-3B0B08108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2844E-7346-437F-B2BA-00D44B2BA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638F77-250F-4D60-A6D6-48E438A49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4066BB-53AA-4702-B4FA-D1297E75F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2450D3-1017-4CD6-A4CA-ABDE4211B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62F-867C-4B5A-8DB6-EF4077AF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465-266B-4BD4-B211-BADFD50D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FF3-A5C3-4622-A8BF-6B301DDE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884-C01B-404C-BA9C-76E88C6F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847-7063-40EE-9EE2-F4E2928A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A80-30A9-4C8A-A234-C9312EB2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256-C5DB-4841-831D-302F1E8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3D2-13EF-46BB-8677-E253D5C1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F60-79D3-4EDF-A491-587AC34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A40-30D7-43FB-A366-1951F65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D30-700E-4C1C-8CCB-F618F78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C75-9553-46BE-B284-5A1F9B0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EE9BD3-0263-407B-8892-75058C31F57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4400"/>
            </a:b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724280" y="255276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Лучший способ сделать детей хорошими – сделать их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О.Уай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rcRect l="8124" t="0" r="20812" b="43271"/>
          <a:stretch/>
        </p:blipFill>
        <p:spPr>
          <a:xfrm>
            <a:off x="380880" y="1981080"/>
            <a:ext cx="4248360" cy="4267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657600" y="63244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44800"/>
                </a:solidFill>
                <a:latin typeface="Times New Roman"/>
              </a:rPr>
              <a:t>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rcRect l="50001" t="0" r="21240" b="50519"/>
          <a:stretch/>
        </p:blipFill>
        <p:spPr>
          <a:xfrm>
            <a:off x="2203560" y="838080"/>
            <a:ext cx="4735440" cy="5524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2"/>
          <a:srcRect l="0" t="0" r="0" b="54955"/>
          <a:stretch/>
        </p:blipFill>
        <p:spPr>
          <a:xfrm>
            <a:off x="609480" y="1523880"/>
            <a:ext cx="7413840" cy="4361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066680" y="30492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2"/>
          <a:srcRect l="45508" t="0" r="0" b="0"/>
          <a:stretch/>
        </p:blipFill>
        <p:spPr>
          <a:xfrm>
            <a:off x="876240" y="9360"/>
            <a:ext cx="7391520" cy="683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2"/>
          <a:srcRect l="46086" t="52039" r="4229" b="0"/>
          <a:stretch/>
        </p:blipFill>
        <p:spPr>
          <a:xfrm>
            <a:off x="2247840" y="685800"/>
            <a:ext cx="4437000" cy="586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2"/>
          <a:srcRect l="0" t="0" r="0" b="52111"/>
          <a:stretch/>
        </p:blipFill>
        <p:spPr>
          <a:xfrm>
            <a:off x="1143000" y="1295280"/>
            <a:ext cx="7153200" cy="4570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2"/>
          <a:srcRect l="0" t="58487" r="0" b="0"/>
          <a:stretch/>
        </p:blipFill>
        <p:spPr>
          <a:xfrm>
            <a:off x="609480" y="838080"/>
            <a:ext cx="7925040" cy="5189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rcRect l="49023" t="0" r="0" b="0"/>
          <a:stretch/>
        </p:blipFill>
        <p:spPr>
          <a:xfrm>
            <a:off x="185436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rcRect l="48759" t="0" r="0" b="0"/>
          <a:stretch/>
        </p:blipFill>
        <p:spPr>
          <a:xfrm>
            <a:off x="2362320" y="198360"/>
            <a:ext cx="4754520" cy="6459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rcRect l="0" t="0" r="0" b="43271"/>
          <a:stretch/>
        </p:blipFill>
        <p:spPr>
          <a:xfrm>
            <a:off x="762120" y="838080"/>
            <a:ext cx="7867440" cy="561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rcRect l="46044" t="0" r="0" b="0"/>
          <a:stretch/>
        </p:blipFill>
        <p:spPr>
          <a:xfrm>
            <a:off x="2411280" y="981000"/>
            <a:ext cx="4046760" cy="574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rcRect l="0" t="0" r="81241" b="81448"/>
          <a:stretch/>
        </p:blipFill>
        <p:spPr>
          <a:xfrm>
            <a:off x="1600200" y="990720"/>
            <a:ext cx="5943600" cy="57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rcRect l="0" t="0" r="33161" b="0"/>
          <a:stretch/>
        </p:blipFill>
        <p:spPr>
          <a:xfrm>
            <a:off x="2058840" y="1066680"/>
            <a:ext cx="502452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2"/>
          <a:srcRect l="0" t="0" r="52573" b="0"/>
          <a:stretch/>
        </p:blipFill>
        <p:spPr>
          <a:xfrm>
            <a:off x="2454120" y="642960"/>
            <a:ext cx="4235760" cy="6215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rcRect l="0" t="52039" r="53917" b="0"/>
          <a:stretch/>
        </p:blipFill>
        <p:spPr>
          <a:xfrm>
            <a:off x="2286000" y="743040"/>
            <a:ext cx="4289400" cy="6114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2280" y="-762120"/>
            <a:ext cx="9448560" cy="8534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52280" y="-1522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4400"/>
            </a:br>
            <a:r>
              <a:rPr b="1" lang="ru-RU" sz="44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2"/>
          <a:srcRect l="22528" t="0" r="0" b="0"/>
          <a:stretch/>
        </p:blipFill>
        <p:spPr>
          <a:xfrm>
            <a:off x="2362320" y="685800"/>
            <a:ext cx="409248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rcRect l="0" t="57309" r="18647" b="0"/>
          <a:stretch/>
        </p:blipFill>
        <p:spPr>
          <a:xfrm>
            <a:off x="406440" y="838080"/>
            <a:ext cx="83296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/>
          <a:srcRect l="0" t="0" r="0" b="50854"/>
          <a:stretch/>
        </p:blipFill>
        <p:spPr>
          <a:xfrm>
            <a:off x="1123920" y="1050840"/>
            <a:ext cx="6896160" cy="4754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rcRect l="56794" t="30052" r="7261" b="0"/>
          <a:stretch/>
        </p:blipFill>
        <p:spPr>
          <a:xfrm>
            <a:off x="2209680" y="762120"/>
            <a:ext cx="4173480" cy="564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rcRect l="0" t="49023" r="0" b="0"/>
          <a:stretch/>
        </p:blipFill>
        <p:spPr>
          <a:xfrm>
            <a:off x="609480" y="7162920"/>
            <a:ext cx="10163160" cy="7448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rcRect l="77166" t="0" r="0" b="45804"/>
          <a:stretch/>
        </p:blipFill>
        <p:spPr>
          <a:xfrm>
            <a:off x="2362320" y="838080"/>
            <a:ext cx="3431880" cy="5524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2"/>
          <a:srcRect l="0" t="891" r="0" b="47966"/>
          <a:stretch/>
        </p:blipFill>
        <p:spPr>
          <a:xfrm>
            <a:off x="609480" y="990720"/>
            <a:ext cx="7925040" cy="5553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066680" y="0"/>
            <a:ext cx="7010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rcRect l="0" t="50874" r="10677" b="0"/>
          <a:stretch/>
        </p:blipFill>
        <p:spPr>
          <a:xfrm>
            <a:off x="1344600" y="762120"/>
            <a:ext cx="6453360" cy="576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85800" y="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КАК МИР МЕНЯЕТСЯ!</a:t>
            </a:r>
            <a:br>
              <a:rPr sz="2000"/>
            </a:br>
            <a:r>
              <a:rPr b="1" lang="ru-RU" sz="2000" spc="-1" strike="noStrike">
                <a:solidFill>
                  <a:srgbClr val="244800"/>
                </a:solidFill>
                <a:latin typeface="Times New Roman"/>
              </a:rPr>
              <a:t>И КАК Я САМ МЕНЯЮС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11-21T08:22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