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03CF65-3E1F-44F6-AD7B-48BF3C403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F92A60-D6A7-4771-B4CD-3118D563FD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3BBB8B-E3C2-4EB6-A447-5D192F060F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A68328-7C41-4262-88CF-4BFE7C77A5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A38B23-7736-4AEE-92A3-F2D9F42669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6367B9-2D72-4BAE-B153-78ACA31B5A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574D6A-7CC6-4B5C-AF02-46A8947BCC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09A63A-E235-42D6-B6DB-7DF04E6D94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0987AD-61E9-4EA2-9E64-8D16336239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4B2DA2-B4EE-47E2-9133-080AF0C81F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04F9AA-6761-4FD5-86B6-EE39B37A85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5520F4-0B95-46EB-AE95-FB945026CC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61C13D-CBFB-4BDA-876D-CA510D732C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3425E8-6B43-45EA-B735-EE164A17C3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D5A3EA-15E5-4B84-AA15-E8D02EC37E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352F28-04B3-480D-A658-E95725EF2E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B53D94-540E-4D66-8CE6-F3F603BEAA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83B82F-DEFB-4309-AD9F-9DF3E96294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0242A9-5512-476E-B4B7-0104C27F42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E1DDDB-016B-414B-8041-A4A49C1408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D52E0C-52D1-4D86-9B7C-8404BCEDDF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9E3A39-85BE-4A43-B73B-999AAC5EEC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F81DB3-A34C-4D34-B350-EFAD798DE5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AFE-1A8C-479E-86E4-B544426C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E1B-73CF-4FFE-9A71-B72BD884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EE0E-9865-43FE-A6D0-97AC9A26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E63-8729-44AE-AFFF-5ABCA5E7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319-0966-4C33-9039-9F696A60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04B-6F7F-4F86-96E0-B104CE2E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BD5-9A84-4092-91B2-9A856069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CC8-1B97-48CE-BBFC-A125B9C8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342F-48F0-4D8F-B984-386AB44F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D52-BF26-4AAB-AEE7-1C0B6081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FA1-DCCF-4A82-85CA-BA2F7D51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D7C1-D7E8-4003-A12E-FB56DDB7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F32091-8FD4-4442-93E0-3957AA601C4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4400"/>
            </a:br>
            <a:r>
              <a:rPr b="1" lang="ru-RU" sz="44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724280" y="2552760"/>
            <a:ext cx="426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44800"/>
                </a:solidFill>
                <a:latin typeface="Times New Roman"/>
              </a:rPr>
              <a:t>Лучший способ сделать детей хорошими – сделать их счастлив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44800"/>
                </a:solidFill>
                <a:latin typeface="Times New Roman"/>
              </a:rPr>
              <a:t>О.Уайль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rcRect l="8124" t="0" r="20812" b="43271"/>
          <a:stretch/>
        </p:blipFill>
        <p:spPr>
          <a:xfrm>
            <a:off x="380880" y="1981080"/>
            <a:ext cx="4248360" cy="4267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3657600" y="632448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44800"/>
                </a:solidFill>
                <a:latin typeface="Times New Roman"/>
              </a:rPr>
              <a:t>20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2"/>
          <a:srcRect l="50001" t="0" r="21240" b="50519"/>
          <a:stretch/>
        </p:blipFill>
        <p:spPr>
          <a:xfrm>
            <a:off x="2203560" y="838080"/>
            <a:ext cx="4735440" cy="55245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2"/>
          <a:srcRect l="0" t="0" r="0" b="54955"/>
          <a:stretch/>
        </p:blipFill>
        <p:spPr>
          <a:xfrm>
            <a:off x="609480" y="1523880"/>
            <a:ext cx="7413840" cy="43610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066680" y="30492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2"/>
          <a:srcRect l="45508" t="0" r="0" b="0"/>
          <a:stretch/>
        </p:blipFill>
        <p:spPr>
          <a:xfrm>
            <a:off x="876240" y="9360"/>
            <a:ext cx="7391520" cy="6839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2"/>
          <a:srcRect l="46086" t="52039" r="4229" b="0"/>
          <a:stretch/>
        </p:blipFill>
        <p:spPr>
          <a:xfrm>
            <a:off x="2247840" y="685800"/>
            <a:ext cx="4437000" cy="5867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2"/>
          <a:srcRect l="0" t="0" r="0" b="52111"/>
          <a:stretch/>
        </p:blipFill>
        <p:spPr>
          <a:xfrm>
            <a:off x="1143000" y="1295280"/>
            <a:ext cx="7153200" cy="4570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2"/>
          <a:srcRect l="0" t="58487" r="0" b="0"/>
          <a:stretch/>
        </p:blipFill>
        <p:spPr>
          <a:xfrm>
            <a:off x="609480" y="838080"/>
            <a:ext cx="7925040" cy="5189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2"/>
          <a:srcRect l="49023" t="0" r="0" b="0"/>
          <a:stretch/>
        </p:blipFill>
        <p:spPr>
          <a:xfrm>
            <a:off x="1854360" y="0"/>
            <a:ext cx="502596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2"/>
          <a:srcRect l="48759" t="0" r="0" b="0"/>
          <a:stretch/>
        </p:blipFill>
        <p:spPr>
          <a:xfrm>
            <a:off x="2362320" y="198360"/>
            <a:ext cx="4754520" cy="6459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2"/>
          <a:srcRect l="0" t="0" r="0" b="43271"/>
          <a:stretch/>
        </p:blipFill>
        <p:spPr>
          <a:xfrm>
            <a:off x="762120" y="838080"/>
            <a:ext cx="7867440" cy="5618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2"/>
          <a:srcRect l="46044" t="0" r="0" b="0"/>
          <a:stretch/>
        </p:blipFill>
        <p:spPr>
          <a:xfrm>
            <a:off x="2411280" y="981000"/>
            <a:ext cx="4046760" cy="57405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2"/>
          <a:srcRect l="0" t="0" r="81241" b="81448"/>
          <a:stretch/>
        </p:blipFill>
        <p:spPr>
          <a:xfrm>
            <a:off x="1600200" y="990720"/>
            <a:ext cx="5943600" cy="5709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rcRect l="0" t="0" r="33161" b="0"/>
          <a:stretch/>
        </p:blipFill>
        <p:spPr>
          <a:xfrm>
            <a:off x="2058840" y="1066680"/>
            <a:ext cx="5024520" cy="5486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2"/>
          <a:srcRect l="0" t="0" r="52573" b="0"/>
          <a:stretch/>
        </p:blipFill>
        <p:spPr>
          <a:xfrm>
            <a:off x="2454120" y="642960"/>
            <a:ext cx="4235760" cy="6215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2"/>
          <a:srcRect l="0" t="52039" r="53917" b="0"/>
          <a:stretch/>
        </p:blipFill>
        <p:spPr>
          <a:xfrm>
            <a:off x="2286000" y="743040"/>
            <a:ext cx="4289400" cy="6114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2280" y="-762120"/>
            <a:ext cx="9448560" cy="8534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152280" y="-152280"/>
            <a:ext cx="8839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4400"/>
            </a:br>
            <a:r>
              <a:rPr b="1" lang="ru-RU" sz="44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2"/>
          <a:srcRect l="22528" t="0" r="0" b="0"/>
          <a:stretch/>
        </p:blipFill>
        <p:spPr>
          <a:xfrm>
            <a:off x="2362320" y="685800"/>
            <a:ext cx="4092480" cy="60958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2"/>
          <a:srcRect l="0" t="57309" r="18647" b="0"/>
          <a:stretch/>
        </p:blipFill>
        <p:spPr>
          <a:xfrm>
            <a:off x="406440" y="838080"/>
            <a:ext cx="8329680" cy="56390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2"/>
          <a:srcRect l="0" t="0" r="0" b="50854"/>
          <a:stretch/>
        </p:blipFill>
        <p:spPr>
          <a:xfrm>
            <a:off x="1123920" y="1050840"/>
            <a:ext cx="6896160" cy="4754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2"/>
          <a:srcRect l="56794" t="30052" r="7261" b="0"/>
          <a:stretch/>
        </p:blipFill>
        <p:spPr>
          <a:xfrm>
            <a:off x="2209680" y="762120"/>
            <a:ext cx="4173480" cy="5646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rcRect l="0" t="49023" r="0" b="0"/>
          <a:stretch/>
        </p:blipFill>
        <p:spPr>
          <a:xfrm>
            <a:off x="609480" y="7162920"/>
            <a:ext cx="10163160" cy="74484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2"/>
          <a:srcRect l="77166" t="0" r="0" b="45804"/>
          <a:stretch/>
        </p:blipFill>
        <p:spPr>
          <a:xfrm>
            <a:off x="2362320" y="838080"/>
            <a:ext cx="3431880" cy="55245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2"/>
          <a:srcRect l="0" t="891" r="0" b="47966"/>
          <a:stretch/>
        </p:blipFill>
        <p:spPr>
          <a:xfrm>
            <a:off x="609480" y="990720"/>
            <a:ext cx="7925040" cy="5553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2"/>
          <a:srcRect l="0" t="50874" r="10677" b="0"/>
          <a:stretch/>
        </p:blipFill>
        <p:spPr>
          <a:xfrm>
            <a:off x="1344600" y="762120"/>
            <a:ext cx="6453360" cy="5765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5-11-21T08:22:4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