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101378-D49D-4FD3-91AD-3B77E62DC2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F8BD68-811C-4931-9BE5-46E8555CE2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634B4B-9E14-4223-8135-0263C0512B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2B4E9B-FBA4-4B3B-8AAC-3FEDEBCE16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740049-278F-44A6-A373-2F4CB90636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424B52-785A-4ABE-9681-3349DB7D1B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CBDD2D-0BD5-4C52-9683-5B3283349B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A4AC62-0FCD-42C2-80A3-8A6DBB176A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9483F2-32AC-40C0-A3E1-C9E829AE31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EC204B-C4F9-4C16-9491-1F73BF9CA7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F3D66E-C094-4F36-95E9-238CB66CD8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F2D095-A783-4770-8B31-FA1CA50AC7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6BEC96-AC3D-4280-98A4-E0041807D3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E96DE6-F7A4-46B4-8259-F55566033F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5BC7DA-93FC-4B62-A78D-41C59DA7B8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0450D4-2375-4AEF-9086-18CE093118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779DD8-ACAC-46B2-BF4D-5798673C60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41626A-E423-4D99-9BF8-95D810DC4E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706386-04A4-4C90-AAC5-DED24A90E6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D3B05F-7848-4541-B867-018446B60E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F689C9-457E-4B3A-A904-2F16638A70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7C18B7-3D3F-4BB7-BAA5-6305B03532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BF97E5-9A11-4E94-A340-8A09A87E75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2EE-C463-4FC5-B772-5FAC9FDD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29A3-E229-49E5-9EBD-276BA072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0E84-74A2-4465-AD31-5385DBC9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098-C5FE-487F-8D12-9E265837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F672-771C-4829-9C54-FEEB9989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509-BC36-4E07-8E11-3CCB72A8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9B3-4E87-4A4E-B22C-6AA3B0F8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0A3-60C0-46EF-90C6-11A996D7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19E7-F8FF-45F7-9B5F-6D7453F8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1BA-3D6D-42DB-8742-9936B390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64D-5B3E-4B99-9175-FA1756A3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4C9C-659B-42BD-BF69-3544E031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D779B3-C249-4469-B1CC-05C67E03F72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4400"/>
            </a:br>
            <a:r>
              <a:rPr b="1" lang="ru-RU" sz="44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724280" y="2552760"/>
            <a:ext cx="426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44800"/>
                </a:solidFill>
                <a:latin typeface="Times New Roman"/>
              </a:rPr>
              <a:t>Лучший способ сделать детей хорошими – сделать их счастлив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44800"/>
                </a:solidFill>
                <a:latin typeface="Times New Roman"/>
              </a:rPr>
              <a:t>О.Уайль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rcRect l="8124" t="0" r="20812" b="43271"/>
          <a:stretch/>
        </p:blipFill>
        <p:spPr>
          <a:xfrm>
            <a:off x="380880" y="1981080"/>
            <a:ext cx="4248360" cy="4267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3657600" y="632448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44800"/>
                </a:solidFill>
                <a:latin typeface="Times New Roman"/>
              </a:rPr>
              <a:t>20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2"/>
          <a:srcRect l="50001" t="0" r="21240" b="50519"/>
          <a:stretch/>
        </p:blipFill>
        <p:spPr>
          <a:xfrm>
            <a:off x="2203560" y="838080"/>
            <a:ext cx="4735440" cy="55245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2"/>
          <a:srcRect l="0" t="0" r="0" b="54955"/>
          <a:stretch/>
        </p:blipFill>
        <p:spPr>
          <a:xfrm>
            <a:off x="609480" y="1523880"/>
            <a:ext cx="7413840" cy="43610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066680" y="30492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2"/>
          <a:srcRect l="45508" t="0" r="0" b="0"/>
          <a:stretch/>
        </p:blipFill>
        <p:spPr>
          <a:xfrm>
            <a:off x="876240" y="9360"/>
            <a:ext cx="7391520" cy="6839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2"/>
          <a:srcRect l="46086" t="52039" r="4229" b="0"/>
          <a:stretch/>
        </p:blipFill>
        <p:spPr>
          <a:xfrm>
            <a:off x="2247840" y="685800"/>
            <a:ext cx="4437000" cy="5867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2"/>
          <a:srcRect l="0" t="0" r="0" b="52111"/>
          <a:stretch/>
        </p:blipFill>
        <p:spPr>
          <a:xfrm>
            <a:off x="1143000" y="1295280"/>
            <a:ext cx="7153200" cy="4570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2"/>
          <a:srcRect l="0" t="58487" r="0" b="0"/>
          <a:stretch/>
        </p:blipFill>
        <p:spPr>
          <a:xfrm>
            <a:off x="609480" y="838080"/>
            <a:ext cx="7925040" cy="5189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2"/>
          <a:srcRect l="49023" t="0" r="0" b="0"/>
          <a:stretch/>
        </p:blipFill>
        <p:spPr>
          <a:xfrm>
            <a:off x="1854360" y="0"/>
            <a:ext cx="502596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2"/>
          <a:srcRect l="48759" t="0" r="0" b="0"/>
          <a:stretch/>
        </p:blipFill>
        <p:spPr>
          <a:xfrm>
            <a:off x="2362320" y="198360"/>
            <a:ext cx="4754520" cy="6459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2"/>
          <a:srcRect l="0" t="0" r="0" b="43271"/>
          <a:stretch/>
        </p:blipFill>
        <p:spPr>
          <a:xfrm>
            <a:off x="762120" y="838080"/>
            <a:ext cx="7867440" cy="5618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2"/>
          <a:srcRect l="46044" t="0" r="0" b="0"/>
          <a:stretch/>
        </p:blipFill>
        <p:spPr>
          <a:xfrm>
            <a:off x="2411280" y="981000"/>
            <a:ext cx="4046760" cy="57405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2"/>
          <a:srcRect l="0" t="0" r="81241" b="81448"/>
          <a:stretch/>
        </p:blipFill>
        <p:spPr>
          <a:xfrm>
            <a:off x="1600200" y="990720"/>
            <a:ext cx="5943600" cy="5709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rcRect l="0" t="0" r="33161" b="0"/>
          <a:stretch/>
        </p:blipFill>
        <p:spPr>
          <a:xfrm>
            <a:off x="2058840" y="1066680"/>
            <a:ext cx="5024520" cy="5486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2"/>
          <a:srcRect l="0" t="0" r="52573" b="0"/>
          <a:stretch/>
        </p:blipFill>
        <p:spPr>
          <a:xfrm>
            <a:off x="2454120" y="642960"/>
            <a:ext cx="4235760" cy="6215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2"/>
          <a:srcRect l="0" t="52039" r="53917" b="0"/>
          <a:stretch/>
        </p:blipFill>
        <p:spPr>
          <a:xfrm>
            <a:off x="2286000" y="743040"/>
            <a:ext cx="4289400" cy="6114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2280" y="-762120"/>
            <a:ext cx="9448560" cy="8534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152280" y="-152280"/>
            <a:ext cx="8839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4400"/>
            </a:br>
            <a:r>
              <a:rPr b="1" lang="ru-RU" sz="44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2"/>
          <a:srcRect l="22528" t="0" r="0" b="0"/>
          <a:stretch/>
        </p:blipFill>
        <p:spPr>
          <a:xfrm>
            <a:off x="2362320" y="685800"/>
            <a:ext cx="4092480" cy="60958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2"/>
          <a:srcRect l="0" t="57309" r="18647" b="0"/>
          <a:stretch/>
        </p:blipFill>
        <p:spPr>
          <a:xfrm>
            <a:off x="406440" y="838080"/>
            <a:ext cx="8329680" cy="56390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2"/>
          <a:srcRect l="0" t="0" r="0" b="50854"/>
          <a:stretch/>
        </p:blipFill>
        <p:spPr>
          <a:xfrm>
            <a:off x="1123920" y="1050840"/>
            <a:ext cx="6896160" cy="47545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2"/>
          <a:srcRect l="56794" t="30052" r="7261" b="0"/>
          <a:stretch/>
        </p:blipFill>
        <p:spPr>
          <a:xfrm>
            <a:off x="2209680" y="762120"/>
            <a:ext cx="4173480" cy="5646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rcRect l="0" t="49023" r="0" b="0"/>
          <a:stretch/>
        </p:blipFill>
        <p:spPr>
          <a:xfrm>
            <a:off x="609480" y="7162920"/>
            <a:ext cx="10163160" cy="74484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2"/>
          <a:srcRect l="77166" t="0" r="0" b="45804"/>
          <a:stretch/>
        </p:blipFill>
        <p:spPr>
          <a:xfrm>
            <a:off x="2362320" y="838080"/>
            <a:ext cx="3431880" cy="55245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2"/>
          <a:srcRect l="0" t="891" r="0" b="47966"/>
          <a:stretch/>
        </p:blipFill>
        <p:spPr>
          <a:xfrm>
            <a:off x="609480" y="990720"/>
            <a:ext cx="7925040" cy="5553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2"/>
          <a:srcRect l="0" t="50874" r="10677" b="0"/>
          <a:stretch/>
        </p:blipFill>
        <p:spPr>
          <a:xfrm>
            <a:off x="1344600" y="762120"/>
            <a:ext cx="6453360" cy="5765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5-11-21T08:22:4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