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CF4-4672-43E9-AA9F-2C869B95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06C4-119D-41EB-87BB-9C3077BE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CFF-2A37-40A1-A76A-EDA8CD3A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FB6-5737-4D5B-AB2F-AB3926A2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526-304C-49A7-8029-3EDD1831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60F-7C81-4D99-BFA0-46325775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A83B-2DFD-4A54-8B1A-B4BDD3A8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EE2-65B7-4325-8A44-3B7A6C1D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29E-4FA0-4233-B62C-A5832231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D1D-634C-4BE3-81FA-BA5638AE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8A4-759E-409E-BE05-983719EA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EFE-15A6-4AA2-8CC4-ECE2C03E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B7B2-7FED-4907-BF71-EE678E381A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nastol"/>
          <p:cNvPicPr/>
          <p:nvPr/>
        </p:nvPicPr>
        <p:blipFill>
          <a:blip r:embed="rId1"/>
          <a:srcRect l="0" t="0" r="7382" b="0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9640" y="1557000"/>
            <a:ext cx="7596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Arial"/>
              </a:rPr>
              <a:t>Путешествие за сокровищами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0_76dda_72172b4a_XL"/>
          <p:cNvPicPr/>
          <p:nvPr/>
        </p:nvPicPr>
        <p:blipFill>
          <a:blip r:embed="rId1"/>
          <a:srcRect l="6024" t="0" r="6024" b="0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31640" y="274320"/>
            <a:ext cx="576108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Arial"/>
              </a:rPr>
              <a:t>Спасибо </a:t>
            </a:r>
            <a:br>
              <a:rPr sz="4800"/>
            </a:br>
            <a:r>
              <a:rPr b="1" lang="ru-RU" sz="4800" spc="-1" strike="noStrike" u="sng">
                <a:solidFill>
                  <a:srgbClr val="000066"/>
                </a:solidFill>
                <a:uFillTx/>
                <a:latin typeface="Arial"/>
              </a:rPr>
              <a:t>за  </a:t>
            </a:r>
            <a:br>
              <a:rPr sz="4800"/>
            </a:br>
            <a:r>
              <a:rPr b="1" lang="ru-RU" sz="4800" spc="-1" strike="noStrike" u="sng">
                <a:solidFill>
                  <a:srgbClr val="000066"/>
                </a:solidFill>
                <a:uFillTx/>
                <a:latin typeface="Arial"/>
              </a:rPr>
              <a:t>работу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7593120" y="0"/>
            <a:ext cx="152388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3" descr="1200x768_%D0%A0%D0%B0%D0%B9%D1%81%D0%BA%D0%B8%D0%B9-%D0%BE%D1%81%D1%82%D1%80%D0%BE%D0%B2%D0%BE%D0%BA"/>
          <p:cNvPicPr/>
          <p:nvPr/>
        </p:nvPicPr>
        <p:blipFill>
          <a:blip r:embed="rId1"/>
          <a:srcRect l="3150" t="0" r="3150" b="93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Arial"/>
              </a:rPr>
              <a:t>о. Повторения</a:t>
            </a:r>
            <a:br>
              <a:rPr sz="4800"/>
            </a:b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составьте словосочетания со слов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9280" y="1484280"/>
          <a:ext cx="8785440" cy="4664160"/>
        </p:xfrm>
        <a:graphic>
          <a:graphicData uri="http://schemas.openxmlformats.org/drawingml/2006/table">
            <a:tbl>
              <a:tblPr/>
              <a:tblGrid>
                <a:gridCol w="4106880"/>
                <a:gridCol w="467856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дол_жит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предл_жени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9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л_г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рил_гат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отл_жит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изл_гат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0_27d94_43c6ac6e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Arial"/>
              </a:rPr>
              <a:t>Море Неразгаданных тай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2274840" y="1413000"/>
            <a:ext cx="43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обрать по составу сло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2286000" y="190656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стаетс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big_7794_oboi_rif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Arial"/>
              </a:rPr>
              <a:t>Рифы</a:t>
            </a:r>
            <a:br>
              <a:rPr sz="4800"/>
            </a:b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спишите, вставляя пропущенные буквы</a:t>
            </a:r>
            <a:r>
              <a:rPr b="1" lang="ru-RU" sz="4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6491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истья р..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лодая пор..с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..сток ро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р..сль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рские водор..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р..щивание молодня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ар..сли кам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накомый р..стов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р..стет сорня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14559925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Arial"/>
              </a:rPr>
              <a:t>дремучий лес</a:t>
            </a:r>
            <a:br>
              <a:rPr sz="4800"/>
            </a:br>
            <a:r>
              <a:rPr b="1" lang="ru-RU" sz="4800" spc="-1" strike="noStrike" u="sng">
                <a:solidFill>
                  <a:srgbClr val="000066"/>
                </a:solidFill>
                <a:uFillTx/>
                <a:latin typeface="Arial"/>
              </a:rPr>
              <a:t>о. Выбирай-ка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2852640"/>
            <a:ext cx="8856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48f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21248f"/>
                </a:solidFill>
                <a:latin typeface="Arial"/>
              </a:rPr>
              <a:t>) пол..жить, зар..сти, соприк..с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2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248f"/>
                </a:solidFill>
                <a:latin typeface="Arial"/>
              </a:rPr>
              <a:t>2) р..сточек, к..снусь, прир..щ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2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248f"/>
                </a:solidFill>
                <a:latin typeface="Arial"/>
              </a:rPr>
              <a:t>3) прил..гательное, к..сательная, отр..с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2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248f"/>
                </a:solidFill>
                <a:latin typeface="Arial"/>
              </a:rPr>
              <a:t>4) Р..стислав, ул..жить, выр..ст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324000" y="177336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1. В каком ряду во всех словах пропущена одна и та же буква? Выпиши эти сл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14559925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Arial"/>
              </a:rPr>
              <a:t>дремучий лес</a:t>
            </a:r>
            <a:br>
              <a:rPr sz="4800"/>
            </a:br>
            <a:r>
              <a:rPr b="1" lang="ru-RU" sz="4800" spc="-1" strike="noStrike" u="sng">
                <a:solidFill>
                  <a:srgbClr val="000066"/>
                </a:solidFill>
                <a:uFillTx/>
                <a:latin typeface="Arial"/>
              </a:rPr>
              <a:t>о. Выбирай-ка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324000" y="177336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2. В каком ряду все слова имеют корни с чередующимися гласными? Выпиши эти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160200" y="3378240"/>
            <a:ext cx="8785440" cy="31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248f"/>
                </a:solidFill>
                <a:latin typeface="Arial"/>
              </a:rPr>
              <a:t>1) распол..жение, к..сой, пор..с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248f"/>
                </a:solidFill>
                <a:latin typeface="Arial"/>
              </a:rPr>
              <a:t>2) упр..стить, прик..саться, сл..гаем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248f"/>
                </a:solidFill>
                <a:latin typeface="Arial"/>
              </a:rPr>
              <a:t>3) водор..сли, к..сьба, вл..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248f"/>
                </a:solidFill>
                <a:latin typeface="Arial"/>
              </a:rPr>
              <a:t>4) предпол..жение, отр..сль, выр..щ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%D1%84%D0%BE%D1%82%D0%BE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Arial"/>
              </a:rPr>
              <a:t>берег реки Игрово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30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слова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ыходи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зять пристав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слова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заро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кор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слова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иде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следний суффик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слова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кустарн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конч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0_76dda_72172b4a_XL"/>
          <p:cNvPicPr/>
          <p:nvPr/>
        </p:nvPicPr>
        <p:blipFill>
          <a:blip r:embed="rId1"/>
          <a:srcRect l="6024" t="0" r="6024" b="0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3780000" y="2565360"/>
            <a:ext cx="4652640" cy="3922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250920" y="26028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!!!!!! Клад!!!!!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думаешь, что это клад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ОШИБАЕШЬСЯ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отри следующий слай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0_76dda_72172b4a_XL"/>
          <p:cNvPicPr/>
          <p:nvPr/>
        </p:nvPicPr>
        <p:blipFill>
          <a:blip r:embed="rId1"/>
          <a:srcRect l="6024" t="0" r="6024" b="0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31640" y="-360"/>
            <a:ext cx="576108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66"/>
                </a:solidFill>
                <a:uFillTx/>
                <a:latin typeface="Arial"/>
              </a:rPr>
              <a:t>Клад, сокровища – это твои знания, умения, сила воли, проявление характера.</a:t>
            </a:r>
            <a:br>
              <a:rPr sz="4000"/>
            </a:br>
            <a:r>
              <a:rPr b="1" lang="ru-RU" sz="4000" spc="-1" strike="noStrike" u="sng">
                <a:solidFill>
                  <a:srgbClr val="000066"/>
                </a:solidFill>
                <a:uFillTx/>
                <a:latin typeface="Arial"/>
              </a:rPr>
              <a:t>Это твое главное богатство</a:t>
            </a:r>
            <a:r>
              <a:rPr b="1" lang="ru-RU" sz="4800" spc="-1" strike="noStrike" u="sng">
                <a:solidFill>
                  <a:srgbClr val="000066"/>
                </a:solidFill>
                <a:uFillTx/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18:19:49Z</dcterms:created>
  <dc:creator>Наталья Сергеевна</dc:creator>
  <dc:description/>
  <dc:language>en-US</dc:language>
  <cp:lastModifiedBy>Надежда</cp:lastModifiedBy>
  <dcterms:modified xsi:type="dcterms:W3CDTF">2015-12-03T09:42:50Z</dcterms:modified>
  <cp:revision>80</cp:revision>
  <dc:subject/>
  <dc:title>Урок-путешествие по русскому языку в 5 классе.</dc:title>
</cp:coreProperties>
</file>