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1.jpeg" ContentType="image/jpe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ACF6-5FE8-43C2-9EEA-9D0902C78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1FDF-55E7-40A2-8F52-D394FC67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B8089-96F0-4C94-95CF-0245097A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3D091D-C690-4069-89E9-23AC3D25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1E54F-8A99-4AC9-8EAC-B4A4A420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135FCF-07B6-4108-A777-8250B6ED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A7676D-E213-4D5E-9349-5C9D54BE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607BD9-B600-4725-B72D-34737422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69131-19F5-4F6B-AFE8-18358BDD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43F6DB-0265-493E-AAE6-5A3919C2F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A79D9-28AF-471D-8D0A-16127C54A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D1849-5C4A-47D4-BD62-27A99F080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2ECF-ABD0-4C5D-AAE5-CB04E4139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970F8-3FBC-48CC-A1DB-7B7D3EF2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981FD8-38BD-4006-B986-1371B906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D7CB21-2287-421D-80AC-09494BA6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55623-F31D-4026-A564-AC350DF1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839C6-AD8C-4B36-8F8B-1F3C66DE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421A0-DE08-487A-8231-96F7456D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9AC96E-B186-42B2-B525-127C96D5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2D6BB0-8329-4E5C-8AD5-040DC027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DDAE4B-9BF6-43E1-8D68-5CE62747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E6F73-A64F-40A5-BEA4-A491FDDCF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95B2-AFDF-4788-BF6B-16C4F4CA9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198D56-02B7-46B0-AED0-60DBDC04F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A61EA-ED7E-4846-9E8C-26BD4A447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BA586-3B8B-4A7D-80AD-6B9E6302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B6689-A6DC-48A9-A6AF-BF017F5A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575B1-35E6-4C4D-A34F-A70DADEA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2DD02-45E9-42E4-A8B6-52BB703E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C8DD8-8D54-4B64-B7B0-EAE2971A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28F9C-830E-422A-A4D9-FEA382ED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BD36B-FA5B-4983-8855-77FD1B2E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5EF1D-080A-4FC6-B6C3-3E6F8E7B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2F4B-F9DD-4B06-A86A-4B106915B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6A3FF-DD8F-4F3A-8B08-38FF3494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7E527-7DA2-4380-A9B0-2DB2A90C5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FA5ED-8E02-48E2-812E-2C3A1FA46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A77424-C8BC-4167-B350-081013E3F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4B4F06-99A1-4E05-BD00-E930F8D6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DA4EBA-595D-449F-B41E-8E026174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DD502B-5BCD-4AD5-A0AF-4C2116E7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A21CAC-2ABB-4A67-B47E-472FF32F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F399C4-7D38-4CB0-9B74-00495EA0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9488ED-1B02-4713-BA81-4CB595B4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1D22-A8D5-41A8-806C-50617E08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3D2F19-A1CF-4A73-8BBA-D8B35A64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2BC40-366A-464A-82C0-AAAA9FCB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FDB012-42F9-4C20-A340-42872502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2461E9-A8F6-40E0-A38A-2ED011816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FC30CF-CB13-4CCE-9273-D6E443F01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9836DF-E31B-4CD1-BEB2-E498F0871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33829C-6A14-45C1-A1B5-02E1DD99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5C8031-00CF-4F6D-8D83-8331C0F6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05821B-A41D-4255-BE8C-86209D2B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41E42A-3F4E-47F4-A6E2-E6E1CAE8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5DE4-1D6C-49C0-A776-4D1D2B26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5394AA-5EAB-44B1-B8F0-3EC53839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F31059-0B87-4865-AA33-D626E9D4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EC975B-3C7D-43A1-A379-92778BCB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04C711-A9EB-4A30-A7CC-95C6C549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80F9B0-3FD9-40E5-AB06-0DA7A272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710514-35A4-4136-A847-D952C9DD7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31FDAF-7935-42A9-B96F-BC9DCD439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1DCE36-483F-4D0A-8DE3-0AA7F69A6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66005E-6145-4B26-AB5D-C47DF0ED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DD0563-D4F9-4605-90F7-8E86344A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7647-3203-4CA5-B18C-ABFD9FA2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221494-B1B9-40E7-BDCD-1BD4972D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3CE932-1641-41BF-B359-9791817F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D4D98B-149A-4AD8-8175-3E62D43C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5E130D-E035-44DF-81EC-55661A39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62F980-1040-4A81-A3F3-545E92EE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EDA437-FFDB-4E77-B8BD-96D311E4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DEBE49-518B-4C4D-9A1C-D1ABAB54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6590B0-D838-4D1B-BEBA-8228B63C7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367765-6453-4122-BEDA-31383C091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1628D4-8BC2-441E-8D9A-14529D880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ADE8-4FEB-4A09-B979-24B60C56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90D6D9-9446-4779-AEF5-51045C42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DC0C0A-1AFB-4E83-B4DD-E745E254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C86250-6DF1-41A1-A9FC-DE9445F8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324A76-3376-4AEF-BAEA-128E21A7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32EB93-54F1-4A44-BA31-960210B1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41FF31-F588-4754-A183-CC568F6D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436F9B-3B22-42D4-A9E4-FAC25DDC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5B3CA0-6A4F-48D3-B2CB-0ACB47FF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5D79D4-2024-4021-8D40-26FD73CE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E236F0-7328-435D-B02F-69EC19F2B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5697-4287-4AB8-9028-D22F49A7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8FF44B-808D-4C12-82A4-82E90D304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FB4835-B40E-476D-9B95-23F2DB323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8187EF-2974-42F1-88CD-E568CD8B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4766BA-49A2-492C-81C5-1C1DADC8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97F0C3-9339-41D0-AD57-A5C5FEDC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C3AF1A-CCDF-4BF6-8A11-76573711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7E189A-6AD0-4E97-9952-340CA3EE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09F07B-A452-44C9-8EB0-AAB6378B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FFD80C-5611-4F44-88AD-D5B284EF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8681FD-E6B6-4D36-8E4E-79B31A2A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4A04-A9B5-4362-A233-473516CB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B788A8-F307-46A8-9A99-B66D01DD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7E283C-0DF0-418C-9AAD-4A51588C2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FEE19B-D751-4F50-9B78-3EA51DA3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876E1B-FBFC-4F78-AD6B-93CF8D627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FC410A-19E6-46A3-8155-1E81ECCC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0E6FA2-AA22-43DC-9728-C080F6C5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4CD18C-C771-4684-9DAD-20367F60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5C4701-2180-4F49-9E41-454E724C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DE57FB-04FF-4BD3-B98D-0CFEA45D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5AB5DC-B093-4501-B5FA-2728C0CE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360C-3B56-4780-BF3E-EEA8B9DF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D531-94C9-41A4-BC09-75D4829F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7EBEFB-DA42-4DBB-8569-84846611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AE3090-35A9-40AA-B0E0-5F85592D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CB34C4-4331-4A27-A2C9-0B56341A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8C00F0-E403-4B8C-AA87-94A66E781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91B6F6-E3E5-47DD-A4DF-1315C5234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C66820-8C76-4342-8372-892B89B4A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6CCB15-94CB-4646-AC40-4DF9BC84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669804-49B7-4682-A1DB-356A839F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4DEF8B-24CB-43E3-A70C-5A18B3F2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8BE4C0-464B-4C23-8CEF-67032929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2680-9357-4D95-823F-577E6A01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D1C612-DC8E-4CE9-9EF0-B9FEB28F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8D96DF-6EB1-41B8-A9C5-0F2D3EA7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0B0819-233C-4BCE-9DF7-A45327E7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E357FD-D652-4B36-A246-25AA4847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118A92-107A-4E96-99C3-808055C6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130D0B-98E9-4C20-938C-D89E8AD43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322E2D-E60F-4156-A23B-3160AC2B1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81A51A-6582-4C08-B2EB-B0190094D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6C24C9-5811-4DE2-9C12-48B14D26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39F39E-8049-4DDA-A38E-C15E8309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B424-9972-4437-80DC-D4671F3A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86EB00-1C1B-47BC-AF54-AF645CF9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5F96B6-4110-4C6D-BED5-8E17B4FE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CCAD9B-38CD-4F81-9F16-3D69336A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7D6518-1897-4B3F-A6B0-D81FD7CE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32BFA2-9039-4816-8257-D97BBD97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CD1906-0440-4DF3-BD8E-59A138E0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2DFB88-350A-4024-A7A5-9EFE8056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1150E3-1CFC-434F-A9D7-9BDE22B86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8C10A7-EE15-4DAB-B9E6-2185EFE66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631310-EDBA-4910-83A5-BC86A2758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5EE3-9310-4391-9BB0-04A27EEF2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12147C-CA4D-4BD9-9F80-C570FA4F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81FEB4-4E05-4AC3-A703-C0E90114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092697-CD9E-4720-AA2B-C505BBDC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4D2659-A6DB-4F0A-A732-1E0006A2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F13553-420F-46DF-83AA-D7C8A989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B02DE1-AEA8-4487-B037-16B0E001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8CBC4D-3DF7-4281-82B1-622624E6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F2E295-9E52-4B71-96DA-259F77F9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D5C0BD-CB8B-42B7-9016-E34C98A2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72C5AC-026F-4A94-99D9-BD2E24790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F204-B5EC-4AF2-A11E-42B542C51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EA0D28-0205-4D39-81F8-DCA583CDD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F121E7-A798-47BB-B0B7-4F1239469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F35623-72E8-4873-B8E1-AB7DEABA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48BC7D-05AB-4221-871F-77BF2F2A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A15FBA-9710-4AE8-A5CC-70133088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1C53B1-F59F-4060-8C57-D5C5F6C7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50E3E3-DAED-4C32-B89A-78B7B289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99C8E7-C19E-42F3-8C77-8D549556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3620E2-3DA6-48A5-8314-BD9BB464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854248-39E5-4FF4-83F7-04E109FE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4596B-C182-455D-A64F-17209F776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8B8068-C0F8-4DE0-89D2-65228AB7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E3EB46-569A-42AE-A196-ED0C90F78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78573C-7B74-400A-A920-3340C3F1D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8D8B9D-3D69-43D8-8F0B-8A8FDCD3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BE5E1D-48CB-40A1-B110-1B2F5B16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A31F21-3E25-4651-B77F-204099E8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9DE800-C29D-4181-89C0-2080E889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2275AB-B6A5-4C02-BF29-2164F9D7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198572-8311-45A7-AF1A-BCEE5BDD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19E361-AFB9-4AAF-9E42-E03A648C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3EA80-26D2-432E-AF43-42AC757F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FF57B6-14C7-4664-89E2-7847F7C0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619AE3-4FEF-4A67-B512-F0B23F90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2B8CB7-C9D2-4816-B47E-8CD5D35F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B05DC8-D23A-4541-B32E-0FC9A853E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239F04-9FE1-493D-B1B5-43CCE9DDD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AF1B3F-BFF5-4D5B-98ED-4CC9DA9AF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6FCF01-C470-4673-ADE5-C80DFF41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EFF9BD-1817-4907-8179-4A7F6000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1E46E1-513F-4E3F-954E-34A59EF2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E65A6E-4DAD-42CF-8D58-FABF5F26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8A6AE-1D8E-4D2A-9DB0-8963E7AB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BB295B-DB44-4ADA-AD7C-E1EF301E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0966EA-D7BC-4DC1-B1EE-54DFB6A0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F15891-49B0-49B5-AEC7-DE403686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A002BA-4BE9-4DEA-9DB4-AA65D806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0C6423-C4D3-4D8F-A8D2-75C9A0F3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BD0361-14BE-4E4F-AD7E-BD0F7A371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6FCD13-D118-46CC-8B00-26F7FA89C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D9A251-DCE4-4ACF-8526-E81F5A4B5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BE31DD-CEFF-4C7F-9FEE-9B6B3168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B0ED0B-696F-4710-8DEF-44BC525F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3A42F-6DCF-4D50-AAB9-A990A88E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92BAF72-880A-4DAE-8732-53D6701A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34A29C-901A-42E4-AD8C-C6D31FFA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BF0781-B596-4217-B1B6-0B3F89AD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0CDDFD-496F-441D-ADF6-C9758FF6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F10CC9-7129-44D2-9EAF-3AF150AB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2F6D13-6E17-4133-9C4A-FAA58B86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3979CA-96AA-4A3D-8BEA-4B3E88AA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DFD4EA-1BF6-439B-897B-388C030AA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B8D344-469A-4DA2-A8C7-0D4BCFCF2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BB88E04-DF19-40B5-81CA-8168AABD0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C6CC1-0FA9-4D84-A344-9DDCDB96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A157381-E41A-4330-ADE6-6A4C70C5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EEBDA5A-2EC7-4053-BE9F-86649FA6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91309B-2403-481D-928B-C4E61962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FB7795-1F01-4E9E-9A0F-027DD7C0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E83495-F2CD-49ED-AD60-C1224ECB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287F31-1DED-4918-9E0E-8B0B27A3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276AE7-1189-4FD6-BECA-4123F32F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1380F8-6EFE-4FB9-AE03-FE5DD0BC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41DB96-25FB-4950-BA13-324BC06B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FC67AD-6595-4628-8E70-B2BD3DF5A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4BC7-F3A6-4F25-87C6-E6F1902C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E3817-7517-4EC6-902D-7824B4D1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386F01-5036-4BE2-B7BD-DC8B4DDF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A1D2D72-5FCE-4359-A819-691753D9C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D8BCA3A-C283-4C7E-9790-196D70D5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A25CCBB-47A5-4797-A0E3-9DDD46F0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E5AD39-06E3-49DC-B3B2-6BF09C69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213C541-04F0-40DE-A6A4-E894F8D6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991852-62A1-49A2-BE80-963EBCB8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256CDE5-8A87-411C-A978-42236C47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F04F6AF-9FFE-4441-A157-FA4475AA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2E174AA-6347-4A36-96D5-4AEBEDA0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A6064-EE3B-4A54-BBE4-AC5C939E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681CB64-BDFC-4706-BBC8-C0FA028F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4749C6F-C50C-48E2-A929-B8D955722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0AF8875-B416-461F-9C1F-5122D7CFB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6F2DE50-51A6-4649-BA92-FB3EC6CB7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58BFE2F-A734-4EE5-894B-5AB8C0D9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930BAA5-16F6-4331-8A29-2FC9B68D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8FDA104-D3CF-4217-A8BC-BD90E2B0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9CFCB1C-66C4-4C22-A443-E36D1AF2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316C682-F85B-4DA4-826B-043484E5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E0D2FC-E87D-4251-AB27-0EDE5333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11D2C-05BF-4468-85CB-C449F740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411DEA9-D43A-493E-AA57-D850202E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63BA017-3214-4552-90CD-C8B08371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5A1AE87-BB1D-4CB8-AF13-DCD89C04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67BEB4E-6476-46FE-871C-A8B180F9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C53CA8A-85D0-47D8-ABBD-25800D364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21605-59A0-4524-AEA0-F8180471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DC54B-CBBF-4C5E-84DF-426994D7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0AFCD-F52C-4DFE-9978-0C2AB9DB2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B9D29-D845-41AF-99C1-7B6D558B7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A395B-C356-451F-A230-B897E8BBD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DE6F1-D213-4E75-ACE7-47E384D4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459F0-42E0-4355-95F8-131FDAEA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0C12-BA8F-4AF2-B68F-EEFC2A2B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4CEFD-C5E7-4EDB-A8BC-667B6BE8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7457D-1F36-4EC6-925D-DA3AA38B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64F28-398D-4FD6-AEA3-C80D001E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6726C-CEAE-4717-912F-2208EA31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4999C-2685-471E-B352-DE131BBC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38401-35B0-4C6F-BF93-9EDBE9AA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B6237-1463-4AF1-942C-D511B8FD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F1C4A-D981-46D4-8B67-09D30DC55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67E61-5F9E-4BCB-AEA8-6B774AEB9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B1C2B-051C-478F-886F-91443814D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D397-7F2F-421C-AA40-4F7E3863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3ED0C-7045-442D-BEEC-04ED7C24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A1F7D-5133-4DEE-8AB7-C7A0D820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533A5-A6BD-4830-9F4A-1A9051CD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1CEEB-9E0A-4575-9497-31F2F71F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D47F5-0EA7-482D-95B5-E860884F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8B568-CAAF-49BE-97CC-368010E4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66397-F466-4BB3-AB59-927891FB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71092-FDED-4117-9F29-64DBFB76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E7816-0A08-4349-9CA4-08E96039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44836-7580-49B5-AD6A-CC58B371E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D13C-4598-4738-B58C-6EAD8BCF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C5237-D2E4-4A44-BD03-03450E751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DB3DE-0819-45A3-9333-88464B33F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CC3F8-73EC-4E95-9997-31138E1A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C2B59-F467-4BE5-99F9-EE59DE48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378F6-3105-4E5C-AE42-C880EA91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1DE53-1F86-44A3-A69A-F525B4C3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C6180-527B-4190-82E0-629586E7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8C10B-B3B5-4E31-8FD7-9B26AC44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664E2-0AA1-4A9F-97D0-206175FE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478B6-54FB-4698-B29F-11123FE4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2F44-D6CD-4C22-9ED2-29D828DD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2B6D7-8A19-4769-99A8-772F725D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E8774-FDEE-4232-ADEB-EEE2267BE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5C920-FA73-4C0A-9375-DA18465DF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C844F-8987-49CC-914A-2C0EEAB0B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74A4E-D14A-447D-B14A-76E0E379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94E34-32C2-4131-80A7-2E2FFC55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584F9-E842-4FFA-8BC5-DD8E162F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84D9D-AB11-47D2-A759-1F0B389A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0AC68-F126-47B8-A543-31304DC9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B5559-30F1-404E-B1CA-4609E40F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A51D-7FF8-4668-B133-9CF73A78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EEECE-DADB-47B1-A9BF-18D0CF95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32342-F618-48C1-BB6C-44E83EA4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9B180-3FD8-4997-A69A-C144BB8C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19E24-514E-4D27-85DE-BD531F7B2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83780-D214-442E-982E-130501625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AE96C-0977-4912-A1E3-34526F3ED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04A59-8876-44F3-BB19-DA2CE261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15846-A92B-44AD-AEB3-E76C2EBE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64528-2B29-4301-8746-84899273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A885A-5AE1-47ED-B254-733F7438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9A56-2C74-4187-A1AF-E56E61E7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E212F-7C7A-467A-971A-410904B1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CEB4D-82A4-4BB2-9B16-15E75E5E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3B1A9-C313-41C3-A8D5-BD748509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7FB2A-88CE-4575-A7CF-F5D50D45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13D35-B8B7-4D56-90B9-56E0F9B2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14A7C-76D2-428A-94AB-69B90EC28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3A065-F450-40B8-86E9-3760C25FE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80258-DEE0-41F0-ACA9-9DD6941F1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58BCF-D34A-4DF3-95E1-6D77440E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EB20DA-7F83-4FA0-8A9F-2715B319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45DA-AF24-44A4-A085-A9E9E3D004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E300-7EE8-42D2-84A9-984F9C9D64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FCEE-301B-4BF3-918A-C6EF0C6DE0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2CE8-1B2B-4864-B122-03E3751F5B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A83F-17EB-44B5-8415-B1BC232B0A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4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3026-E4EC-4ECF-942D-9523635D2F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4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7492-7F06-431F-AB0B-1EA054C9A0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541A-FB7A-4462-B4D4-B0FD891F3E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 type="dt" idx="4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5BB6-6154-4806-896D-DFA80A4B21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dt" idx="5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A672-BFA3-4012-9979-03CBC6E2E2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55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6C65-7EF3-4B6C-BEFB-016D006A52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55C3-A8CC-416C-A9FB-C63E75CC7ED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 type="dt" idx="5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D311-8280-4CB1-A58F-18B06A6F48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dt" idx="6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CA85-874D-4F0F-86AB-43DCD7C746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 type="dt" idx="6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351F-FB27-406D-B822-E154205BF8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6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1FE0-4AB1-40EF-8B31-035532C712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 type="dt" idx="7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D47F-3A6D-4D75-880C-5C014B272B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dt" idx="7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27AB-833B-44E8-AC07-B838409622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 type="dt" idx="7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 type="sldNum" idx="7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B9B8-5CCE-45A7-9B5D-3218AE794A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 type="dt" idx="7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 type="sldNum" idx="8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7D88-40CD-4AA8-8DF1-50F221ED52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E903-6E33-4706-B1FC-EB354620CC5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2419-0F7B-43D5-BFFE-511EC41DCA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D0A7-04E4-4730-BA5A-D9AD57D1DF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7F38-D755-4257-A54E-A6883B800A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4D68-8786-421C-8C4A-5C890E460A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5575-7E32-4624-9D8B-A54BC88F1D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E957-B669-4989-858E-A8F016400A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TextBox 1"/>
          <p:cNvSpPr/>
          <p:nvPr/>
        </p:nvSpPr>
        <p:spPr>
          <a:xfrm>
            <a:off x="258840" y="148428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я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тнадцатое  окт</a:t>
            </a: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я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бр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Кла</a:t>
            </a: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сс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ная работ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8" name="Picture 3" descr="D:\Бородулина Н.В\мне надо\78660054_large_kot_uchenuyy_u_kompa.jpg"/>
          <p:cNvPicPr/>
          <p:nvPr/>
        </p:nvPicPr>
        <p:blipFill>
          <a:blip r:embed="rId1"/>
          <a:stretch/>
        </p:blipFill>
        <p:spPr>
          <a:xfrm>
            <a:off x="4500720" y="4924440"/>
            <a:ext cx="1726920" cy="1609560"/>
          </a:xfrm>
          <a:prstGeom prst="rect">
            <a:avLst/>
          </a:prstGeom>
          <a:ln w="0">
            <a:noFill/>
          </a:ln>
        </p:spPr>
      </p:pic>
      <p:pic>
        <p:nvPicPr>
          <p:cNvPr id="1159" name="Picture 4" descr="D:\Бородулина Н.В\мне надо\3128490-cartoon-scientist.jpg"/>
          <p:cNvPicPr/>
          <p:nvPr/>
        </p:nvPicPr>
        <p:blipFill>
          <a:blip r:embed="rId2"/>
          <a:stretch/>
        </p:blipFill>
        <p:spPr>
          <a:xfrm>
            <a:off x="3352680" y="3141720"/>
            <a:ext cx="1055880" cy="1674720"/>
          </a:xfrm>
          <a:prstGeom prst="rect">
            <a:avLst/>
          </a:prstGeom>
          <a:ln w="0">
            <a:noFill/>
          </a:ln>
        </p:spPr>
      </p:pic>
      <p:pic>
        <p:nvPicPr>
          <p:cNvPr id="1160" name="Picture 14" descr="D:\Бородулина Н.В\мне надо\image.jpg"/>
          <p:cNvPicPr/>
          <p:nvPr/>
        </p:nvPicPr>
        <p:blipFill>
          <a:blip r:embed="rId3"/>
          <a:stretch/>
        </p:blipFill>
        <p:spPr>
          <a:xfrm>
            <a:off x="1697040" y="473076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161" name="Picture 3" descr="D:\Бородулина Н.В\мне надо\85583924_84950155_630af7c2a4a1.png"/>
          <p:cNvPicPr/>
          <p:nvPr/>
        </p:nvPicPr>
        <p:blipFill>
          <a:blip r:embed="rId4"/>
          <a:stretch/>
        </p:blipFill>
        <p:spPr>
          <a:xfrm>
            <a:off x="6194520" y="3151080"/>
            <a:ext cx="2943000" cy="3332160"/>
          </a:xfrm>
          <a:prstGeom prst="rect">
            <a:avLst/>
          </a:prstGeom>
          <a:ln w="0">
            <a:noFill/>
          </a:ln>
        </p:spPr>
      </p:pic>
      <p:pic>
        <p:nvPicPr>
          <p:cNvPr id="1162" name="Picture 4" descr="D:\Бородулина Н.В\мне надо\1282162703_8j3npoowsayhh7y.jpeg"/>
          <p:cNvPicPr/>
          <p:nvPr/>
        </p:nvPicPr>
        <p:blipFill>
          <a:blip r:embed="rId5"/>
          <a:stretch/>
        </p:blipFill>
        <p:spPr>
          <a:xfrm>
            <a:off x="108000" y="3141720"/>
            <a:ext cx="158904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1"/>
          <p:cNvSpPr/>
          <p:nvPr/>
        </p:nvSpPr>
        <p:spPr>
          <a:xfrm>
            <a:off x="285840" y="367200"/>
            <a:ext cx="871524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Мы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ык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о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ал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к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ртошку,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р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о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ушил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её,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ув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е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л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с поля. Самые отборные клубни а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кк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уратно разл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жили горкой на чистой п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чаной пл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щад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Л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жит к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ртошка, заг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ет на слабом осе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нн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ем солнышке. Заг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р у неё особенный – делае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тс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к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ртошка з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л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исто - з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лён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Её осторожно поворачивают, чтобы заг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ло ровненько со всех сторо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дь заг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р п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лезен для зд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вья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TextBox 1"/>
          <p:cNvSpPr/>
          <p:nvPr/>
        </p:nvSpPr>
        <p:spPr>
          <a:xfrm>
            <a:off x="1000080" y="1285920"/>
            <a:ext cx="7000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уквы </a:t>
            </a:r>
            <a:r>
              <a:rPr b="1" i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корне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гар- – -гор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1"/>
          <p:cNvSpPr/>
          <p:nvPr/>
        </p:nvSpPr>
        <p:spPr>
          <a:xfrm>
            <a:off x="250920" y="1097640"/>
            <a:ext cx="4178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горе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горае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горе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1"/>
          <p:cNvSpPr/>
          <p:nvPr/>
        </p:nvSpPr>
        <p:spPr>
          <a:xfrm>
            <a:off x="4356000" y="1101600"/>
            <a:ext cx="4537080" cy="46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га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Calibri"/>
              </a:rPr>
              <a:t>гарь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Calibri"/>
              </a:rPr>
              <a:t>угарный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2" name="Picture 4" descr="D:\Бородулина Н.В\мне надо\3128490-cartoon-scientist.jpg"/>
          <p:cNvPicPr/>
          <p:nvPr/>
        </p:nvPicPr>
        <p:blipFill>
          <a:blip r:embed="rId1"/>
          <a:stretch/>
        </p:blipFill>
        <p:spPr>
          <a:xfrm>
            <a:off x="7281720" y="189000"/>
            <a:ext cx="160020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равните слова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306864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Verdana"/>
              </a:rPr>
              <a:t>заг</a:t>
            </a:r>
            <a:r>
              <a:rPr b="0" i="1" lang="ru-RU" sz="3600" spc="-1" strike="noStrike">
                <a:solidFill>
                  <a:srgbClr val="a50021"/>
                </a:solidFill>
                <a:latin typeface="Verdana"/>
              </a:rPr>
              <a:t>а</a:t>
            </a:r>
            <a:r>
              <a:rPr b="0" i="1" lang="ru-RU" sz="3600" spc="-1" strike="noStrike">
                <a:solidFill>
                  <a:srgbClr val="000000"/>
                </a:solidFill>
                <a:latin typeface="Verdana"/>
              </a:rPr>
              <a:t>р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Verdana"/>
              </a:rPr>
              <a:t>уг</a:t>
            </a:r>
            <a:r>
              <a:rPr b="0" i="1" lang="ru-RU" sz="3600" spc="-1" strike="noStrike">
                <a:solidFill>
                  <a:srgbClr val="a50021"/>
                </a:solidFill>
                <a:latin typeface="Verdana"/>
              </a:rPr>
              <a:t>а</a:t>
            </a:r>
            <a:r>
              <a:rPr b="0" i="1" lang="ru-RU" sz="3600" spc="-1" strike="noStrike">
                <a:solidFill>
                  <a:srgbClr val="000000"/>
                </a:solidFill>
                <a:latin typeface="Verdana"/>
              </a:rPr>
              <a:t>рный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Verdana"/>
              </a:rPr>
              <a:t>разг</a:t>
            </a:r>
            <a:r>
              <a:rPr b="0" i="1" lang="ru-RU" sz="3600" spc="-1" strike="noStrike">
                <a:solidFill>
                  <a:srgbClr val="a50021"/>
                </a:solidFill>
                <a:latin typeface="Verdana"/>
              </a:rPr>
              <a:t>а</a:t>
            </a:r>
            <a:r>
              <a:rPr b="0" i="1" lang="ru-RU" sz="3600" spc="-1" strike="noStrike">
                <a:solidFill>
                  <a:srgbClr val="000000"/>
                </a:solidFill>
                <a:latin typeface="Verdana"/>
              </a:rPr>
              <a:t>р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5" name="Rectangle 4"/>
          <p:cNvSpPr/>
          <p:nvPr/>
        </p:nvSpPr>
        <p:spPr>
          <a:xfrm>
            <a:off x="4500720" y="2060640"/>
            <a:ext cx="33112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Verdana"/>
              </a:rPr>
              <a:t>заг</a:t>
            </a:r>
            <a:r>
              <a:rPr b="0" i="1" lang="ru-RU" sz="3600" spc="-1" strike="noStrike">
                <a:solidFill>
                  <a:srgbClr val="a50021"/>
                </a:solidFill>
                <a:latin typeface="Verdana"/>
              </a:rPr>
              <a:t>о</a:t>
            </a:r>
            <a:r>
              <a:rPr b="0" i="1" lang="ru-RU" sz="3600" spc="-1" strike="noStrike">
                <a:solidFill>
                  <a:srgbClr val="000000"/>
                </a:solidFill>
                <a:latin typeface="Verdana"/>
              </a:rPr>
              <a:t>ре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Verdana"/>
              </a:rPr>
              <a:t>уг</a:t>
            </a:r>
            <a:r>
              <a:rPr b="0" i="1" lang="ru-RU" sz="3600" spc="-1" strike="noStrike">
                <a:solidFill>
                  <a:srgbClr val="a50021"/>
                </a:solidFill>
                <a:latin typeface="Verdana"/>
              </a:rPr>
              <a:t>о</a:t>
            </a:r>
            <a:r>
              <a:rPr b="0" i="1" lang="ru-RU" sz="3600" spc="-1" strike="noStrike">
                <a:solidFill>
                  <a:srgbClr val="000000"/>
                </a:solidFill>
                <a:latin typeface="Verdana"/>
              </a:rPr>
              <a:t>ревш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Verdana"/>
              </a:rPr>
              <a:t>разг</a:t>
            </a:r>
            <a:r>
              <a:rPr b="0" i="1" lang="ru-RU" sz="3600" spc="-1" strike="noStrike">
                <a:solidFill>
                  <a:srgbClr val="a50021"/>
                </a:solidFill>
                <a:latin typeface="Verdana"/>
              </a:rPr>
              <a:t>о</a:t>
            </a:r>
            <a:r>
              <a:rPr b="0" i="1" lang="ru-RU" sz="3600" spc="-1" strike="noStrike">
                <a:solidFill>
                  <a:srgbClr val="000000"/>
                </a:solidFill>
                <a:latin typeface="Verdana"/>
              </a:rPr>
              <a:t>рат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Arc 5"/>
          <p:cNvSpPr/>
          <p:nvPr/>
        </p:nvSpPr>
        <p:spPr>
          <a:xfrm rot="19244400">
            <a:off x="1331640" y="1989000"/>
            <a:ext cx="552240" cy="524160"/>
          </a:xfrm>
          <a:custGeom>
            <a:avLst/>
            <a:gdLst/>
            <a:ahLst/>
            <a:rect l="l" t="t" r="r" b="b"/>
            <a:pathLst>
              <a:path fill="none" w="21375" h="21567">
                <a:moveTo>
                  <a:pt x="1186" y="-1"/>
                </a:moveTo>
                <a:cubicBezTo>
                  <a:pt x="11450" y="564"/>
                  <a:pt x="19894" y="8283"/>
                  <a:pt x="21374" y="18456"/>
                </a:cubicBezTo>
              </a:path>
              <a:path stroke="0" w="21375" h="21567">
                <a:moveTo>
                  <a:pt x="1186" y="-1"/>
                </a:moveTo>
                <a:cubicBezTo>
                  <a:pt x="11450" y="564"/>
                  <a:pt x="19894" y="8283"/>
                  <a:pt x="21374" y="18456"/>
                </a:cubicBezTo>
                <a:lnTo>
                  <a:pt x="0" y="21567"/>
                </a:lnTo>
                <a:lnTo>
                  <a:pt x="1186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Arc 6"/>
          <p:cNvSpPr/>
          <p:nvPr/>
        </p:nvSpPr>
        <p:spPr>
          <a:xfrm rot="19244400">
            <a:off x="1116000" y="3284280"/>
            <a:ext cx="552600" cy="523800"/>
          </a:xfrm>
          <a:custGeom>
            <a:avLst/>
            <a:gdLst/>
            <a:ahLst/>
            <a:rect l="l" t="t" r="r" b="b"/>
            <a:pathLst>
              <a:path fill="none" w="21375" h="21567">
                <a:moveTo>
                  <a:pt x="1186" y="-1"/>
                </a:moveTo>
                <a:cubicBezTo>
                  <a:pt x="11450" y="564"/>
                  <a:pt x="19894" y="8283"/>
                  <a:pt x="21374" y="18456"/>
                </a:cubicBezTo>
              </a:path>
              <a:path stroke="0" w="21375" h="21567">
                <a:moveTo>
                  <a:pt x="1186" y="-1"/>
                </a:moveTo>
                <a:cubicBezTo>
                  <a:pt x="11450" y="564"/>
                  <a:pt x="19894" y="8283"/>
                  <a:pt x="21374" y="18456"/>
                </a:cubicBezTo>
                <a:lnTo>
                  <a:pt x="0" y="21567"/>
                </a:lnTo>
                <a:lnTo>
                  <a:pt x="1186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Arc 7"/>
          <p:cNvSpPr/>
          <p:nvPr/>
        </p:nvSpPr>
        <p:spPr>
          <a:xfrm rot="19244400">
            <a:off x="1619280" y="4652640"/>
            <a:ext cx="552600" cy="523800"/>
          </a:xfrm>
          <a:custGeom>
            <a:avLst/>
            <a:gdLst/>
            <a:ahLst/>
            <a:rect l="l" t="t" r="r" b="b"/>
            <a:pathLst>
              <a:path fill="none" w="21375" h="21567">
                <a:moveTo>
                  <a:pt x="1186" y="-1"/>
                </a:moveTo>
                <a:cubicBezTo>
                  <a:pt x="11450" y="564"/>
                  <a:pt x="19894" y="8283"/>
                  <a:pt x="21374" y="18456"/>
                </a:cubicBezTo>
              </a:path>
              <a:path stroke="0" w="21375" h="21567">
                <a:moveTo>
                  <a:pt x="1186" y="-1"/>
                </a:moveTo>
                <a:cubicBezTo>
                  <a:pt x="11450" y="564"/>
                  <a:pt x="19894" y="8283"/>
                  <a:pt x="21374" y="18456"/>
                </a:cubicBezTo>
                <a:lnTo>
                  <a:pt x="0" y="21567"/>
                </a:lnTo>
                <a:lnTo>
                  <a:pt x="1186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Arc 8"/>
          <p:cNvSpPr/>
          <p:nvPr/>
        </p:nvSpPr>
        <p:spPr>
          <a:xfrm rot="19244400">
            <a:off x="5292720" y="1915920"/>
            <a:ext cx="552600" cy="523800"/>
          </a:xfrm>
          <a:custGeom>
            <a:avLst/>
            <a:gdLst/>
            <a:ahLst/>
            <a:rect l="l" t="t" r="r" b="b"/>
            <a:pathLst>
              <a:path fill="none" w="21375" h="21567">
                <a:moveTo>
                  <a:pt x="1186" y="-1"/>
                </a:moveTo>
                <a:cubicBezTo>
                  <a:pt x="11450" y="564"/>
                  <a:pt x="19894" y="8283"/>
                  <a:pt x="21374" y="18456"/>
                </a:cubicBezTo>
              </a:path>
              <a:path stroke="0" w="21375" h="21567">
                <a:moveTo>
                  <a:pt x="1186" y="-1"/>
                </a:moveTo>
                <a:cubicBezTo>
                  <a:pt x="11450" y="564"/>
                  <a:pt x="19894" y="8283"/>
                  <a:pt x="21374" y="18456"/>
                </a:cubicBezTo>
                <a:lnTo>
                  <a:pt x="0" y="21567"/>
                </a:lnTo>
                <a:lnTo>
                  <a:pt x="1186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Arc 9"/>
          <p:cNvSpPr/>
          <p:nvPr/>
        </p:nvSpPr>
        <p:spPr>
          <a:xfrm rot="19244400">
            <a:off x="5076720" y="3212640"/>
            <a:ext cx="552600" cy="523800"/>
          </a:xfrm>
          <a:custGeom>
            <a:avLst/>
            <a:gdLst/>
            <a:ahLst/>
            <a:rect l="l" t="t" r="r" b="b"/>
            <a:pathLst>
              <a:path fill="none" w="21375" h="21567">
                <a:moveTo>
                  <a:pt x="1186" y="-1"/>
                </a:moveTo>
                <a:cubicBezTo>
                  <a:pt x="11450" y="564"/>
                  <a:pt x="19894" y="8283"/>
                  <a:pt x="21374" y="18456"/>
                </a:cubicBezTo>
              </a:path>
              <a:path stroke="0" w="21375" h="21567">
                <a:moveTo>
                  <a:pt x="1186" y="-1"/>
                </a:moveTo>
                <a:cubicBezTo>
                  <a:pt x="11450" y="564"/>
                  <a:pt x="19894" y="8283"/>
                  <a:pt x="21374" y="18456"/>
                </a:cubicBezTo>
                <a:lnTo>
                  <a:pt x="0" y="21567"/>
                </a:lnTo>
                <a:lnTo>
                  <a:pt x="1186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Arc 10"/>
          <p:cNvSpPr/>
          <p:nvPr/>
        </p:nvSpPr>
        <p:spPr>
          <a:xfrm rot="19244400">
            <a:off x="5580000" y="4508280"/>
            <a:ext cx="552600" cy="523800"/>
          </a:xfrm>
          <a:custGeom>
            <a:avLst/>
            <a:gdLst/>
            <a:ahLst/>
            <a:rect l="l" t="t" r="r" b="b"/>
            <a:pathLst>
              <a:path fill="none" w="21375" h="21567">
                <a:moveTo>
                  <a:pt x="1186" y="-1"/>
                </a:moveTo>
                <a:cubicBezTo>
                  <a:pt x="11450" y="564"/>
                  <a:pt x="19894" y="8283"/>
                  <a:pt x="21374" y="18456"/>
                </a:cubicBezTo>
              </a:path>
              <a:path stroke="0" w="21375" h="21567">
                <a:moveTo>
                  <a:pt x="1186" y="-1"/>
                </a:moveTo>
                <a:cubicBezTo>
                  <a:pt x="11450" y="564"/>
                  <a:pt x="19894" y="8283"/>
                  <a:pt x="21374" y="18456"/>
                </a:cubicBezTo>
                <a:lnTo>
                  <a:pt x="0" y="21567"/>
                </a:lnTo>
                <a:lnTo>
                  <a:pt x="1186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11"/>
          <p:cNvSpPr/>
          <p:nvPr/>
        </p:nvSpPr>
        <p:spPr>
          <a:xfrm flipH="1">
            <a:off x="1618920" y="198900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12"/>
          <p:cNvSpPr/>
          <p:nvPr/>
        </p:nvSpPr>
        <p:spPr>
          <a:xfrm flipH="1">
            <a:off x="1402920" y="328464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13"/>
          <p:cNvSpPr/>
          <p:nvPr/>
        </p:nvSpPr>
        <p:spPr>
          <a:xfrm flipH="1">
            <a:off x="1908000" y="458136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14"/>
          <p:cNvSpPr/>
          <p:nvPr/>
        </p:nvSpPr>
        <p:spPr>
          <a:xfrm flipH="1">
            <a:off x="6084720" y="198900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15"/>
          <p:cNvSpPr/>
          <p:nvPr/>
        </p:nvSpPr>
        <p:spPr>
          <a:xfrm flipH="1">
            <a:off x="5867280" y="328464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16"/>
          <p:cNvSpPr/>
          <p:nvPr/>
        </p:nvSpPr>
        <p:spPr>
          <a:xfrm flipH="1">
            <a:off x="6372000" y="458136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TextBox 1"/>
          <p:cNvSpPr/>
          <p:nvPr/>
        </p:nvSpPr>
        <p:spPr>
          <a:xfrm>
            <a:off x="1627200" y="428760"/>
            <a:ext cx="700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оставим алгорит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TextBox 2"/>
          <p:cNvSpPr/>
          <p:nvPr/>
        </p:nvSpPr>
        <p:spPr>
          <a:xfrm>
            <a:off x="214200" y="1571760"/>
            <a:ext cx="85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ыдели корень -гар- – -гор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Box 3"/>
          <p:cNvSpPr/>
          <p:nvPr/>
        </p:nvSpPr>
        <p:spPr>
          <a:xfrm>
            <a:off x="214200" y="2286000"/>
            <a:ext cx="85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ставь удар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TextBox 4"/>
          <p:cNvSpPr/>
          <p:nvPr/>
        </p:nvSpPr>
        <p:spPr>
          <a:xfrm>
            <a:off x="214200" y="3000240"/>
            <a:ext cx="878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Гласная находится под ударени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Box 5"/>
          <p:cNvSpPr/>
          <p:nvPr/>
        </p:nvSpPr>
        <p:spPr>
          <a:xfrm>
            <a:off x="2214720" y="4214880"/>
            <a:ext cx="13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TextBox 6"/>
          <p:cNvSpPr/>
          <p:nvPr/>
        </p:nvSpPr>
        <p:spPr>
          <a:xfrm>
            <a:off x="5429160" y="4214880"/>
            <a:ext cx="135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TextBox 7"/>
          <p:cNvSpPr/>
          <p:nvPr/>
        </p:nvSpPr>
        <p:spPr>
          <a:xfrm>
            <a:off x="1643040" y="5643720"/>
            <a:ext cx="278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ши 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Box 8"/>
          <p:cNvSpPr/>
          <p:nvPr/>
        </p:nvSpPr>
        <p:spPr>
          <a:xfrm>
            <a:off x="5000760" y="5643720"/>
            <a:ext cx="278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ши 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6" name="Прямая со стрелкой 10"/>
          <p:cNvCxnSpPr/>
          <p:nvPr/>
        </p:nvCxnSpPr>
        <p:spPr>
          <a:xfrm flipH="1">
            <a:off x="2928240" y="3786120"/>
            <a:ext cx="1143720" cy="572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17" name="Прямая со стрелкой 17"/>
          <p:cNvCxnSpPr/>
          <p:nvPr/>
        </p:nvCxnSpPr>
        <p:spPr>
          <a:xfrm>
            <a:off x="5000400" y="3786120"/>
            <a:ext cx="1143720" cy="572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18" name="Прямая со стрелкой 18"/>
          <p:cNvCxnSpPr/>
          <p:nvPr/>
        </p:nvCxnSpPr>
        <p:spPr>
          <a:xfrm>
            <a:off x="2927880" y="5000400"/>
            <a:ext cx="1080" cy="857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19" name="Прямая со стрелкой 20"/>
          <p:cNvCxnSpPr/>
          <p:nvPr/>
        </p:nvCxnSpPr>
        <p:spPr>
          <a:xfrm>
            <a:off x="6142680" y="4928760"/>
            <a:ext cx="1080" cy="857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220" name="Picture 14" descr="D:\Бородулина Н.В\мне надо\image.jpg"/>
          <p:cNvPicPr/>
          <p:nvPr/>
        </p:nvPicPr>
        <p:blipFill>
          <a:blip r:embed="rId1"/>
          <a:stretch/>
        </p:blipFill>
        <p:spPr>
          <a:xfrm>
            <a:off x="108000" y="108000"/>
            <a:ext cx="15634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Прямоугольник 2"/>
          <p:cNvSpPr/>
          <p:nvPr/>
        </p:nvSpPr>
        <p:spPr>
          <a:xfrm>
            <a:off x="3071880" y="1285920"/>
            <a:ext cx="25621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орает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р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оре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Дуга 3"/>
          <p:cNvSpPr/>
          <p:nvPr/>
        </p:nvSpPr>
        <p:spPr>
          <a:xfrm rot="18972000">
            <a:off x="3499920" y="1866960"/>
            <a:ext cx="1067040" cy="1047600"/>
          </a:xfrm>
          <a:custGeom>
            <a:avLst/>
            <a:gdLst/>
            <a:ahLst/>
            <a:rect l="l" t="t" r="r" b="b"/>
            <a:pathLst>
              <a:path stroke="0" w="1066800" h="1047750">
                <a:moveTo>
                  <a:pt x="533400" y="0"/>
                </a:moveTo>
                <a:cubicBezTo>
                  <a:pt x="827989" y="0"/>
                  <a:pt x="1066800" y="234547"/>
                  <a:pt x="1066800" y="523875"/>
                </a:cubicBezTo>
                <a:lnTo>
                  <a:pt x="533400" y="523875"/>
                </a:lnTo>
                <a:lnTo>
                  <a:pt x="533400" y="0"/>
                </a:lnTo>
                <a:close/>
              </a:path>
              <a:path fill="none" w="1066800" h="1047750">
                <a:moveTo>
                  <a:pt x="533400" y="0"/>
                </a:moveTo>
                <a:cubicBezTo>
                  <a:pt x="827989" y="0"/>
                  <a:pt x="1066800" y="234547"/>
                  <a:pt x="1066800" y="52387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Дуга 4"/>
          <p:cNvSpPr/>
          <p:nvPr/>
        </p:nvSpPr>
        <p:spPr>
          <a:xfrm rot="18972000">
            <a:off x="3500280" y="3224160"/>
            <a:ext cx="1067040" cy="1047960"/>
          </a:xfrm>
          <a:custGeom>
            <a:avLst/>
            <a:gdLst/>
            <a:ahLst/>
            <a:rect l="l" t="t" r="r" b="b"/>
            <a:pathLst>
              <a:path stroke="0" w="1066800" h="1047750">
                <a:moveTo>
                  <a:pt x="533400" y="0"/>
                </a:moveTo>
                <a:cubicBezTo>
                  <a:pt x="827989" y="0"/>
                  <a:pt x="1066800" y="234547"/>
                  <a:pt x="1066800" y="523875"/>
                </a:cubicBezTo>
                <a:lnTo>
                  <a:pt x="533400" y="523875"/>
                </a:lnTo>
                <a:lnTo>
                  <a:pt x="533400" y="0"/>
                </a:lnTo>
                <a:close/>
              </a:path>
              <a:path fill="none" w="1066800" h="1047750">
                <a:moveTo>
                  <a:pt x="533400" y="0"/>
                </a:moveTo>
                <a:cubicBezTo>
                  <a:pt x="827989" y="0"/>
                  <a:pt x="1066800" y="234547"/>
                  <a:pt x="1066800" y="52387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Дуга 5"/>
          <p:cNvSpPr/>
          <p:nvPr/>
        </p:nvSpPr>
        <p:spPr>
          <a:xfrm rot="18972000">
            <a:off x="3543120" y="4546080"/>
            <a:ext cx="1022040" cy="1049400"/>
          </a:xfrm>
          <a:custGeom>
            <a:avLst/>
            <a:gdLst/>
            <a:ahLst/>
            <a:rect l="l" t="t" r="r" b="b"/>
            <a:pathLst>
              <a:path stroke="0" w="1022350" h="1049338">
                <a:moveTo>
                  <a:pt x="511175" y="0"/>
                </a:moveTo>
                <a:cubicBezTo>
                  <a:pt x="793489" y="0"/>
                  <a:pt x="1022350" y="234902"/>
                  <a:pt x="1022350" y="524669"/>
                </a:cubicBezTo>
                <a:lnTo>
                  <a:pt x="511175" y="524669"/>
                </a:lnTo>
                <a:lnTo>
                  <a:pt x="511175" y="0"/>
                </a:lnTo>
                <a:close/>
              </a:path>
              <a:path fill="none" w="1022350" h="1049338">
                <a:moveTo>
                  <a:pt x="511175" y="0"/>
                </a:moveTo>
                <a:cubicBezTo>
                  <a:pt x="793489" y="0"/>
                  <a:pt x="1022350" y="234902"/>
                  <a:pt x="1022350" y="52466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Прямая соединительная линия 7"/>
          <p:cNvSpPr/>
          <p:nvPr/>
        </p:nvSpPr>
        <p:spPr>
          <a:xfrm>
            <a:off x="3857760" y="2428920"/>
            <a:ext cx="2142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Прямая соединительная линия 8"/>
          <p:cNvSpPr/>
          <p:nvPr/>
        </p:nvSpPr>
        <p:spPr>
          <a:xfrm>
            <a:off x="3857760" y="5143680"/>
            <a:ext cx="2142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Прямая соединительная линия 11"/>
          <p:cNvSpPr/>
          <p:nvPr/>
        </p:nvSpPr>
        <p:spPr>
          <a:xfrm flipH="1">
            <a:off x="4572000" y="1857240"/>
            <a:ext cx="7128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Прямая соединительная линия 12"/>
          <p:cNvSpPr/>
          <p:nvPr/>
        </p:nvSpPr>
        <p:spPr>
          <a:xfrm flipH="1">
            <a:off x="4572000" y="4500720"/>
            <a:ext cx="71280" cy="14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Прямая соединительная линия 13"/>
          <p:cNvSpPr/>
          <p:nvPr/>
        </p:nvSpPr>
        <p:spPr>
          <a:xfrm flipH="1">
            <a:off x="4000680" y="3214800"/>
            <a:ext cx="7128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TextBox 14"/>
          <p:cNvSpPr/>
          <p:nvPr/>
        </p:nvSpPr>
        <p:spPr>
          <a:xfrm>
            <a:off x="3857760" y="4071960"/>
            <a:ext cx="28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Box 15"/>
          <p:cNvSpPr/>
          <p:nvPr/>
        </p:nvSpPr>
        <p:spPr>
          <a:xfrm>
            <a:off x="3857760" y="2786040"/>
            <a:ext cx="28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Box 16"/>
          <p:cNvSpPr/>
          <p:nvPr/>
        </p:nvSpPr>
        <p:spPr>
          <a:xfrm>
            <a:off x="3857760" y="1428840"/>
            <a:ext cx="28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1"/>
          <p:cNvSpPr/>
          <p:nvPr/>
        </p:nvSpPr>
        <p:spPr>
          <a:xfrm>
            <a:off x="500040" y="262440"/>
            <a:ext cx="8215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горят рябиновые кисти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желтизны не пропадет трав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дерево роняет тихо листья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 я роняю грустные слов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2"/>
          <p:cNvSpPr/>
          <p:nvPr/>
        </p:nvSpPr>
        <p:spPr>
          <a:xfrm>
            <a:off x="1143000" y="3441600"/>
            <a:ext cx="4714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стоит берё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онной тишине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горят снежи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золотом огне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5" name="Picture 3" descr=""/>
          <p:cNvPicPr/>
          <p:nvPr/>
        </p:nvPicPr>
        <p:blipFill>
          <a:blip r:embed="rId1"/>
          <a:stretch/>
        </p:blipFill>
        <p:spPr>
          <a:xfrm>
            <a:off x="5929200" y="3071880"/>
            <a:ext cx="271476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214880"/>
                <a:gridCol w="4929120"/>
              </a:tblGrid>
              <a:tr h="6858000">
                <a:tc>
                  <a:txBody>
                    <a:bodyPr lIns="69840" rIns="6984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ахнет г…рью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г…ревшая каш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г…р на свечк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г…ревшая трав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г…рный га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аревнин заг…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9840" marR="6984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9840" rIns="6984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г…рыш свеч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счастный пог…реле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…ри ясн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…рючие слёз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вкус г…р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…рючий материа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9840" marR="6984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237" name="Дуга 15"/>
          <p:cNvSpPr/>
          <p:nvPr/>
        </p:nvSpPr>
        <p:spPr>
          <a:xfrm rot="18870000">
            <a:off x="1380960" y="528120"/>
            <a:ext cx="1166760" cy="1157040"/>
          </a:xfrm>
          <a:custGeom>
            <a:avLst/>
            <a:gdLst/>
            <a:ahLst/>
            <a:rect l="l" t="t" r="r" b="b"/>
            <a:pathLst>
              <a:path stroke="0" w="1166813" h="1157287">
                <a:moveTo>
                  <a:pt x="583406" y="0"/>
                </a:moveTo>
                <a:cubicBezTo>
                  <a:pt x="905613" y="0"/>
                  <a:pt x="1166813" y="259068"/>
                  <a:pt x="1166813" y="578644"/>
                </a:cubicBezTo>
                <a:lnTo>
                  <a:pt x="583407" y="578644"/>
                </a:lnTo>
                <a:cubicBezTo>
                  <a:pt x="583407" y="385763"/>
                  <a:pt x="583406" y="192881"/>
                  <a:pt x="583406" y="0"/>
                </a:cubicBezTo>
                <a:close/>
              </a:path>
              <a:path fill="none" w="1166813" h="1157287">
                <a:moveTo>
                  <a:pt x="583406" y="0"/>
                </a:moveTo>
                <a:cubicBezTo>
                  <a:pt x="905613" y="0"/>
                  <a:pt x="1166813" y="259068"/>
                  <a:pt x="1166813" y="57864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Дуга 16"/>
          <p:cNvSpPr/>
          <p:nvPr/>
        </p:nvSpPr>
        <p:spPr>
          <a:xfrm rot="18870000">
            <a:off x="738000" y="1599840"/>
            <a:ext cx="1166760" cy="1157040"/>
          </a:xfrm>
          <a:custGeom>
            <a:avLst/>
            <a:gdLst/>
            <a:ahLst/>
            <a:rect l="l" t="t" r="r" b="b"/>
            <a:pathLst>
              <a:path stroke="0" w="1166812" h="1157288">
                <a:moveTo>
                  <a:pt x="583406" y="0"/>
                </a:moveTo>
                <a:cubicBezTo>
                  <a:pt x="905612" y="0"/>
                  <a:pt x="1166812" y="259068"/>
                  <a:pt x="1166812" y="578644"/>
                </a:cubicBezTo>
                <a:lnTo>
                  <a:pt x="583406" y="578644"/>
                </a:lnTo>
                <a:lnTo>
                  <a:pt x="583406" y="0"/>
                </a:lnTo>
                <a:close/>
              </a:path>
              <a:path fill="none" w="1166812" h="1157288">
                <a:moveTo>
                  <a:pt x="583406" y="0"/>
                </a:moveTo>
                <a:cubicBezTo>
                  <a:pt x="905612" y="0"/>
                  <a:pt x="1166812" y="259068"/>
                  <a:pt x="1166812" y="57864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Дуга 17"/>
          <p:cNvSpPr/>
          <p:nvPr/>
        </p:nvSpPr>
        <p:spPr>
          <a:xfrm rot="18870000">
            <a:off x="452160" y="2742840"/>
            <a:ext cx="1166760" cy="1157400"/>
          </a:xfrm>
          <a:custGeom>
            <a:avLst/>
            <a:gdLst/>
            <a:ahLst/>
            <a:rect l="l" t="t" r="r" b="b"/>
            <a:pathLst>
              <a:path stroke="0" w="1166812" h="1157288">
                <a:moveTo>
                  <a:pt x="583406" y="0"/>
                </a:moveTo>
                <a:cubicBezTo>
                  <a:pt x="905612" y="0"/>
                  <a:pt x="1166812" y="259068"/>
                  <a:pt x="1166812" y="578644"/>
                </a:cubicBezTo>
                <a:lnTo>
                  <a:pt x="583406" y="578644"/>
                </a:lnTo>
                <a:lnTo>
                  <a:pt x="583406" y="0"/>
                </a:lnTo>
                <a:close/>
              </a:path>
              <a:path fill="none" w="1166812" h="1157288">
                <a:moveTo>
                  <a:pt x="583406" y="0"/>
                </a:moveTo>
                <a:cubicBezTo>
                  <a:pt x="905612" y="0"/>
                  <a:pt x="1166812" y="259068"/>
                  <a:pt x="1166812" y="57864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Дуга 18"/>
          <p:cNvSpPr/>
          <p:nvPr/>
        </p:nvSpPr>
        <p:spPr>
          <a:xfrm rot="18870000">
            <a:off x="595080" y="3814200"/>
            <a:ext cx="1166760" cy="1157400"/>
          </a:xfrm>
          <a:custGeom>
            <a:avLst/>
            <a:gdLst/>
            <a:ahLst/>
            <a:rect l="l" t="t" r="r" b="b"/>
            <a:pathLst>
              <a:path stroke="0" w="1166813" h="1157288">
                <a:moveTo>
                  <a:pt x="583406" y="0"/>
                </a:moveTo>
                <a:cubicBezTo>
                  <a:pt x="905613" y="0"/>
                  <a:pt x="1166813" y="259068"/>
                  <a:pt x="1166813" y="578644"/>
                </a:cubicBezTo>
                <a:lnTo>
                  <a:pt x="583407" y="578644"/>
                </a:lnTo>
                <a:cubicBezTo>
                  <a:pt x="583407" y="385763"/>
                  <a:pt x="583406" y="192881"/>
                  <a:pt x="583406" y="0"/>
                </a:cubicBezTo>
                <a:close/>
              </a:path>
              <a:path fill="none" w="1166813" h="1157288">
                <a:moveTo>
                  <a:pt x="583406" y="0"/>
                </a:moveTo>
                <a:cubicBezTo>
                  <a:pt x="905613" y="0"/>
                  <a:pt x="1166813" y="259068"/>
                  <a:pt x="1166813" y="57864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Дуга 19"/>
          <p:cNvSpPr/>
          <p:nvPr/>
        </p:nvSpPr>
        <p:spPr>
          <a:xfrm rot="18870000">
            <a:off x="237960" y="4885920"/>
            <a:ext cx="1166760" cy="1157040"/>
          </a:xfrm>
          <a:custGeom>
            <a:avLst/>
            <a:gdLst/>
            <a:ahLst/>
            <a:rect l="l" t="t" r="r" b="b"/>
            <a:pathLst>
              <a:path stroke="0" w="1166812" h="1157287">
                <a:moveTo>
                  <a:pt x="583406" y="0"/>
                </a:moveTo>
                <a:cubicBezTo>
                  <a:pt x="905612" y="0"/>
                  <a:pt x="1166812" y="259068"/>
                  <a:pt x="1166812" y="578644"/>
                </a:cubicBezTo>
                <a:lnTo>
                  <a:pt x="583406" y="578644"/>
                </a:lnTo>
                <a:lnTo>
                  <a:pt x="583406" y="0"/>
                </a:lnTo>
                <a:close/>
              </a:path>
              <a:path fill="none" w="1166812" h="1157287">
                <a:moveTo>
                  <a:pt x="583406" y="0"/>
                </a:moveTo>
                <a:cubicBezTo>
                  <a:pt x="905612" y="0"/>
                  <a:pt x="1166812" y="259068"/>
                  <a:pt x="1166812" y="57864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Дуга 20"/>
          <p:cNvSpPr/>
          <p:nvPr/>
        </p:nvSpPr>
        <p:spPr>
          <a:xfrm rot="18870000">
            <a:off x="2309400" y="5958000"/>
            <a:ext cx="1167120" cy="1157400"/>
          </a:xfrm>
          <a:custGeom>
            <a:avLst/>
            <a:gdLst/>
            <a:ahLst/>
            <a:rect l="l" t="t" r="r" b="b"/>
            <a:pathLst>
              <a:path stroke="0" w="1166813" h="1157288">
                <a:moveTo>
                  <a:pt x="583406" y="0"/>
                </a:moveTo>
                <a:cubicBezTo>
                  <a:pt x="905613" y="0"/>
                  <a:pt x="1166813" y="259068"/>
                  <a:pt x="1166813" y="578644"/>
                </a:cubicBezTo>
                <a:lnTo>
                  <a:pt x="583407" y="578644"/>
                </a:lnTo>
                <a:cubicBezTo>
                  <a:pt x="583407" y="385763"/>
                  <a:pt x="583406" y="192881"/>
                  <a:pt x="583406" y="0"/>
                </a:cubicBezTo>
                <a:close/>
              </a:path>
              <a:path fill="none" w="1166813" h="1157288">
                <a:moveTo>
                  <a:pt x="583406" y="0"/>
                </a:moveTo>
                <a:cubicBezTo>
                  <a:pt x="905613" y="0"/>
                  <a:pt x="1166813" y="259068"/>
                  <a:pt x="1166813" y="57864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Дуга 21"/>
          <p:cNvSpPr/>
          <p:nvPr/>
        </p:nvSpPr>
        <p:spPr>
          <a:xfrm rot="18870000">
            <a:off x="4452840" y="528120"/>
            <a:ext cx="1166760" cy="1157040"/>
          </a:xfrm>
          <a:custGeom>
            <a:avLst/>
            <a:gdLst/>
            <a:ahLst/>
            <a:rect l="l" t="t" r="r" b="b"/>
            <a:pathLst>
              <a:path stroke="0" w="1166813" h="1157288">
                <a:moveTo>
                  <a:pt x="583406" y="0"/>
                </a:moveTo>
                <a:cubicBezTo>
                  <a:pt x="905613" y="0"/>
                  <a:pt x="1166813" y="259068"/>
                  <a:pt x="1166813" y="578644"/>
                </a:cubicBezTo>
                <a:lnTo>
                  <a:pt x="583407" y="578644"/>
                </a:lnTo>
                <a:cubicBezTo>
                  <a:pt x="583407" y="385763"/>
                  <a:pt x="583406" y="192881"/>
                  <a:pt x="583406" y="0"/>
                </a:cubicBezTo>
                <a:close/>
              </a:path>
              <a:path fill="none" w="1166813" h="1157288">
                <a:moveTo>
                  <a:pt x="583406" y="0"/>
                </a:moveTo>
                <a:cubicBezTo>
                  <a:pt x="905613" y="0"/>
                  <a:pt x="1166813" y="259068"/>
                  <a:pt x="1166813" y="57864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Дуга 22"/>
          <p:cNvSpPr/>
          <p:nvPr/>
        </p:nvSpPr>
        <p:spPr>
          <a:xfrm rot="18870000">
            <a:off x="7095960" y="1671120"/>
            <a:ext cx="1166760" cy="1157040"/>
          </a:xfrm>
          <a:custGeom>
            <a:avLst/>
            <a:gdLst/>
            <a:ahLst/>
            <a:rect l="l" t="t" r="r" b="b"/>
            <a:pathLst>
              <a:path stroke="0" w="1166813" h="1157287">
                <a:moveTo>
                  <a:pt x="583406" y="0"/>
                </a:moveTo>
                <a:cubicBezTo>
                  <a:pt x="905613" y="0"/>
                  <a:pt x="1166813" y="259068"/>
                  <a:pt x="1166813" y="578644"/>
                </a:cubicBezTo>
                <a:lnTo>
                  <a:pt x="583407" y="578644"/>
                </a:lnTo>
                <a:cubicBezTo>
                  <a:pt x="583407" y="385763"/>
                  <a:pt x="583406" y="192881"/>
                  <a:pt x="583406" y="0"/>
                </a:cubicBezTo>
                <a:close/>
              </a:path>
              <a:path fill="none" w="1166813" h="1157287">
                <a:moveTo>
                  <a:pt x="583406" y="0"/>
                </a:moveTo>
                <a:cubicBezTo>
                  <a:pt x="905613" y="0"/>
                  <a:pt x="1166813" y="259068"/>
                  <a:pt x="1166813" y="57864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Дуга 23"/>
          <p:cNvSpPr/>
          <p:nvPr/>
        </p:nvSpPr>
        <p:spPr>
          <a:xfrm rot="18870000">
            <a:off x="4167000" y="2671200"/>
            <a:ext cx="1166760" cy="1157040"/>
          </a:xfrm>
          <a:custGeom>
            <a:avLst/>
            <a:gdLst/>
            <a:ahLst/>
            <a:rect l="l" t="t" r="r" b="b"/>
            <a:pathLst>
              <a:path stroke="0" w="1166813" h="1157288">
                <a:moveTo>
                  <a:pt x="583406" y="0"/>
                </a:moveTo>
                <a:cubicBezTo>
                  <a:pt x="905613" y="0"/>
                  <a:pt x="1166813" y="259068"/>
                  <a:pt x="1166813" y="578644"/>
                </a:cubicBezTo>
                <a:lnTo>
                  <a:pt x="583407" y="578644"/>
                </a:lnTo>
                <a:cubicBezTo>
                  <a:pt x="583407" y="385763"/>
                  <a:pt x="583406" y="192881"/>
                  <a:pt x="583406" y="0"/>
                </a:cubicBezTo>
                <a:close/>
              </a:path>
              <a:path fill="none" w="1166813" h="1157288">
                <a:moveTo>
                  <a:pt x="583406" y="0"/>
                </a:moveTo>
                <a:cubicBezTo>
                  <a:pt x="905613" y="0"/>
                  <a:pt x="1166813" y="259068"/>
                  <a:pt x="1166813" y="57864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Дуга 24"/>
          <p:cNvSpPr/>
          <p:nvPr/>
        </p:nvSpPr>
        <p:spPr>
          <a:xfrm rot="18870000">
            <a:off x="4167000" y="3814200"/>
            <a:ext cx="1166760" cy="1157040"/>
          </a:xfrm>
          <a:custGeom>
            <a:avLst/>
            <a:gdLst/>
            <a:ahLst/>
            <a:rect l="l" t="t" r="r" b="b"/>
            <a:pathLst>
              <a:path stroke="0" w="1166813" h="1157288">
                <a:moveTo>
                  <a:pt x="583406" y="0"/>
                </a:moveTo>
                <a:cubicBezTo>
                  <a:pt x="905613" y="0"/>
                  <a:pt x="1166813" y="259068"/>
                  <a:pt x="1166813" y="578644"/>
                </a:cubicBezTo>
                <a:lnTo>
                  <a:pt x="583407" y="578644"/>
                </a:lnTo>
                <a:cubicBezTo>
                  <a:pt x="583407" y="385763"/>
                  <a:pt x="583406" y="192881"/>
                  <a:pt x="583406" y="0"/>
                </a:cubicBezTo>
                <a:close/>
              </a:path>
              <a:path fill="none" w="1166813" h="1157288">
                <a:moveTo>
                  <a:pt x="583406" y="0"/>
                </a:moveTo>
                <a:cubicBezTo>
                  <a:pt x="905613" y="0"/>
                  <a:pt x="1166813" y="259068"/>
                  <a:pt x="1166813" y="57864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Дуга 25"/>
          <p:cNvSpPr/>
          <p:nvPr/>
        </p:nvSpPr>
        <p:spPr>
          <a:xfrm rot="18870000">
            <a:off x="4167000" y="5958000"/>
            <a:ext cx="1167120" cy="1157040"/>
          </a:xfrm>
          <a:custGeom>
            <a:avLst/>
            <a:gdLst/>
            <a:ahLst/>
            <a:rect l="l" t="t" r="r" b="b"/>
            <a:pathLst>
              <a:path stroke="0" w="1166813" h="1157288">
                <a:moveTo>
                  <a:pt x="583406" y="0"/>
                </a:moveTo>
                <a:cubicBezTo>
                  <a:pt x="905613" y="0"/>
                  <a:pt x="1166813" y="259068"/>
                  <a:pt x="1166813" y="578644"/>
                </a:cubicBezTo>
                <a:lnTo>
                  <a:pt x="583407" y="578644"/>
                </a:lnTo>
                <a:cubicBezTo>
                  <a:pt x="583407" y="385763"/>
                  <a:pt x="583406" y="192881"/>
                  <a:pt x="583406" y="0"/>
                </a:cubicBezTo>
                <a:close/>
              </a:path>
              <a:path fill="none" w="1166813" h="1157288">
                <a:moveTo>
                  <a:pt x="583406" y="0"/>
                </a:moveTo>
                <a:cubicBezTo>
                  <a:pt x="905613" y="0"/>
                  <a:pt x="1166813" y="259068"/>
                  <a:pt x="1166813" y="57864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Дуга 26"/>
          <p:cNvSpPr/>
          <p:nvPr/>
        </p:nvSpPr>
        <p:spPr>
          <a:xfrm rot="18870000">
            <a:off x="5881320" y="4885920"/>
            <a:ext cx="1166760" cy="1157400"/>
          </a:xfrm>
          <a:custGeom>
            <a:avLst/>
            <a:gdLst/>
            <a:ahLst/>
            <a:rect l="l" t="t" r="r" b="b"/>
            <a:pathLst>
              <a:path stroke="0" w="1166812" h="1157288">
                <a:moveTo>
                  <a:pt x="583406" y="0"/>
                </a:moveTo>
                <a:cubicBezTo>
                  <a:pt x="905612" y="0"/>
                  <a:pt x="1166812" y="259068"/>
                  <a:pt x="1166812" y="578644"/>
                </a:cubicBezTo>
                <a:lnTo>
                  <a:pt x="583406" y="578644"/>
                </a:lnTo>
                <a:lnTo>
                  <a:pt x="583406" y="0"/>
                </a:lnTo>
                <a:close/>
              </a:path>
              <a:path fill="none" w="1166812" h="1157288">
                <a:moveTo>
                  <a:pt x="583406" y="0"/>
                </a:moveTo>
                <a:cubicBezTo>
                  <a:pt x="905612" y="0"/>
                  <a:pt x="1166812" y="259068"/>
                  <a:pt x="1166812" y="57864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Прямая соединительная линия 27"/>
          <p:cNvSpPr/>
          <p:nvPr/>
        </p:nvSpPr>
        <p:spPr>
          <a:xfrm flipH="1">
            <a:off x="1999800" y="571680"/>
            <a:ext cx="71640" cy="14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Прямая соединительная линия 28"/>
          <p:cNvSpPr/>
          <p:nvPr/>
        </p:nvSpPr>
        <p:spPr>
          <a:xfrm flipH="1">
            <a:off x="5000760" y="571680"/>
            <a:ext cx="71280" cy="14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Прямая соединительная линия 29"/>
          <p:cNvSpPr/>
          <p:nvPr/>
        </p:nvSpPr>
        <p:spPr>
          <a:xfrm flipH="1">
            <a:off x="1856880" y="1643040"/>
            <a:ext cx="7164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Прямая соединительная линия 30"/>
          <p:cNvSpPr/>
          <p:nvPr/>
        </p:nvSpPr>
        <p:spPr>
          <a:xfrm flipH="1">
            <a:off x="8286840" y="1643040"/>
            <a:ext cx="7128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Прямая соединительная линия 31"/>
          <p:cNvSpPr/>
          <p:nvPr/>
        </p:nvSpPr>
        <p:spPr>
          <a:xfrm flipH="1">
            <a:off x="999720" y="2714760"/>
            <a:ext cx="7164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Прямая соединительная линия 32"/>
          <p:cNvSpPr/>
          <p:nvPr/>
        </p:nvSpPr>
        <p:spPr>
          <a:xfrm flipH="1">
            <a:off x="571680" y="3857760"/>
            <a:ext cx="7128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Прямая соединительная линия 33"/>
          <p:cNvSpPr/>
          <p:nvPr/>
        </p:nvSpPr>
        <p:spPr>
          <a:xfrm flipH="1">
            <a:off x="785880" y="4929120"/>
            <a:ext cx="7128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Прямая соединительная линия 34"/>
          <p:cNvSpPr/>
          <p:nvPr/>
        </p:nvSpPr>
        <p:spPr>
          <a:xfrm flipH="1">
            <a:off x="5357880" y="2714760"/>
            <a:ext cx="7128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Прямая соединительная линия 35"/>
          <p:cNvSpPr/>
          <p:nvPr/>
        </p:nvSpPr>
        <p:spPr>
          <a:xfrm flipH="1">
            <a:off x="5428800" y="6000840"/>
            <a:ext cx="7164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Прямая соединительная линия 36"/>
          <p:cNvSpPr/>
          <p:nvPr/>
        </p:nvSpPr>
        <p:spPr>
          <a:xfrm flipH="1">
            <a:off x="6500880" y="4929120"/>
            <a:ext cx="7128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Прямая соединительная линия 37"/>
          <p:cNvSpPr/>
          <p:nvPr/>
        </p:nvSpPr>
        <p:spPr>
          <a:xfrm flipH="1">
            <a:off x="5428800" y="3857760"/>
            <a:ext cx="7164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Прямая соединительная линия 38"/>
          <p:cNvSpPr/>
          <p:nvPr/>
        </p:nvSpPr>
        <p:spPr>
          <a:xfrm flipH="1">
            <a:off x="2928960" y="6000840"/>
            <a:ext cx="7128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Box 39"/>
          <p:cNvSpPr/>
          <p:nvPr/>
        </p:nvSpPr>
        <p:spPr>
          <a:xfrm>
            <a:off x="1785960" y="7128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Box 40"/>
          <p:cNvSpPr/>
          <p:nvPr/>
        </p:nvSpPr>
        <p:spPr>
          <a:xfrm>
            <a:off x="4929120" y="14292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TextBox 41"/>
          <p:cNvSpPr/>
          <p:nvPr/>
        </p:nvSpPr>
        <p:spPr>
          <a:xfrm>
            <a:off x="7500960" y="121428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Box 42"/>
          <p:cNvSpPr/>
          <p:nvPr/>
        </p:nvSpPr>
        <p:spPr>
          <a:xfrm>
            <a:off x="4572000" y="221472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extBox 44"/>
          <p:cNvSpPr/>
          <p:nvPr/>
        </p:nvSpPr>
        <p:spPr>
          <a:xfrm>
            <a:off x="6286680" y="4429080"/>
            <a:ext cx="28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Box 45"/>
          <p:cNvSpPr/>
          <p:nvPr/>
        </p:nvSpPr>
        <p:spPr>
          <a:xfrm>
            <a:off x="4572000" y="550080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Box 46"/>
          <p:cNvSpPr/>
          <p:nvPr/>
        </p:nvSpPr>
        <p:spPr>
          <a:xfrm>
            <a:off x="2714760" y="5500800"/>
            <a:ext cx="28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TextBox 47"/>
          <p:cNvSpPr/>
          <p:nvPr/>
        </p:nvSpPr>
        <p:spPr>
          <a:xfrm>
            <a:off x="642960" y="442908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Box 48"/>
          <p:cNvSpPr/>
          <p:nvPr/>
        </p:nvSpPr>
        <p:spPr>
          <a:xfrm>
            <a:off x="1000080" y="335772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Box 49"/>
          <p:cNvSpPr/>
          <p:nvPr/>
        </p:nvSpPr>
        <p:spPr>
          <a:xfrm>
            <a:off x="857160" y="228600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Box 50"/>
          <p:cNvSpPr/>
          <p:nvPr/>
        </p:nvSpPr>
        <p:spPr>
          <a:xfrm>
            <a:off x="1143000" y="114300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Прямая соединительная линия 51"/>
          <p:cNvSpPr/>
          <p:nvPr/>
        </p:nvSpPr>
        <p:spPr>
          <a:xfrm>
            <a:off x="1143000" y="2143080"/>
            <a:ext cx="2858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Прямая соединительная линия 53"/>
          <p:cNvSpPr/>
          <p:nvPr/>
        </p:nvSpPr>
        <p:spPr>
          <a:xfrm>
            <a:off x="7500960" y="2143080"/>
            <a:ext cx="2858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Прямая соединительная линия 54"/>
          <p:cNvSpPr/>
          <p:nvPr/>
        </p:nvSpPr>
        <p:spPr>
          <a:xfrm>
            <a:off x="4643280" y="3214800"/>
            <a:ext cx="2858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Прямая соединительная линия 55"/>
          <p:cNvSpPr/>
          <p:nvPr/>
        </p:nvSpPr>
        <p:spPr>
          <a:xfrm>
            <a:off x="4643280" y="4357800"/>
            <a:ext cx="2858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Прямая соединительная линия 56"/>
          <p:cNvSpPr/>
          <p:nvPr/>
        </p:nvSpPr>
        <p:spPr>
          <a:xfrm>
            <a:off x="4643280" y="6500880"/>
            <a:ext cx="2858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Прямая соединительная линия 57"/>
          <p:cNvSpPr/>
          <p:nvPr/>
        </p:nvSpPr>
        <p:spPr>
          <a:xfrm>
            <a:off x="928800" y="4357800"/>
            <a:ext cx="2854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214880"/>
                <a:gridCol w="4929120"/>
              </a:tblGrid>
              <a:tr h="6858000">
                <a:tc>
                  <a:txBody>
                    <a:bodyPr lIns="69840" rIns="6984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ахнет г…рью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г…ревшая каш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г…р на свечк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г…ревшая трав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г…рный га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аревнин заг…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9840" marR="6984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9840" rIns="6984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г…рыш свеч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счастный пог…реле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…ри ясн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…рючие слёз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вкус г…р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…рючий материа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9840" marR="6984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279" name="TextBox 2"/>
          <p:cNvSpPr/>
          <p:nvPr/>
        </p:nvSpPr>
        <p:spPr>
          <a:xfrm>
            <a:off x="1785960" y="42876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TextBox 3"/>
          <p:cNvSpPr/>
          <p:nvPr/>
        </p:nvSpPr>
        <p:spPr>
          <a:xfrm>
            <a:off x="4786200" y="42876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TextBox 4"/>
          <p:cNvSpPr/>
          <p:nvPr/>
        </p:nvSpPr>
        <p:spPr>
          <a:xfrm>
            <a:off x="785880" y="257184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TextBox 5"/>
          <p:cNvSpPr/>
          <p:nvPr/>
        </p:nvSpPr>
        <p:spPr>
          <a:xfrm>
            <a:off x="571680" y="478620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Box 6"/>
          <p:cNvSpPr/>
          <p:nvPr/>
        </p:nvSpPr>
        <p:spPr>
          <a:xfrm>
            <a:off x="2714760" y="585792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Box 7"/>
          <p:cNvSpPr/>
          <p:nvPr/>
        </p:nvSpPr>
        <p:spPr>
          <a:xfrm>
            <a:off x="6286680" y="478620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TextBox 8"/>
          <p:cNvSpPr/>
          <p:nvPr/>
        </p:nvSpPr>
        <p:spPr>
          <a:xfrm>
            <a:off x="1071720" y="150012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TextBox 10"/>
          <p:cNvSpPr/>
          <p:nvPr/>
        </p:nvSpPr>
        <p:spPr>
          <a:xfrm>
            <a:off x="857160" y="37148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TextBox 11"/>
          <p:cNvSpPr/>
          <p:nvPr/>
        </p:nvSpPr>
        <p:spPr>
          <a:xfrm>
            <a:off x="7429680" y="150012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Box 12"/>
          <p:cNvSpPr/>
          <p:nvPr/>
        </p:nvSpPr>
        <p:spPr>
          <a:xfrm>
            <a:off x="4572000" y="25718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Box 13"/>
          <p:cNvSpPr/>
          <p:nvPr/>
        </p:nvSpPr>
        <p:spPr>
          <a:xfrm>
            <a:off x="4572000" y="37148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TextBox 14"/>
          <p:cNvSpPr/>
          <p:nvPr/>
        </p:nvSpPr>
        <p:spPr>
          <a:xfrm>
            <a:off x="4572000" y="58579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Дуга 15"/>
          <p:cNvSpPr/>
          <p:nvPr/>
        </p:nvSpPr>
        <p:spPr>
          <a:xfrm rot="18870000">
            <a:off x="1380960" y="528120"/>
            <a:ext cx="1166760" cy="1157040"/>
          </a:xfrm>
          <a:custGeom>
            <a:avLst/>
            <a:gdLst/>
            <a:ahLst/>
            <a:rect l="l" t="t" r="r" b="b"/>
            <a:pathLst>
              <a:path stroke="0" w="1166813" h="1157287">
                <a:moveTo>
                  <a:pt x="583406" y="0"/>
                </a:moveTo>
                <a:cubicBezTo>
                  <a:pt x="905613" y="0"/>
                  <a:pt x="1166813" y="259068"/>
                  <a:pt x="1166813" y="578644"/>
                </a:cubicBezTo>
                <a:lnTo>
                  <a:pt x="583407" y="578644"/>
                </a:lnTo>
                <a:cubicBezTo>
                  <a:pt x="583407" y="385763"/>
                  <a:pt x="583406" y="192881"/>
                  <a:pt x="583406" y="0"/>
                </a:cubicBezTo>
                <a:close/>
              </a:path>
              <a:path fill="none" w="1166813" h="1157287">
                <a:moveTo>
                  <a:pt x="583406" y="0"/>
                </a:moveTo>
                <a:cubicBezTo>
                  <a:pt x="905613" y="0"/>
                  <a:pt x="1166813" y="259068"/>
                  <a:pt x="1166813" y="57864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Дуга 16"/>
          <p:cNvSpPr/>
          <p:nvPr/>
        </p:nvSpPr>
        <p:spPr>
          <a:xfrm rot="18870000">
            <a:off x="738000" y="1599840"/>
            <a:ext cx="1166760" cy="1157040"/>
          </a:xfrm>
          <a:custGeom>
            <a:avLst/>
            <a:gdLst/>
            <a:ahLst/>
            <a:rect l="l" t="t" r="r" b="b"/>
            <a:pathLst>
              <a:path stroke="0" w="1166812" h="1157288">
                <a:moveTo>
                  <a:pt x="583406" y="0"/>
                </a:moveTo>
                <a:cubicBezTo>
                  <a:pt x="905612" y="0"/>
                  <a:pt x="1166812" y="259068"/>
                  <a:pt x="1166812" y="578644"/>
                </a:cubicBezTo>
                <a:lnTo>
                  <a:pt x="583406" y="578644"/>
                </a:lnTo>
                <a:lnTo>
                  <a:pt x="583406" y="0"/>
                </a:lnTo>
                <a:close/>
              </a:path>
              <a:path fill="none" w="1166812" h="1157288">
                <a:moveTo>
                  <a:pt x="583406" y="0"/>
                </a:moveTo>
                <a:cubicBezTo>
                  <a:pt x="905612" y="0"/>
                  <a:pt x="1166812" y="259068"/>
                  <a:pt x="1166812" y="57864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Дуга 17"/>
          <p:cNvSpPr/>
          <p:nvPr/>
        </p:nvSpPr>
        <p:spPr>
          <a:xfrm rot="18870000">
            <a:off x="452160" y="2742840"/>
            <a:ext cx="1166760" cy="1157400"/>
          </a:xfrm>
          <a:custGeom>
            <a:avLst/>
            <a:gdLst/>
            <a:ahLst/>
            <a:rect l="l" t="t" r="r" b="b"/>
            <a:pathLst>
              <a:path stroke="0" w="1166812" h="1157288">
                <a:moveTo>
                  <a:pt x="583406" y="0"/>
                </a:moveTo>
                <a:cubicBezTo>
                  <a:pt x="905612" y="0"/>
                  <a:pt x="1166812" y="259068"/>
                  <a:pt x="1166812" y="578644"/>
                </a:cubicBezTo>
                <a:lnTo>
                  <a:pt x="583406" y="578644"/>
                </a:lnTo>
                <a:lnTo>
                  <a:pt x="583406" y="0"/>
                </a:lnTo>
                <a:close/>
              </a:path>
              <a:path fill="none" w="1166812" h="1157288">
                <a:moveTo>
                  <a:pt x="583406" y="0"/>
                </a:moveTo>
                <a:cubicBezTo>
                  <a:pt x="905612" y="0"/>
                  <a:pt x="1166812" y="259068"/>
                  <a:pt x="1166812" y="57864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Дуга 18"/>
          <p:cNvSpPr/>
          <p:nvPr/>
        </p:nvSpPr>
        <p:spPr>
          <a:xfrm rot="18870000">
            <a:off x="595080" y="3814200"/>
            <a:ext cx="1166760" cy="1157400"/>
          </a:xfrm>
          <a:custGeom>
            <a:avLst/>
            <a:gdLst/>
            <a:ahLst/>
            <a:rect l="l" t="t" r="r" b="b"/>
            <a:pathLst>
              <a:path stroke="0" w="1166813" h="1157288">
                <a:moveTo>
                  <a:pt x="583406" y="0"/>
                </a:moveTo>
                <a:cubicBezTo>
                  <a:pt x="905613" y="0"/>
                  <a:pt x="1166813" y="259068"/>
                  <a:pt x="1166813" y="578644"/>
                </a:cubicBezTo>
                <a:lnTo>
                  <a:pt x="583407" y="578644"/>
                </a:lnTo>
                <a:cubicBezTo>
                  <a:pt x="583407" y="385763"/>
                  <a:pt x="583406" y="192881"/>
                  <a:pt x="583406" y="0"/>
                </a:cubicBezTo>
                <a:close/>
              </a:path>
              <a:path fill="none" w="1166813" h="1157288">
                <a:moveTo>
                  <a:pt x="583406" y="0"/>
                </a:moveTo>
                <a:cubicBezTo>
                  <a:pt x="905613" y="0"/>
                  <a:pt x="1166813" y="259068"/>
                  <a:pt x="1166813" y="57864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Дуга 19"/>
          <p:cNvSpPr/>
          <p:nvPr/>
        </p:nvSpPr>
        <p:spPr>
          <a:xfrm rot="18870000">
            <a:off x="237960" y="4885920"/>
            <a:ext cx="1166760" cy="1157040"/>
          </a:xfrm>
          <a:custGeom>
            <a:avLst/>
            <a:gdLst/>
            <a:ahLst/>
            <a:rect l="l" t="t" r="r" b="b"/>
            <a:pathLst>
              <a:path stroke="0" w="1166812" h="1157287">
                <a:moveTo>
                  <a:pt x="583406" y="0"/>
                </a:moveTo>
                <a:cubicBezTo>
                  <a:pt x="905612" y="0"/>
                  <a:pt x="1166812" y="259068"/>
                  <a:pt x="1166812" y="578644"/>
                </a:cubicBezTo>
                <a:lnTo>
                  <a:pt x="583406" y="578644"/>
                </a:lnTo>
                <a:lnTo>
                  <a:pt x="583406" y="0"/>
                </a:lnTo>
                <a:close/>
              </a:path>
              <a:path fill="none" w="1166812" h="1157287">
                <a:moveTo>
                  <a:pt x="583406" y="0"/>
                </a:moveTo>
                <a:cubicBezTo>
                  <a:pt x="905612" y="0"/>
                  <a:pt x="1166812" y="259068"/>
                  <a:pt x="1166812" y="57864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Дуга 20"/>
          <p:cNvSpPr/>
          <p:nvPr/>
        </p:nvSpPr>
        <p:spPr>
          <a:xfrm rot="18870000">
            <a:off x="2309400" y="5958000"/>
            <a:ext cx="1167120" cy="1157400"/>
          </a:xfrm>
          <a:custGeom>
            <a:avLst/>
            <a:gdLst/>
            <a:ahLst/>
            <a:rect l="l" t="t" r="r" b="b"/>
            <a:pathLst>
              <a:path stroke="0" w="1166813" h="1157288">
                <a:moveTo>
                  <a:pt x="583406" y="0"/>
                </a:moveTo>
                <a:cubicBezTo>
                  <a:pt x="905613" y="0"/>
                  <a:pt x="1166813" y="259068"/>
                  <a:pt x="1166813" y="578644"/>
                </a:cubicBezTo>
                <a:lnTo>
                  <a:pt x="583407" y="578644"/>
                </a:lnTo>
                <a:cubicBezTo>
                  <a:pt x="583407" y="385763"/>
                  <a:pt x="583406" y="192881"/>
                  <a:pt x="583406" y="0"/>
                </a:cubicBezTo>
                <a:close/>
              </a:path>
              <a:path fill="none" w="1166813" h="1157288">
                <a:moveTo>
                  <a:pt x="583406" y="0"/>
                </a:moveTo>
                <a:cubicBezTo>
                  <a:pt x="905613" y="0"/>
                  <a:pt x="1166813" y="259068"/>
                  <a:pt x="1166813" y="57864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Дуга 21"/>
          <p:cNvSpPr/>
          <p:nvPr/>
        </p:nvSpPr>
        <p:spPr>
          <a:xfrm rot="18870000">
            <a:off x="4452840" y="528120"/>
            <a:ext cx="1166760" cy="1157040"/>
          </a:xfrm>
          <a:custGeom>
            <a:avLst/>
            <a:gdLst/>
            <a:ahLst/>
            <a:rect l="l" t="t" r="r" b="b"/>
            <a:pathLst>
              <a:path stroke="0" w="1166813" h="1157288">
                <a:moveTo>
                  <a:pt x="583406" y="0"/>
                </a:moveTo>
                <a:cubicBezTo>
                  <a:pt x="905613" y="0"/>
                  <a:pt x="1166813" y="259068"/>
                  <a:pt x="1166813" y="578644"/>
                </a:cubicBezTo>
                <a:lnTo>
                  <a:pt x="583407" y="578644"/>
                </a:lnTo>
                <a:cubicBezTo>
                  <a:pt x="583407" y="385763"/>
                  <a:pt x="583406" y="192881"/>
                  <a:pt x="583406" y="0"/>
                </a:cubicBezTo>
                <a:close/>
              </a:path>
              <a:path fill="none" w="1166813" h="1157288">
                <a:moveTo>
                  <a:pt x="583406" y="0"/>
                </a:moveTo>
                <a:cubicBezTo>
                  <a:pt x="905613" y="0"/>
                  <a:pt x="1166813" y="259068"/>
                  <a:pt x="1166813" y="57864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Дуга 22"/>
          <p:cNvSpPr/>
          <p:nvPr/>
        </p:nvSpPr>
        <p:spPr>
          <a:xfrm rot="18870000">
            <a:off x="7095960" y="1671120"/>
            <a:ext cx="1166760" cy="1157040"/>
          </a:xfrm>
          <a:custGeom>
            <a:avLst/>
            <a:gdLst/>
            <a:ahLst/>
            <a:rect l="l" t="t" r="r" b="b"/>
            <a:pathLst>
              <a:path stroke="0" w="1166813" h="1157287">
                <a:moveTo>
                  <a:pt x="583406" y="0"/>
                </a:moveTo>
                <a:cubicBezTo>
                  <a:pt x="905613" y="0"/>
                  <a:pt x="1166813" y="259068"/>
                  <a:pt x="1166813" y="578644"/>
                </a:cubicBezTo>
                <a:lnTo>
                  <a:pt x="583407" y="578644"/>
                </a:lnTo>
                <a:cubicBezTo>
                  <a:pt x="583407" y="385763"/>
                  <a:pt x="583406" y="192881"/>
                  <a:pt x="583406" y="0"/>
                </a:cubicBezTo>
                <a:close/>
              </a:path>
              <a:path fill="none" w="1166813" h="1157287">
                <a:moveTo>
                  <a:pt x="583406" y="0"/>
                </a:moveTo>
                <a:cubicBezTo>
                  <a:pt x="905613" y="0"/>
                  <a:pt x="1166813" y="259068"/>
                  <a:pt x="1166813" y="57864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Дуга 23"/>
          <p:cNvSpPr/>
          <p:nvPr/>
        </p:nvSpPr>
        <p:spPr>
          <a:xfrm rot="18870000">
            <a:off x="4167000" y="2671200"/>
            <a:ext cx="1166760" cy="1157040"/>
          </a:xfrm>
          <a:custGeom>
            <a:avLst/>
            <a:gdLst/>
            <a:ahLst/>
            <a:rect l="l" t="t" r="r" b="b"/>
            <a:pathLst>
              <a:path stroke="0" w="1166813" h="1157288">
                <a:moveTo>
                  <a:pt x="583406" y="0"/>
                </a:moveTo>
                <a:cubicBezTo>
                  <a:pt x="905613" y="0"/>
                  <a:pt x="1166813" y="259068"/>
                  <a:pt x="1166813" y="578644"/>
                </a:cubicBezTo>
                <a:lnTo>
                  <a:pt x="583407" y="578644"/>
                </a:lnTo>
                <a:cubicBezTo>
                  <a:pt x="583407" y="385763"/>
                  <a:pt x="583406" y="192881"/>
                  <a:pt x="583406" y="0"/>
                </a:cubicBezTo>
                <a:close/>
              </a:path>
              <a:path fill="none" w="1166813" h="1157288">
                <a:moveTo>
                  <a:pt x="583406" y="0"/>
                </a:moveTo>
                <a:cubicBezTo>
                  <a:pt x="905613" y="0"/>
                  <a:pt x="1166813" y="259068"/>
                  <a:pt x="1166813" y="57864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Дуга 24"/>
          <p:cNvSpPr/>
          <p:nvPr/>
        </p:nvSpPr>
        <p:spPr>
          <a:xfrm rot="18870000">
            <a:off x="4167000" y="3814200"/>
            <a:ext cx="1166760" cy="1157040"/>
          </a:xfrm>
          <a:custGeom>
            <a:avLst/>
            <a:gdLst/>
            <a:ahLst/>
            <a:rect l="l" t="t" r="r" b="b"/>
            <a:pathLst>
              <a:path stroke="0" w="1166813" h="1157288">
                <a:moveTo>
                  <a:pt x="583406" y="0"/>
                </a:moveTo>
                <a:cubicBezTo>
                  <a:pt x="905613" y="0"/>
                  <a:pt x="1166813" y="259068"/>
                  <a:pt x="1166813" y="578644"/>
                </a:cubicBezTo>
                <a:lnTo>
                  <a:pt x="583407" y="578644"/>
                </a:lnTo>
                <a:cubicBezTo>
                  <a:pt x="583407" y="385763"/>
                  <a:pt x="583406" y="192881"/>
                  <a:pt x="583406" y="0"/>
                </a:cubicBezTo>
                <a:close/>
              </a:path>
              <a:path fill="none" w="1166813" h="1157288">
                <a:moveTo>
                  <a:pt x="583406" y="0"/>
                </a:moveTo>
                <a:cubicBezTo>
                  <a:pt x="905613" y="0"/>
                  <a:pt x="1166813" y="259068"/>
                  <a:pt x="1166813" y="57864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Дуга 25"/>
          <p:cNvSpPr/>
          <p:nvPr/>
        </p:nvSpPr>
        <p:spPr>
          <a:xfrm rot="18870000">
            <a:off x="4167000" y="5958000"/>
            <a:ext cx="1167120" cy="1157040"/>
          </a:xfrm>
          <a:custGeom>
            <a:avLst/>
            <a:gdLst/>
            <a:ahLst/>
            <a:rect l="l" t="t" r="r" b="b"/>
            <a:pathLst>
              <a:path stroke="0" w="1166813" h="1157288">
                <a:moveTo>
                  <a:pt x="583406" y="0"/>
                </a:moveTo>
                <a:cubicBezTo>
                  <a:pt x="905613" y="0"/>
                  <a:pt x="1166813" y="259068"/>
                  <a:pt x="1166813" y="578644"/>
                </a:cubicBezTo>
                <a:lnTo>
                  <a:pt x="583407" y="578644"/>
                </a:lnTo>
                <a:cubicBezTo>
                  <a:pt x="583407" y="385763"/>
                  <a:pt x="583406" y="192881"/>
                  <a:pt x="583406" y="0"/>
                </a:cubicBezTo>
                <a:close/>
              </a:path>
              <a:path fill="none" w="1166813" h="1157288">
                <a:moveTo>
                  <a:pt x="583406" y="0"/>
                </a:moveTo>
                <a:cubicBezTo>
                  <a:pt x="905613" y="0"/>
                  <a:pt x="1166813" y="259068"/>
                  <a:pt x="1166813" y="57864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Дуга 26"/>
          <p:cNvSpPr/>
          <p:nvPr/>
        </p:nvSpPr>
        <p:spPr>
          <a:xfrm rot="18870000">
            <a:off x="5881320" y="4885920"/>
            <a:ext cx="1166760" cy="1157400"/>
          </a:xfrm>
          <a:custGeom>
            <a:avLst/>
            <a:gdLst/>
            <a:ahLst/>
            <a:rect l="l" t="t" r="r" b="b"/>
            <a:pathLst>
              <a:path stroke="0" w="1166812" h="1157288">
                <a:moveTo>
                  <a:pt x="583406" y="0"/>
                </a:moveTo>
                <a:cubicBezTo>
                  <a:pt x="905612" y="0"/>
                  <a:pt x="1166812" y="259068"/>
                  <a:pt x="1166812" y="578644"/>
                </a:cubicBezTo>
                <a:lnTo>
                  <a:pt x="583406" y="578644"/>
                </a:lnTo>
                <a:lnTo>
                  <a:pt x="583406" y="0"/>
                </a:lnTo>
                <a:close/>
              </a:path>
              <a:path fill="none" w="1166812" h="1157288">
                <a:moveTo>
                  <a:pt x="583406" y="0"/>
                </a:moveTo>
                <a:cubicBezTo>
                  <a:pt x="905612" y="0"/>
                  <a:pt x="1166812" y="259068"/>
                  <a:pt x="1166812" y="57864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Прямая соединительная линия 27"/>
          <p:cNvSpPr/>
          <p:nvPr/>
        </p:nvSpPr>
        <p:spPr>
          <a:xfrm flipH="1">
            <a:off x="1999800" y="571680"/>
            <a:ext cx="71640" cy="14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Прямая соединительная линия 28"/>
          <p:cNvSpPr/>
          <p:nvPr/>
        </p:nvSpPr>
        <p:spPr>
          <a:xfrm flipH="1">
            <a:off x="5000760" y="571680"/>
            <a:ext cx="71280" cy="14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Прямая соединительная линия 29"/>
          <p:cNvSpPr/>
          <p:nvPr/>
        </p:nvSpPr>
        <p:spPr>
          <a:xfrm flipH="1">
            <a:off x="1856880" y="1643040"/>
            <a:ext cx="7164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Прямая соединительная линия 30"/>
          <p:cNvSpPr/>
          <p:nvPr/>
        </p:nvSpPr>
        <p:spPr>
          <a:xfrm flipH="1">
            <a:off x="8286840" y="1643040"/>
            <a:ext cx="7128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Прямая соединительная линия 31"/>
          <p:cNvSpPr/>
          <p:nvPr/>
        </p:nvSpPr>
        <p:spPr>
          <a:xfrm flipH="1">
            <a:off x="999720" y="2714760"/>
            <a:ext cx="7164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Прямая соединительная линия 32"/>
          <p:cNvSpPr/>
          <p:nvPr/>
        </p:nvSpPr>
        <p:spPr>
          <a:xfrm flipH="1">
            <a:off x="571680" y="3857760"/>
            <a:ext cx="7128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Прямая соединительная линия 33"/>
          <p:cNvSpPr/>
          <p:nvPr/>
        </p:nvSpPr>
        <p:spPr>
          <a:xfrm flipH="1">
            <a:off x="785880" y="4929120"/>
            <a:ext cx="7128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Прямая соединительная линия 34"/>
          <p:cNvSpPr/>
          <p:nvPr/>
        </p:nvSpPr>
        <p:spPr>
          <a:xfrm flipH="1">
            <a:off x="5357880" y="2714760"/>
            <a:ext cx="7128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Прямая соединительная линия 35"/>
          <p:cNvSpPr/>
          <p:nvPr/>
        </p:nvSpPr>
        <p:spPr>
          <a:xfrm flipH="1">
            <a:off x="5428800" y="6000840"/>
            <a:ext cx="7164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Прямая соединительная линия 36"/>
          <p:cNvSpPr/>
          <p:nvPr/>
        </p:nvSpPr>
        <p:spPr>
          <a:xfrm flipH="1">
            <a:off x="6500880" y="4929120"/>
            <a:ext cx="7128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Прямая соединительная линия 37"/>
          <p:cNvSpPr/>
          <p:nvPr/>
        </p:nvSpPr>
        <p:spPr>
          <a:xfrm flipH="1">
            <a:off x="5428800" y="3857760"/>
            <a:ext cx="7164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Прямая соединительная линия 38"/>
          <p:cNvSpPr/>
          <p:nvPr/>
        </p:nvSpPr>
        <p:spPr>
          <a:xfrm flipH="1">
            <a:off x="2928960" y="6000840"/>
            <a:ext cx="7128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TextBox 39"/>
          <p:cNvSpPr/>
          <p:nvPr/>
        </p:nvSpPr>
        <p:spPr>
          <a:xfrm>
            <a:off x="1785960" y="7128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TextBox 40"/>
          <p:cNvSpPr/>
          <p:nvPr/>
        </p:nvSpPr>
        <p:spPr>
          <a:xfrm>
            <a:off x="4929120" y="14292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TextBox 41"/>
          <p:cNvSpPr/>
          <p:nvPr/>
        </p:nvSpPr>
        <p:spPr>
          <a:xfrm>
            <a:off x="7500960" y="121428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Box 42"/>
          <p:cNvSpPr/>
          <p:nvPr/>
        </p:nvSpPr>
        <p:spPr>
          <a:xfrm>
            <a:off x="4572000" y="221472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TextBox 44"/>
          <p:cNvSpPr/>
          <p:nvPr/>
        </p:nvSpPr>
        <p:spPr>
          <a:xfrm>
            <a:off x="6286680" y="4429080"/>
            <a:ext cx="28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TextBox 45"/>
          <p:cNvSpPr/>
          <p:nvPr/>
        </p:nvSpPr>
        <p:spPr>
          <a:xfrm>
            <a:off x="4572000" y="550080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TextBox 46"/>
          <p:cNvSpPr/>
          <p:nvPr/>
        </p:nvSpPr>
        <p:spPr>
          <a:xfrm>
            <a:off x="2714760" y="5500800"/>
            <a:ext cx="28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TextBox 47"/>
          <p:cNvSpPr/>
          <p:nvPr/>
        </p:nvSpPr>
        <p:spPr>
          <a:xfrm>
            <a:off x="642960" y="442908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TextBox 48"/>
          <p:cNvSpPr/>
          <p:nvPr/>
        </p:nvSpPr>
        <p:spPr>
          <a:xfrm>
            <a:off x="1000080" y="335772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TextBox 49"/>
          <p:cNvSpPr/>
          <p:nvPr/>
        </p:nvSpPr>
        <p:spPr>
          <a:xfrm>
            <a:off x="857160" y="228600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TextBox 50"/>
          <p:cNvSpPr/>
          <p:nvPr/>
        </p:nvSpPr>
        <p:spPr>
          <a:xfrm>
            <a:off x="1143000" y="114300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Прямая соединительная линия 51"/>
          <p:cNvSpPr/>
          <p:nvPr/>
        </p:nvSpPr>
        <p:spPr>
          <a:xfrm>
            <a:off x="1143000" y="2143080"/>
            <a:ext cx="2858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Прямая соединительная линия 53"/>
          <p:cNvSpPr/>
          <p:nvPr/>
        </p:nvSpPr>
        <p:spPr>
          <a:xfrm>
            <a:off x="7500960" y="2143080"/>
            <a:ext cx="2858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Прямая соединительная линия 54"/>
          <p:cNvSpPr/>
          <p:nvPr/>
        </p:nvSpPr>
        <p:spPr>
          <a:xfrm>
            <a:off x="4643280" y="3214800"/>
            <a:ext cx="2858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Прямая соединительная линия 55"/>
          <p:cNvSpPr/>
          <p:nvPr/>
        </p:nvSpPr>
        <p:spPr>
          <a:xfrm>
            <a:off x="4643280" y="4357800"/>
            <a:ext cx="2858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Прямая соединительная линия 56"/>
          <p:cNvSpPr/>
          <p:nvPr/>
        </p:nvSpPr>
        <p:spPr>
          <a:xfrm>
            <a:off x="4643280" y="6500880"/>
            <a:ext cx="2858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Прямая соединительная линия 57"/>
          <p:cNvSpPr/>
          <p:nvPr/>
        </p:nvSpPr>
        <p:spPr>
          <a:xfrm>
            <a:off x="928800" y="4357800"/>
            <a:ext cx="2854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TextBox 1"/>
          <p:cNvSpPr/>
          <p:nvPr/>
        </p:nvSpPr>
        <p:spPr>
          <a:xfrm>
            <a:off x="571680" y="2142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Rectangle 1"/>
          <p:cNvSpPr/>
          <p:nvPr/>
        </p:nvSpPr>
        <p:spPr>
          <a:xfrm>
            <a:off x="285840" y="2040840"/>
            <a:ext cx="85723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ить связный рассказ о правописании букв а-о в корне гар-гор, записать примеры на эту орфограм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оставить несколько предложений по картинке с использованием слов на изученную орфограм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ктуализация зн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4" name="Picture 4" descr="D:\Бородулина Н.В\мне надо\1282162703_8j3npoowsayhh7y.jpeg"/>
          <p:cNvPicPr/>
          <p:nvPr/>
        </p:nvPicPr>
        <p:blipFill>
          <a:blip r:embed="rId1"/>
          <a:stretch/>
        </p:blipFill>
        <p:spPr>
          <a:xfrm>
            <a:off x="2195640" y="1700280"/>
            <a:ext cx="48974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4" name="Picture 3" descr="C:\Users\дима\Desktop\открытый урок\vogon_pozhezha_lis_diti.jpg"/>
          <p:cNvPicPr/>
          <p:nvPr/>
        </p:nvPicPr>
        <p:blipFill>
          <a:blip r:embed="rId1"/>
          <a:stretch/>
        </p:blipFill>
        <p:spPr>
          <a:xfrm>
            <a:off x="428760" y="500040"/>
            <a:ext cx="826596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Прямоугольник 1"/>
          <p:cNvSpPr/>
          <p:nvPr/>
        </p:nvSpPr>
        <p:spPr>
          <a:xfrm>
            <a:off x="250920" y="428760"/>
            <a:ext cx="87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Игра  «Найди третье лишне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1"/>
          <p:cNvSpPr/>
          <p:nvPr/>
        </p:nvSpPr>
        <p:spPr>
          <a:xfrm>
            <a:off x="461880" y="766800"/>
            <a:ext cx="8143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Р…стение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р…с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р…с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7" name="Picture 4" descr="D:\Бородулина Н.В\мне надо\3128490-cartoon-scientist.jpg"/>
          <p:cNvPicPr/>
          <p:nvPr/>
        </p:nvPicPr>
        <p:blipFill>
          <a:blip r:embed="rId1"/>
          <a:stretch/>
        </p:blipFill>
        <p:spPr>
          <a:xfrm>
            <a:off x="5364000" y="1341360"/>
            <a:ext cx="316404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Прямоугольник 1"/>
          <p:cNvSpPr/>
          <p:nvPr/>
        </p:nvSpPr>
        <p:spPr>
          <a:xfrm>
            <a:off x="250920" y="428760"/>
            <a:ext cx="87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Игра  «Найди третье лишне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1"/>
          <p:cNvSpPr/>
          <p:nvPr/>
        </p:nvSpPr>
        <p:spPr>
          <a:xfrm>
            <a:off x="461880" y="766800"/>
            <a:ext cx="8143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Р…стов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Р…стислав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р…стущ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0" name="Picture 4" descr="D:\Бородулина Н.В\мне надо\3128490-cartoon-scientist.jpg"/>
          <p:cNvPicPr/>
          <p:nvPr/>
        </p:nvPicPr>
        <p:blipFill>
          <a:blip r:embed="rId1"/>
          <a:stretch/>
        </p:blipFill>
        <p:spPr>
          <a:xfrm>
            <a:off x="5364000" y="1341360"/>
            <a:ext cx="316404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Прямоугольник 1"/>
          <p:cNvSpPr/>
          <p:nvPr/>
        </p:nvSpPr>
        <p:spPr>
          <a:xfrm>
            <a:off x="250920" y="428760"/>
            <a:ext cx="87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Игра  «Найди третье лишне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Rectangle 1"/>
          <p:cNvSpPr/>
          <p:nvPr/>
        </p:nvSpPr>
        <p:spPr>
          <a:xfrm>
            <a:off x="461880" y="1452240"/>
            <a:ext cx="8143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…гать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…житься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 …жени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3" name="Picture 4" descr="D:\Бородулина Н.В\мне надо\3128490-cartoon-scientist.jpg"/>
          <p:cNvPicPr/>
          <p:nvPr/>
        </p:nvPicPr>
        <p:blipFill>
          <a:blip r:embed="rId1"/>
          <a:stretch/>
        </p:blipFill>
        <p:spPr>
          <a:xfrm>
            <a:off x="6440400" y="1341360"/>
            <a:ext cx="20876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Прямоугольник 1"/>
          <p:cNvSpPr/>
          <p:nvPr/>
        </p:nvSpPr>
        <p:spPr>
          <a:xfrm>
            <a:off x="250920" y="428760"/>
            <a:ext cx="87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Игра  «Найди третье лишне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1"/>
          <p:cNvSpPr/>
          <p:nvPr/>
        </p:nvSpPr>
        <p:spPr>
          <a:xfrm>
            <a:off x="461880" y="766800"/>
            <a:ext cx="8143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…гать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…жить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…гаться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6" name="Picture 4" descr="D:\Бородулина Н.В\мне надо\3128490-cartoon-scientist.jpg"/>
          <p:cNvPicPr/>
          <p:nvPr/>
        </p:nvPicPr>
        <p:blipFill>
          <a:blip r:embed="rId1"/>
          <a:stretch/>
        </p:blipFill>
        <p:spPr>
          <a:xfrm>
            <a:off x="5896080" y="1341360"/>
            <a:ext cx="263196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7" name="Picture 3" descr="D:\Бородулина Н.В\мне надо\78660054_large_kot_uchenuyy_u_kompa.jpg"/>
          <p:cNvPicPr/>
          <p:nvPr/>
        </p:nvPicPr>
        <p:blipFill>
          <a:blip r:embed="rId1"/>
          <a:stretch/>
        </p:blipFill>
        <p:spPr>
          <a:xfrm>
            <a:off x="1932120" y="620640"/>
            <a:ext cx="6350040" cy="5918400"/>
          </a:xfrm>
          <a:prstGeom prst="rect">
            <a:avLst/>
          </a:prstGeom>
          <a:ln w="0">
            <a:noFill/>
          </a:ln>
        </p:spPr>
      </p:pic>
      <p:pic>
        <p:nvPicPr>
          <p:cNvPr id="1178" name="Picture 2" descr="http://library.fa.ru/img/newlibrary17.jpg"/>
          <p:cNvPicPr/>
          <p:nvPr/>
        </p:nvPicPr>
        <p:blipFill>
          <a:blip r:embed="rId2"/>
          <a:stretch/>
        </p:blipFill>
        <p:spPr>
          <a:xfrm>
            <a:off x="0" y="3240"/>
            <a:ext cx="193212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9" name="Picture 4" descr="2"/>
          <p:cNvPicPr/>
          <p:nvPr/>
        </p:nvPicPr>
        <p:blipFill>
          <a:blip r:embed="rId1"/>
          <a:stretch/>
        </p:blipFill>
        <p:spPr>
          <a:xfrm>
            <a:off x="1692360" y="2060640"/>
            <a:ext cx="3078000" cy="381636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sp>
        <p:nvSpPr>
          <p:cNvPr id="1180" name="Rectangle 8"/>
          <p:cNvSpPr/>
          <p:nvPr/>
        </p:nvSpPr>
        <p:spPr>
          <a:xfrm>
            <a:off x="539640" y="549360"/>
            <a:ext cx="8001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ишите, что произошло с пиро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Picture 2" descr="2"/>
          <p:cNvPicPr/>
          <p:nvPr/>
        </p:nvPicPr>
        <p:blipFill>
          <a:blip r:embed="rId1"/>
          <a:stretch/>
        </p:blipFill>
        <p:spPr>
          <a:xfrm>
            <a:off x="1692360" y="2060640"/>
            <a:ext cx="3078000" cy="381636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sp>
        <p:nvSpPr>
          <p:cNvPr id="1182" name="Rectangle 3"/>
          <p:cNvSpPr/>
          <p:nvPr/>
        </p:nvSpPr>
        <p:spPr>
          <a:xfrm>
            <a:off x="539640" y="549360"/>
            <a:ext cx="8001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ишите, что произошло с пиро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4"/>
          <p:cNvSpPr/>
          <p:nvPr/>
        </p:nvSpPr>
        <p:spPr>
          <a:xfrm>
            <a:off x="5219640" y="2205000"/>
            <a:ext cx="36734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приг</a:t>
            </a:r>
            <a:r>
              <a:rPr b="0" i="1" lang="ru-RU" sz="3000" spc="-1" strike="noStrike">
                <a:solidFill>
                  <a:srgbClr val="ff6600"/>
                </a:solidFill>
                <a:latin typeface="Verdana"/>
              </a:rPr>
              <a:t>о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р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подг</a:t>
            </a:r>
            <a:r>
              <a:rPr b="0" i="1" lang="ru-RU" sz="3000" spc="-1" strike="noStrike">
                <a:solidFill>
                  <a:srgbClr val="ff6600"/>
                </a:solidFill>
                <a:latin typeface="Verdana"/>
              </a:rPr>
              <a:t>о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р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сг</a:t>
            </a:r>
            <a:r>
              <a:rPr b="0" i="1" lang="ru-RU" sz="3000" spc="-1" strike="noStrike">
                <a:solidFill>
                  <a:srgbClr val="ff6600"/>
                </a:solidFill>
                <a:latin typeface="Verdana"/>
              </a:rPr>
              <a:t>о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ре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Arc 6"/>
          <p:cNvSpPr/>
          <p:nvPr/>
        </p:nvSpPr>
        <p:spPr>
          <a:xfrm rot="19244400">
            <a:off x="6588000" y="2133360"/>
            <a:ext cx="552600" cy="523800"/>
          </a:xfrm>
          <a:custGeom>
            <a:avLst/>
            <a:gdLst/>
            <a:ahLst/>
            <a:rect l="l" t="t" r="r" b="b"/>
            <a:pathLst>
              <a:path fill="none" w="21375" h="21567">
                <a:moveTo>
                  <a:pt x="1186" y="-1"/>
                </a:moveTo>
                <a:cubicBezTo>
                  <a:pt x="11450" y="564"/>
                  <a:pt x="19894" y="8283"/>
                  <a:pt x="21374" y="18456"/>
                </a:cubicBezTo>
              </a:path>
              <a:path stroke="0" w="21375" h="21567">
                <a:moveTo>
                  <a:pt x="1186" y="-1"/>
                </a:moveTo>
                <a:cubicBezTo>
                  <a:pt x="11450" y="564"/>
                  <a:pt x="19894" y="8283"/>
                  <a:pt x="21374" y="18456"/>
                </a:cubicBezTo>
                <a:lnTo>
                  <a:pt x="0" y="21567"/>
                </a:lnTo>
                <a:lnTo>
                  <a:pt x="1186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Arc 7"/>
          <p:cNvSpPr/>
          <p:nvPr/>
        </p:nvSpPr>
        <p:spPr>
          <a:xfrm rot="19244400">
            <a:off x="6588000" y="3212640"/>
            <a:ext cx="552600" cy="523800"/>
          </a:xfrm>
          <a:custGeom>
            <a:avLst/>
            <a:gdLst/>
            <a:ahLst/>
            <a:rect l="l" t="t" r="r" b="b"/>
            <a:pathLst>
              <a:path fill="none" w="21375" h="21567">
                <a:moveTo>
                  <a:pt x="1186" y="-1"/>
                </a:moveTo>
                <a:cubicBezTo>
                  <a:pt x="11450" y="564"/>
                  <a:pt x="19894" y="8283"/>
                  <a:pt x="21374" y="18456"/>
                </a:cubicBezTo>
              </a:path>
              <a:path stroke="0" w="21375" h="21567">
                <a:moveTo>
                  <a:pt x="1186" y="-1"/>
                </a:moveTo>
                <a:cubicBezTo>
                  <a:pt x="11450" y="564"/>
                  <a:pt x="19894" y="8283"/>
                  <a:pt x="21374" y="18456"/>
                </a:cubicBezTo>
                <a:lnTo>
                  <a:pt x="0" y="21567"/>
                </a:lnTo>
                <a:lnTo>
                  <a:pt x="1186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Arc 8"/>
          <p:cNvSpPr/>
          <p:nvPr/>
        </p:nvSpPr>
        <p:spPr>
          <a:xfrm rot="19244400">
            <a:off x="6516720" y="2636640"/>
            <a:ext cx="552240" cy="523800"/>
          </a:xfrm>
          <a:custGeom>
            <a:avLst/>
            <a:gdLst/>
            <a:ahLst/>
            <a:rect l="l" t="t" r="r" b="b"/>
            <a:pathLst>
              <a:path fill="none" w="21375" h="21567">
                <a:moveTo>
                  <a:pt x="1186" y="-1"/>
                </a:moveTo>
                <a:cubicBezTo>
                  <a:pt x="11450" y="564"/>
                  <a:pt x="19894" y="8283"/>
                  <a:pt x="21374" y="18456"/>
                </a:cubicBezTo>
              </a:path>
              <a:path stroke="0" w="21375" h="21567">
                <a:moveTo>
                  <a:pt x="1186" y="-1"/>
                </a:moveTo>
                <a:cubicBezTo>
                  <a:pt x="11450" y="564"/>
                  <a:pt x="19894" y="8283"/>
                  <a:pt x="21374" y="18456"/>
                </a:cubicBezTo>
                <a:lnTo>
                  <a:pt x="0" y="21567"/>
                </a:lnTo>
                <a:lnTo>
                  <a:pt x="1186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Arc 9"/>
          <p:cNvSpPr/>
          <p:nvPr/>
        </p:nvSpPr>
        <p:spPr>
          <a:xfrm rot="19244400">
            <a:off x="6516720" y="3789000"/>
            <a:ext cx="552240" cy="523800"/>
          </a:xfrm>
          <a:custGeom>
            <a:avLst/>
            <a:gdLst/>
            <a:ahLst/>
            <a:rect l="l" t="t" r="r" b="b"/>
            <a:pathLst>
              <a:path fill="none" w="21375" h="21567">
                <a:moveTo>
                  <a:pt x="1186" y="-1"/>
                </a:moveTo>
                <a:cubicBezTo>
                  <a:pt x="11450" y="564"/>
                  <a:pt x="19894" y="8283"/>
                  <a:pt x="21374" y="18456"/>
                </a:cubicBezTo>
              </a:path>
              <a:path stroke="0" w="21375" h="21567">
                <a:moveTo>
                  <a:pt x="1186" y="-1"/>
                </a:moveTo>
                <a:cubicBezTo>
                  <a:pt x="11450" y="564"/>
                  <a:pt x="19894" y="8283"/>
                  <a:pt x="21374" y="18456"/>
                </a:cubicBezTo>
                <a:lnTo>
                  <a:pt x="0" y="21567"/>
                </a:lnTo>
                <a:lnTo>
                  <a:pt x="1186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12:19:10Z</dcterms:created>
  <dc:creator>дима</dc:creator>
  <dc:description/>
  <dc:language>en-US</dc:language>
  <cp:lastModifiedBy>Надежда</cp:lastModifiedBy>
  <dcterms:modified xsi:type="dcterms:W3CDTF">2015-10-19T07:17:03Z</dcterms:modified>
  <cp:revision>22</cp:revision>
  <dc:subject/>
  <dc:title>Слайд 1</dc:title>
</cp:coreProperties>
</file>