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404-C243-44DF-9C7E-C7029BE0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1B0-3F90-49FD-A73F-5CEF400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0A2-02A2-406E-8097-2AF2ACBF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394-D9A5-4E0E-B7E2-120F6DFC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768-957B-40FC-90D9-58DFBD7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029-53C4-4FDE-9168-8D59064D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F39-46A8-4316-8D76-707EAC3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EBB-4E00-4FB4-9DDE-CD2475A9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4B6-D0DD-478E-B1DD-631012A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E34-01C9-4919-A0F1-DDDFFFE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51B-A5BD-440F-95FD-E075981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0B5-272B-4D3F-AB49-776B6898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FC89-4907-44E4-97A5-9985ED694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Добрый де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90400" y="1600200"/>
            <a:ext cx="796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28600" y="30312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те и выполните в парах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438280" y="335268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7304040" y="6516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5562720" y="2057400"/>
            <a:ext cx="220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62080" y="1293840"/>
            <a:ext cx="6748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ать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ать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атель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изл...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ить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сл…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ение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прил…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ение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080" y="3352680"/>
            <a:ext cx="734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29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..жить оруж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еть сл..ж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..жить в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.житься на пл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а не прил..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ить зубы на по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а руку на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ти в пол..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 данных глаголов образуйте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 данных глаголов образуйте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22860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по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о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Arial"/>
              </a:rPr>
              <a:t>Ум заключается не только в знании, но и в умении прилагать знания на деле. 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(Аристотель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38102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вьте  и  объясните 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и препинания,  орфог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м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идти по тайге.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чие ветви  ц…рапают руки и 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 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ый рю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 ц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ется за суч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 Путь пред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 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кий и мы расп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ся на отдых. Но вот опять пора в 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у. Мы разд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 па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ники и о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ливаемся. Как трудно пр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дорогу! Ноги у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ют во мху почва пружинит. Лес стал другим но мы упорно пр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вьте  и  объясните 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и препинания,  орфог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м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3712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идти по тайге. К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чие ветви  царапают руки и 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 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ый рю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 ц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ется за суч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 Путь пред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 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кий и мы расп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ся на отдых. Но вот опять пора в д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у. Мы ра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 па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ники и о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ливаемся. Как трудно пр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дорогу! Ноги у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ют во мху почва пружинит. Лес стал другим но мы упорно про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ем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"/>
              </a:rPr>
              <a:t>Составьте словосочетания со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ол...жение                         изменить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изл...жение                        вы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сл...гаемое                           закон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едпол...жение                 просклоня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ил...гательное                 умень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сл...жение                             произ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7696080" y="60480"/>
            <a:ext cx="1281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34080" y="314280"/>
            <a:ext cx="858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зударные гласные в корн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Прямая со стрелкой 3"/>
          <p:cNvCxnSpPr/>
          <p:nvPr/>
        </p:nvCxnSpPr>
        <p:spPr>
          <a:xfrm flipH="1">
            <a:off x="1294560" y="1143000"/>
            <a:ext cx="3048840" cy="1448640"/>
          </a:xfrm>
          <a:prstGeom prst="straightConnector1">
            <a:avLst/>
          </a:prstGeom>
          <a:ln w="63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45" name="Прямоугольник 4"/>
          <p:cNvSpPr/>
          <p:nvPr/>
        </p:nvSpPr>
        <p:spPr>
          <a:xfrm>
            <a:off x="304920" y="2701800"/>
            <a:ext cx="4038480" cy="3124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оверяемые удар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6"/>
          <p:cNvCxnSpPr/>
          <p:nvPr/>
        </p:nvCxnSpPr>
        <p:spPr>
          <a:xfrm>
            <a:off x="4343040" y="1142640"/>
            <a:ext cx="762840" cy="1562760"/>
          </a:xfrm>
          <a:prstGeom prst="straightConnector1">
            <a:avLst/>
          </a:prstGeom>
          <a:ln w="63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47" name="Прямоугольник 10"/>
          <p:cNvSpPr/>
          <p:nvPr/>
        </p:nvSpPr>
        <p:spPr>
          <a:xfrm>
            <a:off x="3505320" y="2725560"/>
            <a:ext cx="5257800" cy="3124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епроверяемые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(словарные сл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12"/>
          <p:cNvCxnSpPr/>
          <p:nvPr/>
        </p:nvCxnSpPr>
        <p:spPr>
          <a:xfrm>
            <a:off x="4267080" y="1142640"/>
            <a:ext cx="76680" cy="1640520"/>
          </a:xfrm>
          <a:prstGeom prst="straightConnector1">
            <a:avLst/>
          </a:prstGeom>
          <a:ln w="63360">
            <a:solidFill>
              <a:srgbClr val="222268"/>
            </a:solidFill>
            <a:miter/>
            <a:tailEnd len="med" type="arrow" w="med"/>
          </a:ln>
        </p:spPr>
      </p:cxnSp>
      <p:sp>
        <p:nvSpPr>
          <p:cNvPr id="49" name="Прямоугольник 13"/>
          <p:cNvSpPr/>
          <p:nvPr/>
        </p:nvSpPr>
        <p:spPr>
          <a:xfrm>
            <a:off x="1406520" y="2817720"/>
            <a:ext cx="6438960" cy="3127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Чередующиеся глас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entury"/>
              </a:rPr>
              <a:t>Творческая масте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лчалив зимний лес. Тихо и в п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лях</a:t>
            </a: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р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а ра</a:t>
            </a:r>
            <a:r>
              <a:rPr b="1" lang="ru-RU" sz="2800" spc="-1" strike="noStrike">
                <a:solidFill>
                  <a:srgbClr val="0070c0"/>
                </a:solidFill>
                <a:latin typeface="Century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жилась ко сну. Но силь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греет солнышко, и дни ст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новятся дли</a:t>
            </a:r>
            <a:r>
              <a:rPr b="1" lang="ru-RU" sz="2800" spc="-1" strike="noStrike">
                <a:solidFill>
                  <a:srgbClr val="0070c0"/>
                </a:solidFill>
                <a:latin typeface="Century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робуждаются леса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птицы на п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лях предл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гают послушать свои звонкие голоса. А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ридет апрель</a:t>
            </a:r>
            <a:r>
              <a:rPr b="1" lang="ru-RU" sz="2800" spc="-1" strike="noStrike">
                <a:solidFill>
                  <a:srgbClr val="c00000"/>
                </a:solidFill>
                <a:latin typeface="Century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появятся гости из дальни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.Определить  тему, основную мысль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.Описать по аналогии осе</a:t>
            </a:r>
            <a:r>
              <a:rPr b="1" lang="ru-RU" sz="2400" spc="-1" strike="noStrike">
                <a:solidFill>
                  <a:srgbClr val="0070c0"/>
                </a:solidFill>
                <a:latin typeface="Century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й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Admin\Мои документы\Pictures\Мои рисунки\мысль.gif"/>
          <p:cNvPicPr/>
          <p:nvPr/>
        </p:nvPicPr>
        <p:blipFill>
          <a:blip r:embed="rId1"/>
          <a:stretch/>
        </p:blipFill>
        <p:spPr>
          <a:xfrm>
            <a:off x="7848720" y="76320"/>
            <a:ext cx="1079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7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ставьте пропущенные буквы, подбирая провероч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в..нтить,      б…лкон, закр…пить,        гр…зовой, в…здушный,      к…бинет, м…ршрут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изл..жение,        предл..га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ставьте пропущенные буквы, подбирая провероч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в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ить,      б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кон, закр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ить,        гр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овой, в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душный,      к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инет, м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шрут,          изл</a:t>
            </a:r>
            <a:r>
              <a:rPr b="0" lang="ru-RU" sz="6000" spc="-1" strike="noStrike">
                <a:solidFill>
                  <a:srgbClr val="7030a0"/>
                </a:solidFill>
                <a:latin typeface="Arial"/>
              </a:rPr>
              <a:t>..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ни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дл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ать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буквы </a:t>
            </a: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рне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ru-RU" sz="6000" spc="-1" strike="noStrike">
                <a:solidFill>
                  <a:srgbClr val="00b050"/>
                </a:solidFill>
                <a:latin typeface="Arial"/>
              </a:rPr>
              <a:t>лаг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-  и -</a:t>
            </a:r>
            <a:r>
              <a:rPr b="0" i="1" lang="ru-RU" sz="6000" spc="-1" strike="noStrike">
                <a:solidFill>
                  <a:srgbClr val="00b050"/>
                </a:solidFill>
                <a:latin typeface="Arial"/>
              </a:rPr>
              <a:t>лож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6516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ЗЛОЖЕНИЕ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ЗЛАГАТЬ ПРЕДЛАГАТЬ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ЕДЛОЖИТЬ ПРИЛОЖИ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ЛАГАТЬ</a:t>
            </a:r>
            <a:br>
              <a:rPr sz="4800"/>
            </a:br>
            <a:br>
              <a:rPr sz="4800"/>
            </a:b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33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наблюд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13971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0" spc="-1" strike="noStrike">
                <a:solidFill>
                  <a:srgbClr val="00b050"/>
                </a:solidFill>
                <a:latin typeface="Arial"/>
              </a:rPr>
              <a:t>ла</a:t>
            </a:r>
            <a:r>
              <a:rPr b="0" i="1" lang="ru-RU" sz="20000" spc="-1" strike="noStrike" u="sng">
                <a:solidFill>
                  <a:srgbClr val="00b050"/>
                </a:solidFill>
                <a:uFillTx/>
                <a:latin typeface="Arial"/>
              </a:rPr>
              <a:t>г</a:t>
            </a:r>
            <a:r>
              <a:rPr b="0" i="1" lang="ru-RU" sz="200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"/>
          <p:cNvSpPr/>
          <p:nvPr/>
        </p:nvSpPr>
        <p:spPr>
          <a:xfrm flipV="1">
            <a:off x="6629400" y="838080"/>
            <a:ext cx="60948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7238880" y="822240"/>
            <a:ext cx="457200" cy="1540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0" spc="-1" strike="noStrike">
                <a:solidFill>
                  <a:srgbClr val="00b050"/>
                </a:solidFill>
                <a:latin typeface="Arial"/>
              </a:rPr>
              <a:t>ло</a:t>
            </a:r>
            <a:r>
              <a:rPr b="0" i="1" lang="ru-RU" sz="20000" spc="-1" strike="noStrike" u="sng">
                <a:solidFill>
                  <a:srgbClr val="00b050"/>
                </a:solidFill>
                <a:uFillTx/>
                <a:latin typeface="Arial"/>
              </a:rPr>
              <a:t>ж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ыделить 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ыделить суффик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Подчеркнуть согласный в корн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делать вывод : пишу А или 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2057400" cy="245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024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Надежда</cp:lastModifiedBy>
  <dcterms:modified xsi:type="dcterms:W3CDTF">2015-10-12T08:08:1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