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532-C7CD-4774-B879-26DD3B8E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2E7-699C-42B1-A292-DD3A5E4E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173-31C5-4393-8726-1BA073B0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760-3337-43E0-A162-0413066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DD4C-310A-4A57-A9CF-8E526D12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51D2-B377-457B-A210-6268F6F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29B-B6FE-4A2C-A031-DA02B58D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494-9F0B-4C3E-BB25-3853178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AD1-92EC-431D-953D-2D583F3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81E4-91B9-4077-8458-E73793D3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6656-C922-4B76-AD27-4BFF50F5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B2D-D052-45B6-8B61-868D513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304-ECF3-459F-9745-4EF4AE9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C87F-FDAB-4645-BD0F-4CDB727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D7BF-3F10-4874-9E9D-158740A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04DF-08C0-401A-874A-8C32F40B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CFD1-3841-41FA-B557-28A3530E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DA7-8221-4011-BF39-A93BC21B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15C-BA53-4E24-B889-894EBCB3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DCA-CC4D-44A8-A80F-DA3EBEF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4A5-70DA-4D07-A751-1F87626B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AE4-54D3-4880-B61D-54E5AD7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994-4F7B-4440-AA1F-52BF11B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974-2F68-4EEE-8B7A-C5641C7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F72-E8F5-4B78-AB2E-8AA4B85A3E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CC77-7D35-4B47-BACC-DFF0291CD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F18-3D0D-486C-AA86-042D4D128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535760" y="1071720"/>
            <a:ext cx="725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84807"/>
                </a:solidFill>
                <a:latin typeface="Calibri"/>
              </a:rPr>
              <a:t>Урок русского язы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класс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  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«Правописание приставок пре- и при-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7" descr="kniga52.jpg"/>
          <p:cNvPicPr/>
          <p:nvPr/>
        </p:nvPicPr>
        <p:blipFill>
          <a:blip r:embed="rId1"/>
          <a:stretch/>
        </p:blipFill>
        <p:spPr>
          <a:xfrm>
            <a:off x="3203640" y="400536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611280" y="6021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C5C-432A-4A33-8E7B-1EBF8DA5D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45FD-44D8-43CD-A6FF-E4AE2BB4A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2960" y="928800"/>
          <a:ext cx="8064360" cy="551484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-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ь, прибави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тдать, изменить, выда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в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ийти, приехать.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ть на вокзал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 увеличиться.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вать -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ся где-нибуд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в каком-нибудь состояни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ит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ступить или нач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и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самовольно наруши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ить.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няться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лоняться, пригибать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нятьс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чувствовать глубо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, восхищение.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Прямоугольник 4"/>
          <p:cNvSpPr/>
          <p:nvPr/>
        </p:nvSpPr>
        <p:spPr>
          <a:xfrm>
            <a:off x="3009960" y="285840"/>
            <a:ext cx="40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зличайте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РЕДЕЛИТЕЛЬНЫЙ ДИКТАН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ределите слова на две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с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сным 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значением пристав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с </a:t>
            </a:r>
            <a:r>
              <a:rPr b="0" lang="ru-RU" sz="3600" spc="-1" strike="noStrike">
                <a:solidFill>
                  <a:srgbClr val="92d050"/>
                </a:solidFill>
                <a:latin typeface="Calibri"/>
              </a:rPr>
              <a:t>неясным 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значением приставки</a:t>
            </a:r>
            <a:r>
              <a:rPr b="0" lang="ru-RU" sz="2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6920" y="1828800"/>
            <a:ext cx="46083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еодолеть, примечать, присмотреться, прельщать, прехорошенький, приоткрыть, причудливый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ПРОВЕРЬ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сным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значением пристав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одолеть присмотреться прехорошенький приоткры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78596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неясным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значением пристав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чать, прельщать, причудлив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КОММЕНТИРОВАННОЕ ПИСЬМ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писать словосочетания, выделить приставку, объяснить ее напис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53596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интересный рассказ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становить движение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ывать изложение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дорожный цветок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школьный участок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однять стол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землиться неудачно,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..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терпевать измен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ПРОВЕРЬ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569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тересный рассказ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тановить движение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ывать изложение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рожный цветок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школьный участок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нять стол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емлиться неудачно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ерпевать изме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1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8"/>
          <p:cNvSpPr/>
          <p:nvPr/>
        </p:nvSpPr>
        <p:spPr>
          <a:xfrm>
            <a:off x="900000" y="0"/>
            <a:ext cx="2089440" cy="1773360"/>
          </a:xfrm>
          <a:prstGeom prst="cloudCallout">
            <a:avLst>
              <a:gd name="adj1" fmla="val -38148"/>
              <a:gd name="adj2" fmla="val 15888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2" descr="7"/>
          <p:cNvPicPr/>
          <p:nvPr/>
        </p:nvPicPr>
        <p:blipFill>
          <a:blip r:embed="rId2"/>
          <a:stretch/>
        </p:blipFill>
        <p:spPr>
          <a:xfrm>
            <a:off x="395280" y="1628640"/>
            <a:ext cx="20923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14"/>
          <p:cNvSpPr txBox="1"/>
          <p:nvPr/>
        </p:nvSpPr>
        <p:spPr>
          <a:xfrm>
            <a:off x="2843280" y="1628640"/>
            <a:ext cx="140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-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5"/>
          <p:cNvSpPr txBox="1"/>
          <p:nvPr/>
        </p:nvSpPr>
        <p:spPr>
          <a:xfrm>
            <a:off x="4572000" y="2637000"/>
            <a:ext cx="136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-</a:t>
            </a:r>
            <a:endParaRPr b="1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7"/>
          <p:cNvSpPr txBox="1"/>
          <p:nvPr/>
        </p:nvSpPr>
        <p:spPr>
          <a:xfrm>
            <a:off x="1547640" y="549360"/>
            <a:ext cx="5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3a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6df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714240" y="2858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Начинаем веселый ур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85880" y="9288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е приставки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785880" y="15001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06b2"/>
                </a:solidFill>
                <a:latin typeface="Times New Roman"/>
              </a:rPr>
              <a:t>Слова, обозначающие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приближение,</a:t>
            </a:r>
            <a:r>
              <a:rPr b="1" lang="ru-RU" sz="2400" spc="-1" strike="noStrike">
                <a:solidFill>
                  <a:srgbClr val="1f06b2"/>
                </a:solidFill>
                <a:latin typeface="Times New Roman"/>
              </a:rPr>
              <a:t>  пишутся с приставкой</a:t>
            </a:r>
            <a:r>
              <a:rPr b="1" lang="ru-RU" sz="2400" spc="-1" strike="noStrike">
                <a:solidFill>
                  <a:srgbClr val="ffff0b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j0215086"/>
          <p:cNvPicPr/>
          <p:nvPr/>
        </p:nvPicPr>
        <p:blipFill>
          <a:blip r:embed="rId1"/>
          <a:stretch/>
        </p:blipFill>
        <p:spPr>
          <a:xfrm>
            <a:off x="928800" y="2357280"/>
            <a:ext cx="2892240" cy="385776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AD3-0E46-4219-BB3C-ABC2CD5B4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radionyanya._pre-_i_pri-..mp3" descr=""/>
          <p:cNvPicPr/>
          <p:nvPr/>
        </p:nvPicPr>
        <p:blipFill>
          <a:blip r:embed="rId2"/>
          <a:stretch/>
        </p:blipFill>
        <p:spPr>
          <a:xfrm>
            <a:off x="785808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286160" y="2428920"/>
            <a:ext cx="442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х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ак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емлил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унил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25AC-D04E-4F6D-B2FA-F211879CB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857160" y="28584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06b2"/>
                </a:solidFill>
                <a:latin typeface="Times New Roman"/>
              </a:rPr>
              <a:t>Слова, обозначающи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соединение,</a:t>
            </a:r>
            <a:r>
              <a:rPr b="1" lang="ru-RU" sz="3600" spc="-1" strike="noStrike">
                <a:solidFill>
                  <a:srgbClr val="1f06b2"/>
                </a:solidFill>
                <a:latin typeface="Times New Roman"/>
              </a:rPr>
              <a:t>  пишутся с приставкой</a:t>
            </a:r>
            <a:r>
              <a:rPr b="1" lang="ru-RU" sz="3600" spc="-1" strike="noStrike">
                <a:solidFill>
                  <a:srgbClr val="ffff0b"/>
                </a:solidFill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000080" y="264312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имаю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леиваю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рисовываю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C18-C067-4AFD-9C01-D6F837D98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928800" y="2858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При- = неполнота действ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857160" y="17859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екл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NA01069_"/>
          <p:cNvPicPr/>
          <p:nvPr/>
        </p:nvPicPr>
        <p:blipFill>
          <a:blip r:embed="rId1"/>
          <a:stretch/>
        </p:blipFill>
        <p:spPr>
          <a:xfrm>
            <a:off x="4143240" y="2143080"/>
            <a:ext cx="480240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0FA2-A85C-47B6-895A-5806EB766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1427040" y="304920"/>
            <a:ext cx="6216840" cy="1195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928800" y="1714680"/>
            <a:ext cx="7643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6dfb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скверны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6dfb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красны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23E1-6302-4404-8A8B-94DF6715C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219240"/>
            <a:ext cx="6645240" cy="1304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785960" y="1500120"/>
            <a:ext cx="664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71ff7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град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бес</a:t>
            </a:r>
            <a:r>
              <a:rPr b="1" lang="ru-RU" sz="7200" spc="-1" strike="noStrike">
                <a:solidFill>
                  <a:srgbClr val="671ff7"/>
                </a:solidFill>
                <a:latin typeface="Tahoma"/>
              </a:rPr>
              <a:t>пре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рывн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1B8-C745-496E-9D3E-4FA613954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14240" y="1214280"/>
          <a:ext cx="8001000" cy="4786560"/>
        </p:xfrm>
        <a:graphic>
          <a:graphicData uri="http://schemas.openxmlformats.org/drawingml/2006/table">
            <a:tbl>
              <a:tblPr/>
              <a:tblGrid>
                <a:gridCol w="1962360"/>
                <a:gridCol w="2097000"/>
                <a:gridCol w="2087640"/>
                <a:gridCol w="1854000"/>
              </a:tblGrid>
              <a:tr h="15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Прибл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Присо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Нахождение     около чего-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Непол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действие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яз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р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ня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х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ы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е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ро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с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cf03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TextBox 4"/>
          <p:cNvSpPr/>
          <p:nvPr/>
        </p:nvSpPr>
        <p:spPr>
          <a:xfrm>
            <a:off x="1428840" y="28584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шите в справоч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75DD-5085-4666-B3E5-0E83A6924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500120"/>
          <a:ext cx="8001000" cy="4497480"/>
        </p:xfrm>
        <a:graphic>
          <a:graphicData uri="http://schemas.openxmlformats.org/drawingml/2006/table">
            <a:tbl>
              <a:tblPr/>
              <a:tblGrid>
                <a:gridCol w="3857760"/>
                <a:gridCol w="4143240"/>
              </a:tblGrid>
              <a:tr h="114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= «очен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e3a02"/>
                          </a:solidFill>
                          <a:latin typeface="Tahoma"/>
                        </a:rPr>
                        <a:t>= пер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  <a:tr h="162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очень добр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перегороди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  <a:tr h="172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очень жад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f46dfb"/>
                          </a:solidFill>
                          <a:latin typeface="Tahoma"/>
                        </a:rPr>
                        <a:t>п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не перестае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685-9D2D-4D83-B6AB-536034F48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143000" y="21420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апомнит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714240" y="1143000"/>
            <a:ext cx="392904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ю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яз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яг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ж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т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утств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Пр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р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4357800" y="1214280"/>
            <a:ext cx="45720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ед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ятств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кнов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рат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бре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иди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ид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гати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нз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Надежда</cp:lastModifiedBy>
  <dcterms:modified xsi:type="dcterms:W3CDTF">2015-12-03T09:57:48Z</dcterms:modified>
  <cp:revision>66</cp:revision>
  <dc:subject/>
  <dc:title>Слайд 1</dc:title>
</cp:coreProperties>
</file>