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439-47E7-44D1-A78E-547360FF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D6E-D6BD-4E39-81BD-F57AB834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587-6D71-4429-8944-1D2609FD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D5D-BBCF-434C-9CE4-F0403FF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8E4-24A8-4043-99F9-74E51AD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062-0B8F-4F93-B438-00CC2E5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EC9-49EC-40D3-815D-A4DDCFF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0E8-9432-4BC7-8ED9-1F4B952A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60C-D93F-4EB2-907E-DC6D6C4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A79-550D-4C5F-B249-10182A2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537-565E-48EA-ABA7-B211ED7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DD2-B4CE-42E6-99CF-7536DEC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2015-E752-452D-9B89-6CBB07F0DB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14972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 Black"/>
              </a:rPr>
              <a:t>Роль второстепенных членов предложения</a:t>
            </a:r>
            <a:r>
              <a:rPr b="0" lang="ru-RU" sz="3600" spc="-1" strike="noStrike">
                <a:solidFill>
                  <a:srgbClr val="000066"/>
                </a:solidFill>
                <a:latin typeface="Arial Black"/>
              </a:rPr>
              <a:t> в устной и письменной ре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4920" y="836640"/>
            <a:ext cx="8675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Ночевала тучка золо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На груди утеса-велик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Утром в путь она умчалась ра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По лазури весело игр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Но остался влажный след в 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морщ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Старого утеса. Одино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Он стоит, задумался глубок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И тихонько плачет он в пусты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981000"/>
            <a:ext cx="86756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Ночевала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тучка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зол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На груди утеса-велик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Утром в путь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она умчалась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По лазури весело иг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Но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остался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влажный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след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в 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морщ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Старого утеса. Один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Он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стоит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,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задумался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глуб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И тихонько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плачет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 Black"/>
              </a:rPr>
              <a:t>он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95280" y="1989000"/>
            <a:ext cx="208908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95280" y="2492280"/>
            <a:ext cx="136836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908000" y="2492280"/>
            <a:ext cx="136872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732720" y="2565360"/>
            <a:ext cx="107928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68360" y="3068640"/>
            <a:ext cx="547200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940360" y="4076640"/>
            <a:ext cx="208764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3924360" y="4581360"/>
            <a:ext cx="187164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5364000" y="5084640"/>
            <a:ext cx="180036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971640" y="5661000"/>
            <a:ext cx="201600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5940360" y="5661000"/>
            <a:ext cx="1944720" cy="0"/>
          </a:xfrm>
          <a:prstGeom prst="line">
            <a:avLst/>
          </a:prstGeom>
          <a:ln w="57240">
            <a:solidFill>
              <a:srgbClr val="9900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324000" y="4581360"/>
            <a:ext cx="1871640" cy="71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905" h="106">
                <a:moveTo>
                  <a:pt x="0" y="91"/>
                </a:moveTo>
                <a:cubicBezTo>
                  <a:pt x="11" y="98"/>
                  <a:pt x="22" y="106"/>
                  <a:pt x="45" y="91"/>
                </a:cubicBezTo>
                <a:cubicBezTo>
                  <a:pt x="68" y="76"/>
                  <a:pt x="91" y="0"/>
                  <a:pt x="136" y="0"/>
                </a:cubicBezTo>
                <a:cubicBezTo>
                  <a:pt x="181" y="0"/>
                  <a:pt x="264" y="91"/>
                  <a:pt x="317" y="91"/>
                </a:cubicBezTo>
                <a:cubicBezTo>
                  <a:pt x="370" y="91"/>
                  <a:pt x="400" y="0"/>
                  <a:pt x="453" y="0"/>
                </a:cubicBezTo>
                <a:cubicBezTo>
                  <a:pt x="506" y="0"/>
                  <a:pt x="582" y="91"/>
                  <a:pt x="635" y="91"/>
                </a:cubicBezTo>
                <a:cubicBezTo>
                  <a:pt x="688" y="91"/>
                  <a:pt x="718" y="0"/>
                  <a:pt x="771" y="0"/>
                </a:cubicBezTo>
                <a:cubicBezTo>
                  <a:pt x="824" y="0"/>
                  <a:pt x="899" y="91"/>
                  <a:pt x="952" y="91"/>
                </a:cubicBezTo>
                <a:cubicBezTo>
                  <a:pt x="1005" y="91"/>
                  <a:pt x="1035" y="0"/>
                  <a:pt x="1088" y="0"/>
                </a:cubicBezTo>
                <a:cubicBezTo>
                  <a:pt x="1141" y="0"/>
                  <a:pt x="1217" y="91"/>
                  <a:pt x="1270" y="91"/>
                </a:cubicBezTo>
                <a:cubicBezTo>
                  <a:pt x="1323" y="91"/>
                  <a:pt x="1353" y="0"/>
                  <a:pt x="1406" y="0"/>
                </a:cubicBezTo>
                <a:cubicBezTo>
                  <a:pt x="1459" y="0"/>
                  <a:pt x="1527" y="91"/>
                  <a:pt x="1587" y="91"/>
                </a:cubicBezTo>
                <a:cubicBezTo>
                  <a:pt x="1647" y="91"/>
                  <a:pt x="1716" y="0"/>
                  <a:pt x="1769" y="0"/>
                </a:cubicBezTo>
                <a:cubicBezTo>
                  <a:pt x="1822" y="0"/>
                  <a:pt x="1882" y="76"/>
                  <a:pt x="1905" y="9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211640" y="1413000"/>
            <a:ext cx="1871640" cy="71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905" h="106">
                <a:moveTo>
                  <a:pt x="0" y="91"/>
                </a:moveTo>
                <a:cubicBezTo>
                  <a:pt x="11" y="98"/>
                  <a:pt x="22" y="106"/>
                  <a:pt x="45" y="91"/>
                </a:cubicBezTo>
                <a:cubicBezTo>
                  <a:pt x="68" y="76"/>
                  <a:pt x="91" y="0"/>
                  <a:pt x="136" y="0"/>
                </a:cubicBezTo>
                <a:cubicBezTo>
                  <a:pt x="181" y="0"/>
                  <a:pt x="264" y="91"/>
                  <a:pt x="317" y="91"/>
                </a:cubicBezTo>
                <a:cubicBezTo>
                  <a:pt x="370" y="91"/>
                  <a:pt x="400" y="0"/>
                  <a:pt x="453" y="0"/>
                </a:cubicBezTo>
                <a:cubicBezTo>
                  <a:pt x="506" y="0"/>
                  <a:pt x="582" y="91"/>
                  <a:pt x="635" y="91"/>
                </a:cubicBezTo>
                <a:cubicBezTo>
                  <a:pt x="688" y="91"/>
                  <a:pt x="718" y="0"/>
                  <a:pt x="771" y="0"/>
                </a:cubicBezTo>
                <a:cubicBezTo>
                  <a:pt x="824" y="0"/>
                  <a:pt x="899" y="91"/>
                  <a:pt x="952" y="91"/>
                </a:cubicBezTo>
                <a:cubicBezTo>
                  <a:pt x="1005" y="91"/>
                  <a:pt x="1035" y="0"/>
                  <a:pt x="1088" y="0"/>
                </a:cubicBezTo>
                <a:cubicBezTo>
                  <a:pt x="1141" y="0"/>
                  <a:pt x="1217" y="91"/>
                  <a:pt x="1270" y="91"/>
                </a:cubicBezTo>
                <a:cubicBezTo>
                  <a:pt x="1323" y="91"/>
                  <a:pt x="1353" y="0"/>
                  <a:pt x="1406" y="0"/>
                </a:cubicBezTo>
                <a:cubicBezTo>
                  <a:pt x="1459" y="0"/>
                  <a:pt x="1527" y="91"/>
                  <a:pt x="1587" y="91"/>
                </a:cubicBezTo>
                <a:cubicBezTo>
                  <a:pt x="1647" y="91"/>
                  <a:pt x="1716" y="0"/>
                  <a:pt x="1769" y="0"/>
                </a:cubicBezTo>
                <a:cubicBezTo>
                  <a:pt x="1822" y="0"/>
                  <a:pt x="1882" y="76"/>
                  <a:pt x="1905" y="9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9"/>
          <p:cNvSpPr/>
          <p:nvPr/>
        </p:nvSpPr>
        <p:spPr>
          <a:xfrm>
            <a:off x="4067280" y="1989000"/>
            <a:ext cx="2089080" cy="716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905" h="106">
                <a:moveTo>
                  <a:pt x="0" y="91"/>
                </a:moveTo>
                <a:cubicBezTo>
                  <a:pt x="11" y="98"/>
                  <a:pt x="22" y="106"/>
                  <a:pt x="45" y="91"/>
                </a:cubicBezTo>
                <a:cubicBezTo>
                  <a:pt x="68" y="76"/>
                  <a:pt x="91" y="0"/>
                  <a:pt x="136" y="0"/>
                </a:cubicBezTo>
                <a:cubicBezTo>
                  <a:pt x="181" y="0"/>
                  <a:pt x="264" y="91"/>
                  <a:pt x="317" y="91"/>
                </a:cubicBezTo>
                <a:cubicBezTo>
                  <a:pt x="370" y="91"/>
                  <a:pt x="400" y="0"/>
                  <a:pt x="453" y="0"/>
                </a:cubicBezTo>
                <a:cubicBezTo>
                  <a:pt x="506" y="0"/>
                  <a:pt x="582" y="91"/>
                  <a:pt x="635" y="91"/>
                </a:cubicBezTo>
                <a:cubicBezTo>
                  <a:pt x="688" y="91"/>
                  <a:pt x="718" y="0"/>
                  <a:pt x="771" y="0"/>
                </a:cubicBezTo>
                <a:cubicBezTo>
                  <a:pt x="824" y="0"/>
                  <a:pt x="899" y="91"/>
                  <a:pt x="952" y="91"/>
                </a:cubicBezTo>
                <a:cubicBezTo>
                  <a:pt x="1005" y="91"/>
                  <a:pt x="1035" y="0"/>
                  <a:pt x="1088" y="0"/>
                </a:cubicBezTo>
                <a:cubicBezTo>
                  <a:pt x="1141" y="0"/>
                  <a:pt x="1217" y="91"/>
                  <a:pt x="1270" y="91"/>
                </a:cubicBezTo>
                <a:cubicBezTo>
                  <a:pt x="1323" y="91"/>
                  <a:pt x="1353" y="0"/>
                  <a:pt x="1406" y="0"/>
                </a:cubicBezTo>
                <a:cubicBezTo>
                  <a:pt x="1459" y="0"/>
                  <a:pt x="1527" y="91"/>
                  <a:pt x="1587" y="91"/>
                </a:cubicBezTo>
                <a:cubicBezTo>
                  <a:pt x="1647" y="91"/>
                  <a:pt x="1716" y="0"/>
                  <a:pt x="1769" y="0"/>
                </a:cubicBezTo>
                <a:cubicBezTo>
                  <a:pt x="1822" y="0"/>
                  <a:pt x="1882" y="76"/>
                  <a:pt x="1905" y="9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0"/>
          <p:cNvSpPr/>
          <p:nvPr/>
        </p:nvSpPr>
        <p:spPr>
          <a:xfrm>
            <a:off x="2627280" y="1989000"/>
            <a:ext cx="1247760" cy="7308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86" h="46">
                <a:moveTo>
                  <a:pt x="0" y="40"/>
                </a:moveTo>
                <a:cubicBezTo>
                  <a:pt x="7" y="43"/>
                  <a:pt x="14" y="46"/>
                  <a:pt x="28" y="40"/>
                </a:cubicBezTo>
                <a:cubicBezTo>
                  <a:pt x="42" y="33"/>
                  <a:pt x="56" y="1"/>
                  <a:pt x="84" y="1"/>
                </a:cubicBezTo>
                <a:cubicBezTo>
                  <a:pt x="112" y="1"/>
                  <a:pt x="163" y="40"/>
                  <a:pt x="196" y="40"/>
                </a:cubicBezTo>
                <a:cubicBezTo>
                  <a:pt x="229" y="40"/>
                  <a:pt x="248" y="1"/>
                  <a:pt x="280" y="1"/>
                </a:cubicBezTo>
                <a:cubicBezTo>
                  <a:pt x="313" y="1"/>
                  <a:pt x="359" y="40"/>
                  <a:pt x="393" y="40"/>
                </a:cubicBezTo>
                <a:cubicBezTo>
                  <a:pt x="427" y="40"/>
                  <a:pt x="450" y="0"/>
                  <a:pt x="483" y="0"/>
                </a:cubicBezTo>
                <a:cubicBezTo>
                  <a:pt x="516" y="0"/>
                  <a:pt x="557" y="40"/>
                  <a:pt x="589" y="40"/>
                </a:cubicBezTo>
                <a:cubicBezTo>
                  <a:pt x="621" y="40"/>
                  <a:pt x="641" y="1"/>
                  <a:pt x="673" y="1"/>
                </a:cubicBezTo>
                <a:cubicBezTo>
                  <a:pt x="706" y="1"/>
                  <a:pt x="767" y="34"/>
                  <a:pt x="786" y="4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1"/>
          <p:cNvSpPr/>
          <p:nvPr/>
        </p:nvSpPr>
        <p:spPr>
          <a:xfrm>
            <a:off x="2340000" y="4581360"/>
            <a:ext cx="1247760" cy="7308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86" h="46">
                <a:moveTo>
                  <a:pt x="0" y="40"/>
                </a:moveTo>
                <a:cubicBezTo>
                  <a:pt x="7" y="43"/>
                  <a:pt x="14" y="46"/>
                  <a:pt x="28" y="40"/>
                </a:cubicBezTo>
                <a:cubicBezTo>
                  <a:pt x="42" y="33"/>
                  <a:pt x="56" y="1"/>
                  <a:pt x="84" y="1"/>
                </a:cubicBezTo>
                <a:cubicBezTo>
                  <a:pt x="112" y="1"/>
                  <a:pt x="163" y="40"/>
                  <a:pt x="196" y="40"/>
                </a:cubicBezTo>
                <a:cubicBezTo>
                  <a:pt x="229" y="40"/>
                  <a:pt x="248" y="1"/>
                  <a:pt x="280" y="1"/>
                </a:cubicBezTo>
                <a:cubicBezTo>
                  <a:pt x="313" y="1"/>
                  <a:pt x="359" y="40"/>
                  <a:pt x="393" y="40"/>
                </a:cubicBezTo>
                <a:cubicBezTo>
                  <a:pt x="427" y="40"/>
                  <a:pt x="450" y="0"/>
                  <a:pt x="483" y="0"/>
                </a:cubicBezTo>
                <a:cubicBezTo>
                  <a:pt x="516" y="0"/>
                  <a:pt x="557" y="40"/>
                  <a:pt x="589" y="40"/>
                </a:cubicBezTo>
                <a:cubicBezTo>
                  <a:pt x="621" y="40"/>
                  <a:pt x="641" y="1"/>
                  <a:pt x="673" y="1"/>
                </a:cubicBezTo>
                <a:cubicBezTo>
                  <a:pt x="706" y="1"/>
                  <a:pt x="767" y="34"/>
                  <a:pt x="786" y="4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3"/>
          <p:cNvSpPr/>
          <p:nvPr/>
        </p:nvSpPr>
        <p:spPr>
          <a:xfrm>
            <a:off x="3203640" y="3573360"/>
            <a:ext cx="2016000" cy="71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905" h="106">
                <a:moveTo>
                  <a:pt x="0" y="91"/>
                </a:moveTo>
                <a:cubicBezTo>
                  <a:pt x="11" y="98"/>
                  <a:pt x="22" y="106"/>
                  <a:pt x="45" y="91"/>
                </a:cubicBezTo>
                <a:cubicBezTo>
                  <a:pt x="68" y="76"/>
                  <a:pt x="91" y="0"/>
                  <a:pt x="136" y="0"/>
                </a:cubicBezTo>
                <a:cubicBezTo>
                  <a:pt x="181" y="0"/>
                  <a:pt x="264" y="91"/>
                  <a:pt x="317" y="91"/>
                </a:cubicBezTo>
                <a:cubicBezTo>
                  <a:pt x="370" y="91"/>
                  <a:pt x="400" y="0"/>
                  <a:pt x="453" y="0"/>
                </a:cubicBezTo>
                <a:cubicBezTo>
                  <a:pt x="506" y="0"/>
                  <a:pt x="582" y="91"/>
                  <a:pt x="635" y="91"/>
                </a:cubicBezTo>
                <a:cubicBezTo>
                  <a:pt x="688" y="91"/>
                  <a:pt x="718" y="0"/>
                  <a:pt x="771" y="0"/>
                </a:cubicBezTo>
                <a:cubicBezTo>
                  <a:pt x="824" y="0"/>
                  <a:pt x="899" y="91"/>
                  <a:pt x="952" y="91"/>
                </a:cubicBezTo>
                <a:cubicBezTo>
                  <a:pt x="1005" y="91"/>
                  <a:pt x="1035" y="0"/>
                  <a:pt x="1088" y="0"/>
                </a:cubicBezTo>
                <a:cubicBezTo>
                  <a:pt x="1141" y="0"/>
                  <a:pt x="1217" y="91"/>
                  <a:pt x="1270" y="91"/>
                </a:cubicBezTo>
                <a:cubicBezTo>
                  <a:pt x="1323" y="91"/>
                  <a:pt x="1353" y="0"/>
                  <a:pt x="1406" y="0"/>
                </a:cubicBezTo>
                <a:cubicBezTo>
                  <a:pt x="1459" y="0"/>
                  <a:pt x="1527" y="91"/>
                  <a:pt x="1587" y="91"/>
                </a:cubicBezTo>
                <a:cubicBezTo>
                  <a:pt x="1647" y="91"/>
                  <a:pt x="1716" y="0"/>
                  <a:pt x="1769" y="0"/>
                </a:cubicBezTo>
                <a:cubicBezTo>
                  <a:pt x="1822" y="0"/>
                  <a:pt x="1882" y="76"/>
                  <a:pt x="1905" y="9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Задание к тек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Определите стиль текс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Какую роль играют второстепенные члены предложения в данн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>
            <a:hlinkClick r:id="" action="ppaction://hlinkshowjump?jump=nextslide"/>
          </p:cNvPr>
          <p:cNvSpPr/>
          <p:nvPr/>
        </p:nvSpPr>
        <p:spPr>
          <a:xfrm>
            <a:off x="3132000" y="5877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284720" y="5877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435640" y="5877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115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Из докладной записки А.Бенкендорф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начальника тайной поли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Я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уже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 имел честь сообщить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вашему императорскому величеству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, что стихотворение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гусарского офицера Лермонтова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 дерзко и вольнодумно. Генерал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Веймарн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 должен допросить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молодого человека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79280" y="5516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ывод: второстепенные члены делают текст официально-делового стиля более точным, ясным и однозна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824400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Calibri"/>
              </a:rPr>
              <a:t>Из статьи Д.С.Мережковского </a:t>
            </a:r>
            <a:br>
              <a:rPr sz="2500"/>
            </a:br>
            <a:r>
              <a:rPr b="1" lang="ru-RU" sz="2500" spc="-1" strike="noStrike">
                <a:solidFill>
                  <a:srgbClr val="000066"/>
                </a:solidFill>
                <a:latin typeface="Calibri"/>
              </a:rPr>
              <a:t>«М.Ю.Лермонтов – поэт сверхчеловечества»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060640"/>
            <a:ext cx="77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чему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приблизился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к нам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Лермонтов?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чему вдруг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захотелось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о нём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говорить? Мы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 детств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заучиваем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го стихи, как мол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5157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ывод: второстепенные члены придают тексту публицистического стиля эмоциональность, выразительность, убед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170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Calibri"/>
              </a:rPr>
              <a:t>Из вступительной статьи учебника литературы</a:t>
            </a:r>
            <a:r>
              <a:rPr b="0" lang="ru-RU" sz="2900" spc="-1" strike="noStrike">
                <a:solidFill>
                  <a:srgbClr val="000066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5640" y="1557360"/>
            <a:ext cx="74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Фрагменты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з статьи Белинского о стихотворениях Лермонтов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помогут понять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ложный художественный мир поэзии Лермонтов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 А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 статье Рыбниковой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выявлены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злюбленны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тропы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эт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1280" y="522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ывод: второстепенные члены делают текст научного стиля более глубоким, полным и конкре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83170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8:46:26Z</dcterms:created>
  <dc:creator>Администратор</dc:creator>
  <dc:description/>
  <dc:language>en-US</dc:language>
  <cp:lastModifiedBy>Надежда</cp:lastModifiedBy>
  <dcterms:modified xsi:type="dcterms:W3CDTF">2015-12-03T09:29:49Z</dcterms:modified>
  <cp:revision>18</cp:revision>
  <dc:subject/>
  <dc:title>Обобщение по теме «Второстепенные  члены предложения»</dc:title>
</cp:coreProperties>
</file>