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sldIdLst>
    <p:sldId id="256" r:id="rId51"/>
    <p:sldId id="257" r:id="rId52"/>
    <p:sldId id="258" r:id="rId53"/>
    <p:sldId id="259" r:id="rId54"/>
    <p:sldId id="260" r:id="rId55"/>
    <p:sldId id="261" r:id="rId56"/>
    <p:sldId id="262" r:id="rId57"/>
    <p:sldId id="263" r:id="rId58"/>
    <p:sldId id="264" r:id="rId59"/>
    <p:sldId id="265" r:id="rId60"/>
    <p:sldId id="266" r:id="rId61"/>
    <p:sldId id="267" r:id="rId62"/>
    <p:sldId id="268" r:id="rId63"/>
    <p:sldId id="269" r:id="rId64"/>
    <p:sldId id="270" r:id="rId65"/>
    <p:sldId id="271"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slide" Target="slides/slide7.xml"/><Relationship Id="rId58" Type="http://schemas.openxmlformats.org/officeDocument/2006/relationships/slide" Target="slides/slide8.xml"/><Relationship Id="rId59" Type="http://schemas.openxmlformats.org/officeDocument/2006/relationships/slide" Target="slides/slide9.xml"/><Relationship Id="rId60" Type="http://schemas.openxmlformats.org/officeDocument/2006/relationships/slide" Target="slides/slide10.xml"/><Relationship Id="rId61" Type="http://schemas.openxmlformats.org/officeDocument/2006/relationships/slide" Target="slides/slide11.xml"/><Relationship Id="rId62" Type="http://schemas.openxmlformats.org/officeDocument/2006/relationships/slide" Target="slides/slide12.xml"/><Relationship Id="rId63" Type="http://schemas.openxmlformats.org/officeDocument/2006/relationships/slide" Target="slides/slide13.xml"/><Relationship Id="rId64" Type="http://schemas.openxmlformats.org/officeDocument/2006/relationships/slide" Target="slides/slide14.xml"/><Relationship Id="rId65" Type="http://schemas.openxmlformats.org/officeDocument/2006/relationships/slide" Target="slides/slide15.xml"/><Relationship Id="rId66" Type="http://schemas.openxmlformats.org/officeDocument/2006/relationships/slide" Target="slides/slide16.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8D0BB-8C65-45A2-97B4-CAA7427F5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9C045-6FA4-4073-B05E-9EA06CABE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8EEB10-8672-4684-A8EE-1C5E68F713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7EDD73-4613-4DF7-8F5E-BD40871579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900F93-ED2D-456D-B74E-1B505811C6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8DCFB7-FC77-481E-9D17-89CF4CAB3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00052E-9077-438E-8963-C308E9837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E7E4FF-CDB6-49F2-9F9C-DC6E010439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6EF757-96AD-4D3B-A852-7CA1816DA1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C0ED14-076E-4766-9138-0F126B0421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F028F3-C56A-4EBE-A1CE-8CD2C1E5DB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FC4911-46B6-4D0A-AA30-5C32859FB9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CD2F9-D772-46F0-AC62-3C1857F94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5759FA-7593-4D61-9038-19DBB366C3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8E20AA-1ED2-4081-ABA8-1AC4D7540D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88FFAF-652D-4586-8E64-E5FB6325B7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0716A7-86AB-428E-BED9-682476868E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66A2FF-CA5B-4416-9541-8123B84776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DDF671-0925-4CB1-86FC-2E5D0240FB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98EDBB-F1E0-4404-9578-E7ED331205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920D84-E1D9-45DC-AC53-3FFB115A27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355362-735E-468E-A5DC-FEE5B140BE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D90AA5-8403-4F45-85F7-A88D8351C3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37E33-3941-4D75-994D-026025B16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3D1881-238F-48BB-9033-6E64B0FAC8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18AE0E-2E2B-49D0-AF57-8AC39E0DA5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3FC286-C152-4FDE-AD79-A4865CEE8A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88741B-D6DD-4CE9-8161-132B5B6A0A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856A83-F292-4006-8060-3439497159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346356-6BAA-43B8-8D25-5B6DA3FB45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027D26-F330-4823-9D42-586114F448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0395F4-0241-45EA-9F72-6290A20C3F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78274E-67FD-465C-B6D1-1BD345E923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3C3553-2BF0-485A-A311-7BF239B5DF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94988-2B2A-46FE-BD75-8C565F448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AD7BE5-869F-44DE-BDD5-AA964A97A2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488FB2-F174-4DB1-BD4F-E9246AC630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CBD89A-3B11-4B64-9F05-1F66CDE417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A3C1E8-FBB1-4AF6-BAC1-2B8E5A11A0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2EC680-DF79-4B2A-AD13-B16393B4C4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2F7EE5-E46B-4847-9423-1D5DCCB3D7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46E6C6-1E47-4135-867C-06FE0F3540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F497E0-9851-4935-9C67-19245183B7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9A83B2-A5ED-4514-A8D1-9D833ADE69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B005DB-98BD-4B29-AD7F-FC059B55AA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7B878-EE49-4107-8E9A-D3A2B3B94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0008D2-C919-418D-9DFD-574275837E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18657C-1824-4C92-9726-4B18C51F6E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675ECE-D66D-4485-97ED-3A8A455839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7DEAE57-3CDB-4D47-B844-C41D87CA1A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ECEBD0-DED7-41B0-A668-D97E42F226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3D4AFE5-E430-4D2D-8910-AF140EBF144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3B4CAC-814F-47E3-A37D-DF0894DDFB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BF8198-7D70-43C0-86A4-9AFEF35DC1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B93393-C54C-478A-8BFE-E8BD46BD2D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62C169-46E4-439D-9F69-F475012C6C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F2164-12DF-4DC4-A18F-998A2F2A2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7DF0C6-8ED6-43F2-8758-54A1C50795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0F2C92-1ACA-434F-A114-7B19E56C80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C91359-E99D-4AF9-AE8B-F1D7B76E47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04D72D-090B-435A-A44C-DCFD990036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D5E2B8-37D8-4884-8BBD-5FCAFF38EF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D9117DE-8A77-45EC-8781-46A98FA19F7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106175B-1F80-44F1-A2AC-835049907E5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F19ED98-3441-440F-804D-70F3608D6D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5314E3-04BE-4262-BAF7-AA4CB5E05F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B82D2CE-37C1-400B-9BA7-A1A21C1619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797CC-05D6-4F89-AD3A-92B9E1960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9F90A5-D119-4A1E-AD12-B7D9D4C17D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D0206A-B90D-48E5-86E6-A6E6DAED06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8C9BDD-6F09-4D2D-BFBA-87BE877A8C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12B7CA-35A6-4B75-BFBC-62751A684A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82B847-4047-4DD8-87FF-8FF937BA34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76D1C1-BA78-486C-8C3A-79AAE7AC21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416A79-C4A7-411C-AD1A-D741AA09F7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7D36954-82EC-4AC2-B526-A3BB3938804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A71B99-F02E-49D7-8766-CA4804ED5B8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A9BD21C-A86F-477C-A3AE-4D425425A37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F2D8B-FDE9-4E5A-A5E1-78D078F1C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758461-91B5-423D-B642-C1923F88B6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98C87FE-0997-46A8-8CD3-141C508604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4B49CF3-1691-4218-A017-C53B6002888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1251308-1B9A-4114-9F96-11AFD86F3F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57892D2-FC8C-46B4-8333-2A51EF6ADE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9C43D8-B0DF-464E-9370-4F8BAD7F55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02EE19-4C3E-4B92-8821-1245E15234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8B405F-D61A-44EA-86FA-AF357CB9C6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650A97-17C7-4F72-A86C-A908D928F8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2A07B8A-9F7B-494D-BAA2-F59C18E9CAC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03FEA-313F-49D4-BDC1-9B3812F8F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232B59C-E150-4248-ABDC-C33BC421D39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2FEFE33-7B7B-4FF8-9CEF-041E54DC138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9A992D7-96E8-485A-B85D-220ED089770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2D3A8F-089E-4F56-B3DB-371B8FB31A6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E4B22BB-DB4B-455C-9C67-4BB956E4F8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0CBF26-6F84-4C3E-9177-705B345C767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1EA73C4-5172-49B5-877A-DBB42EE0745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FD58BA-229A-439B-A33C-7DD1524B1D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C3F4E3-6A81-4857-8B9F-69C3DAFED2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40FF19-269F-41DF-AC47-4832DC665F7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D19FF-9B66-4845-8217-2D6F60BE8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246F22-32B2-4812-A005-D2B7473B63D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34551DA-BEAE-426F-BA30-58487A23D89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4E5E8E8-BEF8-49D7-9FA1-0AA09B8D295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9076673-E05A-4C82-B19C-2F9A0748971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A145FD8-7353-4387-A918-AD4FF759C9D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70C1FB-E9DD-4E94-9BB8-2A8466940E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1D6B11-8A81-4A6F-8CA9-CEE97D9E250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C29CB9E-0BC0-46D5-90A8-71246BA5C70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4A8CC69-3690-4452-BE88-1F550459819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F6D263-E072-4F21-AC52-517F82C1CD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C27C3-E511-42F0-BCA4-BAF5CE9E5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3A849-FA47-41D6-B529-C161CCC01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DD1655-CEB7-4194-ABB2-1360EB3AED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A7DB5DB-3F31-459E-AFC4-F47267779B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E9D748-87A5-4B2A-98C1-FCE5BB71384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ED51504-57B2-4D9C-8F80-D55824FD6F0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2C4885A-4AE5-482F-888D-E47EEBC7267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7625054-B146-459C-935B-C2CC0BD21CE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AED09BE-4EE4-4414-BC2D-82AADB7F910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E344DD3-9C39-4A00-B71B-087F8AFD0DD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FA16792-EA3F-4B40-8B2B-8EB16F6669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D15E4DE-A224-4462-A139-0F59F9A7800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478E2-8A1C-4642-8BD2-FB53FDD7F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133C6E-CC10-441C-99BF-DD2735C1BE6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E893185-63D7-4ED4-9951-3E15879D36F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B931FCB-89C3-43F1-B37E-5C3F47641C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D1D9644-56BB-4015-A7C0-BB4A8E2C5F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23B616-63F4-4429-AB6B-785023C75A9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5517927-979F-418C-95BC-AE12CE178EB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2E8DEFA-DB09-4874-9C4D-C1832FA5600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77C8CB6-64F5-480E-8F7C-DC09E9B6D32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CC5CAB0-B344-4CA7-8535-FA6CAAD46EA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8DF32D5-B2B0-4C04-857B-F5C007F300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2C079-9CC9-4825-A9DD-C466C9892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E4E45BB-4DCE-4F70-994D-86A5D7251E5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8A42225-727B-461A-ACB7-4C45CFCF57C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653A376-C9D1-4536-A202-CE09554C605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B72907-6D47-4CE6-A7B9-B51F0DA84B7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C544D0-E783-499E-BBAB-537D2D660BB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D8FFD4-AE01-471E-A72A-F51594D8112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7989903-D135-40D7-B787-37F59E526C8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6E9E49B-0E21-411C-A0D0-F1729AB2746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69D26EB-9682-4297-88BE-6EA5CCD3A2A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3EBC30B-26E7-4ED8-8129-ACA361AD934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838D7-81EA-4233-94AD-6CDDBB8D4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7FEFCA6-8A94-41AB-BAB7-79F1182C4B3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38C0945-AD18-437B-901C-B5CD844BBEA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F204E7D-9701-45A5-A753-57C293F05A4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67936A6-CB7D-4C71-944F-F50F2CE53EE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6A24F51-5FE8-49BE-95E3-BA7520672F3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DEFB1DE-0E6A-4A20-9B29-570DAEAFC1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7EE2CD-4F0B-4CEB-92AA-958E25650A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C3A9E1-0E48-485D-AD87-F7EEA2F209D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D288E87-F021-46F6-8A76-9190B2835B3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DE312CC-449B-4031-861E-25837BB4C69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E13F2-6D9F-4A85-8E6D-DF88F118E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038303A-9D1A-4A2A-8CC9-47D8E278850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86F831D-E56B-4EA7-AC13-091F5BE19CF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1583F34-2B94-4C3D-B341-DB7D53193BA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14B63AB-5A86-4BB4-8D3F-4BD02DB0C5C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6DA27F8-0230-4FD1-A1FC-8F0A7F137E5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EAF2D3A-3598-447E-90C4-EDEC6EFA0D2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186BE6D-2B26-4A0B-9A47-C04E08AF93E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4F3EFB0-C55A-48DC-B8F7-0F7D1623304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EC4227-3C75-4FF8-B71A-DCF70B02B90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9F3ED72-D604-4C07-B8D2-DA9AE4AB4EB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B97B21-D45E-41D0-8D02-D2686B1CE4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F3D533B-BE51-4E5B-9771-9C7F3119269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8E9F6B8-6EB6-4F6F-AEFE-3EB44C00549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8173DEE-D29B-45C2-A28E-DB0D88B3D66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540F685-7DDF-4A67-9913-A4E4BD221BB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E452CA3-0B1A-42E7-B68D-4B1B9F37CDC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58106F0-409C-447F-9956-F1A28195663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A956B32-6895-48B7-82ED-B23EB7A72E3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7A8165D-564C-457A-90EB-CB7B1A8289A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ACAA8F8-F0DB-4FF0-B90C-28B87C59E46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FAF022-A79B-472F-9946-97EDA7A54E4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4FB4E-AFF3-4699-B735-AA253101C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1751F5-97AF-4993-9D59-7D87568213B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C16ABDD-5C40-41B8-AF28-8E686D4342B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D18E8E8-E5F6-41D4-9680-EB3BBB9607A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FCD038C-2618-4EB4-AA6B-B0CA14CD9B7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241D6DE-46C4-41E8-B5D6-140C0969D74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FE11174-3FB4-40B7-A372-0F783ED53EE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A0DAB7A-A6A9-468B-8686-0D435348EA3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DE9DCB1-F261-41D3-AC2D-4BF2B71EFDC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74AC285-1964-4EB5-9567-B8FD3E9A68B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02DC9D5-D1AC-469F-AE0F-B5AAC1B8ADF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C444B-FC5A-438A-9EE4-4E1430F67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2B9225F-9EA7-41D4-B2A1-8A6DD0142FF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AB7A344-FD22-422A-B5E1-2D219A14109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176F63B-6A2B-43BD-BC45-C5381AA2639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158508-69B3-428D-872C-3A8D6110C08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8B3123E-DD59-489F-BCF1-72C2751CD2F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187D50F-9C43-4FAC-A4AB-EA1F706A63D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EC26294-C90C-4125-A80E-8F22C1C08B5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21492D3-A1E6-4417-820A-8CF7598F5FB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D01BEC0-14E9-4AE0-94C6-2C486299682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5F023E5-138E-4F49-ABC4-BA3EB118074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D9D20-8A9A-415F-9121-024B8BC43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A2524C7-3F62-42AB-A260-E8B5FDE7DDD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4ED61E2-F7C5-462A-BBF1-922016CA643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0E4AD5A-C542-43BE-A7E7-21181250D0C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EDC78CF-0129-4316-B0F3-5FCB2602AC2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5EE0E3B-ACBF-4173-8D33-7052585F486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7CDF6B2-9542-4423-8A3B-831928E50C8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2597569-3795-4F94-97E0-C2E8C1B0C84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9361E71-0D5D-4D79-90BD-D7F61FCA95B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095CE5C-F722-47CC-897E-39FB15C7A48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7C298A7-68C1-4D36-8F1C-2CFD2851784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48657-1463-40FA-87CC-527D176F3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FF330B1-CAC8-4533-AD54-7465869C66D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30F082A-14AF-4F1D-A069-3F302031297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85CBE38-C015-4BA6-903D-BC1B181A304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C540190-4BEC-4476-9A57-1ED980C13EE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31FFE36-6C10-4EBD-BEB5-DA33BB56595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7821880-4557-45C6-B660-3CF94DF6668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85A9C1D-0E34-4FC6-99A6-0F97B3D2EC8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A2ACF35-F887-4BF9-8BCF-8FCF843E3B1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796D41E-AB5B-4521-B1E1-FBC01E33874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6B56177-8DE4-4F9D-BC79-B792B0F3FE6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FCDCC-280D-463E-996F-D64507FAB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72FDB8-3681-4F79-B3DA-0EE3C346CF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16A49D7-6E0E-4DBC-8944-A1B4A110EA8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AAC76A8-B710-4179-94B9-596896E0448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B8A1A18-DE5E-4B50-B5E1-B30B3CABCBD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AE606A0-ACFF-40FD-A219-05DCEECBD45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525E6EE-773F-4332-AC01-0B47068F00C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25997E7-9192-4158-AC57-C7502C16499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5843207-8339-4F9D-B249-314CB89F04E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DF979B6-0B8B-4C7B-A4ED-1D74D4ED27D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EDF868A-E5A8-40EF-AF7C-785A16E0BDA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1604BCA-B6B9-4806-990D-75A6AE1953A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E7E6C-9F46-4769-AA7A-6D6195B58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1088BBE-9AAD-4E07-9D5D-05A1DBECC8E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9276528-5AE1-42C3-9C4D-B23B4265CB0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5EE0FAE-A923-414A-B3AB-277D01BA20C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A3C344D-AEB6-466D-9327-AF882673155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EB664DE-EF16-4C85-8ABA-21B95246812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4E02CAB-6D5A-486A-8BAF-E1023D089EA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A62D20F-BC42-40C5-A076-25FFA588B6B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5538828-97E8-4DDB-8E7A-C9E8EAF86B3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88D320C-94EB-418C-9450-179C6A4F982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087A645-C169-4DFC-933D-DAAAC7A2133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E125C-B525-4490-BF41-324A02C99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B91B3D2-CFB1-431F-9953-DBF684D8332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6F7B4C2-3B49-42D1-B49A-ADE4C889B8D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975BA5B-BEE2-4013-8A6A-B0978FBEB86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80A16A1-A357-4859-A054-04405BF15D6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8AF6429-C20D-4E3F-B28D-8E0601EF2E1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C6244AB-1500-4762-9183-69C0BC6B622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D83E8B1-7C50-4622-8005-EBC1349D657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E915BC7-AFDD-4A49-A5D6-90E820DACF6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5268EEF-4D48-44E3-8AC8-5847164E29A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21BF6B0-21D6-4101-82E9-E1BC6032613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8EE32-8B4A-4508-A63C-D862AFCC3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7D6A310-BA23-48F5-9CC2-AC8997D02AC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BC7D47A-7104-4839-8F01-F03C92B183E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EE05B30-2A05-47C4-8005-49155F326F3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402E417-4D77-4E4D-A6DD-A609B3C257F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4B671D0-8A52-436E-85E0-793F01517B0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9549F17-6858-4C20-B648-B2A3D86C105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CBE7B7E-E014-4163-A328-B30775AAD6A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2BC5F44-2150-4CF1-BB70-1031E5AB6AB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9590138-95B1-4028-89D2-6940EB935E2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4B43912-BC9A-4C65-A1D8-DC9A65B3FDD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6AC773-07FA-4A98-B8F5-6F4BF54FF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A97DCF8-3A66-4D37-A3AC-42CFB94F4AD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AB61EB7-13CA-488C-850B-34E3497B5BE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E78B4D6-BCEE-4F82-AC6C-C753FAD3AA9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5DAED8C-43E9-4715-880E-B296BD63A1C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F33244F-7747-4ECA-B4D0-B6432221DC4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947CD37-A06B-4FCA-A6C2-F72610506B3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058E2A5-51A2-43CA-9F38-EBB46917DED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509B442-854D-423C-9B5E-A8347ED8CBA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14C936A-25BD-470F-A692-61DC48B082E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2A84B0B-B166-4F2F-8E58-73D77CB423F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DE8299-367F-4FBA-B24C-375D244DF6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13335F2-169B-4907-B437-72C9F663738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628F272-E7AB-40D9-9748-CC14024D1A4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2C36E4A-EC06-4E4F-B2BF-D87BC045517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06D8F2C-7394-4613-BA7C-75A20FC8E56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1EC7F83-AA06-4C2D-BB85-E4A293EF4E6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372C8CE-4186-4F89-8F01-E531855AA27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53B25E6-B090-4C3C-8753-4D03D95AF2E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92DE7F6-1927-4D6C-A84B-A4C462EBAAB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861318F-9E92-46D7-B62C-CB5CC2F935C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8E58C3A-A281-4E0F-83A3-0D54496FBF4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A423D4-9245-44DE-B4EB-7DEE6A8DFA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34D37169-C86D-41CD-BCF2-2793D2A88E8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4112322-49C6-45D1-8897-2F901F25130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5236AB6-EAD6-4816-9B96-EFF36D247B6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588D736-D419-4DC5-9AAF-9F3CA5DB6AC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7CA6FFA-06B5-4944-A364-D21BB883513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B67F8AC-1C5A-46B1-9C4F-E7F4C3BE0B3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45260D2-CBBF-4306-B68F-FF3E58A296E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15ABC40-7A9B-424F-BE7D-388B3FA1405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153E545-3662-4460-A0A0-52920B7AAA4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F932748-3F35-4D71-A286-AB9D8858DD9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3E1816-1C5D-4311-8A02-63AF4C3BC0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06DB311-48F2-488A-9CB7-BD22A980A4D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4A6A6F85-03BC-4A67-B15B-39EDF5DD828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9213DBE-8E2A-4381-AFEA-CBF9A34CD1D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5CF885F-B211-4957-A73F-96BDFA40C08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E73066B-1573-454D-8359-3671ABAC428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8C5B0EA-DD85-4AB8-9D84-C33235DF410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33E809F-F548-4BB1-8D18-4A9C5F70796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A8C1046-F1FC-4B5C-B0F9-ABD34156C6F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4F6951C-A69C-44EC-A2F3-77FE2543DFA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F65B7FE-BEA2-4E4C-8920-80667707760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F9E8B-F0AB-484E-A8DF-E83BD1B0B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F1BD221-8316-4CDF-984A-46CB96D4023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B27F3B4-34E6-4D5E-8D48-4252F8DD4DF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ADC3C02-A38F-42B6-AE81-02DC0E8C394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8936C6AA-74EF-4F7A-8F5B-3A91E338C4D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87EEDCE-6BA5-4AC0-A915-A3B855D239E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2E6BA21-323A-4052-B516-D6EDECA37B56}"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E5E31FC-E71C-46E0-AC89-3AEE0C0B675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50FB1D6-7383-4C0D-96CA-B8532637BD6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DDE821A-BFA6-4149-8430-A230FC33054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8C94ECF-5194-4E38-8C74-631DD192BD4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10F3F9-22E4-44F0-9C9B-55342C236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55B961D-2801-4A20-A569-7EF24DE9F5E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D5564FE-E544-499C-B3F2-F8FC998B7C7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F3DE263-A397-44CB-A624-2A0CBEBFB75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B806D79-48E3-422F-8325-5392606349F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1F01E3C-A881-4ED6-A1C8-A9D76A6E3BD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35C9E30-F43E-4BC0-A4C2-3FA4E315991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EF11FF5-819C-4DB0-8471-1F28AC41B4C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CB36D49-42D4-4E65-B51C-E22869D7D84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DD69644-A400-4B5C-BB00-5BA04026499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C105C31-6688-4A29-A4FC-82032E52F8E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35ECA-DA62-456E-AC72-AA415620A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C1B52-0697-4E6F-A490-E9562C23E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85BB7C5-E0AF-405B-A2B7-DF161D401AB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2252C54-E694-4D68-BE55-D736EEEC8E1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40CE7BB-CE49-4E06-BA0B-4825AE6B809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16E3F2B-0EE0-4A35-8B32-13EB5335A32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F8CBE62-4DAB-48D7-96A6-DA289A08A63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1B4B66B-9D8C-4B71-A58B-0D07B4104E7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145B11E-8097-46A9-B35C-4CDC1C1BA20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8F7FFDF-07A3-4F0A-9B31-B83DC1D9722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E862C39-2A1D-471D-96F7-FB3B0936731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76AFE97-53CF-4992-9BFD-86CAE4B5081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A1B54-9F36-4B29-9D88-EE1645BFA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29C5883-73DB-4932-B2D8-A14984F7CBC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6A71D63-CAC5-4DE6-BDA5-94B0B8B3EC0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AC79F2B-BBC0-404D-8F6F-2354E4727C8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C5A23DF-D452-4EDF-AA6B-500D0B6EBF2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478A186-1651-4AC6-B210-C26C35868B7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2B06456-BEEF-4A08-8B08-A6CF0AA6763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840FA49-4866-4608-8B38-0C6ED933400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692344B-EDA6-4AB7-9C55-137D0587B98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AA86B4F-0F5E-4E09-9705-6D7D340FE7E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284E2FC-539B-420E-B0EF-861BCD2E581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8BBA0-0844-4F2A-A728-1CD2ADEEC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B5DAA141-AC9F-493D-9A61-C463F856A21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51E556F-9DF6-45BA-B44D-F81A7050293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7681E59-3F13-4273-B583-4034663CA4A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8A1D125-107C-4C88-A441-DC9F59B1D14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809B521-1697-41A4-9508-20F40E8CE59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3F91408-EA15-463F-8E41-FC67923C198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7A06728-AB05-4627-B655-884D61065E9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0B25166-1F64-40DA-822E-D6E87ABF67A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E3D6F09-F3EE-4E78-8FC1-385B7A4A242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A80573C-38B3-49B2-BD84-8299FAE80A4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89CC2-6D02-4815-A080-922FED05E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12BDDFB-FCA3-462D-960B-67CCE520212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916D716-6515-4475-B5B5-8690631DA50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A9B6748-B031-484F-B470-82A4468FEEF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99335D8A-56E5-45F2-9D60-D635B7E6153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9140389-2EF3-4CC6-9270-A7DA36C54A5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17058A7-2905-44AE-950C-CA7D286C771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D9D14F6-1DEC-4AB6-9906-71DEDC828B9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8E1A36B-D2F4-4D30-A135-EAB1B67F9F4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77DF730-712C-46C2-8D47-B9D4F7783A9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397F9F0-0A67-444E-81AD-829F1309679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707BE-353D-49B5-90D1-B61F5EB05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FBE9AFC-711C-422A-8BB4-A5851B1E8AE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F2616EF-B36D-4BAF-A4DC-73A82D6F990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8A66C5B-C469-4953-8C5E-3D961ECAE90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23E90CB-249C-4A29-A317-681635CFBA69}"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B7EDC50-13FD-4FC9-94AD-4B204D28992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5D944BB1-CEFD-4235-8D5C-1CA21B95E2D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7D06999-C288-4077-B0B6-A8DF22A46A4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944DB4F-398B-4F46-92E9-91D7E09824A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44CBF40-507C-4820-A207-D6E8E1DCCA6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8BF844A-6C98-4093-9CA6-3445A9A89AB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40ED3-7FEC-4DD2-A4BE-944F7BFF0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1D10EE4-B901-447A-846D-A7A6F08EFC4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14428ED-9CF8-4CD5-A7F4-DBCB16A865B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5B760C3-9DB3-48AC-9C02-2681435F695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3880733-8FB0-439A-A4B0-B9031308D05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CABFAC3-08C9-41C8-94D2-26D21CAC980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37D62EE-CF85-4E6B-AA39-2589DF06879B}"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4AF93826-59CD-4635-8B66-708ED57E6E8D}"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8DF9DAA5-C633-4812-B00E-FDFBD31158F2}"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5B4D687-79B8-4C08-89B9-AFCF8A8900C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13F7F39-7D78-400E-9197-87B9B6ACBEA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8C05D-2AF1-4F62-82FD-87939AA2A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E0E3FDE-8F05-444F-AE11-88B043AF878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212E50C-9D45-4FF4-97CE-836F587DDBD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C3F3640-5851-46AD-9CB5-F094C307F8D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771D6E0-86AB-4A5D-A1E9-F9D4D9FE40C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10CA70B-706C-48E2-A0DB-AD65912F43C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22527F4-4401-497C-8227-61B5ADE6F21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EC76000-C75E-4B3E-A171-84063791DDE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CE215EC-47B6-4F2A-95EE-79B30CD5955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7EC4D38C-6349-4DDD-89C8-F3BEE337D347}"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F8E380B-A957-4A61-B7BD-20BBB939C7F8}"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272D0C-DA16-4C8A-86E2-E8CAB59C4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B9EEDC0-9100-42EF-994D-515B02B6008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20EE8F7-4D0E-429D-A1BB-2F57F00BAF2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6AD4504-485F-4792-8279-4E9A582C34D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D01D83D-8152-4FB1-9B30-AE117C06BDE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892CDBE-12B4-4B50-A06B-8080FADCF1B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9926B12-210F-4BB0-9861-C1FE7A0C20F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22F55A2-D81A-436E-80E6-EE0B760CC8C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9BD70C0-43D1-4ADD-BBF1-9B2AD4E6152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260CF93-A523-472D-BB18-31B427F0F7E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F3CEFE83-CA9B-42A1-998D-B77EA07FB607}"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905FF6-D49D-41F8-9E8E-50EA2030C8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BD4AACCC-D925-4550-85DB-25480805054B}"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0CCE69C8-75FA-4A48-BC65-6C317AD36E2F}"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A4F08E4-FA37-41C2-891A-A8CA2FE4ABD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15A9A27-3174-4570-9B7A-5A9DCB0190E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65CD8AB-4A31-432D-A261-462BFCCCA3C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5FDAB02-596D-4420-B0F7-74A57E834BA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265B8C7-0F63-4BAC-B2B8-F708A444784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46ADA13-E146-48AB-8437-D13C0AD0D1B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F9AC986-4459-4F9C-B90C-DF2710FD0D9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1A4F005-48C8-466E-BE1C-CAB5AADF650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467699-9AF4-4567-91BA-7978F6FF04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8D7BA9C-1A7F-4CE4-AD29-294F3F01886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71631829-CA69-4539-9691-7620C1FD370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27BF5784-C965-4ED4-819A-227643AD8F8A}"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F49B4A8D-17A4-42CF-9AE3-3805E0432832}"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B812145-DF26-45AB-BC35-344FD616CC1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D7F5D92-D257-48C1-983F-092B8277C83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3010787-7ACE-4DA3-A4DD-EA7AA9070F4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BA2209A-76CD-4CD4-A91B-2CA5C32AEAD1}"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B7BDA74-B73C-4DD0-971A-7E3B628166F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0E2BC48-C290-4C44-BC8B-7E9142C5B98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60F43-B77D-49A1-B41B-AD25321E8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577F5F-D74D-4235-AF41-54C145EA0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CC23715-099B-44A3-A421-98D4AA08E81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252B8E3-7C68-4D1A-B07F-81A66B4F1CD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08A3E42-EB14-491B-A6A0-96245954911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4DCABE77-1882-4857-837C-311156A1B9CE}"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B22D84F3-079B-49C8-938A-2C07FB311E3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3B37BDA4-48C7-4D19-B960-A40580FBB956}"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80A9E6E-BE2F-4A74-8A42-ED0D4A6B9B7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E3E6F5D-8C57-4C50-9DC3-FF590FA4C11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3A1C486-7B3B-41A0-B5A4-3DE70E0AE0FE}"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DCD7D77-FBEC-40FA-9EC6-8B4A95D4655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DFFB1-8E4F-450F-A2F2-E76EF0F82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1637EB2-48C8-4D41-8E5B-EF234E847F2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131D195-116D-44CE-ACF1-CD9FB6ADF16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3FDB9EB-C962-45CC-A8E4-63C79449130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314284F-8E5D-4BE3-89AD-6880619E80C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5CAF92F-FE6B-496D-8A11-DC1094E0FD1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F66B2819-2A69-4759-B22F-9FD262DC40AD}"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93D99C6-8F91-4824-B88D-083B66A92229}"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7CD9978B-6055-4F39-8F41-5B97C08E6787}"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B00B3D7-BA77-41C2-90B7-1290ED28F49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4CED4DD-20BD-4E95-8BAA-5AF89EC1FADE}"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CCDD8-6FCA-4B3B-A443-E408B4B5E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369CC3A1-5ADC-45AB-9684-C98B1010297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F144952-D60B-4924-800B-0986F50AABD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007CD7D-FFFB-4892-A116-5A8F689C072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24750DC-93D7-4115-920C-4C6596FE504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5DF07B4-3D66-4BAF-A040-F30D176E0E0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69D5E5A-EECB-4B08-8B88-A0896290EDC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6B10DDE-C8CA-40AA-B1D8-7F67731DDF7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B953B79-28AA-4CE3-94F3-78DA95AC3C4F}"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CB0BDCAF-90C3-488D-8E48-EFEA39B459E6}"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36DE7B60-5C67-4857-97B8-B2F4BDBBED78}"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72A10E-12C1-49CE-97AB-C454E7E27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5401402-1478-405A-AD0B-5FFAE07B4B1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26EBC44-081E-4BAF-B270-B37E4F96B24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9E4AA44-04A2-4EE8-B4E5-D1B82A42F37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B6BA453-C7E1-4D0B-9166-AADE58857B8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07FB1C0-B2A8-4140-B6F9-539ACD735DB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C833535-0446-43AC-8EFA-5A6B21B884F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8A5BE44-2655-4FBF-AA19-FCE46A9E5EF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9EC8CA3-19A4-4A5D-8566-874AA6B748A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FCD9607-3BBF-455A-9500-32ED8E067E6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41DF64DF-B936-4C99-87D0-96BDF07D9059}"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A6B91E-A81A-4824-AFF1-09AFD7DF35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53B93746-A030-4044-B118-253460A36684}"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A73E5359-3CE8-4A84-890A-D065ABB5CFB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2CD2894-5227-4849-99C5-014E672DF07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9C403B94-08C0-4E0B-A8CF-6B1721A7AC1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64903B1-CD63-4E13-BA83-FBB6A4EC7A0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2697C92-128B-4633-8FC1-F9F6E8E5B05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A6A50A0-AC54-434D-BC99-C9EB0CA0E6B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C76A4CE-597B-4375-9C3B-1B0D9A1B255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8ED7F0C-BEEF-46CE-8057-59227A91CA0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52E9872-7688-4CBB-811E-E44742512FD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C61D2-F902-4CBA-8A98-E31290017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A3E889E-F91B-4858-8E00-6758F13F217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5272E65C-C956-4D57-A950-6075C7749DFB}"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E5CE1C83-8709-471B-95DA-0B48A0AB9734}"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871E1F1D-D385-474F-B6FF-BC170644C100}"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93A0267-3D65-4A5C-AF58-0C23A2D3975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6BDB5298-863C-44A7-9BA4-BF129331CE7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7FDF12C-44BC-43C1-BFE6-94612BD96A0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E03619FE-450C-46AE-B7D0-73FDE23EF4F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26DCC18-3871-47EA-82BD-10677909FC3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7C26036-16CB-4EE8-8C98-49F854AB0AC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10E0F-D522-4B6A-B44A-497A6A215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22D7B81-F24B-467B-B2A5-6799CE1FBCF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7BEB90E-4FF6-43B2-929E-CB6326264CB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A4B76CF-2C63-479B-8DD9-ADDE62E0F5A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3A80CD25-9812-47ED-875D-5DFC8BC32ADA}"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A840FF7E-4793-4410-8E25-79099DE1D71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59E6A00C-5D87-4A83-BA99-867F40BE67C2}"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FD6427E-C056-44B5-AF97-E2593536B67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95EEB05-1ADC-4214-91DF-81C34FD8A62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033BF04-A012-42F5-8811-AB37E9A2EA8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C243572-DFD0-4E77-A66D-C395644C972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03350-A4A0-4109-980B-7F14D4E4E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0212CA6-D12A-4E6C-A294-3D095EB3B34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BD51A08-D836-42DF-BF19-6B04C68B791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401EA2B-E634-4E7C-9510-8284BAE4BB2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F97442D-F906-45AA-ADAB-7FA37C6EAAF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91C54FC-12ED-42F4-A961-8C3FBF55749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C287C2BA-F2D2-4DC0-B67D-E1D8C3DC2FF8}"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CAA6ACCE-D147-4F68-9AC4-048275102945}"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4933B1FE-5059-4D16-9682-93A08B09CDAB}"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9B00CCDA-D143-4177-93B9-D1EAFF1E937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35AA2793-F645-48D5-8578-C214F293BD3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B6076-F620-4B70-9163-57A293159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365C35A4-7354-49F5-8D75-023D60A76AE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51F7605D-C070-4439-9269-72F897AAAAA4}"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45BCAD31-8125-458C-B13B-7404F7D8B8ED}"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619DA5D1-1E0E-4E39-9EF7-9590829877A5}"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84A20D34-AC27-47E2-9266-0C260B2700B5}"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C681438-730E-4C4F-B527-740319F55E8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E7A93DE-BF5F-45F4-98A2-ACFA5085077D}"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C00152D5-D4FE-4972-A903-88B772725C82}"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6DAE6230-7C9D-411E-8CE9-BEBEC5599FFB}"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F79E61-32E1-4879-81EE-B60589F5B8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ED6B4-4A89-4853-80EA-AB8287B60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C949F2-9535-47C3-A015-154A61FDEF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7B387D-99B4-4D30-8D92-A409CF49F1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E59258-02F0-4864-8A7E-A1CBDC583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AD75CA-8DA3-40FC-82ED-5D5C66FF49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9134CD-B130-4682-9B93-3999C70272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BA69E-15F2-4FBC-81CF-D4CD44C616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3C01D-3BF7-4EF4-8FC8-C82EB61949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E939C8-864C-477B-B617-2C4C50432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3D913-C58F-4B82-8E51-55FE2FC2A8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236E6-F00F-49BF-BCF3-FE5B5E9F3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C64CA-CD71-45CA-ACC5-62C81B91E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6E232E-E265-496F-9140-07D399021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272C3B-8526-4A1F-BA36-C2E1C8D4D1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56B2AE-5E35-402A-A4BA-F5575266F9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F677A0-FF00-4C15-9214-A6DE9824A6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57687E-2910-4CD8-B17F-A00092A521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9B6EB7-3829-4704-9BE3-BB25632041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27ADC1-2299-43BE-87BB-B3FC6173F9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4F8082-BD31-417F-A6E3-498CD8DB60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D5C956-CE15-441A-8779-D5DE4C5394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54785A-3032-4A95-A2E8-DB05C4799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FAE2E-B846-42D7-9C95-E261885C5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81474-0346-42B9-B243-639F63A75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B3DC5-09E3-43BF-AF24-833427B79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6AA443-0EAF-482D-9675-A301467079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4DE3B6-922F-46AE-92C3-27E7A20E8D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F8D879-D55F-40FC-969F-0A0B8CC031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F3A77F-1333-4C72-8494-2FFDA9D2DC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B0E8DF-88C5-4519-9615-D5CC960D8A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A4257-35C5-4F83-A0DE-528ACB0EC9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A92D27-4E34-4CCD-8086-8B77AAD9F9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5EE22B-7E74-4864-98EB-0BF5BE141C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ED778-6D58-4AA9-8E58-3F647CE02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A76B9E-427F-4378-9307-9712898B93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6E9597-00DB-4BE2-AD16-84FD3281B1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F9F51-CFC9-4D55-9D2D-89E91EC91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C5950-0AD7-4862-B131-9C5F5B8418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9E8739-C2A1-4CC2-B51B-85E39E3D43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F19167-2C38-4686-9833-4793642529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E78249-CD8F-4812-9AEC-586AD432B8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08F53D-4679-4DBC-9167-F68C6F4763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3DA464-68AB-45B1-8910-C07520878A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118E97-10E0-492B-ADF6-8A3EE45D1A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A71A-408C-49EC-9CC0-D400A26F3B0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05E8-7FE1-4A29-ABF8-F5A7B0AB99EC}"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5EE2-46C6-4553-8E6E-B283BB43C4F8}"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5062-6CAC-4D05-B141-94E560F0171D}"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1F88-4CD5-44AD-BA6D-669F8B3C93DB}"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54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D844-E1F4-4533-9DC2-B26AEB75663B}"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5"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586"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C873-6406-49AB-A4AC-3E67123E9272}"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6"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627"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5E77-C2CF-43BD-9B68-2D20203E5DFA}"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65" name="Прямая соединительная линия 12"/>
          <p:cNvGrpSpPr/>
          <p:nvPr/>
        </p:nvGrpSpPr>
        <p:grpSpPr>
          <a:xfrm>
            <a:off x="512640" y="5346720"/>
            <a:ext cx="8631360" cy="11160"/>
            <a:chOff x="512640" y="5346720"/>
            <a:chExt cx="8631360" cy="11160"/>
          </a:xfrm>
        </p:grpSpPr>
        <p:pic>
          <p:nvPicPr>
            <p:cNvPr id="666" name="Прямая соединительная линия 12" descr=""/>
            <p:cNvPicPr/>
            <p:nvPr/>
          </p:nvPicPr>
          <p:blipFill>
            <a:blip r:embed="rId3"/>
            <a:stretch/>
          </p:blipFill>
          <p:spPr>
            <a:xfrm>
              <a:off x="512640" y="5346720"/>
              <a:ext cx="8631360" cy="11160"/>
            </a:xfrm>
            <a:prstGeom prst="rect">
              <a:avLst/>
            </a:prstGeom>
            <a:ln w="0">
              <a:noFill/>
            </a:ln>
          </p:spPr>
        </p:pic>
        <p:sp>
          <p:nvSpPr>
            <p:cNvPr id="667"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6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70" name="PlaceHolder 3"/>
          <p:cNvSpPr>
            <a:spLocks noGrp="1"/>
          </p:cNvSpPr>
          <p:nvPr>
            <p:ph type="dt" idx="4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671" name="PlaceHolder 4"/>
          <p:cNvSpPr>
            <a:spLocks noGrp="1"/>
          </p:cNvSpPr>
          <p:nvPr>
            <p:ph type="ftr" idx="5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51"/>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D4F7-6CBB-4665-9FC0-67B7EA0C2374}"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09" name="Прямая соединительная линия 6"/>
          <p:cNvGrpSpPr/>
          <p:nvPr/>
        </p:nvGrpSpPr>
        <p:grpSpPr>
          <a:xfrm>
            <a:off x="512640" y="1042920"/>
            <a:ext cx="8631360" cy="17640"/>
            <a:chOff x="512640" y="1042920"/>
            <a:chExt cx="8631360" cy="17640"/>
          </a:xfrm>
        </p:grpSpPr>
        <p:pic>
          <p:nvPicPr>
            <p:cNvPr id="710"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7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Прямая соединительная линия 8"/>
          <p:cNvGrpSpPr/>
          <p:nvPr/>
        </p:nvGrpSpPr>
        <p:grpSpPr>
          <a:xfrm>
            <a:off x="512640" y="1042920"/>
            <a:ext cx="8631360" cy="17640"/>
            <a:chOff x="512640" y="1042920"/>
            <a:chExt cx="8631360" cy="17640"/>
          </a:xfrm>
        </p:grpSpPr>
        <p:pic>
          <p:nvPicPr>
            <p:cNvPr id="713"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71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5" name="Прямая соединительная линия 11"/>
          <p:cNvGrpSpPr/>
          <p:nvPr/>
        </p:nvGrpSpPr>
        <p:grpSpPr>
          <a:xfrm>
            <a:off x="512640" y="1054080"/>
            <a:ext cx="8631360" cy="12600"/>
            <a:chOff x="512640" y="1054080"/>
            <a:chExt cx="8631360" cy="12600"/>
          </a:xfrm>
        </p:grpSpPr>
        <p:pic>
          <p:nvPicPr>
            <p:cNvPr id="716"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71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20" name="PlaceHolder 3"/>
          <p:cNvSpPr>
            <a:spLocks noGrp="1"/>
          </p:cNvSpPr>
          <p:nvPr>
            <p:ph type="dt" idx="5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721" name="PlaceHolder 4"/>
          <p:cNvSpPr>
            <a:spLocks noGrp="1"/>
          </p:cNvSpPr>
          <p:nvPr>
            <p:ph type="ftr" idx="53"/>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54"/>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1D54-777B-441F-845A-A893EC909A01}"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9" name="Прямая соединительная линия 12"/>
          <p:cNvGrpSpPr/>
          <p:nvPr/>
        </p:nvGrpSpPr>
        <p:grpSpPr>
          <a:xfrm>
            <a:off x="512640" y="3438360"/>
            <a:ext cx="8631360" cy="11160"/>
            <a:chOff x="512640" y="3438360"/>
            <a:chExt cx="8631360" cy="11160"/>
          </a:xfrm>
        </p:grpSpPr>
        <p:pic>
          <p:nvPicPr>
            <p:cNvPr id="760" name="Прямая соединительная линия 12" descr=""/>
            <p:cNvPicPr/>
            <p:nvPr/>
          </p:nvPicPr>
          <p:blipFill>
            <a:blip r:embed="rId3"/>
            <a:stretch/>
          </p:blipFill>
          <p:spPr>
            <a:xfrm>
              <a:off x="512640" y="3438360"/>
              <a:ext cx="8631360" cy="11160"/>
            </a:xfrm>
            <a:prstGeom prst="rect">
              <a:avLst/>
            </a:prstGeom>
            <a:ln w="0">
              <a:noFill/>
            </a:ln>
          </p:spPr>
        </p:pic>
        <p:sp>
          <p:nvSpPr>
            <p:cNvPr id="761"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7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764" name="PlaceHolder 3"/>
          <p:cNvSpPr>
            <a:spLocks noGrp="1"/>
          </p:cNvSpPr>
          <p:nvPr>
            <p:ph type="dt" idx="5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765" name="PlaceHolder 4"/>
          <p:cNvSpPr>
            <a:spLocks noGrp="1"/>
          </p:cNvSpPr>
          <p:nvPr>
            <p:ph type="ftr" idx="5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PlaceHolder 5"/>
          <p:cNvSpPr>
            <a:spLocks noGrp="1"/>
          </p:cNvSpPr>
          <p:nvPr>
            <p:ph type="sldNum" idx="5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EF97-21DF-4A18-8624-93575E9089FF}"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B00B-D83F-44F6-8CA8-91029698E3E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03" name="Прямая соединительная линия 6"/>
          <p:cNvGrpSpPr/>
          <p:nvPr/>
        </p:nvGrpSpPr>
        <p:grpSpPr>
          <a:xfrm>
            <a:off x="512640" y="1042920"/>
            <a:ext cx="8631360" cy="17640"/>
            <a:chOff x="512640" y="1042920"/>
            <a:chExt cx="8631360" cy="17640"/>
          </a:xfrm>
        </p:grpSpPr>
        <p:pic>
          <p:nvPicPr>
            <p:cNvPr id="804"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8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Прямая соединительная линия 8"/>
          <p:cNvGrpSpPr/>
          <p:nvPr/>
        </p:nvGrpSpPr>
        <p:grpSpPr>
          <a:xfrm>
            <a:off x="512640" y="1042920"/>
            <a:ext cx="8631360" cy="17640"/>
            <a:chOff x="512640" y="1042920"/>
            <a:chExt cx="8631360" cy="17640"/>
          </a:xfrm>
        </p:grpSpPr>
        <p:pic>
          <p:nvPicPr>
            <p:cNvPr id="807"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8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9" name="Прямая соединительная линия 11"/>
          <p:cNvGrpSpPr/>
          <p:nvPr/>
        </p:nvGrpSpPr>
        <p:grpSpPr>
          <a:xfrm>
            <a:off x="512640" y="1054080"/>
            <a:ext cx="8631360" cy="12600"/>
            <a:chOff x="512640" y="1054080"/>
            <a:chExt cx="8631360" cy="12600"/>
          </a:xfrm>
        </p:grpSpPr>
        <p:pic>
          <p:nvPicPr>
            <p:cNvPr id="810"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8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14" name="PlaceHolder 3"/>
          <p:cNvSpPr>
            <a:spLocks noGrp="1"/>
          </p:cNvSpPr>
          <p:nvPr>
            <p:ph type="dt" idx="58"/>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815" name="PlaceHolder 4"/>
          <p:cNvSpPr>
            <a:spLocks noGrp="1"/>
          </p:cNvSpPr>
          <p:nvPr>
            <p:ph type="ftr" idx="5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5"/>
          <p:cNvSpPr>
            <a:spLocks noGrp="1"/>
          </p:cNvSpPr>
          <p:nvPr>
            <p:ph type="sldNum" idx="6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5FC3-79B6-409C-84AC-EB97048A6469}"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3" name="Прямая соединительная линия 12"/>
          <p:cNvGrpSpPr/>
          <p:nvPr/>
        </p:nvGrpSpPr>
        <p:grpSpPr>
          <a:xfrm>
            <a:off x="512640" y="6016680"/>
            <a:ext cx="8631360" cy="12600"/>
            <a:chOff x="512640" y="6016680"/>
            <a:chExt cx="8631360" cy="12600"/>
          </a:xfrm>
        </p:grpSpPr>
        <p:pic>
          <p:nvPicPr>
            <p:cNvPr id="854" name="Прямая соединительная линия 12" descr=""/>
            <p:cNvPicPr/>
            <p:nvPr/>
          </p:nvPicPr>
          <p:blipFill>
            <a:blip r:embed="rId3"/>
            <a:stretch/>
          </p:blipFill>
          <p:spPr>
            <a:xfrm>
              <a:off x="512640" y="6016680"/>
              <a:ext cx="8631360" cy="12600"/>
            </a:xfrm>
            <a:prstGeom prst="rect">
              <a:avLst/>
            </a:prstGeom>
            <a:ln w="0">
              <a:noFill/>
            </a:ln>
          </p:spPr>
        </p:pic>
        <p:sp>
          <p:nvSpPr>
            <p:cNvPr id="855"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5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58" name="PlaceHolder 3"/>
          <p:cNvSpPr>
            <a:spLocks noGrp="1"/>
          </p:cNvSpPr>
          <p:nvPr>
            <p:ph type="dt" idx="6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859" name="PlaceHolder 4"/>
          <p:cNvSpPr>
            <a:spLocks noGrp="1"/>
          </p:cNvSpPr>
          <p:nvPr>
            <p:ph type="ftr" idx="6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5"/>
          <p:cNvSpPr>
            <a:spLocks noGrp="1"/>
          </p:cNvSpPr>
          <p:nvPr>
            <p:ph type="sldNum" idx="63"/>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FF49-D91A-43EE-9605-E6641144CD56}"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7" name="Прямая соединительная линия 6"/>
          <p:cNvGrpSpPr/>
          <p:nvPr/>
        </p:nvGrpSpPr>
        <p:grpSpPr>
          <a:xfrm>
            <a:off x="512640" y="1042920"/>
            <a:ext cx="8631360" cy="17640"/>
            <a:chOff x="512640" y="1042920"/>
            <a:chExt cx="8631360" cy="17640"/>
          </a:xfrm>
        </p:grpSpPr>
        <p:pic>
          <p:nvPicPr>
            <p:cNvPr id="898"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8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0" name="Прямая соединительная линия 8"/>
          <p:cNvGrpSpPr/>
          <p:nvPr/>
        </p:nvGrpSpPr>
        <p:grpSpPr>
          <a:xfrm>
            <a:off x="512640" y="1042920"/>
            <a:ext cx="8631360" cy="17640"/>
            <a:chOff x="512640" y="1042920"/>
            <a:chExt cx="8631360" cy="17640"/>
          </a:xfrm>
        </p:grpSpPr>
        <p:pic>
          <p:nvPicPr>
            <p:cNvPr id="901"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90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Прямая соединительная линия 11"/>
          <p:cNvGrpSpPr/>
          <p:nvPr/>
        </p:nvGrpSpPr>
        <p:grpSpPr>
          <a:xfrm>
            <a:off x="512640" y="1054080"/>
            <a:ext cx="8631360" cy="12600"/>
            <a:chOff x="512640" y="1054080"/>
            <a:chExt cx="8631360" cy="12600"/>
          </a:xfrm>
        </p:grpSpPr>
        <p:pic>
          <p:nvPicPr>
            <p:cNvPr id="904"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90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90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908" name="PlaceHolder 3"/>
          <p:cNvSpPr>
            <a:spLocks noGrp="1"/>
          </p:cNvSpPr>
          <p:nvPr>
            <p:ph type="dt" idx="6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909" name="PlaceHolder 4"/>
          <p:cNvSpPr>
            <a:spLocks noGrp="1"/>
          </p:cNvSpPr>
          <p:nvPr>
            <p:ph type="ftr" idx="6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5"/>
          <p:cNvSpPr>
            <a:spLocks noGrp="1"/>
          </p:cNvSpPr>
          <p:nvPr>
            <p:ph type="sldNum" idx="66"/>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F6A1-867E-4565-9AD3-287BDCF2953A}"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9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949" name="PlaceHolder 3"/>
          <p:cNvSpPr>
            <a:spLocks noGrp="1"/>
          </p:cNvSpPr>
          <p:nvPr>
            <p:ph type="dt" idx="6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950" name="PlaceHolder 4"/>
          <p:cNvSpPr>
            <a:spLocks noGrp="1"/>
          </p:cNvSpPr>
          <p:nvPr>
            <p:ph type="ftr" idx="6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6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EE97-410F-4065-9016-E3C7AE468C1C}"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8" name="Прямая соединительная линия 12"/>
          <p:cNvGrpSpPr/>
          <p:nvPr/>
        </p:nvGrpSpPr>
        <p:grpSpPr>
          <a:xfrm>
            <a:off x="512640" y="5846760"/>
            <a:ext cx="8631360" cy="11160"/>
            <a:chOff x="512640" y="5846760"/>
            <a:chExt cx="8631360" cy="11160"/>
          </a:xfrm>
        </p:grpSpPr>
        <p:pic>
          <p:nvPicPr>
            <p:cNvPr id="989" name="Прямая соединительная линия 12" descr=""/>
            <p:cNvPicPr/>
            <p:nvPr/>
          </p:nvPicPr>
          <p:blipFill>
            <a:blip r:embed="rId3"/>
            <a:stretch/>
          </p:blipFill>
          <p:spPr>
            <a:xfrm>
              <a:off x="512640" y="5846760"/>
              <a:ext cx="8631360" cy="11160"/>
            </a:xfrm>
            <a:prstGeom prst="rect">
              <a:avLst/>
            </a:prstGeom>
            <a:ln w="0">
              <a:noFill/>
            </a:ln>
          </p:spPr>
        </p:pic>
        <p:sp>
          <p:nvSpPr>
            <p:cNvPr id="99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9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993" name="PlaceHolder 3"/>
          <p:cNvSpPr>
            <a:spLocks noGrp="1"/>
          </p:cNvSpPr>
          <p:nvPr>
            <p:ph type="dt" idx="7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994" name="PlaceHolder 4"/>
          <p:cNvSpPr>
            <a:spLocks noGrp="1"/>
          </p:cNvSpPr>
          <p:nvPr>
            <p:ph type="ftr" idx="7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PlaceHolder 5"/>
          <p:cNvSpPr>
            <a:spLocks noGrp="1"/>
          </p:cNvSpPr>
          <p:nvPr>
            <p:ph type="sldNum" idx="7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5BCF-4217-48C6-A698-0A4AF9AEC05C}"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34" name="PlaceHolder 3"/>
          <p:cNvSpPr>
            <a:spLocks noGrp="1"/>
          </p:cNvSpPr>
          <p:nvPr>
            <p:ph type="dt" idx="7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1035" name="PlaceHolder 4"/>
          <p:cNvSpPr>
            <a:spLocks noGrp="1"/>
          </p:cNvSpPr>
          <p:nvPr>
            <p:ph type="ftr" idx="7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PlaceHolder 5"/>
          <p:cNvSpPr>
            <a:spLocks noGrp="1"/>
          </p:cNvSpPr>
          <p:nvPr>
            <p:ph type="sldNum" idx="7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541E-CF16-4033-90A6-30DC5C62CB00}"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3" name="Прямая соединительная линия 6"/>
          <p:cNvGrpSpPr/>
          <p:nvPr/>
        </p:nvGrpSpPr>
        <p:grpSpPr>
          <a:xfrm>
            <a:off x="512640" y="1042920"/>
            <a:ext cx="8631360" cy="17640"/>
            <a:chOff x="512640" y="1042920"/>
            <a:chExt cx="8631360" cy="17640"/>
          </a:xfrm>
        </p:grpSpPr>
        <p:pic>
          <p:nvPicPr>
            <p:cNvPr id="1074"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107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6" name="Прямая соединительная линия 8"/>
          <p:cNvGrpSpPr/>
          <p:nvPr/>
        </p:nvGrpSpPr>
        <p:grpSpPr>
          <a:xfrm>
            <a:off x="512640" y="1042920"/>
            <a:ext cx="8631360" cy="17640"/>
            <a:chOff x="512640" y="1042920"/>
            <a:chExt cx="8631360" cy="17640"/>
          </a:xfrm>
        </p:grpSpPr>
        <p:pic>
          <p:nvPicPr>
            <p:cNvPr id="1077"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107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9" name="Прямая соединительная линия 11"/>
          <p:cNvGrpSpPr/>
          <p:nvPr/>
        </p:nvGrpSpPr>
        <p:grpSpPr>
          <a:xfrm>
            <a:off x="512640" y="1054080"/>
            <a:ext cx="8631360" cy="12600"/>
            <a:chOff x="512640" y="1054080"/>
            <a:chExt cx="8631360" cy="12600"/>
          </a:xfrm>
        </p:grpSpPr>
        <p:pic>
          <p:nvPicPr>
            <p:cNvPr id="1080"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108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8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84" name="PlaceHolder 3"/>
          <p:cNvSpPr>
            <a:spLocks noGrp="1"/>
          </p:cNvSpPr>
          <p:nvPr>
            <p:ph type="dt" idx="7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1085" name="PlaceHolder 4"/>
          <p:cNvSpPr>
            <a:spLocks noGrp="1"/>
          </p:cNvSpPr>
          <p:nvPr>
            <p:ph type="ftr" idx="7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5"/>
          <p:cNvSpPr>
            <a:spLocks noGrp="1"/>
          </p:cNvSpPr>
          <p:nvPr>
            <p:ph type="sldNum" idx="7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C41A-6E7F-4B5E-B749-74F834121966}"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2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25" name="PlaceHolder 3"/>
          <p:cNvSpPr>
            <a:spLocks noGrp="1"/>
          </p:cNvSpPr>
          <p:nvPr>
            <p:ph type="dt" idx="7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1126" name="PlaceHolder 4"/>
          <p:cNvSpPr>
            <a:spLocks noGrp="1"/>
          </p:cNvSpPr>
          <p:nvPr>
            <p:ph type="ftr" idx="8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5"/>
          <p:cNvSpPr>
            <a:spLocks noGrp="1"/>
          </p:cNvSpPr>
          <p:nvPr>
            <p:ph type="sldNum" idx="8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0F51-E44A-4E95-90C3-06777D91DC01}"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6"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167"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5E20-D363-4192-A18E-3722ABA633E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7"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208"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0AF8-BCF1-4E50-B711-9B916A56333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 name="Прямая соединительная линия 6"/>
          <p:cNvGrpSpPr/>
          <p:nvPr/>
        </p:nvGrpSpPr>
        <p:grpSpPr>
          <a:xfrm>
            <a:off x="512640" y="1042920"/>
            <a:ext cx="8631360" cy="17640"/>
            <a:chOff x="512640" y="1042920"/>
            <a:chExt cx="8631360" cy="17640"/>
          </a:xfrm>
        </p:grpSpPr>
        <p:pic>
          <p:nvPicPr>
            <p:cNvPr id="83"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6" name="PlaceHolder 2"/>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Arial"/>
            </a:endParaRPr>
          </a:p>
        </p:txBody>
      </p:sp>
      <p:sp>
        <p:nvSpPr>
          <p:cNvPr id="87" name="PlaceHolder 3"/>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93CD-D965-40C6-9295-A9829F68468D}"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
        <p:nvSpPr>
          <p:cNvPr id="89"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90" name="Прямая соединительная линия 8"/>
          <p:cNvGrpSpPr/>
          <p:nvPr/>
        </p:nvGrpSpPr>
        <p:grpSpPr>
          <a:xfrm>
            <a:off x="512640" y="1042920"/>
            <a:ext cx="8631360" cy="17640"/>
            <a:chOff x="512640" y="1042920"/>
            <a:chExt cx="8631360" cy="17640"/>
          </a:xfrm>
        </p:grpSpPr>
        <p:pic>
          <p:nvPicPr>
            <p:cNvPr id="91"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9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Прямая соединительная линия 11"/>
          <p:cNvGrpSpPr/>
          <p:nvPr/>
        </p:nvGrpSpPr>
        <p:grpSpPr>
          <a:xfrm>
            <a:off x="512640" y="1054080"/>
            <a:ext cx="8631360" cy="12600"/>
            <a:chOff x="512640" y="1054080"/>
            <a:chExt cx="8631360" cy="12600"/>
          </a:xfrm>
        </p:grpSpPr>
        <p:pic>
          <p:nvPicPr>
            <p:cNvPr id="94"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9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8"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249"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EC05-211C-432A-ADE4-FA2ED7427AC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9"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290"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F2CB-7A5B-4479-B02C-4F2E45AB2AF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0"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331"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AED6-576F-464F-B3E9-9417CFCC3DF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1"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372"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BA51-31F7-4A41-8DDE-24A3D28416F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2"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413"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5471-9B5E-4BA1-B217-658C6A0F849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3"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454"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B63B-3E47-45A4-9500-92C866D31EC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4"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495"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0B07-B7D5-49EF-8C16-2E8BD5EF948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35"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536"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F3DF-E7D6-42EA-A3AF-4FDD61EDE1F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6"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577"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C62E-5EE9-486E-AA6A-C92E0C71E39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17"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618"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35B4-455A-4D64-9614-EEE31189FED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0172-4948-43AC-9931-DB5B85F9836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8"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659"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7922-ABAA-4008-8B9B-92909F61FDB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9"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700"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D4B1-1D26-4B68-9597-2592F570C60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0"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741"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1644-E6A1-4C71-A37E-AC07F77927E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1"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782"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E726-3F79-45ED-8E46-ADA0D1D7E7D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2"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823"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D241-9E39-4CF1-A4E9-9B7D78E8C6D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3"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864"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9177-A296-4FA0-A6BE-AA0613E2AC6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4"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905"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9888-1107-44C4-A36C-47C0168265C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5"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946"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4599-D289-4071-9075-CAB19CE7F27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86"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987"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ECCF-681B-4558-993A-C9FDBD483F2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27"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2028"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0E2C-B77C-4E11-84E5-CF8D35C6371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810C-A75F-4BAC-AF70-CC99D2E3529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6EE0-0A80-4C0B-8BB7-EEFB78EED598}"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6FF7-4CC5-4C04-894D-995DE119C760}"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90DA-2529-4531-82FD-F9454EA959DF}"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Arial"/>
              </a:rPr>
              <a:t>&lt;date/time&gt;</a:t>
            </a:r>
            <a:endParaRPr b="0" lang="en-US" sz="1200" spc="-1" strike="noStrike">
              <a:solidFill>
                <a:srgbClr val="000000"/>
              </a:solidFill>
              <a:latin typeface="Arial"/>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8CF7-847A-4834-95D3-1D4315CC8E5E}" type="slidenum">
              <a:rPr b="0" lang="ru-RU"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6" name="Picture 5" descr="C:\Documents and Settings\Учитель\Рабочий стол\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title"/>
          </p:nvPr>
        </p:nvSpPr>
        <p:spPr>
          <a:xfrm>
            <a:off x="304920" y="456840"/>
            <a:ext cx="8686800" cy="12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Лингвистическая задача</a:t>
            </a:r>
            <a:br>
              <a:rPr sz="4000"/>
            </a:br>
            <a:r>
              <a:rPr b="1" lang="ru-RU" sz="4000" spc="-1" strike="noStrike">
                <a:solidFill>
                  <a:srgbClr val="7030a0"/>
                </a:solidFill>
                <a:latin typeface="Calibri"/>
              </a:rPr>
              <a:t>Из предложений</a:t>
            </a:r>
            <a:r>
              <a:rPr b="1" lang="ru-RU" sz="4000" spc="-1" strike="noStrike">
                <a:solidFill>
                  <a:srgbClr val="000000"/>
                </a:solidFill>
                <a:latin typeface="Calibri"/>
              </a:rPr>
              <a:t>:</a:t>
            </a:r>
            <a:endParaRPr b="0" lang="en-US" sz="4000" spc="-1" strike="noStrike">
              <a:solidFill>
                <a:srgbClr val="000000"/>
              </a:solidFill>
              <a:latin typeface="Calibri"/>
            </a:endParaRPr>
          </a:p>
        </p:txBody>
      </p:sp>
      <p:sp>
        <p:nvSpPr>
          <p:cNvPr id="208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Я вышла на улицу. (</a:t>
            </a:r>
            <a:r>
              <a:rPr b="1" lang="ru-RU" sz="3000" spc="-1" strike="noStrike">
                <a:solidFill>
                  <a:srgbClr val="ff0000"/>
                </a:solidFill>
                <a:latin typeface="Calibri"/>
              </a:rPr>
              <a:t>возьмите подлежащее</a:t>
            </a:r>
            <a:r>
              <a:rPr b="1" lang="ru-RU"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Я шагнула вперёд. (</a:t>
            </a:r>
            <a:r>
              <a:rPr b="1" lang="ru-RU" sz="3000" spc="-1" strike="noStrike">
                <a:solidFill>
                  <a:srgbClr val="ff0000"/>
                </a:solidFill>
                <a:latin typeface="Calibri"/>
              </a:rPr>
              <a:t>возьмите сказуемое</a:t>
            </a:r>
            <a:r>
              <a:rPr b="1" lang="ru-RU"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Котёнок осторожно подошёл ко мне (</a:t>
            </a:r>
            <a:r>
              <a:rPr b="1" lang="ru-RU" sz="3000" spc="-1" strike="noStrike">
                <a:solidFill>
                  <a:srgbClr val="ff0000"/>
                </a:solidFill>
                <a:latin typeface="Calibri"/>
              </a:rPr>
              <a:t>возьмите обстоятельство</a:t>
            </a:r>
            <a:r>
              <a:rPr b="1" lang="ru-RU"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На лесную полянку вышел лось. (</a:t>
            </a:r>
            <a:r>
              <a:rPr b="1" lang="ru-RU" sz="3000" spc="-1" strike="noStrike">
                <a:solidFill>
                  <a:srgbClr val="ff0000"/>
                </a:solidFill>
                <a:latin typeface="Calibri"/>
              </a:rPr>
              <a:t>возьмите определение)</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Я увидела тропинку.(</a:t>
            </a:r>
            <a:r>
              <a:rPr b="1" lang="ru-RU" sz="3000" spc="-1" strike="noStrike">
                <a:solidFill>
                  <a:srgbClr val="ff0000"/>
                </a:solidFill>
                <a:latin typeface="Calibri"/>
              </a:rPr>
              <a:t>возьмите дополнение</a:t>
            </a:r>
            <a:r>
              <a:rPr b="1" lang="ru-RU"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u="sng">
                <a:solidFill>
                  <a:srgbClr val="7030a0"/>
                </a:solidFill>
                <a:uFillTx/>
                <a:latin typeface="Calibri"/>
              </a:rPr>
              <a:t>Составьте новое предложени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title"/>
          </p:nvPr>
        </p:nvSpPr>
        <p:spPr>
          <a:xfrm>
            <a:off x="324000" y="2491920"/>
            <a:ext cx="8686800" cy="15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Я шагнула осторожно на лесную тропинку</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
          <p:cNvSpPr txBox="1"/>
          <p:nvPr/>
        </p:nvSpPr>
        <p:spPr>
          <a:xfrm>
            <a:off x="323640" y="333000"/>
            <a:ext cx="8521560" cy="57625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29cb7"/>
                </a:solidFill>
                <a:latin typeface="Calibri"/>
              </a:rPr>
              <a:t>   </a:t>
            </a:r>
            <a:r>
              <a:rPr b="0" lang="ru-RU" sz="4000" spc="-1" strike="noStrike">
                <a:solidFill>
                  <a:srgbClr val="000000"/>
                </a:solidFill>
                <a:latin typeface="Calibri"/>
              </a:rPr>
              <a:t>Хорош осиновый лес в осенние ясные дни! В пурпурно-красный и жёлтый цвета окрашена листва. Цветным чистым ковром расстилаются под деревьями листья. Тут и там видны под ними красноватые шляпки грибов-подосиновиков.</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0">
                                  <p:stCondLst>
                                    <p:cond delay="0"/>
                                  </p:stCondLst>
                                  <p:childTnLst>
                                    <p:set>
                                      <p:cBhvr>
                                        <p:cTn id="28" dur="1" fill="hold">
                                          <p:stCondLst>
                                            <p:cond delay="0"/>
                                          </p:stCondLst>
                                        </p:cTn>
                                        <p:tgtEl>
                                          <p:spTgt spid="2087"/>
                                        </p:tgtEl>
                                        <p:attrNameLst>
                                          <p:attrName>style.visibility</p:attrName>
                                        </p:attrNameLst>
                                      </p:cBhvr>
                                      <p:to>
                                        <p:strVal val="visible"/>
                                      </p:to>
                                    </p:set>
                                    <p:animEffect filter="fade" transition="in">
                                      <p:cBhvr additive="repl">
                                        <p:cTn id="29" dur="2000"/>
                                        <p:tgtEl>
                                          <p:spTgt spid="2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
          <p:cNvSpPr txBox="1"/>
          <p:nvPr/>
        </p:nvSpPr>
        <p:spPr>
          <a:xfrm>
            <a:off x="250920" y="333360"/>
            <a:ext cx="8594640" cy="6191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Гриб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осле осеннего тёплого дождя сильно пахнет в лесу грибами. В траве по опушкам прячутся крепкие боровики, розовеют под палым листом мокрые сыроежки, краснеют по кочкам важные мухоморы, ярко желтеют на мху золотые лисичк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89" name="Picture 4" descr="Scan0024"/>
          <p:cNvPicPr/>
          <p:nvPr/>
        </p:nvPicPr>
        <p:blipFill>
          <a:blip r:embed="rId1"/>
          <a:stretch/>
        </p:blipFill>
        <p:spPr>
          <a:xfrm>
            <a:off x="6012000" y="4029120"/>
            <a:ext cx="3132000" cy="282888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2088">
                                            <p:txEl>
                                              <p:pRg st="0" end="0"/>
                                            </p:txEl>
                                          </p:spTgt>
                                        </p:tgtEl>
                                        <p:attrNameLst>
                                          <p:attrName>style.visibility</p:attrName>
                                        </p:attrNameLst>
                                      </p:cBhvr>
                                      <p:to>
                                        <p:strVal val="visible"/>
                                      </p:to>
                                    </p:set>
                                    <p:animEffect filter="fade" transition="in">
                                      <p:cBhvr additive="repl">
                                        <p:cTn id="36" dur="2000"/>
                                        <p:tgtEl>
                                          <p:spTgt spid="2088">
                                            <p:txEl>
                                              <p:pRg st="0" end="0"/>
                                            </p:txEl>
                                          </p:spTgt>
                                        </p:tgtEl>
                                      </p:cBhvr>
                                    </p:animEffect>
                                  </p:childTnLst>
                                </p:cTn>
                              </p:par>
                              <p:par>
                                <p:cTn id="37" nodeType="withEffect" fill="hold" presetClass="entr" presetID="10">
                                  <p:stCondLst>
                                    <p:cond delay="0"/>
                                  </p:stCondLst>
                                  <p:childTnLst>
                                    <p:set>
                                      <p:cBhvr>
                                        <p:cTn id="38" dur="1" fill="hold">
                                          <p:stCondLst>
                                            <p:cond delay="0"/>
                                          </p:stCondLst>
                                        </p:cTn>
                                        <p:tgtEl>
                                          <p:spTgt spid="2088">
                                            <p:txEl>
                                              <p:pRg st="1" end="1"/>
                                            </p:txEl>
                                          </p:spTgt>
                                        </p:tgtEl>
                                        <p:attrNameLst>
                                          <p:attrName>style.visibility</p:attrName>
                                        </p:attrNameLst>
                                      </p:cBhvr>
                                      <p:to>
                                        <p:strVal val="visible"/>
                                      </p:to>
                                    </p:set>
                                    <p:animEffect filter="fade" transition="in">
                                      <p:cBhvr additive="repl">
                                        <p:cTn id="39" dur="2000"/>
                                        <p:tgtEl>
                                          <p:spTgt spid="2088">
                                            <p:txEl>
                                              <p:pRg st="1" end="1"/>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089"/>
                                        </p:tgtEl>
                                        <p:attrNameLst>
                                          <p:attrName>style.visibility</p:attrName>
                                        </p:attrNameLst>
                                      </p:cBhvr>
                                      <p:to>
                                        <p:strVal val="visible"/>
                                      </p:to>
                                    </p:set>
                                    <p:animEffect filter="checkerboard(across)" transition="in">
                                      <p:cBhvr additive="repl">
                                        <p:cTn id="42" dur="10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
          <p:cNvSpPr txBox="1"/>
          <p:nvPr/>
        </p:nvSpPr>
        <p:spPr>
          <a:xfrm>
            <a:off x="178920" y="259920"/>
            <a:ext cx="8666280" cy="626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ccff"/>
                </a:solidFill>
                <a:latin typeface="Calibri"/>
              </a:rPr>
              <a:t>   </a:t>
            </a:r>
            <a:r>
              <a:rPr b="0" lang="ru-RU" sz="3200" spc="-1" strike="noStrike">
                <a:solidFill>
                  <a:srgbClr val="000000"/>
                </a:solidFill>
                <a:latin typeface="Calibri"/>
              </a:rPr>
              <a:t>Красив, наряден русский лес ранней осенью. Кругом  стоят золотые берёзы. Ярким костром горят рябины. Словно груды малахита, зеленеют молодые дубки. Весёлым многоцветьем радуют клёны, осины. Жёлтым ковром расстилаются под деревьями опавшие листь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91" name="Picture 5" descr="Yellow 044"/>
          <p:cNvPicPr/>
          <p:nvPr/>
        </p:nvPicPr>
        <p:blipFill>
          <a:blip r:embed="rId1"/>
          <a:stretch/>
        </p:blipFill>
        <p:spPr>
          <a:xfrm>
            <a:off x="3995640" y="3284640"/>
            <a:ext cx="4724640" cy="3133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0">
                                  <p:stCondLst>
                                    <p:cond delay="0"/>
                                  </p:stCondLst>
                                  <p:childTnLst>
                                    <p:set>
                                      <p:cBhvr>
                                        <p:cTn id="48" dur="1" fill="hold">
                                          <p:stCondLst>
                                            <p:cond delay="0"/>
                                          </p:stCondLst>
                                        </p:cTn>
                                        <p:tgtEl>
                                          <p:spTgt spid="2090">
                                            <p:txEl>
                                              <p:pRg st="0" end="0"/>
                                            </p:txEl>
                                          </p:spTgt>
                                        </p:tgtEl>
                                        <p:attrNameLst>
                                          <p:attrName>style.visibility</p:attrName>
                                        </p:attrNameLst>
                                      </p:cBhvr>
                                      <p:to>
                                        <p:strVal val="visible"/>
                                      </p:to>
                                    </p:set>
                                    <p:animEffect filter="fade" transition="in">
                                      <p:cBhvr additive="repl">
                                        <p:cTn id="49" dur="2000"/>
                                        <p:tgtEl>
                                          <p:spTgt spid="2090">
                                            <p:txEl>
                                              <p:pRg st="0" end="0"/>
                                            </p:txEl>
                                          </p:spTgt>
                                        </p:tgtEl>
                                      </p:cBhvr>
                                    </p:animEffect>
                                  </p:childTnLst>
                                </p:cTn>
                              </p:par>
                              <p:par>
                                <p:cTn id="50" nodeType="withEffect" fill="hold" presetClass="entr" presetID="21" presetSubtype="4">
                                  <p:stCondLst>
                                    <p:cond delay="0"/>
                                  </p:stCondLst>
                                  <p:childTnLst>
                                    <p:set>
                                      <p:cBhvr>
                                        <p:cTn id="51" dur="1" fill="hold">
                                          <p:stCondLst>
                                            <p:cond delay="0"/>
                                          </p:stCondLst>
                                        </p:cTn>
                                        <p:tgtEl>
                                          <p:spTgt spid="2091"/>
                                        </p:tgtEl>
                                        <p:attrNameLst>
                                          <p:attrName>style.visibility</p:attrName>
                                        </p:attrNameLst>
                                      </p:cBhvr>
                                      <p:to>
                                        <p:strVal val="visible"/>
                                      </p:to>
                                    </p:set>
                                    <p:animEffect filter="wheel(4)" transition="in">
                                      <p:cBhvr additive="repl">
                                        <p:cTn id="52" dur="2000"/>
                                        <p:tgtEl>
                                          <p:spTgt spid="20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0a0"/>
                </a:solidFill>
                <a:latin typeface="Arial Narrow"/>
              </a:rPr>
              <a:t>Алгоритм</a:t>
            </a:r>
            <a:r>
              <a:rPr b="0" lang="ru-RU" sz="4400" spc="-1" strike="noStrike">
                <a:solidFill>
                  <a:srgbClr val="7030a0"/>
                </a:solidFill>
                <a:latin typeface="Calibri"/>
              </a:rPr>
              <a:t> </a:t>
            </a:r>
            <a:endParaRPr b="0" lang="en-US" sz="4400" spc="-1" strike="noStrike">
              <a:solidFill>
                <a:srgbClr val="000000"/>
              </a:solidFill>
              <a:latin typeface="Calibri"/>
            </a:endParaRPr>
          </a:p>
        </p:txBody>
      </p:sp>
      <p:sp>
        <p:nvSpPr>
          <p:cNvPr id="2093"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йду в предложении слова, которые обозначают предмет.</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ставлю от них вопросы </a:t>
            </a:r>
            <a:r>
              <a:rPr b="1" i="1" lang="ru-RU" sz="2800" spc="-1" strike="noStrike" u="sng">
                <a:solidFill>
                  <a:srgbClr val="7030a0"/>
                </a:solidFill>
                <a:uFillTx/>
                <a:latin typeface="Calibri"/>
              </a:rPr>
              <a:t>какой? какая? какие? чей? </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пределю, есть ли в предложении слова, которые отвечают на эти вопрос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сли есть, значит это </a:t>
            </a:r>
            <a:r>
              <a:rPr b="1" i="1" lang="ru-RU" sz="2800" spc="-1" strike="noStrike" u="sng">
                <a:solidFill>
                  <a:srgbClr val="7030a0"/>
                </a:solidFill>
                <a:uFillTx/>
                <a:latin typeface="Calibri"/>
              </a:rPr>
              <a:t>определени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дчеркну определение </a:t>
            </a:r>
            <a:r>
              <a:rPr b="1" i="1" lang="ru-RU" sz="2800" spc="-1" strike="noStrike" u="sng">
                <a:solidFill>
                  <a:srgbClr val="7030a0"/>
                </a:solidFill>
                <a:uFillTx/>
                <a:latin typeface="Calibri"/>
              </a:rPr>
              <a:t>волнистой</a:t>
            </a:r>
            <a:r>
              <a:rPr b="0" lang="ru-RU" sz="2800" spc="-1" strike="noStrike">
                <a:solidFill>
                  <a:srgbClr val="000000"/>
                </a:solidFill>
                <a:latin typeface="Calibri"/>
              </a:rPr>
              <a:t> линией.</a:t>
            </a:r>
            <a:endParaRPr b="0" lang="en-US" sz="2800" spc="-1" strike="noStrike">
              <a:solidFill>
                <a:srgbClr val="000000"/>
              </a:solidFill>
              <a:latin typeface="Calibri"/>
            </a:endParaRPr>
          </a:p>
        </p:txBody>
      </p:sp>
    </p:spTree>
  </p:cSld>
  <p:transition>
    <p:wipe dir="d"/>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37">
                                  <p:stCondLst>
                                    <p:cond delay="0"/>
                                  </p:stCondLst>
                                  <p:childTnLst>
                                    <p:set>
                                      <p:cBhvr>
                                        <p:cTn id="58" dur="1" fill="hold">
                                          <p:stCondLst>
                                            <p:cond delay="0"/>
                                          </p:stCondLst>
                                        </p:cTn>
                                        <p:tgtEl>
                                          <p:spTgt spid="2092"/>
                                        </p:tgtEl>
                                        <p:attrNameLst>
                                          <p:attrName>style.visibility</p:attrName>
                                        </p:attrNameLst>
                                      </p:cBhvr>
                                      <p:to>
                                        <p:strVal val="visible"/>
                                      </p:to>
                                    </p:set>
                                    <p:animEffect filter="fade" transition="in">
                                      <p:cBhvr additive="repl">
                                        <p:cTn id="59" dur="1000"/>
                                        <p:tgtEl>
                                          <p:spTgt spid="2092"/>
                                        </p:tgtEl>
                                      </p:cBhvr>
                                    </p:animEffect>
                                    <p:anim calcmode="lin" valueType="num">
                                      <p:cBhvr additive="repl">
                                        <p:cTn id="60" dur="1000" fill="hold"/>
                                        <p:tgtEl>
                                          <p:spTgt spid="2092"/>
                                        </p:tgtEl>
                                        <p:attrNameLst>
                                          <p:attrName>ppt_x</p:attrName>
                                        </p:attrNameLst>
                                      </p:cBhvr>
                                      <p:tavLst>
                                        <p:tav tm="0">
                                          <p:val>
                                            <p:strVal val="#ppt_x"/>
                                          </p:val>
                                        </p:tav>
                                        <p:tav tm="100000">
                                          <p:val>
                                            <p:strVal val="#ppt_x"/>
                                          </p:val>
                                        </p:tav>
                                      </p:tavLst>
                                    </p:anim>
                                    <p:anim calcmode="lin" valueType="num">
                                      <p:cBhvr additive="repl">
                                        <p:cTn id="61" dur="898" fill="hold"/>
                                        <p:tgtEl>
                                          <p:spTgt spid="2092"/>
                                        </p:tgtEl>
                                        <p:attrNameLst>
                                          <p:attrName>ppt_y</p:attrName>
                                        </p:attrNameLst>
                                      </p:cBhvr>
                                      <p:tavLst>
                                        <p:tav tm="0">
                                          <p:val>
                                            <p:strVal val="#ppt_y+1"/>
                                          </p:val>
                                        </p:tav>
                                        <p:tav tm="100000">
                                          <p:val>
                                            <p:strVal val="#ppt_y-.03"/>
                                          </p:val>
                                        </p:tav>
                                      </p:tavLst>
                                    </p:anim>
                                    <p:anim calcmode="lin" valueType="num">
                                      <p:cBhvr additive="repl">
                                        <p:cTn id="62" dur="100" fill="hold">
                                          <p:stCondLst>
                                            <p:cond delay="898"/>
                                          </p:stCondLst>
                                        </p:cTn>
                                        <p:tgtEl>
                                          <p:spTgt spid="2092"/>
                                        </p:tgtEl>
                                        <p:attrNameLst>
                                          <p:attrName>ppt_y</p:attrName>
                                        </p:attrNameLst>
                                      </p:cBhvr>
                                      <p:tavLst>
                                        <p:tav tm="0">
                                          <p:val>
                                            <p:strVal val="#ppt_y-.03"/>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7">
                                  <p:stCondLst>
                                    <p:cond delay="0"/>
                                  </p:stCondLst>
                                  <p:childTnLst>
                                    <p:set>
                                      <p:cBhvr>
                                        <p:cTn id="66" dur="1" fill="hold">
                                          <p:stCondLst>
                                            <p:cond delay="0"/>
                                          </p:stCondLst>
                                        </p:cTn>
                                        <p:tgtEl>
                                          <p:spTgt spid="2093">
                                            <p:txEl>
                                              <p:pRg st="0" end="0"/>
                                            </p:txEl>
                                          </p:spTgt>
                                        </p:tgtEl>
                                        <p:attrNameLst>
                                          <p:attrName>style.visibility</p:attrName>
                                        </p:attrNameLst>
                                      </p:cBhvr>
                                      <p:to>
                                        <p:strVal val="visible"/>
                                      </p:to>
                                    </p:set>
                                    <p:animEffect filter="fade" transition="in">
                                      <p:cBhvr additive="repl">
                                        <p:cTn id="67" dur="1000"/>
                                        <p:tgtEl>
                                          <p:spTgt spid="2093">
                                            <p:txEl>
                                              <p:pRg st="0" end="0"/>
                                            </p:txEl>
                                          </p:spTgt>
                                        </p:tgtEl>
                                      </p:cBhvr>
                                    </p:animEffect>
                                    <p:anim calcmode="lin" valueType="num">
                                      <p:cBhvr additive="repl">
                                        <p:cTn id="68" dur="1000" fill="hold"/>
                                        <p:tgtEl>
                                          <p:spTgt spid="2093">
                                            <p:txEl>
                                              <p:pRg st="0" end="0"/>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2093">
                                            <p:txEl>
                                              <p:pRg st="0" end="0"/>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209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7">
                                  <p:stCondLst>
                                    <p:cond delay="0"/>
                                  </p:stCondLst>
                                  <p:childTnLst>
                                    <p:set>
                                      <p:cBhvr>
                                        <p:cTn id="74" dur="1" fill="hold">
                                          <p:stCondLst>
                                            <p:cond delay="0"/>
                                          </p:stCondLst>
                                        </p:cTn>
                                        <p:tgtEl>
                                          <p:spTgt spid="2093">
                                            <p:txEl>
                                              <p:pRg st="1" end="1"/>
                                            </p:txEl>
                                          </p:spTgt>
                                        </p:tgtEl>
                                        <p:attrNameLst>
                                          <p:attrName>style.visibility</p:attrName>
                                        </p:attrNameLst>
                                      </p:cBhvr>
                                      <p:to>
                                        <p:strVal val="visible"/>
                                      </p:to>
                                    </p:set>
                                    <p:animEffect filter="fade" transition="in">
                                      <p:cBhvr additive="repl">
                                        <p:cTn id="75" dur="1000"/>
                                        <p:tgtEl>
                                          <p:spTgt spid="2093">
                                            <p:txEl>
                                              <p:pRg st="1" end="1"/>
                                            </p:txEl>
                                          </p:spTgt>
                                        </p:tgtEl>
                                      </p:cBhvr>
                                    </p:animEffect>
                                    <p:anim calcmode="lin" valueType="num">
                                      <p:cBhvr additive="repl">
                                        <p:cTn id="76" dur="1000" fill="hold"/>
                                        <p:tgtEl>
                                          <p:spTgt spid="2093">
                                            <p:txEl>
                                              <p:pRg st="1" end="1"/>
                                            </p:txEl>
                                          </p:spTgt>
                                        </p:tgtEl>
                                        <p:attrNameLst>
                                          <p:attrName>ppt_x</p:attrName>
                                        </p:attrNameLst>
                                      </p:cBhvr>
                                      <p:tavLst>
                                        <p:tav tm="0">
                                          <p:val>
                                            <p:strVal val="#ppt_x"/>
                                          </p:val>
                                        </p:tav>
                                        <p:tav tm="100000">
                                          <p:val>
                                            <p:strVal val="#ppt_x"/>
                                          </p:val>
                                        </p:tav>
                                      </p:tavLst>
                                    </p:anim>
                                    <p:anim calcmode="lin" valueType="num">
                                      <p:cBhvr additive="repl">
                                        <p:cTn id="77" dur="898" fill="hold"/>
                                        <p:tgtEl>
                                          <p:spTgt spid="2093">
                                            <p:txEl>
                                              <p:pRg st="1" end="1"/>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209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7">
                                  <p:stCondLst>
                                    <p:cond delay="0"/>
                                  </p:stCondLst>
                                  <p:childTnLst>
                                    <p:set>
                                      <p:cBhvr>
                                        <p:cTn id="82" dur="1" fill="hold">
                                          <p:stCondLst>
                                            <p:cond delay="0"/>
                                          </p:stCondLst>
                                        </p:cTn>
                                        <p:tgtEl>
                                          <p:spTgt spid="2093">
                                            <p:txEl>
                                              <p:pRg st="2" end="2"/>
                                            </p:txEl>
                                          </p:spTgt>
                                        </p:tgtEl>
                                        <p:attrNameLst>
                                          <p:attrName>style.visibility</p:attrName>
                                        </p:attrNameLst>
                                      </p:cBhvr>
                                      <p:to>
                                        <p:strVal val="visible"/>
                                      </p:to>
                                    </p:set>
                                    <p:animEffect filter="fade" transition="in">
                                      <p:cBhvr additive="repl">
                                        <p:cTn id="83" dur="1000"/>
                                        <p:tgtEl>
                                          <p:spTgt spid="2093">
                                            <p:txEl>
                                              <p:pRg st="2" end="2"/>
                                            </p:txEl>
                                          </p:spTgt>
                                        </p:tgtEl>
                                      </p:cBhvr>
                                    </p:animEffect>
                                    <p:anim calcmode="lin" valueType="num">
                                      <p:cBhvr additive="repl">
                                        <p:cTn id="84" dur="1000" fill="hold"/>
                                        <p:tgtEl>
                                          <p:spTgt spid="2093">
                                            <p:txEl>
                                              <p:pRg st="2" end="2"/>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2093">
                                            <p:txEl>
                                              <p:pRg st="2" end="2"/>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209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7">
                                  <p:stCondLst>
                                    <p:cond delay="0"/>
                                  </p:stCondLst>
                                  <p:childTnLst>
                                    <p:set>
                                      <p:cBhvr>
                                        <p:cTn id="90" dur="1" fill="hold">
                                          <p:stCondLst>
                                            <p:cond delay="0"/>
                                          </p:stCondLst>
                                        </p:cTn>
                                        <p:tgtEl>
                                          <p:spTgt spid="2093">
                                            <p:txEl>
                                              <p:pRg st="3" end="3"/>
                                            </p:txEl>
                                          </p:spTgt>
                                        </p:tgtEl>
                                        <p:attrNameLst>
                                          <p:attrName>style.visibility</p:attrName>
                                        </p:attrNameLst>
                                      </p:cBhvr>
                                      <p:to>
                                        <p:strVal val="visible"/>
                                      </p:to>
                                    </p:set>
                                    <p:animEffect filter="fade" transition="in">
                                      <p:cBhvr additive="repl">
                                        <p:cTn id="91" dur="1000"/>
                                        <p:tgtEl>
                                          <p:spTgt spid="2093">
                                            <p:txEl>
                                              <p:pRg st="3" end="3"/>
                                            </p:txEl>
                                          </p:spTgt>
                                        </p:tgtEl>
                                      </p:cBhvr>
                                    </p:animEffect>
                                    <p:anim calcmode="lin" valueType="num">
                                      <p:cBhvr additive="repl">
                                        <p:cTn id="92" dur="1000" fill="hold"/>
                                        <p:tgtEl>
                                          <p:spTgt spid="2093">
                                            <p:txEl>
                                              <p:pRg st="3" end="3"/>
                                            </p:txEl>
                                          </p:spTgt>
                                        </p:tgtEl>
                                        <p:attrNameLst>
                                          <p:attrName>ppt_x</p:attrName>
                                        </p:attrNameLst>
                                      </p:cBhvr>
                                      <p:tavLst>
                                        <p:tav tm="0">
                                          <p:val>
                                            <p:strVal val="#ppt_x"/>
                                          </p:val>
                                        </p:tav>
                                        <p:tav tm="100000">
                                          <p:val>
                                            <p:strVal val="#ppt_x"/>
                                          </p:val>
                                        </p:tav>
                                      </p:tavLst>
                                    </p:anim>
                                    <p:anim calcmode="lin" valueType="num">
                                      <p:cBhvr additive="repl">
                                        <p:cTn id="93" dur="898" fill="hold"/>
                                        <p:tgtEl>
                                          <p:spTgt spid="2093">
                                            <p:txEl>
                                              <p:pRg st="3" end="3"/>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898"/>
                                          </p:stCondLst>
                                        </p:cTn>
                                        <p:tgtEl>
                                          <p:spTgt spid="209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7">
                                  <p:stCondLst>
                                    <p:cond delay="0"/>
                                  </p:stCondLst>
                                  <p:childTnLst>
                                    <p:set>
                                      <p:cBhvr>
                                        <p:cTn id="98" dur="1" fill="hold">
                                          <p:stCondLst>
                                            <p:cond delay="0"/>
                                          </p:stCondLst>
                                        </p:cTn>
                                        <p:tgtEl>
                                          <p:spTgt spid="2093">
                                            <p:txEl>
                                              <p:pRg st="4" end="4"/>
                                            </p:txEl>
                                          </p:spTgt>
                                        </p:tgtEl>
                                        <p:attrNameLst>
                                          <p:attrName>style.visibility</p:attrName>
                                        </p:attrNameLst>
                                      </p:cBhvr>
                                      <p:to>
                                        <p:strVal val="visible"/>
                                      </p:to>
                                    </p:set>
                                    <p:animEffect filter="fade" transition="in">
                                      <p:cBhvr additive="repl">
                                        <p:cTn id="99" dur="1000"/>
                                        <p:tgtEl>
                                          <p:spTgt spid="2093">
                                            <p:txEl>
                                              <p:pRg st="4" end="4"/>
                                            </p:txEl>
                                          </p:spTgt>
                                        </p:tgtEl>
                                      </p:cBhvr>
                                    </p:animEffect>
                                    <p:anim calcmode="lin" valueType="num">
                                      <p:cBhvr additive="repl">
                                        <p:cTn id="100" dur="1000" fill="hold"/>
                                        <p:tgtEl>
                                          <p:spTgt spid="2093">
                                            <p:txEl>
                                              <p:pRg st="4" end="4"/>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2093">
                                            <p:txEl>
                                              <p:pRg st="4" end="4"/>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209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250560" y="980640"/>
            <a:ext cx="8569080" cy="4319640"/>
          </a:xfrm>
          <a:prstGeom prst="rect">
            <a:avLst/>
          </a:prstGeom>
          <a:noFill/>
          <a:ln w="0">
            <a:noFill/>
          </a:ln>
        </p:spPr>
        <p:txBody>
          <a:bodyPr anchor="t">
            <a:normAutofit fontScale="99000"/>
          </a:bodyPr>
          <a:p>
            <a:pPr marL="339480" indent="-3394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5400" spc="-1" strike="noStrike">
                <a:solidFill>
                  <a:srgbClr val="000000"/>
                </a:solidFill>
                <a:latin typeface="Calibri"/>
              </a:rPr>
              <a:t>Стоят последние дни …осени. На … небе висят … облака. В … воздухе плывут … нити паутины. На … ели уселась стайка … дроздов.</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2094">
                                            <p:txEl>
                                              <p:pRg st="0" end="0"/>
                                            </p:txEl>
                                          </p:spTgt>
                                        </p:tgtEl>
                                        <p:attrNameLst>
                                          <p:attrName>style.visibility</p:attrName>
                                        </p:attrNameLst>
                                      </p:cBhvr>
                                      <p:to>
                                        <p:strVal val="visible"/>
                                      </p:to>
                                    </p:set>
                                    <p:animEffect filter="fade" transition="in">
                                      <p:cBhvr additive="repl">
                                        <p:cTn id="109" dur="2000"/>
                                        <p:tgtEl>
                                          <p:spTgt spid="20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TextBox 1"/>
          <p:cNvSpPr/>
          <p:nvPr/>
        </p:nvSpPr>
        <p:spPr>
          <a:xfrm>
            <a:off x="1258920" y="514440"/>
            <a:ext cx="7345440" cy="1488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Веришь ли ты, что…»</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ea typeface="Arial"/>
              </a:rPr>
              <a:t> </a:t>
            </a:r>
            <a:endParaRPr b="0" lang="en-US" sz="2800" spc="-1" strike="noStrike">
              <a:solidFill>
                <a:srgbClr val="000000"/>
              </a:solidFill>
              <a:latin typeface="Arial"/>
            </a:endParaRPr>
          </a:p>
        </p:txBody>
      </p:sp>
      <p:sp>
        <p:nvSpPr>
          <p:cNvPr id="2068" name="TextBox 3"/>
          <p:cNvSpPr/>
          <p:nvPr/>
        </p:nvSpPr>
        <p:spPr>
          <a:xfrm>
            <a:off x="63360" y="1628640"/>
            <a:ext cx="8972640" cy="55364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r>
              <a:rPr b="1" lang="ru-RU" sz="4800" spc="-1" strike="noStrike">
                <a:solidFill>
                  <a:srgbClr val="000000"/>
                </a:solidFill>
                <a:latin typeface="Cambria"/>
                <a:ea typeface="Calibri"/>
              </a:rPr>
              <a:t>предложения  можно    </a:t>
            </a:r>
            <a:endParaRPr b="0" lang="en-US" sz="4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r>
              <a:rPr b="1" lang="ru-RU" sz="4800" spc="-1" strike="noStrike">
                <a:solidFill>
                  <a:srgbClr val="000000"/>
                </a:solidFill>
                <a:latin typeface="Cambria"/>
                <a:ea typeface="Calibri"/>
              </a:rPr>
              <a:t>объединить   в группы </a:t>
            </a:r>
            <a:endParaRPr b="0" lang="en-US" sz="4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r>
              <a:rPr b="1" lang="ru-RU" sz="4800" spc="-1" strike="noStrike">
                <a:solidFill>
                  <a:srgbClr val="000000"/>
                </a:solidFill>
                <a:latin typeface="Cambria"/>
                <a:ea typeface="Calibri"/>
              </a:rPr>
              <a:t>по цели    высказывания?</a:t>
            </a:r>
            <a:endParaRPr b="0" lang="en-US" sz="4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TextBox 1"/>
          <p:cNvSpPr/>
          <p:nvPr/>
        </p:nvSpPr>
        <p:spPr>
          <a:xfrm>
            <a:off x="1482840" y="514440"/>
            <a:ext cx="6121440" cy="1348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Веришь ли ты, что…»</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ea typeface="Arial"/>
              </a:rPr>
              <a:t> </a:t>
            </a:r>
            <a:endParaRPr b="0" lang="en-US" sz="2800" spc="-1" strike="noStrike">
              <a:solidFill>
                <a:srgbClr val="000000"/>
              </a:solidFill>
              <a:latin typeface="Arial"/>
            </a:endParaRPr>
          </a:p>
        </p:txBody>
      </p:sp>
      <p:sp>
        <p:nvSpPr>
          <p:cNvPr id="2070" name="TextBox 3"/>
          <p:cNvSpPr/>
          <p:nvPr/>
        </p:nvSpPr>
        <p:spPr>
          <a:xfrm>
            <a:off x="0" y="1700280"/>
            <a:ext cx="9036000" cy="54093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1" lang="ru-RU" sz="4800" spc="-1" strike="noStrike">
                <a:solidFill>
                  <a:srgbClr val="000000"/>
                </a:solidFill>
                <a:latin typeface="Cambria"/>
                <a:ea typeface="Times New Roman"/>
              </a:rPr>
              <a:t>     </a:t>
            </a:r>
            <a:r>
              <a:rPr b="1" lang="ru-RU" sz="4800" spc="-1" strike="noStrike">
                <a:solidFill>
                  <a:srgbClr val="000000"/>
                </a:solidFill>
                <a:latin typeface="Cambria"/>
                <a:ea typeface="Calibri"/>
              </a:rPr>
              <a:t>предложения  можно    </a:t>
            </a:r>
            <a:endParaRPr b="0" lang="en-US" sz="4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r>
              <a:rPr b="1" lang="ru-RU" sz="4800" spc="-1" strike="noStrike">
                <a:solidFill>
                  <a:srgbClr val="000000"/>
                </a:solidFill>
                <a:latin typeface="Cambria"/>
                <a:ea typeface="Calibri"/>
              </a:rPr>
              <a:t>объединить   в группы по   </a:t>
            </a:r>
            <a:endParaRPr b="0" lang="en-US" sz="4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r>
              <a:rPr b="1" lang="ru-RU" sz="4800" spc="-1" strike="noStrike">
                <a:solidFill>
                  <a:srgbClr val="000000"/>
                </a:solidFill>
                <a:latin typeface="Cambria"/>
                <a:ea typeface="Calibri"/>
              </a:rPr>
              <a:t>эмоциональной окраске?</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TextBox 1"/>
          <p:cNvSpPr/>
          <p:nvPr/>
        </p:nvSpPr>
        <p:spPr>
          <a:xfrm>
            <a:off x="1482840" y="514440"/>
            <a:ext cx="6121440" cy="1348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Веришь ли ты, что…»</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ea typeface="Arial"/>
              </a:rPr>
              <a:t> </a:t>
            </a:r>
            <a:endParaRPr b="0" lang="en-US" sz="2800" spc="-1" strike="noStrike">
              <a:solidFill>
                <a:srgbClr val="000000"/>
              </a:solidFill>
              <a:latin typeface="Arial"/>
            </a:endParaRPr>
          </a:p>
        </p:txBody>
      </p:sp>
      <p:sp>
        <p:nvSpPr>
          <p:cNvPr id="2072" name="TextBox 3"/>
          <p:cNvSpPr/>
          <p:nvPr/>
        </p:nvSpPr>
        <p:spPr>
          <a:xfrm>
            <a:off x="41400" y="1219320"/>
            <a:ext cx="9037440" cy="73447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r>
              <a:rPr b="1" lang="ru-RU" sz="4800" spc="-1" strike="noStrike">
                <a:solidFill>
                  <a:srgbClr val="000000"/>
                </a:solidFill>
                <a:latin typeface="Cambria"/>
                <a:ea typeface="Calibri"/>
              </a:rPr>
              <a:t>предложения  можно    </a:t>
            </a:r>
            <a:endParaRPr b="0" lang="en-US" sz="4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r>
              <a:rPr b="1" lang="ru-RU" sz="4800" spc="-1" strike="noStrike">
                <a:solidFill>
                  <a:srgbClr val="000000"/>
                </a:solidFill>
                <a:latin typeface="Cambria"/>
                <a:ea typeface="Calibri"/>
              </a:rPr>
              <a:t>объединить   в группы по  </a:t>
            </a:r>
            <a:endParaRPr b="0" lang="en-US" sz="4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r>
              <a:rPr b="1" lang="ru-RU" sz="4800" spc="-1" strike="noStrike">
                <a:solidFill>
                  <a:srgbClr val="000000"/>
                </a:solidFill>
                <a:latin typeface="Cambria"/>
                <a:ea typeface="Calibri"/>
              </a:rPr>
              <a:t>наличию второстепенных </a:t>
            </a:r>
            <a:endParaRPr b="0" lang="en-US" sz="4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r>
              <a:rPr b="1" lang="ru-RU" sz="4800" spc="-1" strike="noStrike">
                <a:solidFill>
                  <a:srgbClr val="000000"/>
                </a:solidFill>
                <a:latin typeface="Cambria"/>
                <a:ea typeface="Calibri"/>
              </a:rPr>
              <a:t>членов?   </a:t>
            </a:r>
            <a:endParaRPr b="0" lang="en-US" sz="4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mbria"/>
                <a:ea typeface="Calibri"/>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TextBox 1"/>
          <p:cNvSpPr/>
          <p:nvPr/>
        </p:nvSpPr>
        <p:spPr>
          <a:xfrm>
            <a:off x="1908000" y="981000"/>
            <a:ext cx="6696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1. </a:t>
            </a:r>
            <a:r>
              <a:rPr b="0" lang="ru-RU" sz="4400" spc="-1" strike="noStrike">
                <a:solidFill>
                  <a:srgbClr val="000000"/>
                </a:solidFill>
                <a:latin typeface="Times New Roman"/>
                <a:ea typeface="Times New Roman"/>
              </a:rPr>
              <a:t> </a:t>
            </a:r>
            <a:r>
              <a:rPr b="1" lang="ru-RU" sz="4400" spc="-1" strike="noStrike">
                <a:solidFill>
                  <a:srgbClr val="000000"/>
                </a:solidFill>
                <a:latin typeface="Times New Roman"/>
                <a:ea typeface="Times New Roman"/>
              </a:rPr>
              <a:t>Нераспространённые:</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Блёкнут травы.</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Дремл</a:t>
            </a:r>
            <a:r>
              <a:rPr b="1" lang="ru-RU" sz="4400" spc="-1" strike="noStrike" u="sng">
                <a:solidFill>
                  <a:srgbClr val="ff0000"/>
                </a:solidFill>
                <a:uFillTx/>
                <a:latin typeface="Times New Roman"/>
                <a:ea typeface="Times New Roman"/>
              </a:rPr>
              <a:t>ю</a:t>
            </a:r>
            <a:r>
              <a:rPr b="0" lang="ru-RU" sz="4400" spc="-1" strike="noStrike">
                <a:solidFill>
                  <a:srgbClr val="000000"/>
                </a:solidFill>
                <a:latin typeface="Times New Roman"/>
                <a:ea typeface="Times New Roman"/>
              </a:rPr>
              <a:t>т хаты.</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4" name="TextBox 2"/>
          <p:cNvSpPr/>
          <p:nvPr/>
        </p:nvSpPr>
        <p:spPr>
          <a:xfrm>
            <a:off x="1871640" y="3500280"/>
            <a:ext cx="6769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2.  Распространённые:</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ощи вспыхнули вд</a:t>
            </a:r>
            <a:r>
              <a:rPr b="1" lang="ru-RU" sz="4400" spc="-1" strike="noStrike" u="sng">
                <a:solidFill>
                  <a:srgbClr val="ff0000"/>
                </a:solidFill>
                <a:uFillTx/>
                <a:latin typeface="Times New Roman"/>
                <a:ea typeface="Times New Roman"/>
              </a:rPr>
              <a:t>а</a:t>
            </a:r>
            <a:r>
              <a:rPr b="0" lang="ru-RU" sz="4400" spc="-1" strike="noStrike">
                <a:solidFill>
                  <a:srgbClr val="000000"/>
                </a:solidFill>
                <a:latin typeface="Times New Roman"/>
                <a:ea typeface="Times New Roman"/>
              </a:rPr>
              <a:t>ли.</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По незрим</a:t>
            </a:r>
            <a:r>
              <a:rPr b="1" lang="ru-RU" sz="4400" spc="-1" strike="noStrike" u="sng">
                <a:solidFill>
                  <a:srgbClr val="ff0000"/>
                </a:solidFill>
                <a:uFillTx/>
                <a:latin typeface="Times New Roman"/>
                <a:ea typeface="Times New Roman"/>
              </a:rPr>
              <a:t>о</a:t>
            </a:r>
            <a:r>
              <a:rPr b="0" lang="ru-RU" sz="4400" spc="-1" strike="noStrike">
                <a:solidFill>
                  <a:srgbClr val="000000"/>
                </a:solidFill>
                <a:latin typeface="Times New Roman"/>
                <a:ea typeface="Times New Roman"/>
              </a:rPr>
              <a:t>му канату</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Прот</a:t>
            </a:r>
            <a:r>
              <a:rPr b="1" lang="ru-RU" sz="4400" spc="-1" strike="noStrike" u="sng">
                <a:solidFill>
                  <a:srgbClr val="ff0000"/>
                </a:solidFill>
                <a:uFillTx/>
                <a:latin typeface="Times New Roman"/>
                <a:ea typeface="Times New Roman"/>
              </a:rPr>
              <a:t>я</a:t>
            </a:r>
            <a:r>
              <a:rPr b="0" lang="ru-RU" sz="4400" spc="-1" strike="noStrike">
                <a:solidFill>
                  <a:srgbClr val="000000"/>
                </a:solidFill>
                <a:latin typeface="Times New Roman"/>
                <a:ea typeface="Times New Roman"/>
              </a:rPr>
              <a:t>нулись журавл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73">
                                            <p:txEl>
                                              <p:pRg st="0" end="0"/>
                                            </p:txEl>
                                          </p:spTgt>
                                        </p:tgtEl>
                                        <p:attrNameLst>
                                          <p:attrName>style.visibility</p:attrName>
                                        </p:attrNameLst>
                                      </p:cBhvr>
                                      <p:to>
                                        <p:strVal val="visible"/>
                                      </p:to>
                                    </p:set>
                                    <p:anim calcmode="lin" valueType="num">
                                      <p:cBhvr additive="base">
                                        <p:cTn id="7" dur="500" fill="hold"/>
                                        <p:tgtEl>
                                          <p:spTgt spid="207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73">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073">
                                            <p:txEl>
                                              <p:pRg st="1" end="1"/>
                                            </p:txEl>
                                          </p:spTgt>
                                        </p:tgtEl>
                                        <p:attrNameLst>
                                          <p:attrName>style.visibility</p:attrName>
                                        </p:attrNameLst>
                                      </p:cBhvr>
                                      <p:to>
                                        <p:strVal val="visible"/>
                                      </p:to>
                                    </p:set>
                                    <p:anim calcmode="lin" valueType="num">
                                      <p:cBhvr additive="base">
                                        <p:cTn id="11" dur="500" fill="hold"/>
                                        <p:tgtEl>
                                          <p:spTgt spid="2073">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073">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073">
                                            <p:txEl>
                                              <p:pRg st="2" end="2"/>
                                            </p:txEl>
                                          </p:spTgt>
                                        </p:tgtEl>
                                        <p:attrNameLst>
                                          <p:attrName>style.visibility</p:attrName>
                                        </p:attrNameLst>
                                      </p:cBhvr>
                                      <p:to>
                                        <p:strVal val="visible"/>
                                      </p:to>
                                    </p:set>
                                    <p:anim calcmode="lin" valueType="num">
                                      <p:cBhvr additive="base">
                                        <p:cTn id="15" dur="500" fill="hold"/>
                                        <p:tgtEl>
                                          <p:spTgt spid="2073">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0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74"/>
                                        </p:tgtEl>
                                        <p:attrNameLst>
                                          <p:attrName>style.visibility</p:attrName>
                                        </p:attrNameLst>
                                      </p:cBhvr>
                                      <p:to>
                                        <p:strVal val="visible"/>
                                      </p:to>
                                    </p:set>
                                    <p:anim calcmode="lin" valueType="num">
                                      <p:cBhvr additive="base">
                                        <p:cTn id="21" dur="500" fill="hold"/>
                                        <p:tgtEl>
                                          <p:spTgt spid="2074"/>
                                        </p:tgtEl>
                                        <p:attrNameLst>
                                          <p:attrName>ppt_x</p:attrName>
                                        </p:attrNameLst>
                                      </p:cBhvr>
                                      <p:tavLst>
                                        <p:tav tm="0">
                                          <p:val>
                                            <p:strVal val="#ppt_x"/>
                                          </p:val>
                                        </p:tav>
                                        <p:tav tm="100000">
                                          <p:val>
                                            <p:strVal val="#ppt_x"/>
                                          </p:val>
                                        </p:tav>
                                      </p:tavLst>
                                    </p:anim>
                                    <p:anim calcmode="lin" valueType="num">
                                      <p:cBhvr additive="base">
                                        <p:cTn id="22" dur="500" fill="hold"/>
                                        <p:tgtEl>
                                          <p:spTgt spid="20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title"/>
          </p:nvPr>
        </p:nvSpPr>
        <p:spPr>
          <a:xfrm>
            <a:off x="304920" y="456840"/>
            <a:ext cx="8686800" cy="12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Лингвистическая задача</a:t>
            </a:r>
            <a:br>
              <a:rPr sz="4000"/>
            </a:br>
            <a:r>
              <a:rPr b="1" lang="ru-RU" sz="4000" spc="-1" strike="noStrike">
                <a:solidFill>
                  <a:srgbClr val="7030a0"/>
                </a:solidFill>
                <a:latin typeface="Calibri"/>
              </a:rPr>
              <a:t>Из предложений</a:t>
            </a:r>
            <a:r>
              <a:rPr b="1" lang="ru-RU" sz="4000" spc="-1" strike="noStrike">
                <a:solidFill>
                  <a:srgbClr val="000000"/>
                </a:solidFill>
                <a:latin typeface="Calibri"/>
              </a:rPr>
              <a:t>:</a:t>
            </a:r>
            <a:endParaRPr b="0" lang="en-US" sz="4000" spc="-1" strike="noStrike">
              <a:solidFill>
                <a:srgbClr val="000000"/>
              </a:solidFill>
              <a:latin typeface="Calibri"/>
            </a:endParaRPr>
          </a:p>
        </p:txBody>
      </p:sp>
      <p:sp>
        <p:nvSpPr>
          <p:cNvPr id="20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Я вышла на улицу. (</a:t>
            </a:r>
            <a:r>
              <a:rPr b="1" lang="ru-RU" sz="3000" spc="-1" strike="noStrike">
                <a:solidFill>
                  <a:srgbClr val="ff0000"/>
                </a:solidFill>
                <a:latin typeface="Calibri"/>
              </a:rPr>
              <a:t>возьмите подлежащее</a:t>
            </a:r>
            <a:r>
              <a:rPr b="1" lang="ru-RU"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Я шагнула вперёд. (</a:t>
            </a:r>
            <a:r>
              <a:rPr b="1" lang="ru-RU" sz="3000" spc="-1" strike="noStrike">
                <a:solidFill>
                  <a:srgbClr val="ff0000"/>
                </a:solidFill>
                <a:latin typeface="Calibri"/>
              </a:rPr>
              <a:t>возьмите сказуемое</a:t>
            </a:r>
            <a:r>
              <a:rPr b="1" lang="ru-RU"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Котёнок осторожно подошёл ко мне (</a:t>
            </a:r>
            <a:r>
              <a:rPr b="1" lang="ru-RU" sz="3000" spc="-1" strike="noStrike">
                <a:solidFill>
                  <a:srgbClr val="ff0000"/>
                </a:solidFill>
                <a:latin typeface="Calibri"/>
              </a:rPr>
              <a:t>возьмите обстоятельство</a:t>
            </a:r>
            <a:r>
              <a:rPr b="1" lang="ru-RU"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На лесную полянку вышел лось. (</a:t>
            </a:r>
            <a:r>
              <a:rPr b="1" lang="ru-RU" sz="3000" spc="-1" strike="noStrike">
                <a:solidFill>
                  <a:srgbClr val="ff0000"/>
                </a:solidFill>
                <a:latin typeface="Calibri"/>
              </a:rPr>
              <a:t>возьмите определение)</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Я увидела тропинку.(</a:t>
            </a:r>
            <a:r>
              <a:rPr b="1" lang="ru-RU" sz="3000" spc="-1" strike="noStrike">
                <a:solidFill>
                  <a:srgbClr val="ff0000"/>
                </a:solidFill>
                <a:latin typeface="Calibri"/>
              </a:rPr>
              <a:t>возьмите дополнение</a:t>
            </a:r>
            <a:r>
              <a:rPr b="1" lang="ru-RU"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u="sng">
                <a:solidFill>
                  <a:srgbClr val="7030a0"/>
                </a:solidFill>
                <a:uFillTx/>
                <a:latin typeface="Calibri"/>
              </a:rPr>
              <a:t>Составьте новое предложени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title"/>
          </p:nvPr>
        </p:nvSpPr>
        <p:spPr>
          <a:xfrm>
            <a:off x="304560" y="457200"/>
            <a:ext cx="8124840" cy="447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Тема урока:</a:t>
            </a:r>
            <a:br>
              <a:rPr sz="6000"/>
            </a:br>
            <a:r>
              <a:rPr b="1" lang="ru-RU" sz="6000" spc="-1" strike="noStrike">
                <a:solidFill>
                  <a:srgbClr val="002060"/>
                </a:solidFill>
                <a:latin typeface="Calibri"/>
              </a:rPr>
              <a:t>Второстепенные члены предложения</a:t>
            </a:r>
            <a:endParaRPr b="0" lang="en-US" sz="6000" spc="-1" strike="noStrike">
              <a:solidFill>
                <a:srgbClr val="000000"/>
              </a:solidFill>
              <a:latin typeface="Calibri"/>
            </a:endParaRPr>
          </a:p>
        </p:txBody>
      </p:sp>
      <p:sp>
        <p:nvSpPr>
          <p:cNvPr id="2078" name=""/>
          <p:cNvSpPr txBox="1"/>
          <p:nvPr/>
        </p:nvSpPr>
        <p:spPr>
          <a:xfrm>
            <a:off x="304920" y="6000840"/>
            <a:ext cx="8686800" cy="79200"/>
          </a:xfrm>
          <a:prstGeom prst="rect">
            <a:avLst/>
          </a:prstGeom>
          <a:noFill/>
          <a:ln w="0">
            <a:noFill/>
          </a:ln>
        </p:spPr>
        <p:txBody>
          <a:bodyPr tIns="33480" bIns="33480"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4e3b30"/>
              </a:solidFill>
              <a:latin typeface="Franklin Gothic Medium"/>
            </a:endParaRPr>
          </a:p>
        </p:txBody>
      </p:sp>
      <p:pic>
        <p:nvPicPr>
          <p:cNvPr id="2080" name="Содержимое 3" descr=""/>
          <p:cNvPicPr/>
          <p:nvPr/>
        </p:nvPicPr>
        <p:blipFill>
          <a:blip r:embed="rId1"/>
          <a:stretch/>
        </p:blipFill>
        <p:spPr>
          <a:xfrm>
            <a:off x="0" y="-73080"/>
            <a:ext cx="9144000" cy="7583400"/>
          </a:xfrm>
          <a:prstGeom prst="rect">
            <a:avLst/>
          </a:prstGeom>
          <a:ln w="0">
            <a:noFill/>
          </a:ln>
        </p:spPr>
      </p:pic>
      <p:pic>
        <p:nvPicPr>
          <p:cNvPr id="2081" name="Picture 2" descr=""/>
          <p:cNvPicPr/>
          <p:nvPr/>
        </p:nvPicPr>
        <p:blipFill>
          <a:blip r:embed="rId2"/>
          <a:stretch/>
        </p:blipFill>
        <p:spPr>
          <a:xfrm>
            <a:off x="3071880" y="5284800"/>
            <a:ext cx="2609640" cy="6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Запишите предложения,</a:t>
            </a:r>
            <a:br>
              <a:rPr sz="1600"/>
            </a:br>
            <a:r>
              <a:rPr b="1" lang="ru-RU" sz="1600" spc="-1" strike="noStrike">
                <a:solidFill>
                  <a:srgbClr val="000000"/>
                </a:solidFill>
                <a:latin typeface="Calibri"/>
              </a:rPr>
              <a:t>2.вставьте пропущенные буквы, объясните орфограммы,</a:t>
            </a:r>
            <a:br>
              <a:rPr sz="1600"/>
            </a:br>
            <a:r>
              <a:rPr b="1" lang="ru-RU" sz="1600" spc="-1" strike="noStrike">
                <a:solidFill>
                  <a:srgbClr val="000000"/>
                </a:solidFill>
                <a:latin typeface="Calibri"/>
              </a:rPr>
              <a:t>3. Выделите основу предложения (подлежащее и сказуемое),</a:t>
            </a:r>
            <a:br>
              <a:rPr sz="1600"/>
            </a:br>
            <a:r>
              <a:rPr b="1" lang="ru-RU" sz="1600" spc="-1" strike="noStrike">
                <a:solidFill>
                  <a:srgbClr val="000000"/>
                </a:solidFill>
                <a:latin typeface="Calibri"/>
              </a:rPr>
              <a:t>4. укажите, каким второстепенным членом предложения является выделенное слово.</a:t>
            </a:r>
            <a:endParaRPr b="0" lang="en-US" sz="1600" spc="-1" strike="noStrike">
              <a:solidFill>
                <a:srgbClr val="000000"/>
              </a:solidFill>
              <a:latin typeface="Calibri"/>
            </a:endParaRPr>
          </a:p>
        </p:txBody>
      </p:sp>
      <p:graphicFrame>
        <p:nvGraphicFramePr>
          <p:cNvPr id="2083" name=""/>
          <p:cNvGraphicFramePr/>
          <p:nvPr/>
        </p:nvGraphicFramePr>
        <p:xfrm>
          <a:off x="0" y="1785960"/>
          <a:ext cx="9144000" cy="5072040"/>
        </p:xfrm>
        <a:graphic>
          <a:graphicData uri="http://schemas.openxmlformats.org/drawingml/2006/table">
            <a:tbl>
              <a:tblPr/>
              <a:tblGrid>
                <a:gridCol w="3048120"/>
                <a:gridCol w="3047760"/>
                <a:gridCol w="3048120"/>
              </a:tblGrid>
              <a:tr h="115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1 группа</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2 группа</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3 группа</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0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Дикие</a:t>
                      </a:r>
                      <a:r>
                        <a:rPr b="0" i="1" lang="ru-RU" sz="2000" spc="-1" strike="noStrike">
                          <a:solidFill>
                            <a:srgbClr val="000000"/>
                          </a:solidFill>
                          <a:latin typeface="Calibri"/>
                        </a:rPr>
                        <a:t> </a:t>
                      </a:r>
                      <a:r>
                        <a:rPr b="0" lang="ru-RU" sz="2000" spc="-1" strike="noStrike">
                          <a:solidFill>
                            <a:srgbClr val="000000"/>
                          </a:solidFill>
                          <a:latin typeface="Calibri"/>
                        </a:rPr>
                        <a:t>гуси г…товилис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 отлёту</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жий в…терок играет </a:t>
                      </a:r>
                      <a:r>
                        <a:rPr b="1" i="1" lang="ru-RU" sz="2000" spc="-1" strike="noStrike">
                          <a:solidFill>
                            <a:srgbClr val="000000"/>
                          </a:solidFill>
                          <a:latin typeface="Calibri"/>
                        </a:rPr>
                        <a:t>листьями.</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 Откуда?) Из-за туч </a:t>
                      </a:r>
                      <a:r>
                        <a:rPr b="0" lang="ru-RU" sz="2000" spc="-1" strike="noStrike">
                          <a:solidFill>
                            <a:srgbClr val="000000"/>
                          </a:solidFill>
                          <a:latin typeface="Calibri"/>
                        </a:rPr>
                        <a:t>выглянуло солнышк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ревья</a:t>
                      </a:r>
                      <a:r>
                        <a:rPr b="1" i="1" lang="ru-RU" sz="2000" spc="-1" strike="noStrike">
                          <a:solidFill>
                            <a:srgbClr val="000000"/>
                          </a:solidFill>
                          <a:latin typeface="Calibri"/>
                        </a:rPr>
                        <a:t> постепенно </a:t>
                      </a:r>
                      <a:r>
                        <a:rPr b="0" lang="ru-RU" sz="2000" spc="-1" strike="noStrike">
                          <a:solidFill>
                            <a:srgbClr val="000000"/>
                          </a:solidFill>
                          <a:latin typeface="Calibri"/>
                        </a:rPr>
                        <a:t>обл…таю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шёл </a:t>
                      </a:r>
                      <a:r>
                        <a:rPr b="1" i="1" lang="ru-RU" sz="2000" spc="-1" strike="noStrike">
                          <a:solidFill>
                            <a:srgbClr val="000000"/>
                          </a:solidFill>
                          <a:latin typeface="Calibri"/>
                        </a:rPr>
                        <a:t>ре…кий </a:t>
                      </a:r>
                      <a:r>
                        <a:rPr b="0" lang="ru-RU" sz="2000" spc="-1" strike="noStrike">
                          <a:solidFill>
                            <a:srgbClr val="000000"/>
                          </a:solidFill>
                          <a:latin typeface="Calibri"/>
                        </a:rPr>
                        <a:t>дожд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сточек оторвался  </a:t>
                      </a:r>
                      <a:r>
                        <a:rPr b="1" lang="ru-RU" sz="2000" spc="-1" strike="noStrike">
                          <a:solidFill>
                            <a:srgbClr val="000000"/>
                          </a:solidFill>
                          <a:latin typeface="Calibri"/>
                        </a:rPr>
                        <a:t>(от чего?) </a:t>
                      </a:r>
                      <a:r>
                        <a:rPr b="1" i="1" lang="ru-RU" sz="2000" spc="-1" strike="noStrike">
                          <a:solidFill>
                            <a:srgbClr val="000000"/>
                          </a:solidFill>
                          <a:latin typeface="Calibri"/>
                        </a:rPr>
                        <a:t>от дер…в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0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a:t>
                      </a:r>
                      <a:r>
                        <a:rPr b="1" lang="ru-RU" sz="2000" spc="-1" strike="noStrike">
                          <a:solidFill>
                            <a:srgbClr val="000000"/>
                          </a:solidFill>
                          <a:latin typeface="Calibri"/>
                        </a:rPr>
                        <a:t> </a:t>
                      </a:r>
                      <a:r>
                        <a:rPr b="0" lang="ru-RU" sz="2000" spc="-1" strike="noStrike">
                          <a:solidFill>
                            <a:srgbClr val="000000"/>
                          </a:solidFill>
                          <a:latin typeface="Calibri"/>
                        </a:rPr>
                        <a:t>синем </a:t>
                      </a:r>
                      <a:r>
                        <a:rPr b="1" i="1" lang="ru-RU" sz="2000" spc="-1" strike="noStrike">
                          <a:solidFill>
                            <a:srgbClr val="000000"/>
                          </a:solidFill>
                          <a:latin typeface="Calibri"/>
                        </a:rPr>
                        <a:t>небе</a:t>
                      </a:r>
                      <a:r>
                        <a:rPr b="0" lang="ru-RU" sz="2000" spc="-1" strike="noStrike">
                          <a:solidFill>
                            <a:srgbClr val="000000"/>
                          </a:solidFill>
                          <a:latin typeface="Calibri"/>
                        </a:rPr>
                        <a:t> в…сят </a:t>
                      </a:r>
                      <a:r>
                        <a:rPr b="1" i="1" lang="ru-RU" sz="2000" spc="-1" strike="noStrike">
                          <a:solidFill>
                            <a:srgbClr val="000000"/>
                          </a:solidFill>
                          <a:latin typeface="Calibri"/>
                        </a:rPr>
                        <a:t>белые</a:t>
                      </a:r>
                      <a:r>
                        <a:rPr b="0" lang="ru-RU" sz="2000" spc="-1" strike="noStrike">
                          <a:solidFill>
                            <a:srgbClr val="000000"/>
                          </a:solidFill>
                          <a:latin typeface="Calibri"/>
                        </a:rPr>
                        <a:t> облак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лака плывут </a:t>
                      </a:r>
                      <a:r>
                        <a:rPr b="1" i="1" lang="ru-RU" sz="2000" spc="-1" strike="noStrike">
                          <a:solidFill>
                            <a:srgbClr val="000000"/>
                          </a:solidFill>
                          <a:latin typeface="Calibri"/>
                        </a:rPr>
                        <a:t>на восток</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На какой?) На высокой </a:t>
                      </a:r>
                      <a:r>
                        <a:rPr b="0" lang="ru-RU" sz="2000" spc="-1" strike="noStrike">
                          <a:solidFill>
                            <a:srgbClr val="000000"/>
                          </a:solidFill>
                          <a:latin typeface="Calibri"/>
                        </a:rPr>
                        <a:t>ели уселась стайка др…здов</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2T04:07:22Z</dcterms:created>
  <dc:creator>Мама</dc:creator>
  <dc:description/>
  <dc:language>en-US</dc:language>
  <cp:lastModifiedBy>Надежда</cp:lastModifiedBy>
  <dcterms:modified xsi:type="dcterms:W3CDTF">2015-12-03T09:39:57Z</dcterms:modified>
  <cp:revision>23</cp:revision>
  <dc:subject/>
  <dc:title>Поле. Раскинулось поле волнистою тканью И с небом слилось темно-синею гранью. И в небе прозрачном щитом золотым Блестящее солнце сияет над ним. Как по морю, ветер по нивам гуляет И белым туманом холмы одевает, О чем-то украдкой с травой говорит И смело по ржи золотистой шумит.                                                                              И. Никитин</dc:title>
</cp:coreProperties>
</file>