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463-4B7F-4FD1-8872-878CD969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AB6-C439-407D-8E42-1E430BE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18C3F-119F-427D-8822-0187178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0FF5-DE00-44A9-B196-CD3F9661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98F8B-E9E6-4252-92A5-262AD32A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2AB30-421C-4CFA-B78D-2157E8A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74945-29D5-4222-B95F-BD13B11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EA7DA-AF18-4686-8494-3640B33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573A-41AB-4E20-A126-937417A6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B299-081E-43DC-B8AB-6B6675B8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3952A-007F-4487-807F-E15D28EA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7C994-99DA-40D4-B205-766A8123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693-5D3E-451C-88C9-306FB4EF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D02F6-F273-4A7C-A6DB-518C50E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B82B-2DDC-45EE-A37C-2990945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01CFC-E3CE-42DE-B53B-0728D7E6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19549-9C8A-4A6F-A599-838B9EA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87EB3-4396-4E42-A667-9104D817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CA845-9736-4D0D-9DD5-D01F33B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F2E6-020B-4962-AD08-089B6EA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4B34A-7A9B-4AE7-8F6A-D22F621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7115B-A7FA-4620-9C44-68D4568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64EA1-8963-47CE-AB8B-936D8EC6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33A-9437-48B8-B68D-C652F769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A66D6-00A5-420E-B7D3-2D991F03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B0298-A304-4667-B88C-2ECCC236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C16F0-378D-4EF8-8FD8-467BA0C9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6DE7-37AD-472E-82C5-16B838CF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926C3-6640-4A8C-8CF8-DD18595E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6C341-B349-416A-A849-4573C479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1A59-21BF-4B83-8F75-368D012B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720F0-A5C9-407D-A39A-C275A6F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BE61-54DF-4FE9-9F86-0968F86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B3B53-5216-43D6-8183-F552739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4EB9-F72C-486A-9B4E-653C2F3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E0285-45B0-46BD-A628-6462F99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1E8A8-F9C1-44B4-91D5-601A2153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5B47-189C-4552-A0C1-7B4A0DF4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3F832-6CA6-42D0-8FFA-2CCBAD0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D8390-7442-4112-9C8F-B20CF72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644E6-0312-4D5E-B9CC-D2B6DCA2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37F3-FC88-434A-925E-2AB78109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E63F6-FDD8-4578-ACDE-F75E8E9E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BA57E-796F-4352-BB2D-E7E9B25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65845-DAD7-4C38-B804-8F105DA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944-9763-46A6-964B-084C9EC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0E5B-6AF3-4510-8EF7-44FC31F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3A4B5-23BF-4C49-ABB2-C292567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5C806-CA04-44D8-812D-49B7885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9EBE-4F84-472A-8DC4-FB7EBBD3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42704-E490-425D-B7B8-F4D6BD3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45343-99C7-4404-A615-3BDA69A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567AD-4530-4D22-8E0B-9C0400D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FA182-236D-471D-BC88-7870F73E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5ADD3-C59D-43DF-85D2-4A84F5C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6D31C-404E-4EF1-91B4-D8CABEC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FE12-57F1-4CF5-AC09-8440B59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A66F3-02F1-48BA-A9BB-6C1B810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93F72-0F8B-40D8-80A0-28C2E44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6EB13-41A4-4B70-861B-8D806DA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F9BB8-D0D4-416E-9FD6-3AE6C8D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30BF1-5CAA-4966-BF22-C4252F3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DC9D0-8AAB-4175-B061-095DE365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8555A-F900-4DE5-B437-651F6DD8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6365A-EF58-4809-97B8-72219454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9BAD3-7CB8-4C57-9A25-8DC39AA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6DBD7-8DFE-49C6-B141-939E1AB9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8DAA-529D-418E-B6A0-64CE5562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AA611-DCD0-4688-A010-97CBAF4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6D438-D82C-4AB2-8CA5-51CAA7D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28799-A561-4C5B-B26C-B02191A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C03DF-18CF-48F8-8E5B-0B9A8A3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9C019-EAB0-423A-A8DC-1B1A236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4AC2D-77DE-4FC1-89F3-BEDE7D3A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15A0C-772E-437C-A9DF-7B49B9C5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333E7-254D-4CCD-A54A-0C58BFD1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D298D-4702-4FA7-8289-069BF4B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7F949-7843-41D2-9564-0DEE717E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79A3-42B7-408D-B5B7-951D6452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E88E9-24F7-4F51-9010-5E68AED3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534A0-6467-4290-B8B8-1F6B550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F0330-CE9D-4847-B26C-E810FA17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68885-D26A-43FA-A000-969443B4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AC585-B4CE-4D4C-BEBE-EC06F664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1D3B8-A138-4638-B05A-F70CA55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FE3BD-70EE-4FE1-9596-668F1BC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57B7D-E820-41E5-A7EF-82CEC58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62FEA-1378-4E4D-B6FF-8AC6385C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3FD5E-BEE5-45B6-A3E8-C9494284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4E7-AC11-4B08-89F2-53BAF126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38DB1-9D64-42BB-A905-EDAF900B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0B47-AE38-4B54-9FDC-DDB9A56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0F7-5B08-4E83-9938-A024BF9D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DDF-2D4A-48BC-9A89-C3F0558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5AB-F917-4FDE-95D1-FAF6D44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5736-A4D4-4F2A-A4DA-FEADE25E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A2CF-2157-44DE-B051-36F262CF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C49-5FAE-4F47-B5AB-313EC785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091B-450A-4479-A1FC-7CAA97E7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94C0-74F4-4836-AA44-0981F65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90CE-C992-43BF-9A8D-F02D2E4C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BB52-F06E-4F53-B6E0-C520AE7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00DF-361C-4AF7-AD87-8341F785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717-9FFD-46FD-8E4C-2EA2271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F827-387A-4E8E-AAF2-EE223C84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5192-1B82-476D-A876-685F3C8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E17B-B407-49CC-9EE5-4F7ABAC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2365-3CC8-47D7-A927-6B1ABFD7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8376-B3B3-4922-B2FE-C0194365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E21D-C275-4C18-B9D2-7A255BD7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3464-0FEF-4218-B4EC-27AFCFAC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131C-7727-4183-9A40-367D7818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5479-7F54-4470-B045-EE1E0E6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A706-A15B-48C3-98F1-29461377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7DE-B7E4-4C92-9960-1ADC0CCC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BB11-8555-45BE-A881-9E071D1F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7698-66A3-4298-9AF3-175D218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DE3E-DDDF-4229-8545-024D3F1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F3E6-A4EA-462F-9C98-21C1AC0C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AEF1-775F-4652-981E-27A109E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DA20-8192-486B-899E-B7AE311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36BED-40FC-4F31-A655-688CB62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5468-8B6D-43BC-BD1D-3D01138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E800-A1FC-4A92-902E-93588516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6EF4-947A-4755-8BAF-00FE59EE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8BC-8CD8-40C0-92A5-97D0F727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29F0-4735-4DFB-BBDD-061950D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4F21-8421-424A-9C73-19CFFA32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F75B-8CE4-4266-9101-13D7426B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9FE1C-6A4D-4E97-AD8A-FBF6335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1792-9F97-42E9-91D3-4EB3873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EEEC-54B1-4115-9815-D492911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A742-B790-48E9-9D1D-4E56429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A0DF-969D-4353-AA2E-2BC2FEE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17F4-903A-4463-AFB8-C958313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B676-3FBD-4E6D-9F83-F84EFA6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938-CD6D-4AD7-B583-4B44739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04AC-859C-454E-A165-B89BE036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0122-09D9-42E5-981A-D0B8A11B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EA32-6E9B-4F63-A452-E4AF312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5E9FC-2579-4A0A-8FFA-6A3514E9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FCAD-98C7-4159-9AE5-FFE62CB9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D47F-5E43-4592-B5A9-7B932B1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A8B3-5305-47F8-845B-A7DD164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3212-798B-4AD2-9599-ABC23CE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A990-0D68-440D-B4C5-FB5EDC1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5AE1-EDF3-44CE-A0A3-186C1AF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3B0-CA5E-4F2C-84DC-C5F8104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AA18-4087-49C5-B7A7-BC9CF676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99AA-E6F1-468B-B785-A8123E46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0F32-1A79-4F7F-B88B-E72CDEE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78DC-ABC4-45D2-906F-DDBEBC2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76D7-6ADF-484E-889A-B738D04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34B4-9430-49E7-BF77-133D8E8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A45D-523A-4CB7-8E71-F3E4879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5BDD-8560-47E8-A17C-CEDBF811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80EB-A7EA-4F41-936E-A2E2A76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FA2C2-EBBC-485D-B186-20E28A2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03E-16CD-4F00-9306-BAD6702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5ACFF-9E2B-4F2E-826C-1BE8181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6BD3-11DB-4D1E-A6F7-333330E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C1E6-9345-406D-A25B-1E6DAB26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2112-BAE6-43C1-ACFA-F9774AD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28CC-A269-431C-A13C-CA8B8F97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2D2F-D14E-4A96-BD33-9088635A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DB57-24CA-48B1-AF4F-3FC6B89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7659E-41E7-4A53-B07D-9A277EC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52D5-A815-41C5-87DC-F274388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2919-FD72-4C7B-9721-0EDE0BF4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34F-D5BB-4D1B-A421-8E166E2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F83B6-33D8-47CF-B835-E632E1A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7FA1-928C-4AEA-9AC8-4B770F6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36A2E-4117-4183-9815-5C67BC3C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677A-BC70-4600-B041-286C94B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6541-CC1E-45AC-B8D0-95A8E50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7B858-5428-4DD8-8FF7-A6BC5B6F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2775-C136-44CC-B186-56ADD1F2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CE8D-3D5E-4A12-8C2D-CDE805C5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E3F6-CF40-4A67-8796-556E103A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D45D6-8C1D-4581-A140-A5F209AA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AD0D-BDA8-424D-956F-C93405687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BBD-1E5A-482E-9896-54EB6CB50C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16D-BCE3-448B-ABB5-49B3A1A3C7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6B26-AB39-4635-A741-79E4E04237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5EC-12AA-48B2-93C8-EF88ED9B76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FD3-052F-497C-B493-47A95B537A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3279-751C-497C-B643-E0FC73F315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682-2C14-48B1-94E3-7786E8D4E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EFA-27D5-4417-8662-426FAAA0AC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851-87FE-46D3-992B-ED4D70534D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BB2E-78B0-4B24-9123-E5DC351E01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793A-6915-4F92-BE8B-DB00AB5A1A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D5C-15F2-47DF-B9AA-BAE39956DF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E9D6-89EE-4D4B-9FCD-E7001967FF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A63-413B-47AA-990B-D21325377A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равописание корней с чередованием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Р -З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равните сло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306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ори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орюш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ор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500720" y="2060640"/>
            <a:ext cx="3311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ар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оза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rc 5"/>
          <p:cNvSpPr/>
          <p:nvPr/>
        </p:nvSpPr>
        <p:spPr>
          <a:xfrm rot="19244400">
            <a:off x="1331640" y="1989000"/>
            <a:ext cx="552240" cy="52416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rc 6"/>
          <p:cNvSpPr/>
          <p:nvPr/>
        </p:nvSpPr>
        <p:spPr>
          <a:xfrm rot="19244400">
            <a:off x="1116000" y="328428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rc 7"/>
          <p:cNvSpPr/>
          <p:nvPr/>
        </p:nvSpPr>
        <p:spPr>
          <a:xfrm rot="19244400">
            <a:off x="1115640" y="4689000"/>
            <a:ext cx="552600" cy="52416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rc 8"/>
          <p:cNvSpPr/>
          <p:nvPr/>
        </p:nvSpPr>
        <p:spPr>
          <a:xfrm rot="19244400">
            <a:off x="5292720" y="191592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rc 9"/>
          <p:cNvSpPr/>
          <p:nvPr/>
        </p:nvSpPr>
        <p:spPr>
          <a:xfrm rot="19244400">
            <a:off x="5076720" y="321264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rc 10"/>
          <p:cNvSpPr/>
          <p:nvPr/>
        </p:nvSpPr>
        <p:spPr>
          <a:xfrm rot="19244400">
            <a:off x="5580000" y="450828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 flipH="1">
            <a:off x="1618920" y="198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2"/>
          <p:cNvSpPr/>
          <p:nvPr/>
        </p:nvSpPr>
        <p:spPr>
          <a:xfrm flipH="1">
            <a:off x="1402920" y="328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3"/>
          <p:cNvSpPr/>
          <p:nvPr/>
        </p:nvSpPr>
        <p:spPr>
          <a:xfrm flipH="1">
            <a:off x="1402920" y="4662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4"/>
          <p:cNvSpPr/>
          <p:nvPr/>
        </p:nvSpPr>
        <p:spPr>
          <a:xfrm flipH="1">
            <a:off x="6582960" y="198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5"/>
          <p:cNvSpPr/>
          <p:nvPr/>
        </p:nvSpPr>
        <p:spPr>
          <a:xfrm flipH="1">
            <a:off x="5867280" y="3284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6"/>
          <p:cNvSpPr/>
          <p:nvPr/>
        </p:nvSpPr>
        <p:spPr>
          <a:xfrm flipH="1">
            <a:off x="6372000" y="458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1627200" y="42876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им 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"/>
          <p:cNvSpPr/>
          <p:nvPr/>
        </p:nvSpPr>
        <p:spPr>
          <a:xfrm>
            <a:off x="214200" y="157176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и корень -зар- – -зор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3"/>
          <p:cNvSpPr/>
          <p:nvPr/>
        </p:nvSpPr>
        <p:spPr>
          <a:xfrm>
            <a:off x="214200" y="22860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авь уд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214200" y="30002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ласная находится под удар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2214720" y="42148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6"/>
          <p:cNvSpPr/>
          <p:nvPr/>
        </p:nvSpPr>
        <p:spPr>
          <a:xfrm>
            <a:off x="5429160" y="421488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7"/>
          <p:cNvSpPr/>
          <p:nvPr/>
        </p:nvSpPr>
        <p:spPr>
          <a:xfrm>
            <a:off x="1643040" y="56437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и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8"/>
          <p:cNvSpPr/>
          <p:nvPr/>
        </p:nvSpPr>
        <p:spPr>
          <a:xfrm>
            <a:off x="5000760" y="56437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Прямая со стрелкой 10"/>
          <p:cNvCxnSpPr/>
          <p:nvPr/>
        </p:nvCxnSpPr>
        <p:spPr>
          <a:xfrm flipH="1">
            <a:off x="2928240" y="3786120"/>
            <a:ext cx="114372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6" name="Прямая со стрелкой 17"/>
          <p:cNvCxnSpPr/>
          <p:nvPr/>
        </p:nvCxnSpPr>
        <p:spPr>
          <a:xfrm>
            <a:off x="5000400" y="3786120"/>
            <a:ext cx="114372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7" name="Прямая со стрелкой 18"/>
          <p:cNvCxnSpPr/>
          <p:nvPr/>
        </p:nvCxnSpPr>
        <p:spPr>
          <a:xfrm>
            <a:off x="2927880" y="5000400"/>
            <a:ext cx="10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8" name="Прямая со стрелкой 20"/>
          <p:cNvCxnSpPr/>
          <p:nvPr/>
        </p:nvCxnSpPr>
        <p:spPr>
          <a:xfrm>
            <a:off x="6142680" y="4928760"/>
            <a:ext cx="10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69" name="Picture 14" descr="D:\Бородулина Н.В\мне надо\image.jpg"/>
          <p:cNvPicPr/>
          <p:nvPr/>
        </p:nvPicPr>
        <p:blipFill>
          <a:blip r:embed="rId1"/>
          <a:stretch/>
        </p:blipFill>
        <p:spPr>
          <a:xfrm>
            <a:off x="108000" y="108000"/>
            <a:ext cx="1563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ЕПОДАВАТЕЛЬ - ШУТОВА ЛАРИСА ДМИТРИЕВНА</dc:creator>
  <dc:description/>
  <dc:language>en-US</dc:language>
  <cp:lastModifiedBy>Надежда</cp:lastModifiedBy>
  <dcterms:modified xsi:type="dcterms:W3CDTF">2015-12-03T09:42:30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