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21D-85DB-4DD6-8E1A-03D7B21F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469-D914-46F7-8075-F2DC615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B0B-2EAE-41B1-A326-D2DEE44C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DE7-3DB5-45B1-A152-8CB62F8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2E37-E61B-498E-BBAA-4F670D89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00F8-00A1-497F-BB27-7DDF5B1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E531-B929-4672-AC93-CA86FE6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00BA-8EAB-47A0-8E6B-DF20BD1E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E363-6308-424A-8472-0119109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7808-597E-43E8-8994-94236F2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756-AAB3-41B8-868C-DDB821D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28C-DB9B-494C-9687-D770A5E6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0A09-B498-47A2-BA79-D737EDA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40E1-3920-4D55-A37E-0559EB1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672-8262-4A83-AE00-95C5D5E2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9D8-548D-4AF0-8581-F1F02BB2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16B-1512-447C-96A1-443C4351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B59-0B9B-457C-910D-16D112A3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D0C-BC78-46F4-A85C-F211483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0C9-D7D5-456D-9A94-18D2292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15D-B5A4-4A0F-BADF-ECD1473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43A-1C72-47A5-909A-802291E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580-2943-4E5F-BA4C-97C9819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094-4572-4CB8-B684-C9D36B1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2F71-DF88-4766-B5F5-0EF71FC7E9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ABC7-0604-4BFE-BDCA-68AB82B48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675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овышение эффективности урока через использование ИКТ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 условиях внедрения ФГО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465300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льга Витальевна Богодухов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БОУ «ООШ №20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нжеро-Судженского городского окру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358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Информационно-коммуникационные технологии (ИКТ)-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, использующий совокупность средств и методов сбора, обработки и передачи данных для получения инфор-мации нового качества о состоянии объекта, процесса или яв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еимущества И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ктивная позиция учащегос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формационная насыщеннос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дивидуализация и дифференциация процесса обуч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нсификация процесса обуч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рактивные связи с различными образовательными ресурс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302360" cy="2863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Этапы разработки урока с использованием И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п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цептуальны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ап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чес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ап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ерациона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ипы уроков с использованием И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 с компьютерной поддержко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 с выходом в Интерне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 с мультимедийной поддерж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7717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едства И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уч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нажё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монстрационн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абораторн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делиру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бно-игров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формационно-поисков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станционное обучение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цесс передачи знаний, формирования уме-ний и навыков при интерактивном взаимо-действии между обучающим и обучающимся, между ними и интерактивным источником информационного ресурса, отражающий все присущие учебному процессу компоненты, осуществляемый в условиях реализации средств И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ahoma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3:48:01Z</dcterms:created>
  <dc:creator>ольга</dc:creator>
  <dc:description/>
  <dc:language>en-US</dc:language>
  <cp:lastModifiedBy>ольга</cp:lastModifiedBy>
  <dcterms:modified xsi:type="dcterms:W3CDTF">2012-11-29T17:08:37Z</dcterms:modified>
  <cp:revision>4</cp:revision>
  <dc:subject/>
  <dc:title>Слайд 1</dc:title>
</cp:coreProperties>
</file>