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A85C-4EF9-454A-B02E-199A3053D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8C8E-EFCC-49E7-8993-073C49C8A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717E74-D1AE-47A3-B6A2-1794695A5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D1BDC3-03ED-4322-8112-49AE2D618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06A927-75EB-40A0-9826-FF0E8813B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732D21-0AD8-4C65-98B8-7E4E62EC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78F5CB-9654-4064-A52C-74C9E544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C4AA47-2F13-40F1-A2E8-93BCF969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E02499-3007-4576-8FAB-1A2A5CEB1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93CD9D-48A2-4E61-AB9D-5A3D57334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55CF35-A296-4E5C-A91F-E6DCD406F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69EA5D-941E-461D-A7B9-211B49F90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3F11-4313-43FD-AD59-C05318CBE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879B86-CC2D-4FAB-AE21-5CCD97DAB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F85944-D094-464E-9A3A-E1F2A3CF7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C35A28-E0BF-4EB1-A26A-CB7361664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F066EA-74A6-4922-95CA-80D370820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5D7B72-B697-4DEC-AEE3-A6BF09793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B0FEEA-EC70-4B8A-98A8-C9993857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79C1D9-37E2-44D7-B4FD-AEB1D85F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B461FE-504E-43C1-AA23-C5B50A05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79C99E-D370-49EF-BBCF-977DA84C3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43E9E0-7695-4D27-A320-C901AE3D4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7D71-1620-4953-9F87-76F65E598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2089BB-3781-4825-BCA9-6B9DBDC7D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96AB0A-F19E-46C3-B791-AF618918E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563877-9E89-43A0-9F33-F68185B6D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09B1D9-A0F3-4C47-AF3C-45C51057D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C2A835-6F92-43FF-8C4A-3A9EC6DB9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DE08BE-2267-4E0B-BE98-83E98F957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862B18-EC73-45B4-8C33-0F3610848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0BCD3B-6B3F-49DD-80FF-3369F631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822F59-7F8D-467B-85A6-B96C47A7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CD957B-FEFC-44B1-BA74-D51B92C4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DED73-DC26-46A7-8A23-DC7E9B7F7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96A274-7796-4711-B60B-82F14CD93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163F45-D06A-4B84-ADE7-30DA14B22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A7FC6B-1662-46DA-A427-787B13569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ED45A2-3C68-411C-A491-EEA7BE985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F9B43D-9BF8-4203-B2C2-D92A2FBB5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9928BE-D49A-4022-BC49-E3779D51A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40397D-6DBC-4FC9-9F38-4698F8CC7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661A75-8B79-4A4F-BCB6-1C919FB2C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126F9C-581F-48D9-93B9-51EA1B271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C99B7F-74E9-43B1-8F25-628D031E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7824F-AB3F-4075-890E-317E88A3E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620FA5-3BD2-4D66-A10B-362EF496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673EDD-756C-40E4-857A-119B5CE7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B677CB-ACF4-4142-AEA7-FC825FA24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A69581-5BDB-4720-B2BB-79C9A200E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B80249-2BD4-44A9-BB9C-1509F2D05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39CC4B-871B-444C-9182-A819F5A20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97D12D-D215-4A27-B74D-D6C10AB53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FE1C82-D509-402F-8198-4072886C2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FA04B6-30EC-4D70-93C7-B506F4706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F110C1-2CCC-433B-AED5-D6DB3735F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9391D-C303-4731-9315-D576E8E83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C777EF-C401-49C5-BE2F-1E63E4047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F06379-DD04-4248-960D-CBDC80DA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FCC9A5-410B-4BDF-97F6-0B135F78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136401-9FBD-4F5C-9125-E2E9AE90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29EF1E-73A4-4571-8F72-11AAB44C6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18BC9C-9B59-41DD-BD99-4E57B7106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CC4E94-8814-4995-B622-A8242FFA6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F8DA9-A70E-440D-A3BB-4F87CE0B9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B1590-141F-4335-AAF2-C2FEB71F9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C5AB0-AEAC-48B8-809A-A1A9078D7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5832C-8B06-4883-BB8F-2BCE9FCD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892C-5017-4704-9133-9A283B33F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AE3A1-E5DB-4373-8249-894D75B6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97162-191C-4DCA-BB0E-55CBF942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71F2D-D3DF-47C8-BF4F-A8C8841D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F3D90-1390-4CBE-998B-4CB224CFE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946B3-B8CA-42AC-B699-DA26DF2E8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A92FD-CD12-4371-8FDA-4597CB396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DD593-8FFC-47D6-972C-6F731318F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A3B31-D97D-493C-BBA9-8917B827B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53DC2-F9F8-4A41-85A2-BD6A5614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E93C4-57DE-410F-8BFE-35C3DD5C4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C988-6ECB-4F80-95A7-269AC9859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B761B-7058-4F0C-AA3E-DC45E3532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2F54F-7A36-4A2A-920D-82DD03FF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A87BD-CE4A-494A-A918-AFE84B93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20840-13E1-4B87-98FC-C1BADA88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B29B4-C2A1-4583-AFF6-838DFF55F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AE76F-464E-450F-A48D-F16E9B6C0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389DB-C1B0-4469-820D-2A9D1FD98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5CF72-EF59-4626-93FE-F587D46FE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17678-18F3-4FA9-BF86-D19BF5978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1B254-788C-440B-B824-F11B11FB8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FD62-4D9C-4821-ADB9-C000BBA27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5B29F-7E3F-41B0-AAAF-4B67A18A2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1FB1D-7847-413D-A785-648C87E95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88935-BD75-45BF-B4C3-9E4438266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680D5-246C-4010-B045-9446D0FB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6F4AF-6A94-4F54-ADEE-DA67E47E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5A027-3849-4F34-87B6-B491CB3A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A8CDB-25AC-4C35-B7B3-035986749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897F5-FAB0-4E93-8DED-998AA0D9A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D484D-51A8-42E1-AB41-33095A617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A1E43-4905-4F57-8EB3-F5E95B132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9009-6E9C-41E5-A575-9B9B457B6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D656A-A17C-4037-A9A5-58B61782D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E2C65-416F-432D-86CC-9AF2FEBBE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0ED26-A8B6-4F56-9439-8AE8F3C2D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8363C-8300-482F-94CA-985F7166E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33932-0838-4D75-8FE7-DE8AC6858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F6BB6-7F33-47FD-B6F2-0424974F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BA432-9FA4-4369-96D7-464F6115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CE1AC-1D9F-405F-AD63-9A772869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AA053-5A03-4C2B-BE76-13FE45EDB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3573C9-0402-42D0-8C4B-FE20C4D7D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3590-C919-4E51-98E1-FF7CCF8AB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9180F-979E-403D-8215-E315AB6C6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89C6F-9030-422F-BCF3-6540A51EA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E2652-3349-484E-ACED-607121DA6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A6DEF-1D7C-4384-8E7C-7E57EB9A6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3EE01-63B5-4EEE-8A64-229A09786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13D590-2BEB-4AB3-BA45-F496FAFE2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DC75B-87E5-4DDA-A4D2-E74ED8343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9F6C29-E19A-48CA-985A-A56B41EC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13A94-00B3-4949-94DD-329C276C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E2181-E209-4405-8092-B1AD9EE1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610A-CA18-4265-BA5F-D365D180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06532-103D-4C98-BBD9-508793CA8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DD014-9F6E-4CB5-A626-6C41AC79A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3D2FD-AD2A-42D5-A4B8-21D6A681C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167ED6-2DB7-4B6A-942D-3C9860465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5EE0E1-08E0-4A03-85F3-4DBF9C3FC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CDC329-9D25-4B75-8969-AA80DBA34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734B4-4C86-4A9C-ADAA-91633AA62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3D381B-D961-4384-B82C-63D850F04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0C6D6C-0C14-4F46-9B6F-92F466521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8A290-C0D4-4CAB-AAB8-4C16B390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6AF9-DD50-4FD1-AADF-E3B212D3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209659-B05B-49C6-8839-47ACD2ED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2CBBE-D504-420C-BC73-8805C127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BB1C1-A04A-49F5-A76B-1CF00CD85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31DBA-A4C4-4B03-9043-8D92DEBA5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6B0286-C3AC-487B-AF7C-D94FAB711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BB447-7B88-4973-8262-CABA695DA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F3E028-BCC5-46EB-B8A2-E78C7D62E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A1F87B-5B79-447A-9938-770D23A42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A145A5-F245-4DBD-8F96-D91EA498B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69F77B-8C45-4D38-811E-A22D18CDB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9575-7B3B-425E-99F7-BD754D28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B1DDA-956F-445E-BA7F-2A9FBFC7D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A3C78D-4292-42E2-AF99-5C2A51C1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D3DFF7-792C-4C8B-9D13-DC64B364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14F32A-2722-42C2-B684-AE8F8F6C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74A6A6-FC9E-474F-AD59-CFFFAFCCC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A0D6B2-E953-47C1-880B-56FE5D421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414D28-CFA5-4C1F-AC6A-3E219C6DF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4400D3-B350-4199-A71A-861B53F7B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00DB96-93AC-4A76-8B0E-F00C9A29E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F30AD6-EAD4-44D0-BD59-AD725642B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0A643-37B7-4CEE-B395-728A21A5AA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41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dddd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23D72-78D1-46CB-858D-D26A4EBF25D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dddd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C22F4-21B4-421D-8D4C-2FD1C39101A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9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0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2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0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5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50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dddd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50209-AB00-4838-AD2F-D33299EDEA3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dddd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8DACF-A00B-450E-9C44-D03301F1AC6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2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dddd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2c2c2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F39AD-3964-49D0-A9C8-C4E0D43A5C83}" type="slidenum">
              <a:rPr b="0" lang="ru-RU" sz="1200" spc="-1" strike="noStrike">
                <a:solidFill>
                  <a:srgbClr val="c2c2c2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pSp>
        <p:nvGrpSpPr>
          <p:cNvPr id="49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0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53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92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dddd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7BF78-8B9F-41EA-9D2F-42D937F078D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36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3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4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dddd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11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12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7D102-64E2-4C61-9333-2A43D3909E7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86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dddd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Franklin Gothic 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8f8f8"/>
              </a:solidFill>
              <a:latin typeface="Franklin Gothic Mediu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85F6D-3086-444C-B3BE-673D50CCA0E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3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2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3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5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3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dddd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7EEF9-A57E-40BF-B588-40F60A6AD42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280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dddd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ECE01-38B3-48C7-B632-A809A893CA1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24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6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27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9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330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dddd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3F913-F317-4112-93A7-F6711966FDC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dddd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692B1-9466-4F18-9C69-B889C3AFB3B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Игра «Третий лишний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611280" y="2133360"/>
            <a:ext cx="8137440" cy="451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Лес, лестница, леснич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Честный, чеснок, бесчест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мешной, смешить, смеша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Левый, лев, нале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одичка, водитель, водяно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пешить, пеший, пешех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Надо мною расстилалось голубое небо, по которому плыло и таяло сверкающее облако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250560" y="907920"/>
            <a:ext cx="8569080" cy="4897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1</a:t>
            </a:r>
            <a:r>
              <a:rPr b="1" lang="ru-RU" sz="3600" spc="-1" strike="noStrike">
                <a:solidFill>
                  <a:srgbClr val="000000"/>
                </a:solidFill>
                <a:latin typeface="Franklin Gothic Book"/>
              </a:rPr>
              <a:t>.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обкую  душу  вл…жил  в меня Бог.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И  камень  лёжа  мохом  обр…стает.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Человек  предпол…гает,  а  Бог                          распол…гает.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 txBox="1"/>
          <p:nvPr/>
        </p:nvSpPr>
        <p:spPr>
          <a:xfrm>
            <a:off x="576000" y="764640"/>
            <a:ext cx="8569080" cy="5185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Где  росла  трава,  там и ещё выр…стет.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Пока  травка  подр…стёт,  много  воды  утечёт.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 От доброго кореня  добрая  и отр…сль.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395280" y="620280"/>
            <a:ext cx="8424720" cy="6048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…рит, как бамбуковая хижина. </a:t>
            </a:r>
            <a:endParaRPr b="0" lang="en-US" sz="33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японская поговорка)</a:t>
            </a:r>
            <a:endParaRPr b="0" lang="en-US" sz="33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endParaRPr b="0" lang="en-US" sz="33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с вами родня: на вашей бабушке сарафан г…рел, наш дедушка руки грел.                          (русская поговорка)</a:t>
            </a:r>
            <a:endParaRPr b="0" lang="en-US" sz="33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на кухне два повара, обед бывает приг…релый.</a:t>
            </a:r>
            <a:endParaRPr b="0" lang="en-US" sz="33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ссирийская поговорка)</a:t>
            </a:r>
            <a:endParaRPr b="0" lang="en-US" sz="33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825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825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Формулируем тему уро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539640" y="1700280"/>
            <a:ext cx="8136000" cy="39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Я вернусь, когда раскинет ветки  по-весеннему наш белый сад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45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Сложноподчиненные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предложения.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Подчинительная связь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жду частями сложного предложения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ложноподчиненное предлож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1371600" y="2421000"/>
            <a:ext cx="6400800" cy="32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600" name="Скругленный прямоугольник 8"/>
          <p:cNvSpPr/>
          <p:nvPr/>
        </p:nvSpPr>
        <p:spPr>
          <a:xfrm>
            <a:off x="324000" y="2031840"/>
            <a:ext cx="8726400" cy="2865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Calibri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Прямоугольник 3"/>
          <p:cNvSpPr/>
          <p:nvPr/>
        </p:nvSpPr>
        <p:spPr>
          <a:xfrm>
            <a:off x="1258920" y="2543040"/>
            <a:ext cx="2665440" cy="1900440"/>
          </a:xfrm>
          <a:prstGeom prst="rect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Главная ча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Овал 7"/>
          <p:cNvSpPr/>
          <p:nvPr/>
        </p:nvSpPr>
        <p:spPr>
          <a:xfrm>
            <a:off x="5135400" y="2319480"/>
            <a:ext cx="3468960" cy="2290680"/>
          </a:xfrm>
          <a:prstGeom prst="ellipse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Придаточная част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TextBox 9"/>
          <p:cNvSpPr/>
          <p:nvPr/>
        </p:nvSpPr>
        <p:spPr>
          <a:xfrm>
            <a:off x="8175600" y="3492360"/>
            <a:ext cx="48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Дуга 10"/>
          <p:cNvSpPr/>
          <p:nvPr/>
        </p:nvSpPr>
        <p:spPr>
          <a:xfrm rot="10800000">
            <a:off x="1834920" y="3894120"/>
            <a:ext cx="5257800" cy="1433520"/>
          </a:xfrm>
          <a:custGeom>
            <a:avLst/>
            <a:gdLst/>
            <a:ahLst/>
            <a:rect l="l" t="t" r="r" b="b"/>
            <a:pathLst>
              <a:path stroke="0" w="5257800" h="1433512">
                <a:moveTo>
                  <a:pt x="11248" y="782988"/>
                </a:moveTo>
                <a:cubicBezTo>
                  <a:pt x="-116932" y="406403"/>
                  <a:pt x="850127" y="67467"/>
                  <a:pt x="2220444" y="8705"/>
                </a:cubicBezTo>
                <a:cubicBezTo>
                  <a:pt x="2499345" y="-3255"/>
                  <a:pt x="2783492" y="-2888"/>
                  <a:pt x="3061965" y="9793"/>
                </a:cubicBezTo>
                <a:cubicBezTo>
                  <a:pt x="4516316" y="76018"/>
                  <a:pt x="5486521" y="455351"/>
                  <a:pt x="5211751" y="850323"/>
                </a:cubicBezTo>
                <a:lnTo>
                  <a:pt x="2628900" y="716756"/>
                </a:lnTo>
                <a:lnTo>
                  <a:pt x="11248" y="782988"/>
                </a:lnTo>
                <a:close/>
              </a:path>
              <a:path fill="none" w="5257800" h="1433512">
                <a:moveTo>
                  <a:pt x="11248" y="782988"/>
                </a:moveTo>
                <a:cubicBezTo>
                  <a:pt x="-116932" y="406403"/>
                  <a:pt x="850127" y="67467"/>
                  <a:pt x="2220444" y="8705"/>
                </a:cubicBezTo>
                <a:cubicBezTo>
                  <a:pt x="2499345" y="-3255"/>
                  <a:pt x="2783492" y="-2888"/>
                  <a:pt x="3061965" y="9793"/>
                </a:cubicBezTo>
                <a:cubicBezTo>
                  <a:pt x="4516316" y="76018"/>
                  <a:pt x="5486521" y="455351"/>
                  <a:pt x="5211751" y="850323"/>
                </a:cubicBezTo>
              </a:path>
            </a:pathLst>
          </a:custGeom>
          <a:noFill/>
          <a:ln w="4140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TextBox 11"/>
          <p:cNvSpPr/>
          <p:nvPr/>
        </p:nvSpPr>
        <p:spPr>
          <a:xfrm>
            <a:off x="2493720" y="5332320"/>
            <a:ext cx="42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Подчинитель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И смотрит седая скала 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в глубину, где ветер 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качает и  гонит волну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Дом, куда мы въехали, 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был построен в начале века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3T17:22:50Z</dcterms:created>
  <dc:creator>Даня</dc:creator>
  <dc:description/>
  <dc:language>en-US</dc:language>
  <cp:lastModifiedBy>Надежда</cp:lastModifiedBy>
  <dcterms:modified xsi:type="dcterms:W3CDTF">2015-12-14T08:52:07Z</dcterms:modified>
  <cp:revision>6</cp:revision>
  <dc:subject/>
  <dc:title>Я вернусь, когда раскинет ветки  по-весеннему наш белый сад.</dc:title>
</cp:coreProperties>
</file>