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B32-EB96-401B-AA49-372229E5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A37-77AF-40F1-9EDE-AC92FAE9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2C6-4E6F-44F3-BD44-D02C89AD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F69-51E9-416D-99AB-3D811C9F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36F-A0C3-4E6A-9F76-04EF1C36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1B8-6044-49CD-99CF-8E09088E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1C4-5491-4F21-89B2-557C3BF9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52E-CA69-4851-9E6B-ED3F44C4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5A6-442D-4D1D-80EA-D97F1773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FF0-8F25-4D46-9353-A1A63354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52E-3373-46E7-8790-013879DC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E1A-D76F-426F-8AFB-23FD1FEC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BBFC-9E8F-4C2E-8895-D7A4AC3536C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енные  термины  первой четверти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IX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Драгун – солдат или офицер некоторых кавалеристских частей в армии России до1917 г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143160" y="1357200"/>
            <a:ext cx="23209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ИВ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ивер – высокий жесткий головной убор цилиндрической формы с козырьком и подбородочным ремне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03360" y="1600200"/>
            <a:ext cx="3746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АФЕТ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Лафет – станок, на котором устанавливается и закрепляется  артиллерийского оруд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ЛАН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ланы – вид легкой кавалерии, вооруженной пиками и саблям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57200" y="2397240"/>
            <a:ext cx="403848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ртеч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артечь – разрывной артиллерийский снаряд, начиненный пулями, для массового поражения противника на близком расстоян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72040" y="1928880"/>
            <a:ext cx="32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ЕДУ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едут - применяемое до первой мировой войны полевое укрепление в виде многоугольника с наружным валом и рвом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C:\Documents and Settings\Софья и Арина\Рабочий стол\Битва\Изображение 026.jpg"/>
          <p:cNvPicPr/>
          <p:nvPr/>
        </p:nvPicPr>
        <p:blipFill>
          <a:blip r:embed="rId1"/>
          <a:stretch/>
        </p:blipFill>
        <p:spPr>
          <a:xfrm>
            <a:off x="4648320" y="1623960"/>
            <a:ext cx="40384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ИВА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ивак - стоянка войск для ночлега или отдыха вне населенного пунк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C:\Documents and Settings\Софья и Арина\Рабочий стол\Битва\Изображение 028.jpg"/>
          <p:cNvPicPr/>
          <p:nvPr/>
        </p:nvPicPr>
        <p:blipFill>
          <a:blip r:embed="rId1"/>
          <a:stretch/>
        </p:blipFill>
        <p:spPr>
          <a:xfrm>
            <a:off x="457200" y="2382840"/>
            <a:ext cx="40384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8:17:11Z</dcterms:created>
  <dc:creator>Софья и Арина</dc:creator>
  <dc:description/>
  <dc:language>en-US</dc:language>
  <cp:lastModifiedBy>Надежда</cp:lastModifiedBy>
  <dcterms:modified xsi:type="dcterms:W3CDTF">2016-01-14T11:42:48Z</dcterms:modified>
  <cp:revision>7</cp:revision>
  <dc:subject/>
  <dc:title>Драгун – солдат или офицер некоторых кавалеристских частей в армии России до1917 г.</dc:title>
</cp:coreProperties>
</file>