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BE2-0205-4D7E-9F63-664011BD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D45-8594-4627-9A61-CF7EEB37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8C9-1DB0-43A3-B131-A0C41902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50D-68FE-4A32-855B-9C4BD507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9BE-4D84-46EB-828A-2D57E33A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5131-4D5C-4F6E-978B-4BA8CC2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C234-4181-42F3-B1D8-1BA63BD5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BFD2-9ECA-45FE-A78A-F2C6E4FA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9A80-6D67-4863-A630-185B9890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5B8-4814-4985-8AB9-9D5DBE2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707B-798A-48EE-8C9A-013E2A4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DDE-FBEF-4907-BAF0-476D95E6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CCAD-85CC-4776-BCE2-A9AC0EA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11B9-F85B-40AA-9AAA-9C5334E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1CD-30E2-4013-B32B-2BA2BBFF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931-6823-4C83-811C-77D91492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0E2-4B52-410D-A29A-13F9D482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D0C-F373-413E-B0D8-9EB7BF2C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997-5A3E-4B43-B62A-B792AF4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0C0-C890-4B16-ABA9-6A247268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54E-4CD5-4DE9-B5FE-D64A880E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755-4478-4605-876C-49153473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A81-CC4A-488E-A54A-2B096029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E62-6676-4906-BC24-446C9AF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AA00-1089-4C7A-A738-AB220116E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5516-24D4-4A7F-9A19-8C6746B1E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2556000" y="3357720"/>
            <a:ext cx="3887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1714680" y="785880"/>
            <a:ext cx="56433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6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писание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1357200" y="2928960"/>
            <a:ext cx="65725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ффиксов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8"/>
          <p:cNvSpPr txBox="1"/>
          <p:nvPr/>
        </p:nvSpPr>
        <p:spPr>
          <a:xfrm>
            <a:off x="1071720" y="4869000"/>
            <a:ext cx="70005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чик (-щик)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2952720" cy="955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708200" cy="1773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324000" y="2637000"/>
            <a:ext cx="1822320" cy="1871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4"/>
          <a:stretch/>
        </p:blipFill>
        <p:spPr>
          <a:xfrm>
            <a:off x="7236000" y="0"/>
            <a:ext cx="1350720" cy="1727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5"/>
          <a:stretch/>
        </p:blipFill>
        <p:spPr>
          <a:xfrm>
            <a:off x="5364000" y="0"/>
            <a:ext cx="1047960" cy="2133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1"/>
          <p:cNvSpPr/>
          <p:nvPr/>
        </p:nvSpPr>
        <p:spPr>
          <a:xfrm>
            <a:off x="250920" y="1844640"/>
            <a:ext cx="1944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411280" y="126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лемё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003640" y="1773360"/>
            <a:ext cx="180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7" descr=""/>
          <p:cNvPicPr/>
          <p:nvPr/>
        </p:nvPicPr>
        <p:blipFill>
          <a:blip r:embed="rId6"/>
          <a:stretch/>
        </p:blipFill>
        <p:spPr>
          <a:xfrm>
            <a:off x="2987640" y="2781360"/>
            <a:ext cx="2376360" cy="138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8"/>
          <p:cNvSpPr/>
          <p:nvPr/>
        </p:nvSpPr>
        <p:spPr>
          <a:xfrm>
            <a:off x="2916360" y="4365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й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7132680" y="1916280"/>
            <a:ext cx="2011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179280" y="4653000"/>
            <a:ext cx="223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бе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2" descr=""/>
          <p:cNvPicPr/>
          <p:nvPr/>
        </p:nvPicPr>
        <p:blipFill>
          <a:blip r:embed="rId7"/>
          <a:stretch/>
        </p:blipFill>
        <p:spPr>
          <a:xfrm>
            <a:off x="6588000" y="5373720"/>
            <a:ext cx="482760" cy="936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3"/>
          <p:cNvSpPr/>
          <p:nvPr/>
        </p:nvSpPr>
        <p:spPr>
          <a:xfrm>
            <a:off x="250920" y="573408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гда пишется суффикс -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 flipH="1">
            <a:off x="5651280" y="5589720"/>
            <a:ext cx="502920" cy="288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084720" y="5589720"/>
            <a:ext cx="432000" cy="287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6"/>
          <p:cNvSpPr/>
          <p:nvPr/>
        </p:nvSpPr>
        <p:spPr>
          <a:xfrm flipH="1">
            <a:off x="1547280" y="1916280"/>
            <a:ext cx="2178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7"/>
          <p:cNvSpPr/>
          <p:nvPr/>
        </p:nvSpPr>
        <p:spPr>
          <a:xfrm flipH="1">
            <a:off x="4500720" y="4292640"/>
            <a:ext cx="2174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4716360" y="4292640"/>
            <a:ext cx="21600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 flipH="1">
            <a:off x="3924360" y="1268280"/>
            <a:ext cx="21744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 flipH="1">
            <a:off x="8459280" y="1916280"/>
            <a:ext cx="2178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 flipH="1">
            <a:off x="6012000" y="2133720"/>
            <a:ext cx="2174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2"/>
          <p:cNvSpPr/>
          <p:nvPr/>
        </p:nvSpPr>
        <p:spPr>
          <a:xfrm>
            <a:off x="8245440" y="4508640"/>
            <a:ext cx="112680" cy="13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 flipH="1">
            <a:off x="1692360" y="4653000"/>
            <a:ext cx="2174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4067280" y="1268280"/>
            <a:ext cx="21564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5"/>
          <p:cNvSpPr/>
          <p:nvPr/>
        </p:nvSpPr>
        <p:spPr>
          <a:xfrm>
            <a:off x="8675640" y="1916280"/>
            <a:ext cx="21600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6"/>
          <p:cNvSpPr/>
          <p:nvPr/>
        </p:nvSpPr>
        <p:spPr>
          <a:xfrm>
            <a:off x="6227640" y="2133720"/>
            <a:ext cx="21600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7"/>
          <p:cNvSpPr/>
          <p:nvPr/>
        </p:nvSpPr>
        <p:spPr>
          <a:xfrm>
            <a:off x="8244000" y="4508640"/>
            <a:ext cx="21564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8"/>
          <p:cNvSpPr/>
          <p:nvPr/>
        </p:nvSpPr>
        <p:spPr>
          <a:xfrm>
            <a:off x="1908000" y="4653000"/>
            <a:ext cx="21600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0"/>
          <p:cNvSpPr/>
          <p:nvPr/>
        </p:nvSpPr>
        <p:spPr>
          <a:xfrm>
            <a:off x="1692360" y="1916280"/>
            <a:ext cx="21564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7" descr="8a47785976db"/>
          <p:cNvPicPr/>
          <p:nvPr/>
        </p:nvPicPr>
        <p:blipFill>
          <a:blip r:embed="rId1"/>
          <a:srcRect l="2177" t="2373" r="7708" b="4094"/>
          <a:stretch/>
        </p:blipFill>
        <p:spPr>
          <a:xfrm>
            <a:off x="1619280" y="692280"/>
            <a:ext cx="5905440" cy="56163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8"/>
          <p:cNvSpPr txBox="1"/>
          <p:nvPr/>
        </p:nvSpPr>
        <p:spPr>
          <a:xfrm>
            <a:off x="3635280" y="3429000"/>
            <a:ext cx="144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Arial"/>
              </a:rPr>
              <a:t>Ч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Arial"/>
              <a:ea typeface="Arial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1042920" y="2492280"/>
            <a:ext cx="6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Bookman Old Style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Bookman Old Style"/>
              <a:ea typeface="Bookman Old Style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7020000" y="2421000"/>
            <a:ext cx="6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Bookman Old Style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Bookman Old Style"/>
              <a:ea typeface="Bookman Old Style"/>
            </a:endParaRPr>
          </a:p>
        </p:txBody>
      </p:sp>
      <p:sp>
        <p:nvSpPr>
          <p:cNvPr id="249" name="WordArt 12"/>
          <p:cNvSpPr txBox="1"/>
          <p:nvPr/>
        </p:nvSpPr>
        <p:spPr>
          <a:xfrm>
            <a:off x="3995640" y="18900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Bookman Old Style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Bookman Old Style"/>
              <a:ea typeface="Bookman Old Style"/>
            </a:endParaRPr>
          </a:p>
        </p:txBody>
      </p:sp>
      <p:sp>
        <p:nvSpPr>
          <p:cNvPr id="250" name="WordArt 13"/>
          <p:cNvSpPr txBox="1"/>
          <p:nvPr/>
        </p:nvSpPr>
        <p:spPr>
          <a:xfrm>
            <a:off x="1908000" y="5157720"/>
            <a:ext cx="5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Bookman Old Style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Bookman Old Style"/>
              <a:ea typeface="Bookman Old Style"/>
            </a:endParaRPr>
          </a:p>
        </p:txBody>
      </p:sp>
      <p:sp>
        <p:nvSpPr>
          <p:cNvPr id="251" name="WordArt 14"/>
          <p:cNvSpPr txBox="1"/>
          <p:nvPr/>
        </p:nvSpPr>
        <p:spPr>
          <a:xfrm>
            <a:off x="6227640" y="5157720"/>
            <a:ext cx="5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Bookman Old Style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Bookman Old Style"/>
              <a:ea typeface="Bookman Old Style"/>
            </a:endParaRPr>
          </a:p>
        </p:txBody>
      </p:sp>
      <p:sp>
        <p:nvSpPr>
          <p:cNvPr id="252" name="WordArt 15"/>
          <p:cNvSpPr txBox="1"/>
          <p:nvPr/>
        </p:nvSpPr>
        <p:spPr>
          <a:xfrm>
            <a:off x="900000" y="6093000"/>
            <a:ext cx="743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6f00"/>
                </a:solidFill>
                <a:latin typeface="Bookman Old Style"/>
              </a:rPr>
              <a:t>в остальных случаях - 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6f00"/>
              </a:solidFill>
              <a:latin typeface="Bookman Old Style"/>
              <a:ea typeface="Bookman Old Style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3564000" y="2707920"/>
            <a:ext cx="792000" cy="576360"/>
          </a:xfrm>
          <a:prstGeom prst="line">
            <a:avLst/>
          </a:prstGeom>
          <a:ln w="60480">
            <a:solidFill>
              <a:srgbClr val="1e5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 flipH="1" flipV="1">
            <a:off x="4355640" y="2707920"/>
            <a:ext cx="792360" cy="576360"/>
          </a:xfrm>
          <a:prstGeom prst="line">
            <a:avLst/>
          </a:prstGeom>
          <a:ln w="60480">
            <a:solidFill>
              <a:srgbClr val="1e5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6877080" y="5444640"/>
            <a:ext cx="792000" cy="576360"/>
          </a:xfrm>
          <a:prstGeom prst="line">
            <a:avLst/>
          </a:prstGeom>
          <a:ln w="60480">
            <a:solidFill>
              <a:srgbClr val="1e5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H="1" flipV="1">
            <a:off x="7668720" y="5444640"/>
            <a:ext cx="792360" cy="576360"/>
          </a:xfrm>
          <a:prstGeom prst="line">
            <a:avLst/>
          </a:prstGeom>
          <a:ln w="60480">
            <a:solidFill>
              <a:srgbClr val="1e5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0360" cy="2232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1403280" y="549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читаем прави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879480" y="344808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395280" y="2852640"/>
            <a:ext cx="8280360" cy="40431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уффиксе существительных –чик(-щик) после букв д-т, з-с, ж пишется буква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пишется буква 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к (смаз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менщик (не на д-т, з-с, ж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 flipH="1">
            <a:off x="3851280" y="5157720"/>
            <a:ext cx="2174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H="1">
            <a:off x="3490920" y="5734080"/>
            <a:ext cx="2174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3708360" y="5749920"/>
            <a:ext cx="21600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4067280" y="5157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3780000" y="5589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56400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356400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521964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521964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3276720" y="6237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3059280" y="6237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3059280" y="63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521964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521964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586728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>
            <a:off x="586728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>
            <a:off x="6588000" y="623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49:40Z</dcterms:created>
  <dc:creator>Dmitry</dc:creator>
  <dc:description/>
  <dc:language>en-US</dc:language>
  <cp:lastModifiedBy>Надежда</cp:lastModifiedBy>
  <dcterms:modified xsi:type="dcterms:W3CDTF">2016-01-14T11:40:31Z</dcterms:modified>
  <cp:revision>217</cp:revision>
  <dc:subject/>
  <dc:title>Слайд 1</dc:title>
</cp:coreProperties>
</file>