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609F-F5B4-468E-A2BD-A0B54BE3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697F-8F61-4F18-9EC7-8803788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3C28-916C-48B1-8AF5-1A96706D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6A36-87FD-4968-95FE-B4152CAE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384-6F2F-444D-BA5A-91A5E9EA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8020-4A11-4CA5-A611-6A123187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9395-07A6-4141-BB16-200DEEE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18C-8ABC-4CBC-9F65-7100EFC2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D56B-0FFD-4345-8F5C-33562493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4C8C-CB6C-4D11-8880-BECB2AF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6F1-74B1-4E9A-A04B-AD15622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C8C6-1038-4269-9638-495E09DE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A100-80A0-4EC6-846C-97E16E8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10E9-34DE-450A-8091-84B51D1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EEC0-2B07-48C4-AE9D-F3F0413A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7523-FE65-44B9-8D08-5FC778D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B041-4494-4539-9F9F-95A60FF1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2C07-D37E-436C-83F3-838645A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D9BF-A249-4949-9D6E-16F039EE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0EE0-A528-4CA8-B719-6C00E57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B8F4-1DA1-4079-898F-D05A8557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0AC5-25C3-4C91-963C-D0191B67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0323-5722-44C2-A7FA-607D4D1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C5C1-6D02-4821-A484-D1174F5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6BDC-DCA3-4D35-9D76-79C549739E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582-73E8-46C6-9B6D-9990A8CAF9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Книга Памят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35 отд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вардей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ан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Новгород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аснознаме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рдена Суворо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к проры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941 – 1945 г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орзенко Алексей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ланкин Никола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лков Михаил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урлов Иван Яковл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Бушманов Прокопий Владимирович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5 – 22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ычков Станислав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05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Ванеев Александр Меркур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ареник Иван Васил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7 – 22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Веревочкин Борис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ишняков Григори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04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ahoma"/>
              </a:rPr>
              <a:t>Абенов Илан Абенович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Вобликов Анатолий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07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Воронин Юрий Пет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16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Галашевич Владимир Павл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ельман Иосиф Абрам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?- 14.01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ераскин Иван Яковл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Горобец Николай Харито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0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Горовой Николай Максим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6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Дёмин Георги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3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Демченко Иван Серг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7.06.1944 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Долбилин Алексей Андр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кматов Токтосу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0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Домбровский Валентин Карп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втюгин Василий Григо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0 – 14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горов Алексе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7 – 17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Еременко Алексе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4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Жарков Николай Михай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Желтов Александр Пет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Заболовский Михаил Юр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5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Заворотный Алексей Милентье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06.08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Зорин Фёдор Капито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брагимов Акба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0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Алтухов Василий Пав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2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ванков Алексей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2 – 01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Исаченко Григорий Серг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8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Tahoma"/>
              </a:rPr>
              <a:t>Каменщиков Юрий Александрович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- 17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арманов Пётр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 –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01.02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арпов Пётр Прокоп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нодель Кирилл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3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озлов Лев Александ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лбин Николай Ивано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лейтен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7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лонов Сады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3 – 17.10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нвисарев Юрий Георги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1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ндронов Евгений Прокл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техник-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– 23.10.19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робицын Игнат Тимофее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младший техник-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5 –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очурин Анатолий Макар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Крейнин Борис Моисе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й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6 – 23.06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Кротов Александр Ивано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тарш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4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Ачкасов Иван Ивано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лейтен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9 - 17.01.1945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Байдалин Алексей Андреевич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Рядо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26  - 23.06.194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аранов Сергей Васильев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тарший сержан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15 – 22.07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Беляков Никита Ильич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вардии серж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1908 – 25.03.1943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6:41:57Z</dcterms:created>
  <dc:creator>Келка</dc:creator>
  <dc:description/>
  <dc:language>en-US</dc:language>
  <cp:lastModifiedBy>Викт</cp:lastModifiedBy>
  <dcterms:modified xsi:type="dcterms:W3CDTF">2014-03-18T16:57:10Z</dcterms:modified>
  <cp:revision>8</cp:revision>
  <dc:subject/>
  <dc:title>Книга Памяти</dc:title>
</cp:coreProperties>
</file>