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B83F-758A-4315-A304-76C4B9C9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D9E6-D0DD-4CF9-9EE0-F496147D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3543-7238-4A8A-A2C1-AE73599E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E11B-0E09-41EB-A2B9-AD44CD98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36E-F750-4C4B-BBA0-629B79AA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0411-4046-48E8-87FB-321E0321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8904-854F-4586-84E9-C7D1CFE5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C8D8-F6F0-4CA1-8DB1-0E10295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E660-B2AC-4A4F-BE2E-6C2BCC98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FF76-E1B5-4D3B-A92B-1A25BCB4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E912-B301-4B9F-B547-459FB091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E569-AD14-4FDE-8407-29796CC5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C695-68A0-44BD-8701-135E814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8A37-DE60-4F1F-AEC8-564ABD03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64E3-AD39-4A30-98DE-12D44BA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C0E7-4161-4F86-BD5A-2ACCB020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9304-053D-406F-8EE8-B79D8C84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FA2F-A028-4826-B308-0DA65C57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6A5D-8C64-41D9-9D82-A24DC8A0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9F6B-0168-493A-A48C-A363FF3B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1196-E252-41F0-AA81-58F6850D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FFB5-47E7-4F40-9D2C-20D179A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F17D-7488-4DC0-8AA5-7F19B38A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891A-B6B9-4663-82BB-E3EA1755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415E-154C-450C-A770-613DCC768E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75A9-90CD-4A6F-AF72-B17103DFBF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Книга Памят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35 отде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вардей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танко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овгород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аснознаме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рдена Суворо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лк проры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941 – 1945 г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Борзенко Алексей Григор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Буланкин Николай Пав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3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Булков Михаил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Бурлов Иван Яковл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Бушманов Прокопий Владимирович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5 – 22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Бычков Станислав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05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Ванеев Александр Меркурье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3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Вареник Иван Васил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7 – 22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Веревочкин Борис Григор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Вишняков Григорий Пав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04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Абенов Илан Абенович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20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Вобликов Анатолий Георги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техник-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07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Воронин Юрий Петр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16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Галашевич Владимир Павло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2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Гельман Иосиф Абрам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?- 14.01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Гераскин Иван Яковл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техник –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20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Горобец Николай Харито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0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Горовой Николай Максим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6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Дёмин Георгий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3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Демченко Иван Серге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5 – 27.06.1944 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Долбилин Алексей Андре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Акматов Токтосу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тар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0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Домбровский Валентин Карпо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9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Евтюгин Василий Григор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0 – 14.01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Егоров Алексей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капи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07 – 17.01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Еременко Алексей Пав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4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Жарков Николай Михай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5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Желтов Александр Петр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6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Заболовский Михаил Юр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5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Заворотный Алексей Милентье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техник –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06.08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Зорин Фёдор Капито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техник-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2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Ибрагимов Акба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00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Алтухов Василий Пав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2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Иванков Алексей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2 – 01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Исаченко Григорий Серге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Каменщиков Юрий Александро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- 17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Карманов Пётр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 –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6 – 01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Карпов Пётр Прокоп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нодель Кирилл Георги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апи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Козлов Лев Александр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4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лбин Николай Иванович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7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лонов Сады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3 – 17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нвисарев Юрий Георги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Андронов Евгений Прок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9 – 23.10.19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робицын Игнат Тимофеевич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5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чурин Анатолий Макар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4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рейнин Борис Моисе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6 – 23.06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Кротов Александр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4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Ачкасов Иван Иванович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тар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9 - 17.01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Байдалин Алексей Андреевич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6  -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Баранов Сергей Васил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тарший сержан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5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Беляков Никита Иль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08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6:41:57Z</dcterms:created>
  <dc:creator>Келка</dc:creator>
  <dc:description/>
  <dc:language>en-US</dc:language>
  <cp:lastModifiedBy>Викт</cp:lastModifiedBy>
  <dcterms:modified xsi:type="dcterms:W3CDTF">2014-03-18T16:57:10Z</dcterms:modified>
  <cp:revision>8</cp:revision>
  <dc:subject/>
  <dc:title>Книга Памяти</dc:title>
</cp:coreProperties>
</file>