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159-D161-49CD-8802-7B1F6B8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360-D7B6-4045-A73A-E255A932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318-08E4-4300-82A0-B0C4C7B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B15-51FE-43D2-AE9D-7246C7BD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A25-CBB1-4F3E-A1A8-B6E7C29F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69A5-0F9E-4081-9CD1-DB6AF30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1CDF-8354-457D-B06B-E481A611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DEA7-7D8C-43BD-95BA-26D7889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C0D9-96D2-4D2B-90B4-9A18F9B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0009-DF5E-4536-B6B6-5818E61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551E-B3A2-40D2-A93C-B9F83B9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F77-ED36-47D3-B7C2-BF6A885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C53-0BB8-43EE-A5E2-00C4B3D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7B16-4BFD-4CCA-80E8-3565916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70E-D487-4BFD-8D7B-802A889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2E8C-3B34-47F5-9849-A697F51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3FBA-E8D3-41BA-AFDF-4FF9FE72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7E47-DCCE-4EE9-A010-43CAF956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1568-AD1D-41B5-97CB-977F9744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C3EF-4D01-4549-86BF-1087502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085B-F0EC-45E9-9E66-D2A582E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276E-2855-4938-BA8C-A9D60D9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277-8667-40D3-9D79-2681D46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A9E2-F91C-405A-BCF8-1D9DC1C8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0934-B549-43E2-BFA2-1AE0959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4713-78B3-4043-8FA6-392EB85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22B3-02EC-4BC1-8D4E-BA1E95B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C5EB-6F07-4431-B2D8-5F7980A8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7932-0751-4DA2-A077-5A9D6AFA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1DCE-DC0B-476A-B545-9620C5D8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0219-BFD1-49A5-B838-18A5A093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B139-F2FC-4EA3-B211-F726C1E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0519-1925-438E-A266-7612188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FAD-1361-4079-B6C1-B8EA5FE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EE5D-8BB3-4021-AF5C-99BCDC3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8976B-030C-4B7F-BE90-009CF3A8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3B1A-E3E9-49D1-B202-AD6746B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0136-F22E-4343-8BA2-EA32D2B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4E45-8327-4141-B82D-DDA3E61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2A35-8536-4E92-B2BA-6FEF793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1D50-B8FF-495E-B037-E4C2436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18F9-7ED3-47F1-A35B-5DB973AE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FAB5-8152-44E2-BC52-9D71DDD7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05F8-6EAF-426F-B4C2-6E2A847C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16B-FF2B-4190-BE5E-7B8F072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7AAA-B657-4A29-A424-B4B600A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EF50-2E3F-4565-9905-DD8E1A28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321F-184E-49AF-AD17-D60C81EC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E1C2-EB30-42EE-9727-91FCF840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783C-C323-48FA-A424-4B2691D6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CD70-026C-4335-8A31-91AF805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6D59-DF59-4566-8EE7-4BFED6D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FD7C-1C41-4A3B-B7D8-BB495F0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93DD-145C-47F8-BBC4-F53E67FE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5321-0E76-4884-B897-728F8A67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DCC-8BB0-4FDC-AC9A-5919379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BBC9-7292-4AA4-A06B-BAA29844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1BCE-D431-42F0-B2F6-759B9CC2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E66F-B9EA-4ACD-8F66-7BAB101A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C265-390A-4D6A-99AA-A8D2E0BC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8E2D-F382-4BCE-A971-9166F815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1D0E-3404-4722-83B8-A1A147D3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12C9-7D0D-42E2-855B-936C167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64AE-B365-415A-B15D-95BF859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36C5F-2088-4A54-BCD6-4FB0901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30E2-4659-4657-8B6D-7FF5518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4F8-2B95-42DF-9389-80D2B6B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29B1-49AD-4FA3-8204-CC256C3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CA70-3FF5-47FD-95DB-1752D925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7964-4226-4914-9564-FE3BF405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59DA-488F-4F18-94E4-17160E06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E1CF-08B6-43EA-8A5D-61941901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0636-A3F0-42D9-84F2-44ABD9F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FFAF-BDF3-4940-A39F-8658C6D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9AAA-E456-4794-ACA8-0A3EF60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0DD8-F521-4E00-A3EF-8F4C15C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1B91-4221-489E-84BA-E7FA01A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700-599B-43C4-9A02-9C967A5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2558-F150-45B8-B131-3502E2B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8DB41-47B8-433E-9266-4129910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066C-BF72-4398-891A-2FD4DCA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691E-5D4E-43B4-BA9F-299208CC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D1A2-E53C-4ED2-8FFC-4788A416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44D-137C-4F92-8689-2DDC498C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CF3-FA10-4075-AB14-8D6D630A73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1DE5-9515-4033-8873-CF6AF10207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308-0F63-4EDB-8AF9-59EFE0F10C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7F0B-D09F-4C21-A449-2219F05888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8F4-1F46-4DA2-8330-A5A7FA11F0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D62-9B33-4605-AB2E-2726A90FFE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8F3-A348-4997-985B-F57BCC6D7B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зентация для 2 клас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ила: Банина М.А., учитель английского языка, МБОУ СШ №5 г.Пав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ores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657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arm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4286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zoo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571840" y="2357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hous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5238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  Он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е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  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01-17T15:45:07Z</dcterms:modified>
  <cp:revision>4</cp:revision>
  <dc:subject/>
  <dc:title>In the forest</dc:title>
</cp:coreProperties>
</file>