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8B20-3D1A-45B3-8BAA-527AF3D2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0FA-E22E-4DB1-BA3F-12733295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080-E83E-48F9-BDAF-575996EA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581E-ABC4-4F04-B201-A19096B2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412F-6652-40D2-8FF2-E50DEC17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E47F-356A-475E-B7AD-EABD266B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8454-4BB5-49BB-9B79-5C11BCB1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E279-8008-4787-8117-526C5E54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A273-7CC9-45C0-BC09-220C3AB6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96B0-B3C4-406B-A12E-94374484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2A2D-63CF-438B-9DED-B0F2ADE1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880-18FE-456D-877A-25ECB054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AEF6-F781-4D86-A6BD-747B5B1F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BAEB-F2B1-41A4-8151-1A83BCB8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881A-92F8-48BD-A734-839028E2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DA80-60B4-4E2A-83CC-325E4076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2620-240F-403B-9501-6FEEB754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AA80E-0FC0-441C-8415-EF241EBB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32C86-DB1C-4AE2-A0FC-FA4B7215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7DD1C-D51A-4F26-95BE-852BB43C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B7ACA-2B68-4186-8639-C05FA389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29284-22E4-4B1F-97FA-EEFB434E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8E33-AE34-4083-87CE-6A43021E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DA80D-FB9A-4CA5-A4BF-AC8A3EAB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AB1B9-68F3-4ADE-B2FA-C35DFEE5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C6292-3F3E-4D22-BFAB-92A74598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DB80B-4A03-49A8-8AD6-48BE657C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399A1-E7C4-4D45-8832-60254D2B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F9577-3EF9-458D-AD68-D90F2F2C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0F058-B4E9-49F9-B2EA-88574817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DA825-B9C4-4221-91D3-8C86208A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B4CD1-73AE-48AF-BFBC-844F9F13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94AE9-A0EE-4CCF-B78A-F9AFFB6E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597-35CF-4668-BC42-4C93EBE8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90B8D-FD9D-416C-87BC-2E578725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53052-7C7D-4E51-9E82-A7C3073E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B6267-9FEC-44FD-993B-4E705E1A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6381A-AC84-4951-A753-2EF85A3E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4D5F9-B556-4FE2-82FE-219B1B6F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57749-587C-47CB-AAC0-8FC650A9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39203-5561-45A9-8ED3-F2E6396C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041A8-18CA-4628-89C1-BEAFD441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B7D8E-526F-4B51-BABD-A9C753EF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48131-EA97-4F30-9F7E-8BD3353B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DF1-1AD7-4196-B759-8FA87BB6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320A7-09B9-461A-A15D-9F531FAE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345C2-8F19-48CC-A4DF-03955378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30C8B-34DB-42A8-93F6-C69E798E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68D70-82F2-467C-82D6-A0C611A4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F0191-59F2-49F3-A1FF-2F5C6F78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D79C3-5126-4C6C-8135-D6D8FDBB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17383-1A87-4A51-8013-215439BB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5303E-2109-41B2-A187-26CF5DA0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557F7-583D-4C48-9A6C-D50B9772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69345-5E1B-4921-B98D-E336FEEA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E822-47B3-4A60-863E-53A9CAE9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B1F6B-BB51-486A-88CA-5B1D5284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52673-BE4D-43AD-8AD5-278CD97A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86C3F-6F7C-40F9-BD67-AD3E3A1A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C8E28-3E4A-46B7-9830-36C26D8F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F5359-30D8-471F-B4C2-A2824AB3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37337-EBE6-4F12-A095-54671CED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723FA-F665-4A75-91F4-0B620D94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12319-CF94-41F2-82F1-A140E6FF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3AFFE-82B6-4D48-882F-F458E831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4ED33-2FAB-4C84-A94F-A237F084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333-3D9F-4A26-8F6E-008A112D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2CE39-B6BA-4C57-949D-19473E99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4065E-B318-49BB-B181-E4BD3CE5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CECAB-3071-4CD0-96A5-F23986EB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79D0D-5228-49FA-AB49-DC33E57F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BBD94-5F63-4C4F-B0DB-8FBF0712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684B6-4A17-453E-B1A3-90EE2206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D4BE7-16EA-4275-8DE5-8E1C75D5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DEB6B-5707-4EF1-BC8A-8EADEA4D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101B0-8C28-47DE-8129-9DEAFC40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CBC40-938D-426E-8956-E4827E02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130-5BA0-4618-B8CF-6BF84E67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E6B26-6080-4DE4-A2F0-57FA3BEB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B10BE-FC4C-4092-A5A6-FB39F5A3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9EBEA-37E0-4D16-A43D-DA1145C3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438CA-3B6E-4322-98D2-E26DFF86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B0EB6-3DDE-4D9A-BE7F-2A7308A4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DA4B-1540-4E0E-885A-0D13444E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9F15-CEC3-4519-9BE5-EA5EC400AED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90E6-0CC0-4770-80FB-B953AB30BBA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10FE-8103-4C73-A1C5-308414FB7D9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2308-04C0-47F6-A454-CDD5FDC9FFD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FE53-F40A-4868-A6B9-76EB3DA9D8C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11A6-7485-4650-BBCC-1DC960200B9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5312-3A08-46BA-8E7A-8CD4764C476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езентация для 2 класс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полнила: Банина М.А., учитель английского языка, МБОУ СШ №5 г.Павло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n the fores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66578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n the farm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2714760" y="2143080"/>
            <a:ext cx="4286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n the zoo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571840" y="2357280"/>
            <a:ext cx="5076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n the hous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2143080" y="2714760"/>
            <a:ext cx="52387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живу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в лесу.  Он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живет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в лес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li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in the forest.   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li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in the fores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рий</cp:lastModifiedBy>
  <dcterms:modified xsi:type="dcterms:W3CDTF">2016-01-17T15:45:07Z</dcterms:modified>
  <cp:revision>4</cp:revision>
  <dc:subject/>
  <dc:title>In the forest</dc:title>
</cp:coreProperties>
</file>