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34D-0B95-4104-9E54-12C1E649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2FE-6B31-4CE1-8B57-A516782B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2F6-D15A-43E3-A0DD-5386F0E5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262-6F7A-48DB-AFDF-26867941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7F0-69E8-467F-9678-1761F2EF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A1E5-FD21-4760-9130-A0BB8DB8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6CB6-4091-4778-B808-60A6130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A800-B44B-4735-9B78-85A2186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8A6-7D90-4B85-86D4-EAC63497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26D-4B1A-4F16-8EC5-4DF1147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6B8E-FA4A-4026-AEFB-CA3062E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8ED-C48C-4056-B31B-341F986A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74A9-D39A-407D-8C17-A49E0B3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67F2-D828-4A43-8B4D-48CD015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21AE-E273-4B4F-BB80-8E4C2F37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B065-C552-4460-8EC9-14137C5F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1C2-6BE1-400B-849F-437F8A20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E1DE-6F21-4F7A-AE22-DE1BC05A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8337-C66E-4876-B8AA-3DFE22F0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1F91-2E0D-4B1D-B534-90A9FFE9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CA61-86A9-4BFC-A404-362968E7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B09D-1E05-4729-A3B8-5B872E27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C0C-3065-4FC5-89AB-5B7D4A5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D530-B574-4D38-8DE3-966BC02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D6E9-FDFF-4AFB-8AB9-7512B8A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FFF7-F8EB-41C0-93B4-F549ABF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FC03-A21E-486B-8BE5-537B13D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1AE5-8813-403E-B4A2-8F2B8044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2B30-F228-48C2-BD09-FA85804D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81E7-27DC-48A1-8875-663E4BC6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CF20-73CF-432F-BEF8-79DB3C9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9E8C-9891-4495-81B4-20460B6C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68FD-B0C1-4950-8F8C-AC223B35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B6D-5C59-47D0-9A42-11E1155D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43CD-2C68-4406-AB23-0B12930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D1A7-C775-4724-9D44-D925C6AB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479A-D510-41F8-A391-146C469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7E99-3A42-4A39-9A75-5300911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54FA-B383-4EF0-B3BF-2E20F20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E8C6-8A9E-4222-969A-5CCD82C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E562-F17C-4033-9D3B-12669EA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4A49-C88F-4472-AFF8-1CA5208F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10BE-995D-4DD8-BD2F-3DA86012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9648-14E9-4AC7-99CF-8DF0EF9D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ACC-34CF-4393-ABA7-60BFEF3D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0518-542C-48FB-B6C8-9AC3B4A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0B76-EEB2-43F3-B314-AEBAA85A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C125-C4DB-4398-AAA3-7CCDC67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0FAB-C1B3-4A59-81A9-4F1D8AB9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7F0C-5747-47FE-BBF9-A2380D9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7C7F-89A4-4B9E-8931-05B3EC7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35FA0-C528-448F-B126-5A0C232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7FCE-A5AA-4204-9D01-74A362E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3084-CE9E-42D8-829E-8065AC0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5A42-4AE4-445B-B77B-DF44EA87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4AA-E368-4D01-9C17-9E6A701E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98995-4F11-451F-B77C-023007CC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BEB9-46DC-4294-8B23-F2397A87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9512-973A-4D2E-81E1-A5905840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34951-1A67-4FDE-82BA-43796FF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5BDF-D64C-42A4-95D2-E9B9EE8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22560-7D19-4421-AD02-F93086D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F348-E7D3-4F07-9EFD-9FF58C05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4877-1FC3-4705-BC05-693E6DD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370B-062C-4FCE-85ED-17CF761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CFDF-3393-449C-B656-F81AA3A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677-674F-4235-9112-F139787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9C1A-3044-4A71-A561-D283E19D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6E9B-41A6-42A5-96DF-C7934193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EEBE-D248-4BE9-B09B-E1FACFC7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9453-B64E-416D-B9BD-54336542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F0503-F912-4DFA-979D-80872F2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104E-B816-4C66-9D93-6D19C7B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EB2A-4296-4FB7-A1F5-AC484161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DFDDD-71AF-40DF-88A4-9EE5A222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171C-5733-415C-ABB6-00723842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FDE8B-BBF3-44EF-B3EB-80C104B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DFF-6131-43F1-8496-2ABCC7B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FE236-994B-4BD9-9B67-472B5DF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29BA-CB17-42C4-B4CA-71A2DCF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B2C2-DF41-4873-B8F1-3EDA213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7A3A1-A87B-417E-B65E-78F00F87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53D3-FEE2-46C9-B95E-EA0DA513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4CB-E206-4778-B415-A9A0F76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EFC-BC33-48CB-B43A-D5801AA2D3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15B-2FEA-45BD-BAEE-F953E5D89A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A2D-F461-422A-ADC2-75EF0BAB83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2CC0-C7CE-4BCE-A288-A3738F953B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7C5-6DBF-4978-B162-F6F4F5281F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911-EF56-4CB9-9692-3EEEE592BD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A956-B68A-4136-87CE-7A02060C2D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зентация для 2 клас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ила: Банина М.А., учитель английского языка, МБОУ СШ №5 г.Пав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fores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657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farm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4286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zoo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571840" y="2357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hous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5238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жив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лесу.  Он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живе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лес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the forest.  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the for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01-17T15:45:07Z</dcterms:modified>
  <cp:revision>4</cp:revision>
  <dc:subject/>
  <dc:title>In the forest</dc:title>
</cp:coreProperties>
</file>