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562-93D2-44A5-BF0F-3014A5A1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902-B54D-4980-9B37-9851EB6B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9B3F-0291-408E-8A73-7534AAF2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51A-61C4-4877-8CD6-FE4B880B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059B-C35B-49DD-9A13-D502F85B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6209-09C8-474E-8BA1-E4F3427D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7C17-0A06-434E-8935-571C495B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88D7-8A06-4CDD-9DA9-639E0610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7055-107C-4A09-93F9-15BF5876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A745-4CB5-4549-A8EC-EFFDA576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B1F7-9BEF-4808-90D5-34C7F5E7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0089-B032-406A-8907-63E7046D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FC81-7693-4603-BEDA-30CAD432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75D4-7777-45E3-9AE7-DE748837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6C75-0B9E-49C6-B7E2-F7ECC050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A73E-2941-422D-AF8B-E9420116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CB8B-AAD4-49A4-8FBF-97C20228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CB377-7BB6-480E-A38A-16076763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8882B-D6D1-421B-B969-13F7779F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3F63E-142E-4D16-A157-B3616609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417CE-3351-4D6C-903E-8711C947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FAC3F-0867-4D30-957D-554E102E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9F42-70D5-43F5-B4F1-4CF7CEBF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4588E-722A-48E2-A381-D5FA56AF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4EB42-3574-4653-B0FC-BE43D0AD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CADEE-754E-40B1-8618-CAE7BFF5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CAF15-1FD2-4011-9537-FEE8489D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B5DC7-A6EB-4129-8FCC-C99BFA86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32241-29A6-417B-BBEA-0DEB10A5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E0B3C-09BA-4489-86DB-CEC3E086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F11B9-7557-4537-A8C7-15AB0A9A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73C86-D2D4-4C83-B406-87E940EE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736BE-B166-47A6-81DC-14BF0851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CDE6-8175-4750-AEA6-B6720FFA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CBEC0-F759-4DA4-BC0A-E135A3D0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CB5DE-FC65-4556-9494-A3A7C7DA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B0C5A-C388-4A2B-9928-8A8949EE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9EDDB-4357-4003-81F7-0E98A948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61798-A762-4592-A15C-C101953A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358E2-6CAD-4899-8665-8E4728BC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C3003-F926-4B10-ACEE-4A87F341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967D8-8EE6-4FD9-8E4F-71B29135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3BAB1-423F-463D-8852-F9A32450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9C3-8667-46FA-B175-AAEEC2C8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B69-607B-4665-AFB4-8C757227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45D6-85D3-4F18-A54A-71532353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7D9-BFE3-4406-A0ED-3751CA04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C60-5E86-467B-B0C6-98637941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0022-105F-4A69-9298-03B3E92BEF9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74FD-9CC7-49A3-A314-07DB9DB548E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1049-E8EE-4422-8334-F9D361A0E63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B4D6-F850-4718-BAC9-FC3DBFE6F11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817560" y="963720"/>
            <a:ext cx="10747440" cy="2333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Mother Teresa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500280" y="1874880"/>
            <a:ext cx="5643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he had started her work in Calcut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She had helped the poor and the sic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he had got the Noble Prize for her wo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Bill Gates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785840" y="1643040"/>
            <a:ext cx="4357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Do ex.4 p.205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1714680"/>
            <a:ext cx="476100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Mikhail Lomonosov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920" y="1571760"/>
            <a:ext cx="5572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hemist –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hysicist –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athematician –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oet –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Writer -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0" y="1357200"/>
            <a:ext cx="3562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William Wallace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14880" y="1357200"/>
            <a:ext cx="49291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is name was …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e lived in 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e was 20 when … came to his countr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e fought against 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e was … when his enemies executed hi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e died for the 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426708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 role mod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y role model is 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e (she) lives in 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e (she) is famous for 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 like her (him) because he (she) is 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homework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Ex.9 p.206 –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наизуст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Ex.12 –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исьм. пере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4-22T13:32:39Z</dcterms:modified>
  <cp:revision>3</cp:revision>
  <dc:subject/>
  <dc:title>My role model</dc:title>
</cp:coreProperties>
</file>