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E0A1-D875-4F71-8C8A-40D9F4DC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D62D-AB63-4FC7-A2DC-74243DB5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760E-700D-4265-A9F6-B76C8D4D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79F9-53B7-45B7-9FD7-02BBB651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E140-A21A-43DB-BF21-F020ED84A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25C2-F290-4867-BF83-8403C573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6451-19D7-4891-A8A2-3096AFA1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A5E2-3F1D-4E97-B9A2-63102053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A43C-0533-4754-9510-B4C44990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13FC-986A-434C-8C42-1DF2B211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FFB8-5F53-422F-A1E7-CA045004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C0F9-2076-4B00-816C-5F61A41D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DC0B-05EF-4360-A35A-DF9562BE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6AC3-5D03-45EA-B9EB-CB52BA47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9DC1-65C9-4D3A-9766-AA6FBC7A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C981-8A39-4F26-B7EF-E507B098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A724-72C0-418F-9B92-E5446BC2A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9496A-EEC8-4102-9FA3-C42767D5D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1A1AB-95C6-4925-B6D8-2649C685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E57A6-FB34-41BE-9968-21B6F36E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F5C00-137E-445C-9232-68F4CF01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4A72C-1D1A-45D5-B1D9-D4786AFD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52A3-C6AB-49C7-A0AE-C894DC2B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F9F3C-47EB-4E3D-95B6-1C80481C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C0A7A-6143-40B0-B635-7E6C6E13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8BE65-8650-4594-9934-55AAB348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56009-3245-42E1-BC9E-63009FCD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EC919-605B-4BC5-9480-3A023EA8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99A6F-64DD-446E-B454-F028D291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6964D-5BF7-4821-99A2-DA438195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FE050-0C0C-4E76-9517-8B4A0482D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19002-2F27-4451-ADEA-D9EF4300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691AF-9957-4C70-8FB1-DC00E1EE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75AC-EF73-4CF5-B073-F3AF2020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9B060-5D71-4F97-884B-3F798F74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ABB7D-8690-4C32-B8C7-2444EFCD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A3097-676D-496F-987B-F469F3AC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EE105-E2D1-4C6F-A306-BEA1A7A0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1390E-6EAA-47F7-91C1-0A331289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E7723-B8C7-41B0-8C44-C037D238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6C856-1931-4B34-83F3-4EA5CCA6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5AE5B-9C6D-46EE-B69D-BA1A33CAC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AA7FA-87A3-49CA-BB73-265805095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B6B6-AEF4-43D5-949E-53812D4A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97B7-BCF0-46EA-B743-56B9AF36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B09A-313A-4EE1-A4A2-A4030575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B6EF-45D0-40D1-81A6-945CC48D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1B2C-0E77-4C75-886E-3F4450DF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DB10-F3A4-45F2-9FCF-E2291A07971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BB32-771C-45AB-87A9-573F0F1B71B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AA15-CDBF-432A-A59D-06CC7DBAC6F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11EB-2F5E-4BD4-A7BE-1F5C21BCB72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-817560" y="963720"/>
            <a:ext cx="10747440" cy="2333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357120" y="1857240"/>
            <a:ext cx="3048120" cy="4572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617b"/>
                </a:solidFill>
                <a:latin typeface="Calibri"/>
              </a:rPr>
              <a:t>Mother Teresa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500280" y="1874880"/>
            <a:ext cx="5643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he had started her work in Calcutt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She had helped the poor and the sic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She had got the Noble Prize for her wor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4617b"/>
                </a:solidFill>
                <a:latin typeface="Calibri"/>
              </a:rPr>
              <a:t>Bill Gates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785840" y="1643040"/>
            <a:ext cx="4357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Do ex.4 p.205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0" y="1714680"/>
            <a:ext cx="4761000" cy="33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4617b"/>
                </a:solidFill>
                <a:latin typeface="Calibri"/>
              </a:rPr>
              <a:t>Mikhail Lomonosov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71920" y="1571760"/>
            <a:ext cx="55720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hemist –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Physicist –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Mathematician –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Poet –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Writer -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0" y="1357200"/>
            <a:ext cx="35622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4617b"/>
                </a:solidFill>
                <a:latin typeface="Calibri"/>
              </a:rPr>
              <a:t>William Wallace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14880" y="1357200"/>
            <a:ext cx="49291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His name was …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He lived in 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He was 20 when … came to his country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He fought against 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He was … when his enemies executed him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He died for the 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0" y="1428840"/>
            <a:ext cx="426708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y role mod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My role model is …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He (she) lives in …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He (she) is famous for …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I like her (him) because he (she) is …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homework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Ex.9 p.206 – 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наизусть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Ex.12 – 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письм. перев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1-04-22T13:32:39Z</dcterms:modified>
  <cp:revision>3</cp:revision>
  <dc:subject/>
  <dc:title>My role model</dc:title>
</cp:coreProperties>
</file>