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21F6-0285-4C8D-99D3-0E40F8ED8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8958-9F0A-4A6A-8C44-D8A7A6C2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7182-5E64-4686-8D6A-9E95612D2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ECCC-44D9-4193-8DD0-375E18CEB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DD1D-936F-48A2-B561-C4A4E7540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DA75-6FCD-46C8-8DE0-27A7FF91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AB7E-9B2E-4E63-B790-228815D4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AD79-B86E-4FFB-A7CB-BD3052CC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88B5-D003-4518-9224-28DDAC1F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9C8C-2B37-43EE-9211-5EAE9077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EDD8-6215-4F84-BF09-77611923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AF8E-2C7E-4090-A278-95EDAC9E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D700-78D8-4EC5-99EC-604681B7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E0EA-C2C1-436C-ACD9-6682795C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0EB6-2EDA-48AC-8F22-3A66618D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9898-390A-4A83-87BC-716109CE4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3F00-45BF-47FC-8F77-8AA0E9A7F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660DA-89CD-44E0-BCC3-FA5DA357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14012-EFFF-4E3D-8AA7-ACCF2B13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E2162-6384-40B5-A67C-07ED0398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6455F-4CF3-4A01-9477-2A5AFA1F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98AA0-0136-4987-86DD-FDB4709B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CAB1-44B8-443C-9F2A-2090A21C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26865-9F4C-402D-A381-C08FFD9B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5F9FD-0E62-480F-BF6F-EAAF9552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E7D18-A94D-4374-8C7D-A8AA6FFD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06DA4-26D6-40C1-A7DF-6F7A2183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B4BCE-8207-49DA-98B5-443A1736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F04D0-2208-4A1A-B2D4-2FD4EF6D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9FA58-41D7-414D-B65F-4E7136642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AB92A-6601-4B4C-A278-42F3D9E42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A1D9C-F17F-445B-9F88-0FEF0AC2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9762C-1BE3-40C2-A848-ECD05FE7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A377-E773-489F-8040-312BC0AC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2740B-6E0C-413F-BA18-0D3F8203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C897E-7870-4353-88C8-376223B6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D6CD4-A3DE-4AB2-A6D1-DE8F8394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3A1A8-227D-4A0E-B731-D09F69B1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17D77-2628-463D-A641-600A61EF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16D71-8FA1-4E66-9099-AF69062C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70FFE-AA2C-40C4-9A88-CA5B004A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51B0A-B129-4B04-932C-70021C36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0FD79-AD97-4825-BEBD-E95BF7D8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C6CD-0C0A-4543-A01B-4E5C064C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17F8-C24B-4EA9-ADB6-7941F5C3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33F0-29A1-4FC5-9C73-2D6402F4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682C-53BE-4D41-877C-918F3134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EAD3-413A-4040-BBB7-1E2ABAA7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1424-857B-40C8-A131-9AF1E2553E4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E57B-C1D7-4D0B-A34E-2D73BCFA01B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F9F5-43C3-4100-ACF1-F50F256A74F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6992-CBDE-4D0F-B5AC-4FF2F3FF6B0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-817560" y="963720"/>
            <a:ext cx="10747440" cy="2333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357120" y="1857240"/>
            <a:ext cx="3048120" cy="4572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617b"/>
                </a:solidFill>
                <a:latin typeface="Calibri"/>
              </a:rPr>
              <a:t>Mother Teresa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500280" y="1874880"/>
            <a:ext cx="5643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he had started her work in Calcutt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She had helped the poor and the sic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She had got the Noble Prize for her wor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4617b"/>
                </a:solidFill>
                <a:latin typeface="Calibri"/>
              </a:rPr>
              <a:t>Bill Gates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785840" y="1643040"/>
            <a:ext cx="4357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Do ex.4 p.205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0" y="1714680"/>
            <a:ext cx="4761000" cy="33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4617b"/>
                </a:solidFill>
                <a:latin typeface="Calibri"/>
              </a:rPr>
              <a:t>Mikhail Lomonosov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71920" y="1571760"/>
            <a:ext cx="55720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hemist –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Physicist –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Mathematician –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Poet –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Writer -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0" y="1357200"/>
            <a:ext cx="35622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4617b"/>
                </a:solidFill>
                <a:latin typeface="Calibri"/>
              </a:rPr>
              <a:t>William Wallace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14880" y="1357200"/>
            <a:ext cx="49291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His name was …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He lived in 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He was 20 when … came to his country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He fought against 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He was … when his enemies executed him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He died for the 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0" y="1428840"/>
            <a:ext cx="426708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y role mod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My role model is …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He (she) lives in …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He (she) is famous for …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I like her (him) because he (she) is …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homework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Ex.9 p.206 – 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наизусть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Ex.12 – 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письм. перев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1-04-22T13:32:39Z</dcterms:modified>
  <cp:revision>3</cp:revision>
  <dc:subject/>
  <dc:title>My role model</dc:title>
</cp:coreProperties>
</file>