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8DD-BA82-4373-BB8F-1292D7B9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E85-797F-4ADD-9FE2-3B235D22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113-0AE7-41C7-B0DB-C9774FD6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52C-CBAD-4C10-B4D0-275DD67F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0D07-EBD4-4FD7-8E0E-2B8481F6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DCB5-A02F-40D1-9B97-275337C6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3B64-FB94-45DA-90BA-DF997080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9C87-9DC9-4A8F-BF91-B3C226BA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956E-4C56-4CAF-996F-0DAF22EF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A61E-CE0D-4D19-92CE-47941F7D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6C08-CD15-458D-806D-033AA1F2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2C1-3009-4942-ACD8-5B1EF9A4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1A49-6401-47E5-B0CE-4CD532F2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38E9-7EC4-41F7-8333-DBD486B3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FEAB-32A3-40AC-B96A-BC033EDC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F845-DBD3-45AC-BAAF-50B489D7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EE53-960A-44BD-9BDF-4F0EA776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D24-26B0-4700-A108-F660BD5C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007-072F-47F1-9E0F-C7177E9F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2D1-8BB5-4083-A48C-858C983E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FA3-8D3D-4190-BD35-38890C73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B6E-4D47-4872-B3CC-4A2D8D21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613-F05F-491E-AF2C-5FB84A37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FBE-0EA1-4055-80B8-60C9C7A0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0B9B-896A-44DE-A3CF-5EFBB166C9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C801-2FEF-4A8E-8311-5EADFCE515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Условные предложения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         </a:t>
            </a: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Изъявительное наклонение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действия ре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lause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cl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даточное предложение       Главное пред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39680" y="4130640"/>
          <a:ext cx="7578720" cy="1808280"/>
        </p:xfrm>
        <a:graphic>
          <a:graphicData uri="http://schemas.openxmlformats.org/drawingml/2006/table">
            <a:tbl>
              <a:tblPr/>
              <a:tblGrid>
                <a:gridCol w="7578720"/>
              </a:tblGrid>
              <a:tr h="18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esent Tense                                     will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I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hav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                                     I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ill bu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the 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0920" y="-647640"/>
            <a:ext cx="754380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ill in the gap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When it …. cold, we… the heating on (be, tur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If Nick….the bus, he ….to school (miss, walk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If I …very busy, I … to the gym. (be, not g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…you… to bed early if you… to wake up early? (go, ne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         </a:t>
            </a: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Сослагательное наклонение</a:t>
            </a:r>
            <a:br>
              <a:rPr sz="3100"/>
            </a:b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Subjunctive Mood I (Present</a:t>
            </a: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 Future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я, которые могли произойти      сегодня или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lause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cl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даточное предложение       Главное пред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39680" y="4130640"/>
          <a:ext cx="7578720" cy="1808280"/>
        </p:xfrm>
        <a:graphic>
          <a:graphicData uri="http://schemas.openxmlformats.org/drawingml/2006/table">
            <a:tbl>
              <a:tblPr/>
              <a:tblGrid>
                <a:gridCol w="7578720"/>
              </a:tblGrid>
              <a:tr h="18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ast Simp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ould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I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had enoug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                        I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ould  bu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the 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ill in the gap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If she …. in China, she ….Chinese. (live, spea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If there…a late flight, ….you… it? (be, tak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If he…. money in the street, he….it. (find, not kee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Mum…if you….( worry, not call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5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Сослагательное наклонение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      Subjunctive Mood II (Past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я, которые могли произойти      вчера, но не произош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lause                           Main cl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даточное предложение     Главное пред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039680" y="4130640"/>
          <a:ext cx="7578720" cy="1808280"/>
        </p:xfrm>
        <a:graphic>
          <a:graphicData uri="http://schemas.openxmlformats.org/drawingml/2006/table">
            <a:tbl>
              <a:tblPr/>
              <a:tblGrid>
                <a:gridCol w="7578720"/>
              </a:tblGrid>
              <a:tr h="18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ast Perfec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ould have+ Past 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I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had ha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                     I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ould have bough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the 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ill in the gap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If they (play) better, they (win) the ga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If she (read) more carefully, she (find) the right pl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You (amaze) if you (see) their hou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We (believe) her if she (tell) me that st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If I (be) ill, I (go) on the school tr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hoose the right answe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Если бы у меня было время, я пришёл бы вче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had  b) have   c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d had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) would come e) would have co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 Если бы я знал английский, я бы перевёл текст с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knew      b) has known   c) would translate     d) would have transla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Я посетил бы Красную площадь, если бы был в Моск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would visit   b) would have visited  c) am   d) wer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Если бы у меня было свободное время сегодня или завтра, я сделал б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у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у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а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have    b) had     c) would have done     d) would 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Если бы у меня было свободное время вчера, я отослал бы письмо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had       b) had had     c) send    d) would send     e) would have s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Open the bracket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f the lesson (be) more interesting, I would pay at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avid (not laugh) if you told him this jo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f he (finish) earlier, he will call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If it (not rain) we would have had dinner outside, in the ga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 would have bought her a card if I (know) it was her birth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e (replace) your computer if there’s something wrong with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If he didn’t like this job, he (do) something e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If I (have) a bigger house, I might have more p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If I had made the reservations, I (book) a better h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We will call you when he (come) back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8:22:11Z</dcterms:created>
  <dc:creator>www.PHILka.RU</dc:creator>
  <dc:description/>
  <dc:language>en-US</dc:language>
  <cp:lastModifiedBy>Boss</cp:lastModifiedBy>
  <dcterms:modified xsi:type="dcterms:W3CDTF">2015-11-21T16:17:37Z</dcterms:modified>
  <cp:revision>6</cp:revision>
  <dc:subject/>
  <dc:title>Условные предложения</dc:title>
</cp:coreProperties>
</file>