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EA75-F377-442E-B6CE-0320C1BDE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C46B-14DD-499D-93ED-06BAE3952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BFB7-2D58-4A45-B1C8-FB2F8B42B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5F6B-1A90-466E-9EF2-D023F94E7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01099-DED4-4DF4-ABA4-BF817AD75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E5A63-5041-4795-A78D-80BFC133F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4EE32-E6BF-4C99-91C1-3A235D600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4C3F0-026E-4396-BA98-E5D5297FD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3B5DE-F452-4DEE-9101-1A5692D09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708F6-FFCB-46CF-9B9F-2FCFB2F97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3C41B-AECB-40EC-8C4B-75185C6C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15C1-0539-4708-BF40-E00FD67EC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D0D76-7362-4D9D-9B84-0D13CA01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DF497-DE1A-4487-AC25-1C181B19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1879A-67F1-49FA-891D-FB389785A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CD1EE-B194-415A-A5D8-F585FCCC3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39C5A-E2D4-4A45-91DB-6E5EE3AE6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1DFD-1771-45AC-99F9-9FE0D3B20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33D3-42B5-4AB8-9B79-EED20E9D5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9B57-437C-4D29-82CA-ADF119DA0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15B2-9DAC-4015-AE55-0B615369D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628E-9841-427A-AABE-E6C52CB7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7145-26A3-46C6-9F8F-136EA0C2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37EC-01F1-446D-847B-5CC74CCA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5FD9E-39FB-4888-A0D5-6AF25A3C298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3C5DD-864E-4FE0-9273-71B7CA89185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Условные предложения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0066"/>
                </a:solidFill>
                <a:latin typeface="Arial"/>
              </a:rPr>
              <a:t>         </a:t>
            </a:r>
            <a:r>
              <a:rPr b="1" lang="ru-RU" sz="3100" spc="-1" strike="noStrike">
                <a:solidFill>
                  <a:srgbClr val="330066"/>
                </a:solidFill>
                <a:latin typeface="Arial"/>
              </a:rPr>
              <a:t>Изъявительное наклонение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се действия реаль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clause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in clau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даточное предложение       Главное предложе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039680" y="4130640"/>
          <a:ext cx="7578720" cy="1808280"/>
        </p:xfrm>
        <a:graphic>
          <a:graphicData uri="http://schemas.openxmlformats.org/drawingml/2006/table">
            <a:tbl>
              <a:tblPr/>
              <a:tblGrid>
                <a:gridCol w="7578720"/>
              </a:tblGrid>
              <a:tr h="180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</a:t>
                      </a: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Present Tense                                     will+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I</a:t>
                      </a: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 have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ey                                     I </a:t>
                      </a: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will bu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the pic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10920" y="-647640"/>
            <a:ext cx="7543800" cy="184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Fill in the gap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When it …. cold, we… the heating on (be, turn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 If Nick….the bus, he ….to school (miss, walk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. If I …very busy, I … to the gym. (be, not go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. …you… to bed early if you… to wake up early? (go, nee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0066"/>
                </a:solidFill>
                <a:latin typeface="Arial"/>
              </a:rPr>
              <a:t>         </a:t>
            </a:r>
            <a:r>
              <a:rPr b="1" lang="ru-RU" sz="3100" spc="-1" strike="noStrike">
                <a:solidFill>
                  <a:srgbClr val="330066"/>
                </a:solidFill>
                <a:latin typeface="Arial"/>
              </a:rPr>
              <a:t>Сослагательное наклонение</a:t>
            </a:r>
            <a:br>
              <a:rPr sz="3100"/>
            </a:br>
            <a:r>
              <a:rPr b="1" lang="ru-RU" sz="31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330066"/>
                </a:solidFill>
                <a:latin typeface="Arial"/>
              </a:rPr>
              <a:t>Subjunctive Mood I (Present</a:t>
            </a:r>
            <a:r>
              <a:rPr b="1" lang="ru-RU" sz="3100" spc="-1" strike="noStrike">
                <a:solidFill>
                  <a:srgbClr val="330066"/>
                </a:solidFill>
                <a:latin typeface="Arial"/>
              </a:rPr>
              <a:t>,</a:t>
            </a:r>
            <a:r>
              <a:rPr b="1" lang="en-US" sz="3100" spc="-1" strike="noStrike">
                <a:solidFill>
                  <a:srgbClr val="330066"/>
                </a:solidFill>
                <a:latin typeface="Arial"/>
              </a:rPr>
              <a:t> Future)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йствия, которые могли произойти      сегодня или завт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clause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in clau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даточное предложение       Главное предложе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039680" y="4130640"/>
          <a:ext cx="7578720" cy="1808280"/>
        </p:xfrm>
        <a:graphic>
          <a:graphicData uri="http://schemas.openxmlformats.org/drawingml/2006/table">
            <a:tbl>
              <a:tblPr/>
              <a:tblGrid>
                <a:gridCol w="7578720"/>
              </a:tblGrid>
              <a:tr h="180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</a:t>
                      </a: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Past Simpl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</a:t>
                      </a: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would+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I</a:t>
                      </a: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 had enough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ey                        I </a:t>
                      </a: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would  bu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the pic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000" y="-387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Fill in the gap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If she …. in China, she ….Chinese. (live, speak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 If there…a late flight, ….you… it? (be, tak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If he…. money in the street, he….it. (find, not keep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. Mum…if you….( worry, not call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50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Сослагательное наклонение</a:t>
            </a:r>
            <a:br>
              <a:rPr sz="3200"/>
            </a:b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          Subjunctive Mood II (Past)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йствия, которые могли произойти      вчера, но не произош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clause                           Main clau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даточное предложение     Главное предложе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039680" y="4130640"/>
          <a:ext cx="7578720" cy="1808280"/>
        </p:xfrm>
        <a:graphic>
          <a:graphicData uri="http://schemas.openxmlformats.org/drawingml/2006/table">
            <a:tbl>
              <a:tblPr/>
              <a:tblGrid>
                <a:gridCol w="7578720"/>
              </a:tblGrid>
              <a:tr h="180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Past Perfec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</a:t>
                      </a: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would have+ Past Partici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I</a:t>
                      </a: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 had had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ey                     I </a:t>
                      </a: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would have bough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the pic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8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Fill in the gap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If they (play) better, they (win) the ga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 If she (read) more carefully, she (find) the right pla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You (amaze) if you (see) their hous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. We (believe) her if she (tell) me that stor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. If I (be) ill, I (go) on the school tri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8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            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Choose the right answer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1.Если бы у меня было время, я пришёл бы вчер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) had  b) have   c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ad had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) would come e) would have com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2.  Если бы я знал английский, я бы перевёл текст са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) knew      b) has known   c) would translate     d) would have translat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3.Я посетил бы Красную площадь, если бы был в Москв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) would visit   b) would have visited  c) am   d) wer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4. Если бы у меня было свободное время сегодня или завтра, я сделал бы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эту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аботу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ам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) have    b) had     c) would have done     d) would do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5. Если бы у меня было свободное время вчера, я отослал бы письмо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) had       b) had had     c) send    d) would send     e) would have s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                       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Open the brackets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If the lesson (be) more interesting, I would pay atten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David (not laugh) if you told him this jo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If he (finish) earlier, he will call 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If it (not rain) we would have had dinner outside, in the gar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I would have bought her a card if I (know) it was her birth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We (replace) your computer if there’s something wrong with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If he didn’t like this job, he (do) something el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If I (have) a bigger house, I might have more p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 If I had made the reservations, I (book) a better hot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 We will call you when he (come) back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2T08:22:11Z</dcterms:created>
  <dc:creator>www.PHILka.RU</dc:creator>
  <dc:description/>
  <dc:language>en-US</dc:language>
  <cp:lastModifiedBy>Boss</cp:lastModifiedBy>
  <dcterms:modified xsi:type="dcterms:W3CDTF">2015-11-21T16:17:37Z</dcterms:modified>
  <cp:revision>6</cp:revision>
  <dc:subject/>
  <dc:title>Условные предложения</dc:title>
</cp:coreProperties>
</file>