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13A-1F27-4D1D-8B6E-BB0F866D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99D-644F-437D-B724-525416EC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B26-0324-4515-8A87-9B5ABDB5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191-AF4D-46DD-821B-432CA38A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EAA3-21F3-47E5-9E98-D85900FD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8B46-28C0-400D-8F38-36ADF20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3D0B-9C1A-4AA5-B2CE-EC02F84C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03E7-601C-423A-84DA-323DD56B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0036-8C01-4268-B1D1-4C8F901A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7968-A1B1-4A6E-AF60-DCA905BF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7FD2-51F6-4B65-A14F-017D5D9A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86C-EC2B-4058-8408-F63CEBFC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3405-E2E9-4391-8562-1DB01BE4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D1EA-60E0-4E11-9E96-011A4046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8CC2-9FFD-465F-AF7C-7B99B51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F727-92E4-4510-A9B4-E612AE5C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A64C-26A7-4F12-90E2-0A9034BA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A16-C064-4557-B7ED-378AF655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7CA-70DE-4831-BAC3-AAEBB01E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02D-9AF4-4636-AE27-13186CC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BCF-5AB5-42ED-A908-890C453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211-42DB-4F39-964C-1AA03636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BF7-1F5F-40F2-9021-A8EE367E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CCF-C0DB-4A72-87F5-E438D991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3BD7-A4F9-4E71-A14F-7AFB7CAC57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77DB-4BDA-4404-B90E-BFB3C62EBE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Условные предложени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Изъявительное наклонение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действия ре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lause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cl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аточное предложение       Главное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39680" y="4130640"/>
          <a:ext cx="7578720" cy="1808280"/>
        </p:xfrm>
        <a:graphic>
          <a:graphicData uri="http://schemas.openxmlformats.org/drawingml/2006/table">
            <a:tbl>
              <a:tblPr/>
              <a:tblGrid>
                <a:gridCol w="757872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esent Tense                                     will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I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hav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                                    I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ill bu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the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-647640"/>
            <a:ext cx="75438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ill in the gap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When it …. cold, we… the heating on (be, tur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If Nick….the bus, he ….to school (miss, walk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If I …very busy, I … to the gym. (be, not g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…you… to bed early if you… to wake up early? (go, ne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Сослагательное наклонение</a:t>
            </a:r>
            <a:br>
              <a:rPr sz="3100"/>
            </a:b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Subjunctive Mood I (Present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Future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, которые могли произойти      сегодня или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lause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cl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аточное предложение       Главное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39680" y="4130640"/>
          <a:ext cx="7578720" cy="1808280"/>
        </p:xfrm>
        <a:graphic>
          <a:graphicData uri="http://schemas.openxmlformats.org/drawingml/2006/table">
            <a:tbl>
              <a:tblPr/>
              <a:tblGrid>
                <a:gridCol w="757872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t Simp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I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had enoug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                       I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  bu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the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ill in the gap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If she …. in China, she ….Chinese. (live, spea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If there…a late flight, ….you… it? (be, tak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If he…. money in the street, he….it. (find, not kee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Mum…if you….( worry, not call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5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ослагательное наклонение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     Subjunctive Mood II (Past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я, которые могли произойти      вчера, но не произош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lause                           Main cl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аточное предложение     Главное пред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39680" y="4130640"/>
          <a:ext cx="7578720" cy="1808280"/>
        </p:xfrm>
        <a:graphic>
          <a:graphicData uri="http://schemas.openxmlformats.org/drawingml/2006/table">
            <a:tbl>
              <a:tblPr/>
              <a:tblGrid>
                <a:gridCol w="757872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t Perfe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 have+ Past 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I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had ha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                    I 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would have bough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the 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ill in the gap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If they (play) better, they (win) the g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If she (read) more carefully, she (find) the right pl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You (amaze) if you (see) their ho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We (believe) her if she (tell) me that s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If I (be) ill, I (go) on the school tr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hoose the right answe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Если бы у меня было время, я пришёл бы вче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had  b) have   c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d had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) would come e) would have c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 Если бы я знал английский, я бы перевёл текст с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knew      b) has known   c) would translate     d) would have transla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Я посетил бы Красную площадь, если бы был в Моск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would visit   b) would have visited  c) am   d) we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Если бы у меня было свободное время сегодня или завтра, я сделал б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а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have    b) had     c) would have done     d) would 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Если бы у меня было свободное время вчера, я отослал бы письмо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had       b) had had     c) send    d) would send     e) would have s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Open the bracket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f the lesson (be) more interesting, I would pay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avid (not laugh) if you told him this j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f he (finish) earlier, he will call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f it (not rain) we would have had dinner outside, in the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 would have bought her a card if I (know) it was her birth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e (replace) your computer if there’s something wrong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If he didn’t like this job, he (do) something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If I (have) a bigger house, I might have more p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If I had made the reservations, I (book) a better h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We will call you when he (come) back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8:22:11Z</dcterms:created>
  <dc:creator>www.PHILka.RU</dc:creator>
  <dc:description/>
  <dc:language>en-US</dc:language>
  <cp:lastModifiedBy>Boss</cp:lastModifiedBy>
  <dcterms:modified xsi:type="dcterms:W3CDTF">2015-11-21T16:17:37Z</dcterms:modified>
  <cp:revision>6</cp:revision>
  <dc:subject/>
  <dc:title>Условные предложения</dc:title>
</cp:coreProperties>
</file>